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7C0-10C0-46A2-A18F-F045E5C7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D04-5241-4B26-A9D7-11AC4789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28F-2274-4CD0-9F68-FAF63D61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EE4-D409-43F4-AF20-838E3254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E6D-6292-448B-93D0-6D35F7B3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5715-7049-4AFE-B739-4E2525A8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52C-9892-426F-9D0E-DDF319DB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1D7-5280-483E-8066-60F2AC41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A5E-1821-48F4-9963-A3CF479A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678-F21B-4E36-B9E4-83656DDE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F7F-3AC5-46D9-B169-1DEE6404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AAA-CBFF-4FAA-A296-0D0F373E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A3AB-8FAB-4464-8BF9-E3C811C0ED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8686800" cy="640080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ff"/>
                </a:solidFill>
                <a:latin typeface="Agency FB"/>
                <a:ea typeface="DecoType Naskh Variants"/>
              </a:rPr>
              <a:t>((القواعد المنظمة لسير القتال وقت الحرب)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Arial"/>
                <a:cs typeface="Arial Unicode MS"/>
              </a:rPr>
              <a:t>إعداد الطالب: عبد العزيز سفر القحط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000" spc="-1" strike="noStrike">
                <a:solidFill>
                  <a:srgbClr val="ffffff"/>
                </a:solidFill>
                <a:latin typeface="Arial"/>
              </a:rPr>
              <a:t>الرقم الجامعي: </a:t>
            </a:r>
            <a:r>
              <a:rPr b="0" lang="ar-AE" sz="2000" spc="-1" strike="noStrike" u="sng">
                <a:solidFill>
                  <a:srgbClr val="ffffff"/>
                </a:solidFill>
                <a:uFillTx/>
                <a:latin typeface="Arial"/>
              </a:rPr>
              <a:t>4241057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Arial"/>
                <a:cs typeface="Old Antic Outline Shaded"/>
              </a:rPr>
              <a:t>إشراف: أ.د. سليمان بن قاسم الع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Led Italic Font"/>
              </a:rPr>
              <a:t>العام الدراسي: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ea typeface="Led Italic Font"/>
              </a:rPr>
              <a:t>1427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ea typeface="Led Italic Font"/>
              </a:rPr>
              <a:t>-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ea typeface="Led Italic Font"/>
              </a:rPr>
              <a:t>1428</a:t>
            </a:r>
            <a:r>
              <a:rPr b="1" lang="ar-AE" sz="1800" spc="-1" strike="noStrike">
                <a:solidFill>
                  <a:srgbClr val="000000"/>
                </a:solidFill>
                <a:latin typeface="Arial"/>
                <a:ea typeface="Led Italic Font"/>
              </a:rPr>
              <a:t> </a:t>
            </a:r>
            <a:r>
              <a:rPr b="1" lang="ar-AE" sz="1800" spc="-1" strike="noStrike">
                <a:solidFill>
                  <a:srgbClr val="ffffff"/>
                </a:solidFill>
                <a:latin typeface="Arial"/>
                <a:cs typeface="Led Italic Font"/>
              </a:rPr>
              <a:t>ه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858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Arial"/>
                <a:cs typeface="Diwani Bent"/>
              </a:rPr>
              <a:t>بسم الله الرحمن الرح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304920"/>
            <a:ext cx="20574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1600" spc="-1" strike="noStrike">
                <a:solidFill>
                  <a:srgbClr val="ffffff"/>
                </a:solidFill>
                <a:latin typeface="Arial Black"/>
              </a:rPr>
              <a:t>المملكة العربية السعود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 Black"/>
              </a:rPr>
              <a:t>جامعة الملك سعو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 Black"/>
              </a:rPr>
              <a:t>كلية الترب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380880"/>
            <a:ext cx="8153280" cy="6728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AE" sz="3200" spc="-1" strike="noStrike">
                <a:solidFill>
                  <a:srgbClr val="000000"/>
                </a:solidFill>
                <a:latin typeface="Arial"/>
              </a:rPr>
              <a:t>قبل الحديث عن  القواعد المنظمة لسير القتال وقت الحرب في الاسلام ، نبين مسوغات الحرب في الاسلام وهي على النحو 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رد العدوان والدفاع عن الدين والنفس والأهل والمال والوط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تأديب ناكثي العهد من المعاهدين ، او الفئة الباغية على جماعة المسلمي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تامين حرية الاعتقاد للمسلمين ، ورد من يفتنونهم عن دين الاسلا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إغاثة المظلومين من المسلمين أينما كانو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حماية الدعو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85800"/>
            <a:ext cx="9144000" cy="6472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000000"/>
                </a:solidFill>
                <a:latin typeface="Arial"/>
                <a:ea typeface="DecoType Naskh Special"/>
              </a:rPr>
              <a:t>          </a:t>
            </a:r>
            <a:r>
              <a:rPr b="0" i="1" lang="ar-AE" sz="3200" spc="-1" strike="noStrike">
                <a:solidFill>
                  <a:srgbClr val="000000"/>
                </a:solidFill>
                <a:latin typeface="Arial"/>
              </a:rPr>
              <a:t>أما في حا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لة الحرب فإن الدولة الاسلامية تملك إستراتيجية للتعامل مع الطرف الاخر قبيل وأثناء القتال تتضمن مجموعة من المبادئ  التي يتقيد بها التحرك الخارجي وقت الحر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      وتزخر كتب الفقه الاسلامي بجملة هائلة من الأحكام المتعلقة بالجهاد والحرب،وسنحاول هنا ذكر بعض من أهم تلك الاحكام المتعلقة بموضوع العلاقات  الخارجية للدولة الاسلام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457200"/>
            <a:ext cx="8305920" cy="834660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600" spc="-1" strike="noStrike">
                <a:solidFill>
                  <a:srgbClr val="ffffff"/>
                </a:solidFill>
                <a:latin typeface="Arial"/>
              </a:rPr>
              <a:t>الأصل في لجهاد في الإسلام أنه فرض كفاية متى قام  به البعض سقط الإثم عن الباقي ، ولكن يكون الجهاد فرض عين على كل مسلم مكلف قادر إذا دهم  العدو بلده فإن لم يكن أهل تلك البلد لديهم مايكفي لرد العدوان ، يتعين الجهاد على الاقرب فالأقرب منهم  حتى يندفع العدو، قال ابن تيمية: (إذا دخل العدو بلاد الإسلام فلا ريب  انه يجب دفعه على الأقرب فالأقرب ، إذ  بلاد الإسلام كلها بمنزلة البلدة الواحدة 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609480"/>
            <a:ext cx="8076960" cy="76100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hi-IN" sz="4400" spc="-1" strike="noStrike">
                <a:solidFill>
                  <a:srgbClr val="000000"/>
                </a:solidFill>
                <a:latin typeface="Arial"/>
              </a:rPr>
              <a:t>يجب في الجهاد أخذ الاذن من ولي امر المسلمين، إلا في حالة ان يفاجئ العدو البلد الذي يقيم فيه المسلم ، فالمصلحة تقتضي هنا مجابهة العدو من دون أخذ الأذن ؛ لتعذر الاستئذان حين ذاك ،ولأنه يكون من المتعين على كل قادر مقاتلة الأعداء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8534520" cy="646092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يجب استئذان الوالدين في الجهاد ، إلا في كون الجهاد فرض عي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يخير امير الجيش الكفار غير المعاهدين بين ثلاثة امور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دخول في الاسلا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أو دفع الجزية مع بقائهم على دينه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أو القــتا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كما ورد في حديث بريدة عن النبي </a:t>
            </a:r>
            <a:r>
              <a:rPr b="0" lang="hi-IN" sz="3600" spc="-1" strike="noStrike">
                <a:solidFill>
                  <a:srgbClr val="000000"/>
                </a:solidFill>
                <a:latin typeface="Arial"/>
                <a:cs typeface="Diwani Bent"/>
              </a:rPr>
              <a:t>صلى الله عليه وسل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الذي خرجه مسلم في صحيحه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609480"/>
            <a:ext cx="8763120" cy="770148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Italic Outline Art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Italic Outline Art"/>
              </a:rPr>
              <a:t>- </a:t>
            </a:r>
            <a:r>
              <a:rPr b="1" i="1" lang="hi-IN" sz="3200" spc="-1" strike="noStrike">
                <a:solidFill>
                  <a:srgbClr val="ffffff"/>
                </a:solidFill>
                <a:latin typeface="Arial"/>
              </a:rPr>
              <a:t>يحرم التمثيل بجثث قتلى العدو ، فحالة الحرب في الاسلام لا تبرر الخروج على قواعد العدل والأنصاف ، كما لا يجوز قطع الأشجار المثمرة لغير حاجة ، ولا يجوز قتل غير المقاتلين ؛ككبار الســـن  والنساء والأطف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 حسـن معاملة الاسرى وإطعامهم وكسوتهم وعدم إكراههم على الاسلام وتحريم تعذيب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ar-AE" sz="2800" spc="-1" strike="noStrike">
                <a:solidFill>
                  <a:srgbClr val="ffffff"/>
                </a:solidFill>
                <a:latin typeface="Arial"/>
              </a:rPr>
              <a:t>تم هذا العمل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Arial"/>
              </a:rPr>
              <a:t>اللهم احفظ بلادنــا وبلاد المسلمين من كيد الحاقد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Arial"/>
              </a:rPr>
              <a:t>....آمين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44971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2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28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9:31:47Z</dcterms:created>
  <dc:creator>mobily  </dc:creator>
  <dc:description/>
  <dc:language>en-US</dc:language>
  <cp:lastModifiedBy>mobily  </cp:lastModifiedBy>
  <dcterms:modified xsi:type="dcterms:W3CDTF">2006-01-23T08:18:45Z</dcterms:modified>
  <cp:revision>12</cp:revision>
  <dc:subject/>
  <dc:title>((القواعد المنظمة لسير القتال وقت الحرب))</dc:title>
</cp:coreProperties>
</file>