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0304-CF97-4D02-A9AE-5DAFDA2FD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C0D7-AEC9-401B-A20E-1680A5DC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D273-14CB-4802-AF8F-C8E9C954F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3171-10FB-41C9-A79C-D733C961B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51F6-CB72-4EF9-B641-9623F935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7AC6-7AA8-42FA-8D81-6ABFC976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C317-9CA6-4829-AB54-DB69C358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8130-3EE8-42CB-885D-B94E2502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84A1-9CB8-45AF-9CF9-FA96A2A2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60DB-6823-4DA0-BCDD-220D9DF3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46D0-E26F-4DDF-AE6C-8DE155A1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BDBD-D326-48EA-8A00-16434676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EE45-6D73-4BF2-8981-7088F6229CD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28600"/>
            <a:ext cx="8686800" cy="640080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ffffff"/>
                </a:solidFill>
                <a:latin typeface="Agency FB"/>
                <a:ea typeface="DecoType Naskh Variants"/>
              </a:rPr>
              <a:t>((القواعد المنظمة لسير القتال وقت الحرب)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ffffff"/>
                </a:solidFill>
                <a:latin typeface="Arial"/>
                <a:cs typeface="Arial Unicode MS"/>
              </a:rPr>
              <a:t>إعداد الطالب: عبد العزيز سفر القحطا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</a:rPr>
              <a:t>الرقم الجامعي: </a:t>
            </a:r>
            <a:r>
              <a:rPr b="0" lang="ar-AE" sz="2000" spc="-1" strike="noStrike" u="sng">
                <a:solidFill>
                  <a:srgbClr val="ffffff"/>
                </a:solidFill>
                <a:uFillTx/>
                <a:latin typeface="Arial"/>
              </a:rPr>
              <a:t>4241057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ffffff"/>
                </a:solidFill>
                <a:latin typeface="Arial"/>
                <a:cs typeface="Old Antic Outline Shaded"/>
              </a:rPr>
              <a:t>إشراف: أ.د. سليمان بن قاسم العي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ffffff"/>
                </a:solidFill>
                <a:latin typeface="Arial"/>
                <a:cs typeface="Led Italic Font"/>
              </a:rPr>
              <a:t>العام الدراسي:</a:t>
            </a:r>
            <a:r>
              <a:rPr b="1" lang="ar-AE" sz="1800" spc="-1" strike="noStrike">
                <a:solidFill>
                  <a:srgbClr val="ffffff"/>
                </a:solidFill>
                <a:latin typeface="Arial"/>
                <a:ea typeface="Led Italic Font"/>
              </a:rPr>
              <a:t>1427</a:t>
            </a:r>
            <a:r>
              <a:rPr b="1" lang="ar-AE" sz="1800" spc="-1" strike="noStrike">
                <a:solidFill>
                  <a:srgbClr val="ffffff"/>
                </a:solidFill>
                <a:latin typeface="Arial"/>
                <a:ea typeface="Led Italic Font"/>
              </a:rPr>
              <a:t>-</a:t>
            </a:r>
            <a:r>
              <a:rPr b="1" lang="ar-AE" sz="1800" spc="-1" strike="noStrike">
                <a:solidFill>
                  <a:srgbClr val="ffffff"/>
                </a:solidFill>
                <a:latin typeface="Arial"/>
                <a:ea typeface="Led Italic Font"/>
              </a:rPr>
              <a:t>1428</a:t>
            </a:r>
            <a:r>
              <a:rPr b="1" lang="ar-AE" sz="1800" spc="-1" strike="noStrike">
                <a:solidFill>
                  <a:srgbClr val="000000"/>
                </a:solidFill>
                <a:latin typeface="Arial"/>
                <a:ea typeface="Led Italic Font"/>
              </a:rPr>
              <a:t> </a:t>
            </a:r>
            <a:r>
              <a:rPr b="1" lang="ar-AE" sz="1800" spc="-1" strike="noStrike">
                <a:solidFill>
                  <a:srgbClr val="ffffff"/>
                </a:solidFill>
                <a:latin typeface="Arial"/>
                <a:cs typeface="Led Italic Font"/>
              </a:rPr>
              <a:t>ه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68580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ffffff"/>
                </a:solidFill>
                <a:latin typeface="Arial"/>
                <a:cs typeface="Diwani Bent"/>
              </a:rPr>
              <a:t>بسم الله الرحمن الرحي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34320" y="304920"/>
            <a:ext cx="20574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ffffff"/>
                </a:solidFill>
                <a:latin typeface="Arial Black"/>
              </a:rPr>
              <a:t>المملكة العربية السعود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Arial Black"/>
              </a:rPr>
              <a:t>جامعة الملك سعو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Arial Black"/>
              </a:rPr>
              <a:t>كلية الترب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80880"/>
            <a:ext cx="8153280" cy="67284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AE" sz="3200" spc="-1" strike="noStrike">
                <a:solidFill>
                  <a:srgbClr val="000000"/>
                </a:solidFill>
                <a:latin typeface="Arial"/>
              </a:rPr>
              <a:t>قبل الحديث عن  القواعد المنظمة لسير القتال وقت الحرب في الاسلام ، نبين مسوغات الحرب في الاسلام وهي على النحو التال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000000"/>
                </a:solidFill>
                <a:latin typeface="Arial"/>
              </a:rPr>
              <a:t>رد العدوان والدفاع عن الدين والنفس والأهل والمال والوط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000000"/>
                </a:solidFill>
                <a:latin typeface="Arial"/>
              </a:rPr>
              <a:t>تأديب ناكثي العهد من المعاهدين ، او الفئة الباغية على جماعة المسلمين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000000"/>
                </a:solidFill>
                <a:latin typeface="Arial"/>
              </a:rPr>
              <a:t>تامين حرية الاعتقاد للمسلمين ، ورد من يفتنونهم عن دين الاسلا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000000"/>
                </a:solidFill>
                <a:latin typeface="Arial"/>
              </a:rPr>
              <a:t>إغاثة المظلومين من المسلمين أينما كانو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000000"/>
                </a:solidFill>
                <a:latin typeface="Arial"/>
              </a:rPr>
              <a:t>حماية الدعو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685800"/>
            <a:ext cx="9144000" cy="64724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  <a:ea typeface="DecoType Naskh Special"/>
              </a:rPr>
              <a:t>          </a:t>
            </a:r>
            <a:r>
              <a:rPr b="0" i="1" lang="ar-AE" sz="3200" spc="-1" strike="noStrike">
                <a:solidFill>
                  <a:srgbClr val="000000"/>
                </a:solidFill>
                <a:latin typeface="Arial"/>
              </a:rPr>
              <a:t>أما في حا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لة الحرب فإن الدولة الاسلامية تملك إستراتيجية للتعامل مع الطرف الاخر قبيل وأثناء القتال تتضمن مجموعة من المبادئ  التي يتقيد بها التحرك الخارجي وقت الحر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      وتزخر كتب الفقه الاسلامي بجملة هائلة من الأحكام المتعلقة بالجهاد والحرب،وسنحاول هنا ذكر بعض من أهم تلك الاحكام المتعلقة بموضوع العلاقات  الخارجية للدولة الاسلام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457200"/>
            <a:ext cx="8305920" cy="834660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22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2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600" spc="-1" strike="noStrike">
                <a:solidFill>
                  <a:srgbClr val="ffffff"/>
                </a:solidFill>
                <a:latin typeface="Arial"/>
              </a:rPr>
              <a:t>الأصل في لجهاد في الإسلام أنه فرض كفاية متى قام  به البعض سقط الإثم عن الباقي ، ولكن يكون الجهاد فرض عين على كل مسلم مكلف قادر إذا دهم  العدو بلده فإن لم يكن أهل تلك البلد لديهم مايكفي لرد العدوان ، يتعين الجهاد على الاقرب فالأقرب منهم  حتى يندفع العدو، قال ابن تيمية: (إذا دخل العدو بلاد الإسلام فلا ريب  انه يجب دفعه على الأقرب فالأقرب ، إذ  بلاد الإسلام كلها بمنزلة البلدة الواحدة 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609480"/>
            <a:ext cx="8076960" cy="76100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hi-IN" sz="4400" spc="-1" strike="noStrike">
                <a:solidFill>
                  <a:srgbClr val="000000"/>
                </a:solidFill>
                <a:latin typeface="Arial"/>
              </a:rPr>
              <a:t>يجب في الجهاد أخذ الاذن من ولي امر المسلمين، إلا في حالة ان يفاجئ العدو البلد الذي يقيم فيه المسلم ، فالمصلحة تقتضي هنا مجابهة العدو من دون أخذ الأذن ؛ لتعذر الاستئذان حين ذاك ،ولأنه يكون من المتعين على كل قادر مقاتلة الأعداء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228600"/>
            <a:ext cx="8534520" cy="6460920"/>
          </a:xfrm>
          <a:prstGeom prst="rect">
            <a:avLst/>
          </a:prstGeom>
          <a:solidFill>
            <a:srgbClr val="80808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يجب استئذان الوالدين في الجهاد ، إلا في كون الجهاد فرض عين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يخير امير الجيش الكفار غير المعاهدين بين ثلاثة امور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الدخول في الاسلا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أو دفع الجزية مع بقائهم على دينهم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أو القــتال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كما ورد في حديث بريدة عن النبي </a:t>
            </a: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Diwani Bent"/>
              </a:rPr>
              <a:t>صلى الله عليه وسلم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الذي خرجه مسلم في صحيحه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609480"/>
            <a:ext cx="8763120" cy="77014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Italic Outline Art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Italic Outline Art"/>
              </a:rPr>
              <a:t>- </a:t>
            </a:r>
            <a:r>
              <a:rPr b="1" i="1" lang="hi-IN" sz="3200" spc="-1" strike="noStrike">
                <a:solidFill>
                  <a:srgbClr val="ffffff"/>
                </a:solidFill>
                <a:latin typeface="Arial"/>
              </a:rPr>
              <a:t>يحرم التمثيل بجثث قتلى العدو ، فحالة الحرب في الاسلام لا تبرر الخروج على قواعد العدل والأنصاف ، كما لا يجوز قطع الأشجار المثمرة لغير حاجة ، ولا يجوز قتل غير المقاتلين ؛ككبار الســـن  والنساء والأطفا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- حسـن معاملة الاسرى وإطعامهم وكسوتهم وعدم إكراههم على الاسلام وتحريم تعذيبه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4832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ar-AE" sz="2800" spc="-1" strike="noStrike">
                <a:solidFill>
                  <a:srgbClr val="ffffff"/>
                </a:solidFill>
                <a:latin typeface="Arial"/>
              </a:rPr>
              <a:t>تم هذا العمل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ffffff"/>
                </a:solidFill>
                <a:latin typeface="Arial"/>
              </a:rPr>
              <a:t>اللهم احفظ بلادنــا وبلاد المسلمين من كيد الحاقد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ffffff"/>
                </a:solidFill>
                <a:latin typeface="Arial"/>
              </a:rPr>
              <a:t>....آمين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44971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20"/>
                            </p:stCondLst>
                            <p:childTnLst>
                              <p:par>
                                <p:cTn id="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28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6T19:31:47Z</dcterms:created>
  <dc:creator>mobily  </dc:creator>
  <dc:description/>
  <dc:language>en-US</dc:language>
  <cp:lastModifiedBy>mobily  </cp:lastModifiedBy>
  <dcterms:modified xsi:type="dcterms:W3CDTF">2006-01-23T08:18:45Z</dcterms:modified>
  <cp:revision>12</cp:revision>
  <dc:subject/>
  <dc:title>((القواعد المنظمة لسير القتال وقت الحرب))</dc:title>
</cp:coreProperties>
</file>