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4E6-A9D7-439A-BD9F-81AA8196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F61-42A7-4D91-82D3-CC4AF0D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E1E2E3-AAD5-45CF-B18C-7A63C709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F6BC1-F5D0-48BC-993E-DDF07200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35BB3-DA12-4A4E-B313-42CA461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3C460F-DF32-447C-A4B1-C7CC2C7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0CFEF6-E340-460F-8292-C98160F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FDD73D-D386-4C3B-AF3B-43BBACC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D2BCB-A77A-41F0-B4AF-F9A062BF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27ABB-8297-42E4-8334-9607B796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C0A0E3-4EB3-4811-B316-D5E2CF6D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029E8-3E34-4EF1-B15E-08F8F81E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319-FFB6-4586-A4E0-866F9FE8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1DD21-14AF-4437-ABC6-FE40E63A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AF2AF-49D4-4081-BC49-8570681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8E6C8-3C70-46E3-9239-9BC7C0A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F7263-DC7E-42B9-A361-78E0939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5DC33-57F9-480E-B571-2E8EFE94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78946-5CE3-43B0-8D24-D63BF701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D872B-1705-4451-8D42-0AF2D89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1473B-83D0-4DC7-96C3-D80A1E7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9D61EC-B4D2-4CF7-87B0-E13D870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87FBFB-271F-45D0-8134-749D8345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7D1-CA10-4634-94E7-E9837AD0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84B1BC-2EA0-4517-B78D-A1EAD549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F62A1-FD62-4CD0-A1EA-3754AAAF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F3DF3-FD7D-4A56-B325-8962A773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A1599-6CD3-491F-90FD-3473B51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9C0F4-B48C-4B9C-A491-331F3D55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4A625-14B6-4403-A374-00FBF62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5029D-DB32-4206-B3C9-9B33409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0CD453-1619-4139-B3B6-CC168FA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582248-DDEB-4770-8093-AA704A1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C6DC8-61D1-4CA9-9FCC-CD53441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76A-4C7F-460B-8CC9-A8B41F4A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FE363-0C89-435B-856A-1ABF398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7EBB3-F3CE-471B-A3D6-C85C176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0D1EA-D738-46EE-B3F6-D491A3C6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3E91-C201-4AF0-AF14-45E02791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A6433-D69E-4838-BBE3-34201F94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DBA4E-9A28-4704-B5F2-EE1AF3B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1CBAF-5C4C-4C92-8F07-9B002B84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BC2A-B21E-44DA-8CD2-2B5CD8B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85CE4-AA18-4F32-8DE5-3D9AE09E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5A980-6E03-4431-B3C0-1E36E349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A27E-4945-499A-8251-F60C440E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319C-F7E9-4462-867C-E3BDB617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0DA8-5353-40B9-B5DB-6945520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57AF7-3ECF-4BE9-B7B6-8AB9525D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9134B-2E51-4370-963E-BBE11B66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53E3A-7CD8-4222-9D6A-73C97AA3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CE22-AB16-42A1-9A2A-EEFFA11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EA88-BBF5-4685-9683-FF60520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8F80-E340-4B3A-B24C-EB303767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B4D1B-0352-4023-9350-B4AFBFA3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00299-2447-4D9A-A622-368AAAA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689-0DEA-4916-A936-5E7398CD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BB36-E5F2-478D-A0D4-8673B45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B5A3-3738-4913-95AA-1EB4183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30F4A-BA25-4BDA-B57A-E9EE243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08CE9-43D0-442A-A054-596674C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2D509-F2B3-4431-AA94-AEF9AC88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53419-B229-4902-9C94-9133970B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03F71-B061-45A4-BF93-45981772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CC9F-83FE-4D25-9CCD-73AD232F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B04A9-3D9B-497B-B04A-08C09B5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7CC0D-3CBD-42A0-8F9F-6152B8D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0687-1A5E-44B8-BAB0-266FC5D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36686-0ACB-4FFB-865C-93E429C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D2504-5336-48A4-AE62-938A0C4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1512B-5559-4A0F-8591-07580C0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E4954-D611-49B3-9C8B-793B771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BCD70-F5A3-4DCA-A580-9B6ED1EF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6D848-9DAC-4E78-B19F-7F1FC9BB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E248C-4F03-4C80-9D79-A5A950E9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6C50D-B0CA-438D-9949-FAC3EDA5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37A5-2B3E-4654-9304-6074A095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DBF70-404F-4C0F-B006-6B162333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57D7-2CE3-45D7-ABB9-B267F12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76E6D-EC77-4A49-B4D8-C221B66D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9236F-7269-4715-9EE9-98D4340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00DAC-E6BA-45E6-9F10-5C9FBE95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F9A1-967D-43E1-8061-32B5AC0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6C163-9A1C-48C1-B909-B5C11AFA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BD541-BB7C-48CB-9197-D6C98B5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64893-5459-41A8-969F-9C9EAA8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D4FED-3084-4028-AEDB-14BDCB5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D9EB7-FB72-4A53-93F2-E93622F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C6A3B-73A3-4497-88A2-7E2B7667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CCF9-6F49-4CFF-BDB4-EA5CA321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6F3E8-8ECD-44CB-B6B0-0D084542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2FB10-98A8-4B0E-A0C9-8E0A628E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A55E4-7723-4291-B15D-0256B16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1CCFC-FAE5-47BA-93DD-25E2931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1790D-4B59-4FAD-A9B4-8EEE8F0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8F41A-90AA-4C67-861D-38ED7B1E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092E0-F9F6-4022-8B1D-D63926ED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43EFC-7BB8-4BE4-BAB3-39879D8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92645-F8E5-41D0-98F5-7659390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FF4F7-133E-4BF5-990F-5B9F6BD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706-315C-432E-981A-B45C744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C4326-C6EA-4CA5-A682-8ED0094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0454E-447E-4042-B6C3-81B1C134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47444-DBD0-45FF-87C9-493DC672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69C4E9-5262-4144-81E6-DBA6FDEA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8EE16A-EBA4-4839-A4B0-2491F12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9C16B3-19C5-4DD9-A9E4-2CF6024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CA6586-C577-444A-B3C6-C63ECF5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BB555E-7EBE-44DF-9892-19C79780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89AF90-25C0-4BE9-BCF9-B1CE9B1B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1CD948-0DE8-488A-B917-262C0CC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24D-FE10-4B5A-9631-3D5436F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CA5-2AB4-442C-AE31-A32A8B9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77C2BB-92C6-4E8F-8515-DE24E05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651564-E83C-401E-93AF-42F6B0B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68C624-ADE0-4226-B844-1089ED2B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85464E-C4B9-4F97-926B-82A2E7D8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E9B81F-CCD0-43EC-B7FB-E41A9590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35627-B8C7-465A-AC22-60F15679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A1AD9-E102-4436-A57D-6830B90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AA889-DFD0-4747-9AB5-809449A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88C01-2E21-4B0C-8CAD-D501B2A0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3CD5B-C785-4B18-BCEA-88FA533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C9C8-F89E-4EF7-AC62-0E5964D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777A3-4D29-48A1-8E3D-41AF667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E90D5-56F3-415B-95C1-4E4A758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FC3D0-256E-4DB7-8028-B65266B6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7FE82-FF8C-447F-BC15-67EDE86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76C12-7EB1-4BE1-93AE-CCFA8D60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9E71A-9C24-4174-B51D-EDC7FB93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4D2DC-7205-473E-A1D9-1A11C31E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4F51F-79DF-461F-B5E8-2BBC5640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A74DA-7AB3-4507-BB94-3CFD178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14004-5CF1-466F-8F6E-EAB41EE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9FD-096C-434F-B4D7-6C195621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B897D-4B81-4ACE-A3E4-F4462CF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1D075-D785-4BDE-B847-DFDA1E24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287A4-21F8-4320-88F1-EC2DD4EC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73543-5F41-4531-867C-3235507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CF881-07E1-4A62-BCED-C8F29F7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C3B03-D2C6-46B5-93C9-C93E0D5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2CDC1-1658-4A67-BA14-B90161F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1F708-D78A-4662-B411-69B5DA50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8366C-A5B6-4D24-8E59-2A0C1EED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E7499-C997-44F9-BEF4-F0957090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3523-1C97-4280-A60D-6AA1A6AD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51359-FC8A-48F9-A0A6-5B87BFCA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0177F-1211-4451-B7A0-29EA358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8F2FD-116D-400B-9B3F-85CE4DD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AA614-CCB2-415D-86CF-2CD6822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713C7-6070-4DFE-8BF4-4C447E88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095F5-49F4-4300-B46A-6863E95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CCD8C-EFC0-4941-A101-1AE0867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2BE1A-9D30-41E1-B550-9F2020C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7069A-B09F-459C-830C-8B795FA1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64278-5592-4F2A-BC01-D69AA7EA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754-6760-4914-A7D8-712BC542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351CC-9596-4342-8E57-B6EA8E57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E2419-591C-43C1-93B0-DE1CDFB6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AD6BA-74B6-4434-9D14-265365F4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3EDF7-25E2-4FAF-88D3-0FD5F9C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12C3E-FF48-47D8-AEB1-049C3A4A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C21F3-2240-46D4-8688-761AE079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B9D2E-2C49-401A-ABF4-1C341B21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8845D-8F73-42A7-A9F5-8DA6F4A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218C8-9111-4FDA-A5D2-3426702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8619D-9578-4F9B-8BEF-398E41C6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30BC-1EF7-4914-A69A-4BB525CC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1F49A-CC3B-45FD-9D33-F739BD9D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ACA8D-7288-4DD5-B43B-4593E802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6367A-D32B-4332-B6A7-BD38925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7E2FD-9408-42A3-8DBA-11E6BF9F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1D8D7-1BB6-464C-B7A2-96B7FD7D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5CD35-E4E4-4E36-9E14-19AF5B2C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1923C-53B2-4DFD-B156-3FCC238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8282C-4126-44F7-81B4-9E6C50B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8E7AE-E2BE-4A5D-BC91-6141373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81BD5-5D91-46A6-9A75-4B89953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3AF4-7F42-445A-8DA9-7EF42D7C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FB737-8FBF-417F-8800-7D7B15B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F26F4-AA89-434C-8705-DEC5971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5F738-D9BE-4981-8C60-A586C80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6D7A9-5A82-47F6-9535-980D7037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774F3-DCA2-4447-90D8-48595C8E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3E97C-EEE7-4032-B3FC-3DE45D2E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EFA57-7207-46B0-932E-5C4145F0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F3982-5B5C-413E-B940-50A5026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F4213-9A0B-4724-9E37-2DF67F41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3DF9A-1041-490C-AA59-83DB9FD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1C4F-8A1E-4AE1-8A6B-6159C8C4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E0807-1ADA-4B4C-BEA9-4C3DD4B9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8E717-9B9B-44D4-A24C-431FE72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BD64B-B03A-4099-BD0D-D9D658F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05199E-EF47-4770-AF7F-A724268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D206C-95A3-43CD-8C58-383F120D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397D3-0AF1-4DF5-AA49-D34EAAD6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85F18-B131-4198-837B-057D7F81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00167B-DCB3-4614-B150-171D9945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6E32F-FBC1-4D27-B502-2937EAF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A2A9D-18AE-4442-9F76-482B830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0AE6-E28E-42B0-A511-8AD54AC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DBB607-8BE5-401C-AC85-BBE5816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5AFDC-24A3-4E3D-813D-01FE9A5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239BD-3BC7-4F1D-9FAF-C76614C5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7431E-BC94-4A8E-8818-00DEE21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938F5-530A-4AFC-8BEF-6577DB9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1EBA7D-3D69-4FD3-9DCA-0315309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6BEA62-701E-4568-813F-578D9EFE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6F10F-5604-4808-B089-C2EEEC46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D8042-562C-4489-99E5-B19D1285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686DB-1675-4056-BA1B-5E82A5B8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2C41-123F-4684-8F91-2B2EF5D0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67BC22-40A6-4685-91C0-B71DF84E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015F8-FADD-439E-A9FE-281D723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725538-3932-4C1B-976B-4275B3A7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2E5E0-6C47-4A05-BFE9-DB916BB6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02CF6-115B-494A-8D2E-4EF5AB60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D5A77-1D14-4E3C-9462-25BC6CA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AD2BF-B0F0-402A-A1AE-0D8A167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1038A-0482-40BE-8E07-38B89E7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505D0-8CD0-4662-A574-9CC3606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1C37F-4460-4F0E-A022-61653999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525-5960-477B-B92B-B5DCA019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AE61-E93E-4EB1-AA33-6A883B36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5450F7-B90F-4654-BEF6-7DDF538D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4DB3E5-2C84-45CA-9B56-EA42141E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90B825-95D4-432D-B214-2EFADA5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07CAF4-8BC9-48CF-AA56-40BD4CA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AE2406-6BDC-4A26-862A-DE8D0E1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0BB103-E7DB-4E27-989D-DEFD808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7F8066-9F86-4488-A4B5-8402216C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AAD02D-4791-403F-9025-E46190C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54795-BD6D-4639-97E7-A92C3E2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2935C4-C1B3-4B97-AE70-CA309AE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5A32-2ACD-4306-91E7-7E7F9C8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1AFEC-76B6-45F2-B1D7-FCDF364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6FA12D-8571-4C0B-A5EB-EA322F7D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E0D6A-5F6A-4770-8E95-8F18700C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C6B63-05B1-4B30-A9B9-B0834195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32FC94-773B-409F-ABF9-7D7D49E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29B4B4-ED9B-433B-868F-1C6F4B4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271973-3E25-44AF-BCF7-C1F7D77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6A69EC-59A8-4069-BB15-FDA45B69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9F050F-01CD-47E8-B183-025719BC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89727D-5F4F-48CF-8659-16EBCCE9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E717-7235-4165-B2E6-ECB81A4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2996B7-CA3B-41B8-A6EE-2BF74B4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FFC641-6E07-4FF8-A5F5-66A7245F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251BA0-C2F1-419C-AE58-9565201E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C780B7-835A-442F-9EB6-D331814B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E14380-B519-4FD6-B419-7F18CA15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7354D7-3D58-4C84-B9A3-26EAF9E1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D7D5BA-C6DB-4E25-A94B-81CD46DB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8D9889-787C-4A0B-A76F-3E45E3C9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7E1D65-21A4-458D-9A23-B93A8FD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C94165-1A17-4B7F-9294-BCAC3C6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64D3-EFF8-47DB-89D8-8B7C017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621717-202C-4FBE-AAB7-CAF84EF8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026369-37FA-4FED-927A-2DDC2E10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813165-F3FF-4E8E-901D-4DD8740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C46BCA-2664-4F68-88B7-15CABF9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FFB4C1-EA34-4026-B2DB-5537443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77D0EA-1E5D-4259-B2D5-7B9CEE64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C336D3-A62B-4D28-8C2F-A4634F49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53BFA5-89C1-4F88-8F67-6095B49E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4E47C1-06D6-4429-BAF3-C5158955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D3382D-FC7E-4E86-B056-0CB6387D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8846-AF9D-4CF5-B5DF-C76B0DC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B4477-9BF2-4511-8962-9392EFF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1BD963-AC31-4337-99F9-D0C27258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CEDE00-E673-4E6F-B9D7-39C240D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889F54-FC14-4150-AC1D-72053EC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69E43D-6AFC-47BC-87BA-BF5B8802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93CB0-46EB-416A-8426-B4FFC07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3844CB-252E-4BAA-8F7A-5D4EC69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9DB509-E6C8-45E4-BDE2-A138427C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F38313-408E-4EC3-A77E-FB990302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D04CB5-A7B1-4957-A8B0-3EFEE689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56A6-0DC5-4ACF-BA89-750A9AF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BA76DB-DFB9-4627-8685-8E1C06A9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F97309-EA8C-4373-88E2-F63AE05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B318D-590D-407A-9766-A8CE513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4F072E-72E4-4A05-8D4E-4DB91D6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07176C-BBF1-4F6A-8CB1-C933B88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A486F1-4B2F-462E-9782-CB8E5BCE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2C6AEB-5814-4CD6-AE61-ADDEA31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6A5CAB-F1A3-47CE-9219-F0C65A2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8596F5-04F6-48A1-B34E-A57F9BB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0D97E-DA0E-4838-8022-29192AF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B3D3-88E7-4F8B-9182-BD7C911C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0A2D59-916C-40AC-9BC1-4786A4EE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B6361-01AD-459B-B6E7-8E56A2E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8F3029-499D-4A91-8006-FA67367A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1A7508-9911-49FF-899C-A2D5477D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92384A-BB9E-485B-B021-3EA5155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CD0583-1A6E-4CD8-BE28-8161881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891BC9-61A9-4FA5-A30D-A49327B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D6683-A4E7-4B79-A6AC-BFCB6DA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15F9BD-0FEB-4BC6-B537-A43369F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99FF94-04FB-4629-A171-5E47D6D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DC87-A20B-4C42-AE7A-0429E2C4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4F53DA-3493-43E9-A5AC-0330CDC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1FA3E5-D8F2-4B11-8FC2-77AA40D4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A470DB-3265-4C4E-80B5-3388B791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CA0BE2-8354-43EB-AF5C-A9663F91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E4CD2E-5C58-434B-88B3-E1AA69E9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4441C2-7A5C-4C90-A1E9-726F59D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68A386-77F9-4E41-8DE7-A44B95EE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D33F66-ECE8-4FBE-9FAD-770B07B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91BAD1-CCD3-48F7-8270-FED4659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100DD2-68A8-4FE3-B168-D776C2FE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5A755-559D-4DD2-BE50-FC56767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B6B154-7F67-497E-99F3-42A31AA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701A37-58D7-4C73-A38D-965A8DC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7D97B3-F1EE-4B1A-8D27-CD22CC4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B54A0E-7C4A-4102-A227-C66FA01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80231F-A32F-4333-B059-94C2E832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5081E-C050-416F-A316-34074109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B6F3C0-6E05-4172-B49A-25A8371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52B7D-AF2F-48A2-A0BD-42EE741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FF39BA-22AB-45F7-9E9B-6CE0781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2824AB-7294-4564-86EC-E2E535A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0B32-E519-47AD-AF12-7CBAB93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82D447-24C6-4F69-A2D8-FBBE6D69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2D8155-017C-491B-8348-1E8CA20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373CEB-48E5-4356-9A82-093E95A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08C830-96DD-4BA9-98EC-E99C0FC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19CBC5-E2E0-4445-BE91-100A810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B3E19C-E215-4C3C-8048-1FB92386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A13EB9-14F3-44D5-A45D-36EDE5AA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08BB95-242B-4C57-A51B-A780C3D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D2A514-83DC-4A92-BEF2-6ABFD260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BD8773-4884-43C2-80EE-A42DD2F1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3B4-2AA4-460C-8529-DDAEA29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F441-D394-4E26-9666-EB12953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2E8E8-4D8D-4560-A59C-5906BAF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82BE17-920A-45F9-9CCC-1B62EE86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D0EBB3-75F9-40C2-BB9F-D499A18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ED61C4-8656-4B55-AF4D-00D72BC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52D422-C864-4045-A845-4B6F887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A2FCC2-F8DF-4943-9DE4-94F7CF9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E348D5-2CB9-48DB-A00A-F23F059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B59426-3B08-44B8-8DD9-FFBCD8C3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41CE42-33D1-43FF-AF78-E4B266B0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59A702-5C77-4ED7-AB6B-C7BC76A0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1B88-1709-4C42-8A7C-6C00BE9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37DCBF-40C3-4F7B-B240-5F651E8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CEB7C4-F476-4043-ACF6-50628360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D85213-CC1A-4B35-B23A-C1E69B60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B9A7C8-C433-4CC2-837A-572A4D57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713EFE-414D-4801-BF79-C49F5E4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0EFCE5-0769-4BC9-AF0C-2C4FE5C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005758-3EEA-4385-AEFF-9C39DA1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7C7993-D16F-4643-A400-D6BAE1E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414EB1-CE60-4B9E-A244-757C218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5BC933-0C96-4C98-B8E1-4C93BFD4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0594-36B8-4031-A1A3-9ABB02F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A40F7E-4C46-4DD5-AEA5-221D4CAA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CE1222-BEE9-4689-9E67-09654732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BC0243-A7B7-42CF-818E-4EDB303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C1C326-B904-4E9B-909E-0F1582E8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50A1D6-65AD-4DEB-B0F3-CD2D00CC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D4801F-A37B-4060-9E85-8AB894FB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867208-787F-49A8-9178-AC224B8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64B685-28B6-4871-9247-9B863160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3236C3-8EF1-4FC4-B765-4C586A4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0E2D40-7F9A-4355-A474-925040A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8990-9282-44C4-9A07-E980FA0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48E131-086D-48EB-9DAA-0921FBD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C64DC6-222A-494E-9512-74289CC4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3C8BCD-4B53-42FB-AD4B-2135CB98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82443D-C593-4BA7-9D69-CC65A9A5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CEEE67-E585-460C-921D-5E35FCD2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30DC92-DE28-451A-8864-558C3C1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EA4D8D-4AEB-4CC8-B8F6-C9618397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DB7D46-DF38-4142-B7D0-677DA9A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DA8D1D-3AF7-4C5C-8926-F8E89605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9E2CD1-22EB-4EBF-9FE1-F2AA49C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BB95-699E-4B10-95D6-D49FDD7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2E489D-9733-47B8-A4C8-88A1306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675A16-1C28-4151-AC5F-30B897EC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67658C-C9DE-4A47-87BA-1128C4F6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E74969-AD13-49E8-A78F-FFCD2643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5671ED-8824-45F2-A84A-37ADC98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FBDE3-7822-4730-862D-592C0B3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0DB6-9594-400B-8EEE-35A1A907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FB24-8E4D-4EA7-BBD1-4B9ED902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2383-FCD9-48B5-AAD3-36F969E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4B35-2229-4CBA-876C-D6A7E6EA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DDC-2377-4D76-9830-A2397DF4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C3D5-384B-4369-B37F-C47520A7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959C-12B9-4BE1-AF21-B2E9392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5A73-8A57-4DA3-AA64-A6AF421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1301-D87C-4EC4-B2F0-0A9A697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7B72-6F29-477E-8624-21D102E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AE32-FADB-46B7-AE55-7844BCD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4A86-E098-4B1E-B11E-C72BEA7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A2E6-BD45-4F4E-81DC-7FE75DF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9DC6-2AE1-4C02-BCD7-FF720B0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C5F5-817E-4D5E-BDB7-23DF9E76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41F-BC75-4AD6-BAC3-4C92E30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B037-C509-40BD-95C8-A4397AF0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C995D-4A54-47DE-8FE2-1620C3DD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8B9D2-EA6F-4E8E-BC88-249F5230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23F82-0D51-4BEF-98D3-38578B9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F9A3C-6994-420B-850B-E578A80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93D3B-F503-4D8B-A4EE-ECD5086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19146-CF9A-4DB3-B8C6-28EAEDF1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1EB6A-87B3-4826-AB9D-D8736D75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86EE5-FB93-4666-9FEA-D52FE03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B9B28-7EC4-4E29-A84E-C5B4F74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0AB-F6E0-4A9A-A8DD-D227D7A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0E2CA-BE3D-41E6-9CDB-4BA754D9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F1FC4-52E2-4B90-9AFB-F93432FF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05BC7-207F-402F-B7A1-982FADA0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FB7-775B-455B-B5C9-E337736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DE3-1A62-4376-AEA1-573A164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F43B2-DFDD-45C8-B2C9-2845BBA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36683-8F31-4966-8DC0-5AA01CA8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AD0B6A-02E1-44C0-A254-C3F40BEB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15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slideLayout" Target="../slideLayouts/slideLayout109.xml"/><Relationship Id="rId22" Type="http://schemas.openxmlformats.org/officeDocument/2006/relationships/slideLayout" Target="../slideLayouts/slideLayout110.xml"/><Relationship Id="rId23" Type="http://schemas.openxmlformats.org/officeDocument/2006/relationships/slideLayout" Target="../slideLayouts/slideLayout111.xml"/><Relationship Id="rId24" Type="http://schemas.openxmlformats.org/officeDocument/2006/relationships/slideLayout" Target="../slideLayouts/slideLayout112.xml"/><Relationship Id="rId25" Type="http://schemas.openxmlformats.org/officeDocument/2006/relationships/slideLayout" Target="../slideLayouts/slideLayout113.xml"/><Relationship Id="rId26" Type="http://schemas.openxmlformats.org/officeDocument/2006/relationships/slideLayout" Target="../slideLayouts/slideLayout114.xml"/><Relationship Id="rId27" Type="http://schemas.openxmlformats.org/officeDocument/2006/relationships/slideLayout" Target="../slideLayouts/slideLayout115.xml"/><Relationship Id="rId28" Type="http://schemas.openxmlformats.org/officeDocument/2006/relationships/slideLayout" Target="../slideLayouts/slideLayout116.xml"/><Relationship Id="rId29" Type="http://schemas.openxmlformats.org/officeDocument/2006/relationships/slideLayout" Target="../slideLayouts/slideLayout117.xml"/><Relationship Id="rId30" Type="http://schemas.openxmlformats.org/officeDocument/2006/relationships/slideLayout" Target="../slideLayouts/slideLayout118.xml"/><Relationship Id="rId31" Type="http://schemas.openxmlformats.org/officeDocument/2006/relationships/slideLayout" Target="../slideLayouts/slideLayout119.xml"/><Relationship Id="rId3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21.xml"/><Relationship Id="rId19" Type="http://schemas.openxmlformats.org/officeDocument/2006/relationships/slideLayout" Target="../slideLayouts/slideLayout122.xml"/><Relationship Id="rId20" Type="http://schemas.openxmlformats.org/officeDocument/2006/relationships/slideLayout" Target="../slideLayouts/slideLayout123.xml"/><Relationship Id="rId21" Type="http://schemas.openxmlformats.org/officeDocument/2006/relationships/slideLayout" Target="../slideLayouts/slideLayout124.xml"/><Relationship Id="rId22" Type="http://schemas.openxmlformats.org/officeDocument/2006/relationships/slideLayout" Target="../slideLayouts/slideLayout125.xml"/><Relationship Id="rId23" Type="http://schemas.openxmlformats.org/officeDocument/2006/relationships/slideLayout" Target="../slideLayouts/slideLayout126.xml"/><Relationship Id="rId24" Type="http://schemas.openxmlformats.org/officeDocument/2006/relationships/slideLayout" Target="../slideLayouts/slideLayout127.xml"/><Relationship Id="rId25" Type="http://schemas.openxmlformats.org/officeDocument/2006/relationships/slideLayout" Target="../slideLayouts/slideLayout128.xml"/><Relationship Id="rId26" Type="http://schemas.openxmlformats.org/officeDocument/2006/relationships/slideLayout" Target="../slideLayouts/slideLayout129.xml"/><Relationship Id="rId27" Type="http://schemas.openxmlformats.org/officeDocument/2006/relationships/slideLayout" Target="../slideLayouts/slideLayout130.xml"/><Relationship Id="rId28" Type="http://schemas.openxmlformats.org/officeDocument/2006/relationships/slideLayout" Target="../slideLayouts/slideLayout131.xml"/><Relationship Id="rId2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33.xml"/><Relationship Id="rId19" Type="http://schemas.openxmlformats.org/officeDocument/2006/relationships/slideLayout" Target="../slideLayouts/slideLayout134.xml"/><Relationship Id="rId20" Type="http://schemas.openxmlformats.org/officeDocument/2006/relationships/slideLayout" Target="../slideLayouts/slideLayout135.xml"/><Relationship Id="rId21" Type="http://schemas.openxmlformats.org/officeDocument/2006/relationships/slideLayout" Target="../slideLayouts/slideLayout136.xml"/><Relationship Id="rId22" Type="http://schemas.openxmlformats.org/officeDocument/2006/relationships/slideLayout" Target="../slideLayouts/slideLayout137.xml"/><Relationship Id="rId23" Type="http://schemas.openxmlformats.org/officeDocument/2006/relationships/slideLayout" Target="../slideLayouts/slideLayout138.xml"/><Relationship Id="rId24" Type="http://schemas.openxmlformats.org/officeDocument/2006/relationships/slideLayout" Target="../slideLayouts/slideLayout139.xml"/><Relationship Id="rId25" Type="http://schemas.openxmlformats.org/officeDocument/2006/relationships/slideLayout" Target="../slideLayouts/slideLayout140.xml"/><Relationship Id="rId26" Type="http://schemas.openxmlformats.org/officeDocument/2006/relationships/slideLayout" Target="../slideLayouts/slideLayout141.xml"/><Relationship Id="rId27" Type="http://schemas.openxmlformats.org/officeDocument/2006/relationships/slideLayout" Target="../slideLayouts/slideLayout142.xml"/><Relationship Id="rId28" Type="http://schemas.openxmlformats.org/officeDocument/2006/relationships/slideLayout" Target="../slideLayouts/slideLayout143.xml"/><Relationship Id="rId2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45.xml"/><Relationship Id="rId21" Type="http://schemas.openxmlformats.org/officeDocument/2006/relationships/slideLayout" Target="../slideLayouts/slideLayout146.xml"/><Relationship Id="rId22" Type="http://schemas.openxmlformats.org/officeDocument/2006/relationships/slideLayout" Target="../slideLayouts/slideLayout147.xml"/><Relationship Id="rId23" Type="http://schemas.openxmlformats.org/officeDocument/2006/relationships/slideLayout" Target="../slideLayouts/slideLayout148.xml"/><Relationship Id="rId24" Type="http://schemas.openxmlformats.org/officeDocument/2006/relationships/slideLayout" Target="../slideLayouts/slideLayout149.xml"/><Relationship Id="rId25" Type="http://schemas.openxmlformats.org/officeDocument/2006/relationships/slideLayout" Target="../slideLayouts/slideLayout150.xml"/><Relationship Id="rId26" Type="http://schemas.openxmlformats.org/officeDocument/2006/relationships/slideLayout" Target="../slideLayouts/slideLayout151.xml"/><Relationship Id="rId27" Type="http://schemas.openxmlformats.org/officeDocument/2006/relationships/slideLayout" Target="../slideLayouts/slideLayout152.xml"/><Relationship Id="rId28" Type="http://schemas.openxmlformats.org/officeDocument/2006/relationships/slideLayout" Target="../slideLayouts/slideLayout153.xml"/><Relationship Id="rId29" Type="http://schemas.openxmlformats.org/officeDocument/2006/relationships/slideLayout" Target="../slideLayouts/slideLayout154.xml"/><Relationship Id="rId30" Type="http://schemas.openxmlformats.org/officeDocument/2006/relationships/slideLayout" Target="../slideLayouts/slideLayout155.xml"/><Relationship Id="rId3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slideLayout" Target="../slideLayouts/slideLayout157.xml"/><Relationship Id="rId21" Type="http://schemas.openxmlformats.org/officeDocument/2006/relationships/slideLayout" Target="../slideLayouts/slideLayout158.xml"/><Relationship Id="rId22" Type="http://schemas.openxmlformats.org/officeDocument/2006/relationships/slideLayout" Target="../slideLayouts/slideLayout159.xml"/><Relationship Id="rId23" Type="http://schemas.openxmlformats.org/officeDocument/2006/relationships/slideLayout" Target="../slideLayouts/slideLayout160.xml"/><Relationship Id="rId24" Type="http://schemas.openxmlformats.org/officeDocument/2006/relationships/slideLayout" Target="../slideLayouts/slideLayout161.xml"/><Relationship Id="rId25" Type="http://schemas.openxmlformats.org/officeDocument/2006/relationships/slideLayout" Target="../slideLayouts/slideLayout162.xml"/><Relationship Id="rId26" Type="http://schemas.openxmlformats.org/officeDocument/2006/relationships/slideLayout" Target="../slideLayouts/slideLayout163.xml"/><Relationship Id="rId27" Type="http://schemas.openxmlformats.org/officeDocument/2006/relationships/slideLayout" Target="../slideLayouts/slideLayout164.xml"/><Relationship Id="rId28" Type="http://schemas.openxmlformats.org/officeDocument/2006/relationships/slideLayout" Target="../slideLayouts/slideLayout165.xml"/><Relationship Id="rId29" Type="http://schemas.openxmlformats.org/officeDocument/2006/relationships/slideLayout" Target="../slideLayouts/slideLayout166.xml"/><Relationship Id="rId30" Type="http://schemas.openxmlformats.org/officeDocument/2006/relationships/slideLayout" Target="../slideLayouts/slideLayout167.xml"/><Relationship Id="rId3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slideLayout" Target="../slideLayouts/slideLayout169.xml"/><Relationship Id="rId24" Type="http://schemas.openxmlformats.org/officeDocument/2006/relationships/slideLayout" Target="../slideLayouts/slideLayout170.xml"/><Relationship Id="rId25" Type="http://schemas.openxmlformats.org/officeDocument/2006/relationships/slideLayout" Target="../slideLayouts/slideLayout171.xml"/><Relationship Id="rId26" Type="http://schemas.openxmlformats.org/officeDocument/2006/relationships/slideLayout" Target="../slideLayouts/slideLayout172.xml"/><Relationship Id="rId27" Type="http://schemas.openxmlformats.org/officeDocument/2006/relationships/slideLayout" Target="../slideLayouts/slideLayout173.xml"/><Relationship Id="rId28" Type="http://schemas.openxmlformats.org/officeDocument/2006/relationships/slideLayout" Target="../slideLayouts/slideLayout174.xml"/><Relationship Id="rId29" Type="http://schemas.openxmlformats.org/officeDocument/2006/relationships/slideLayout" Target="../slideLayouts/slideLayout175.xml"/><Relationship Id="rId30" Type="http://schemas.openxmlformats.org/officeDocument/2006/relationships/slideLayout" Target="../slideLayouts/slideLayout176.xml"/><Relationship Id="rId31" Type="http://schemas.openxmlformats.org/officeDocument/2006/relationships/slideLayout" Target="../slideLayouts/slideLayout177.xml"/><Relationship Id="rId32" Type="http://schemas.openxmlformats.org/officeDocument/2006/relationships/slideLayout" Target="../slideLayouts/slideLayout178.xml"/><Relationship Id="rId33" Type="http://schemas.openxmlformats.org/officeDocument/2006/relationships/slideLayout" Target="../slideLayouts/slideLayout179.xml"/><Relationship Id="rId3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81.xml"/><Relationship Id="rId19" Type="http://schemas.openxmlformats.org/officeDocument/2006/relationships/slideLayout" Target="../slideLayouts/slideLayout182.xml"/><Relationship Id="rId20" Type="http://schemas.openxmlformats.org/officeDocument/2006/relationships/slideLayout" Target="../slideLayouts/slideLayout183.xml"/><Relationship Id="rId21" Type="http://schemas.openxmlformats.org/officeDocument/2006/relationships/slideLayout" Target="../slideLayouts/slideLayout184.xml"/><Relationship Id="rId22" Type="http://schemas.openxmlformats.org/officeDocument/2006/relationships/slideLayout" Target="../slideLayouts/slideLayout185.xml"/><Relationship Id="rId23" Type="http://schemas.openxmlformats.org/officeDocument/2006/relationships/slideLayout" Target="../slideLayouts/slideLayout186.xml"/><Relationship Id="rId24" Type="http://schemas.openxmlformats.org/officeDocument/2006/relationships/slideLayout" Target="../slideLayouts/slideLayout187.xml"/><Relationship Id="rId25" Type="http://schemas.openxmlformats.org/officeDocument/2006/relationships/slideLayout" Target="../slideLayouts/slideLayout188.xml"/><Relationship Id="rId26" Type="http://schemas.openxmlformats.org/officeDocument/2006/relationships/slideLayout" Target="../slideLayouts/slideLayout189.xml"/><Relationship Id="rId27" Type="http://schemas.openxmlformats.org/officeDocument/2006/relationships/slideLayout" Target="../slideLayouts/slideLayout190.xml"/><Relationship Id="rId28" Type="http://schemas.openxmlformats.org/officeDocument/2006/relationships/slideLayout" Target="../slideLayouts/slideLayout191.xml"/><Relationship Id="rId2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3F0E-660E-4934-BEF4-4A853B3CA1D5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413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414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16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417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19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420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2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423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5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426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28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429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31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432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434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435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436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38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439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1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442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4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445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47" name="Rectangle 41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448" name="Rectangl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50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456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457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5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60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62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463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65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466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1C9-9CD9-4173-823B-BC2F6BA3F024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2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1"/>
    <p:sldLayoutId id="2147483767" r:id="rId22"/>
    <p:sldLayoutId id="2147483768" r:id="rId23"/>
    <p:sldLayoutId id="2147483769" r:id="rId24"/>
    <p:sldLayoutId id="2147483770" r:id="rId25"/>
    <p:sldLayoutId id="2147483771" r:id="rId26"/>
    <p:sldLayoutId id="2147483772" r:id="rId27"/>
    <p:sldLayoutId id="2147483773" r:id="rId28"/>
    <p:sldLayoutId id="2147483774" r:id="rId29"/>
    <p:sldLayoutId id="2147483775" r:id="rId30"/>
    <p:sldLayoutId id="2147483776" r:id="rId31"/>
    <p:sldLayoutId id="2147483777" r:id="rId3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1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1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1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1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1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2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2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2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2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2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3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3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3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3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5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5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2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D3D4-772A-4F9F-A894-A72317C4B190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2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8"/>
    <p:sldLayoutId id="2147483780" r:id="rId19"/>
    <p:sldLayoutId id="2147483781" r:id="rId20"/>
    <p:sldLayoutId id="2147483782" r:id="rId21"/>
    <p:sldLayoutId id="2147483783" r:id="rId22"/>
    <p:sldLayoutId id="2147483784" r:id="rId23"/>
    <p:sldLayoutId id="2147483785" r:id="rId24"/>
    <p:sldLayoutId id="2147483786" r:id="rId25"/>
    <p:sldLayoutId id="2147483787" r:id="rId26"/>
    <p:sldLayoutId id="2147483788" r:id="rId27"/>
    <p:sldLayoutId id="2147483789" r:id="rId28"/>
    <p:sldLayoutId id="2147483790" r:id="rId2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9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9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0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0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0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0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1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1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1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1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1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2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2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2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2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3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3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3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3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3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4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4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8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853-9CE1-45C8-B92C-4E5AE6AAF565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8"/>
    <p:sldLayoutId id="2147483793" r:id="rId19"/>
    <p:sldLayoutId id="2147483794" r:id="rId20"/>
    <p:sldLayoutId id="2147483795" r:id="rId21"/>
    <p:sldLayoutId id="2147483796" r:id="rId22"/>
    <p:sldLayoutId id="2147483797" r:id="rId23"/>
    <p:sldLayoutId id="2147483798" r:id="rId24"/>
    <p:sldLayoutId id="2147483799" r:id="rId25"/>
    <p:sldLayoutId id="2147483800" r:id="rId26"/>
    <p:sldLayoutId id="2147483801" r:id="rId27"/>
    <p:sldLayoutId id="2147483802" r:id="rId28"/>
    <p:sldLayoutId id="2147483803" r:id="rId2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732" name="Answer Base" descr=""/>
          <p:cNvPicPr/>
          <p:nvPr/>
        </p:nvPicPr>
        <p:blipFill>
          <a:blip r:embed="rId18"/>
          <a:stretch/>
        </p:blipFill>
        <p:spPr>
          <a:xfrm>
            <a:off x="176040" y="1444680"/>
            <a:ext cx="8334720" cy="2066760"/>
          </a:xfrm>
          <a:prstGeom prst="rect">
            <a:avLst/>
          </a:prstGeom>
          <a:ln w="0">
            <a:noFill/>
          </a:ln>
        </p:spPr>
      </p:pic>
      <p:pic>
        <p:nvPicPr>
          <p:cNvPr id="733" name="Answer" descr=""/>
          <p:cNvPicPr/>
          <p:nvPr/>
        </p:nvPicPr>
        <p:blipFill>
          <a:blip r:embed="rId19"/>
          <a:stretch/>
        </p:blipFill>
        <p:spPr>
          <a:xfrm>
            <a:off x="176040" y="1444680"/>
            <a:ext cx="8334720" cy="245088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FE3-F890-4DA1-802D-7807D9C372FE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0"/>
    <p:sldLayoutId id="2147483806" r:id="rId21"/>
    <p:sldLayoutId id="2147483807" r:id="rId22"/>
    <p:sldLayoutId id="2147483808" r:id="rId23"/>
    <p:sldLayoutId id="2147483809" r:id="rId24"/>
    <p:sldLayoutId id="2147483810" r:id="rId25"/>
    <p:sldLayoutId id="2147483811" r:id="rId26"/>
    <p:sldLayoutId id="2147483812" r:id="rId27"/>
    <p:sldLayoutId id="2147483813" r:id="rId28"/>
    <p:sldLayoutId id="2147483814" r:id="rId29"/>
    <p:sldLayoutId id="2147483815" r:id="rId30"/>
    <p:sldLayoutId id="2147483816" r:id="rId3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7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7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7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8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8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8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8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9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9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9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9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79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9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9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0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0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0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0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1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1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1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1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2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822" name="Answer Base" descr=""/>
          <p:cNvPicPr/>
          <p:nvPr/>
        </p:nvPicPr>
        <p:blipFill>
          <a:blip r:embed="rId18"/>
          <a:stretch/>
        </p:blipFill>
        <p:spPr>
          <a:xfrm>
            <a:off x="225360" y="1365120"/>
            <a:ext cx="8242200" cy="1536840"/>
          </a:xfrm>
          <a:prstGeom prst="rect">
            <a:avLst/>
          </a:prstGeom>
          <a:ln w="0">
            <a:noFill/>
          </a:ln>
        </p:spPr>
      </p:pic>
      <p:pic>
        <p:nvPicPr>
          <p:cNvPr id="823" name="Answer" descr=""/>
          <p:cNvPicPr/>
          <p:nvPr/>
        </p:nvPicPr>
        <p:blipFill>
          <a:blip r:embed="rId19"/>
          <a:stretch/>
        </p:blipFill>
        <p:spPr>
          <a:xfrm>
            <a:off x="225360" y="1365120"/>
            <a:ext cx="8242200" cy="245772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3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35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3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E1C-6C5C-4696-9680-5BB562EE188E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0"/>
    <p:sldLayoutId id="2147483819" r:id="rId21"/>
    <p:sldLayoutId id="2147483820" r:id="rId22"/>
    <p:sldLayoutId id="2147483821" r:id="rId23"/>
    <p:sldLayoutId id="2147483822" r:id="rId24"/>
    <p:sldLayoutId id="2147483823" r:id="rId25"/>
    <p:sldLayoutId id="2147483824" r:id="rId26"/>
    <p:sldLayoutId id="2147483825" r:id="rId27"/>
    <p:sldLayoutId id="2147483826" r:id="rId28"/>
    <p:sldLayoutId id="2147483827" r:id="rId29"/>
    <p:sldLayoutId id="2147483828" r:id="rId30"/>
    <p:sldLayoutId id="2147483829" r:id="rId3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6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6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6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7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7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7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7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8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8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8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8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88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8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8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9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9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9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9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90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90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0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90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0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91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pic>
        <p:nvPicPr>
          <p:cNvPr id="912" name="Rectangle 10" descr=""/>
          <p:cNvPicPr/>
          <p:nvPr/>
        </p:nvPicPr>
        <p:blipFill>
          <a:blip r:embed="rId18"/>
          <a:stretch/>
        </p:blipFill>
        <p:spPr>
          <a:xfrm>
            <a:off x="7693200" y="2054160"/>
            <a:ext cx="792000" cy="500040"/>
          </a:xfrm>
          <a:prstGeom prst="rect">
            <a:avLst/>
          </a:prstGeom>
          <a:ln w="0">
            <a:noFill/>
          </a:ln>
        </p:spPr>
      </p:pic>
      <p:pic>
        <p:nvPicPr>
          <p:cNvPr id="913" name="TextBox 25" descr=""/>
          <p:cNvPicPr/>
          <p:nvPr/>
        </p:nvPicPr>
        <p:blipFill>
          <a:blip r:embed="rId19"/>
          <a:stretch/>
        </p:blipFill>
        <p:spPr>
          <a:xfrm>
            <a:off x="7693200" y="270036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14" name="TextBox 26" descr=""/>
          <p:cNvPicPr/>
          <p:nvPr/>
        </p:nvPicPr>
        <p:blipFill>
          <a:blip r:embed="rId20"/>
          <a:stretch/>
        </p:blipFill>
        <p:spPr>
          <a:xfrm>
            <a:off x="7693200" y="3425760"/>
            <a:ext cx="792000" cy="500040"/>
          </a:xfrm>
          <a:prstGeom prst="rect">
            <a:avLst/>
          </a:prstGeom>
          <a:ln w="0">
            <a:noFill/>
          </a:ln>
        </p:spPr>
      </p:pic>
      <p:pic>
        <p:nvPicPr>
          <p:cNvPr id="915" name="TextBox 31" descr=""/>
          <p:cNvPicPr/>
          <p:nvPr/>
        </p:nvPicPr>
        <p:blipFill>
          <a:blip r:embed="rId21"/>
          <a:stretch/>
        </p:blipFill>
        <p:spPr>
          <a:xfrm>
            <a:off x="7693200" y="4108320"/>
            <a:ext cx="792000" cy="506520"/>
          </a:xfrm>
          <a:prstGeom prst="rect">
            <a:avLst/>
          </a:prstGeom>
          <a:ln w="0">
            <a:noFill/>
          </a:ln>
        </p:spPr>
      </p:pic>
      <p:pic>
        <p:nvPicPr>
          <p:cNvPr id="916" name="TextBox 32" descr=""/>
          <p:cNvPicPr/>
          <p:nvPr/>
        </p:nvPicPr>
        <p:blipFill>
          <a:blip r:embed="rId22"/>
          <a:stretch/>
        </p:blipFill>
        <p:spPr>
          <a:xfrm>
            <a:off x="7693200" y="4797360"/>
            <a:ext cx="792000" cy="50004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3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3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39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C63-3954-4647-93F0-94BA9A92A3A1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3"/>
    <p:sldLayoutId id="2147483832" r:id="rId24"/>
    <p:sldLayoutId id="2147483833" r:id="rId25"/>
    <p:sldLayoutId id="2147483834" r:id="rId26"/>
    <p:sldLayoutId id="2147483835" r:id="rId27"/>
    <p:sldLayoutId id="2147483836" r:id="rId28"/>
    <p:sldLayoutId id="2147483837" r:id="rId29"/>
    <p:sldLayoutId id="2147483838" r:id="rId30"/>
    <p:sldLayoutId id="2147483839" r:id="rId31"/>
    <p:sldLayoutId id="2147483840" r:id="rId32"/>
    <p:sldLayoutId id="2147483841" r:id="rId33"/>
    <p:sldLayoutId id="2147483842" r:id="rId3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959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96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1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2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96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5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96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68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96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1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97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4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97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77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97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80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981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98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84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98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87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98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0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99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3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99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6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99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999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100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1002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00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05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6" name="Straight Connector 25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7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8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9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ftr" idx="4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dt" idx="4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4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364-F79B-4C97-9450-80B8A61E7FB9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8"/>
    <p:sldLayoutId id="2147483845" r:id="rId19"/>
    <p:sldLayoutId id="2147483846" r:id="rId20"/>
    <p:sldLayoutId id="2147483847" r:id="rId21"/>
    <p:sldLayoutId id="2147483848" r:id="rId22"/>
    <p:sldLayoutId id="2147483849" r:id="rId23"/>
    <p:sldLayoutId id="2147483850" r:id="rId24"/>
    <p:sldLayoutId id="2147483851" r:id="rId25"/>
    <p:sldLayoutId id="2147483852" r:id="rId26"/>
    <p:sldLayoutId id="2147483853" r:id="rId27"/>
    <p:sldLayoutId id="2147483854" r:id="rId28"/>
    <p:sldLayoutId id="2147483855" r:id="rId2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43"/>
          </p:nvPr>
        </p:nvSpPr>
        <p:spPr>
          <a:xfrm>
            <a:off x="1645920" y="6477120"/>
            <a:ext cx="102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532-50BA-4AA4-99CF-21CA4C270007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4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dt" idx="45"/>
          </p:nvPr>
        </p:nvSpPr>
        <p:spPr>
          <a:xfrm>
            <a:off x="73148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a0a0a0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a0a0a0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9920-716F-48EA-854B-7C8570CB157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4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21B-845F-471E-AD26-86C90AE191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FABA-194C-46FB-8581-2564AF718378}" type="slidenum">
              <a:rPr b="0" lang="ar-SA" sz="12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7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8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0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1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3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6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7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59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0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2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3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65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6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68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9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0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2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3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5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6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78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9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1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2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4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5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grpSp>
          <p:nvGrpSpPr>
            <p:cNvPr id="87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90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91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5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5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5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35D4-2ADA-43BD-8F84-F2ACCD4E58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5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5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5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8BC-E4DF-4642-8C6B-451C736C11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5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5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93AC-DFB9-4E8D-949C-E01EBC56662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6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6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A3F-B39A-4905-983D-180F9AC09D5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6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6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6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78E-7E73-404E-91CE-62BFDAF34A3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6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6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6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E9A-D646-4691-B113-6D24DC2A59C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7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6D6-8B52-4F89-A48B-49CCC6C9DA2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7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7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7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41F6-4FC2-48B6-AF9F-559178676B3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7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7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7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9C74-0A05-479D-9B7B-C57F58B35DB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7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D065-1DA6-4F23-BA92-C32F3C9A81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C3B3-4D86-437E-9ED4-B9E4906BED0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8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8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8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B2F-3584-44E3-A055-2F11AF06E15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dt" idx="85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 type="ftr" idx="86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 type="sldNum" idx="87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E19E-7998-43E8-B4E1-B851A2145C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8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8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9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C672-105A-4B3E-A39D-7F87A6B8F8D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9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9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9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A71A-B2BA-4C5E-B575-53F169F69B6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 type="dt" idx="9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 type="ftr" idx="9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 type="sldNum" idx="9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DE3-C6EC-48E5-B4F3-43F0D3BAC80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 type="dt" idx="9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 type="ftr" idx="9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 type="sldNum" idx="9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88C-C686-4278-B0B5-E38837492D7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dt" idx="10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ftr" idx="10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 type="sldNum" idx="10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4CB-C791-4236-A9DC-881ECCCA407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 type="dt" idx="10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 type="ftr" idx="10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 type="sldNum" idx="10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785-949E-4DDA-8016-7BD086C0187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682-2F6C-47F8-A874-4DF6F8ABFD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333-075F-49F5-920C-D8280397FD5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F631-A23B-4039-A718-C72B6D3A3E56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9"/>
          </p:nvPr>
        </p:nvSpPr>
        <p:spPr>
          <a:xfrm>
            <a:off x="1645920" y="6477120"/>
            <a:ext cx="102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FB3-1B76-4F5E-B1B8-04AC2AFF20AF}" type="slidenum">
              <a:rPr b="0" lang="ar-SA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0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1"/>
          </p:nvPr>
        </p:nvSpPr>
        <p:spPr>
          <a:xfrm>
            <a:off x="73148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a0a0a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أحماض الأميني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minoacid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 البروتينا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285560" y="4876560"/>
            <a:ext cx="6715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دى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1213920" y="1356840"/>
            <a:ext cx="7929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مركبات ذات أوزان جزيئية كبيرة ، تتكون من وحدات من الأحماض الأمينية المترابطة مع بعضها بواسطة رابطة الببت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هي المكون الأساسي للخلية الحية ، ومهمة جداً للحياة حيث أنها تدخل في تركيب الإنزيمات والهرمونات كما أن هيموجلوبين خلايا الدم الحمراء ليس إلا بروتيناً مرتبطاً ... وغير ذلك وظائف للبروتين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685800" y="167652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خواص المادة البروتينية إلى حد كبير على عدد ونوع الأحماض الأمينية الداخلة في تركيب هذه المادة وكذلك ترتيب هذه الأحماض في السلسل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1300320" y="167652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عبارة عن بروتينات متكونة من أحماض أمينية فقط وغير مرتبطة بمركبات أخرى ، وعند تحللها فإنه ينتـُج خليطاً من الأحماض الأمينية . وتنقسم البروتينات البسيطة حسب شكلها إلى قسمين رئيسي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1213920" y="1676520"/>
            <a:ext cx="7929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ليف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على شكل ألياف ولا تذوب في الماء كما أنها لا تهضم ، ومن أمثلتها الكولاجين وهو من المكونات الرئيسية للأنسجة الضامة للغضاريف ، و الأستين الموجود في العضلات ، والكرياتين الذي يوجد في الشعر والأظاف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1285920" y="121392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بسي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كرو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كون من سلاسل ببتيدية متعددة منطوية بشدة ولتكون كرات متراصة . وتذوب أغلب البروتينات الكروية في المحاليل المائية . معظم الإنزيمات المعروفة عبارة عن بروتينات كروية ، وكذلك المضادات الحيوية . وتشمل البروتينات الكروية الألبيومينات مثل ألبيومين البيض ، والجلوبيولينات مثل جلوبيولين سيرم الد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صنيف البروتين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1285920" y="1676520"/>
            <a:ext cx="7572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كون من بروتينات بسيطة مرتبطة بمركبات غير بروتينية ، ويسمى الجزء غير البروتين باسم المجموعة المرتبطة . وهذه البروتينات تنقسم إلى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1500120" y="499680"/>
            <a:ext cx="7500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البروتينات من حيث تركيب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رئيسية 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نوو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تحتوي على بروتينات بسيطة مثل الهستونات أو البروتامينات مرتبطة مع حمض نوو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, 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توجد في أنوية الخلايا وفي السيتوبلازم والميتوكوندري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فوسفات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بروتينات مرتبطة مع حمض الفوسفوريك برابطة أسترية ومن أمثلتها كازين اللب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1213920" y="785880"/>
            <a:ext cx="7643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كربوهيدرات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protei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ي هذه الحالة تكون المجموعة المرتبطة عبارة عن كربوهيدرات ومن أمثلتها الميوسين الموجود في اللع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ملون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 بسيط متحد مع مركب ملون ومن أمثلتها الهيموجلوب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1285560" y="428760"/>
            <a:ext cx="7715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رتبط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دهن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بسيطة مع الدهون ، وتوجد في سيرم المخ والأنسجة العصب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بروتينات المعدني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lloproteins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عبارة عن بروتينات بسيطة مع أيونات غير عضوية مثل المغنيسيوم والكالسيوم ، ومن أمثلتها العديد من الإنزيمات التي تحتاج إلى هذه الأيونات في عم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1300320" y="785520"/>
            <a:ext cx="7557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بروتينات المشتق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ي البروتينات التي تتكون نتيجة تأثير بعض العوامل الطبيعية الكيميائية على البروتينات وتغير من تركيبتها الطبيعية ولكنها تحتفظ بخواصها العامة المميزة ومن أمثلتها الببت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o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والبروتيوس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os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343160" y="2428920"/>
            <a:ext cx="737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الأحماض الأمين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inoaci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1213920" y="2000160"/>
            <a:ext cx="7858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بدأ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ختبار البيوري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تم معاملة البروتين بمحلول كبريتات النحاس في وسط قلوي ينتج مركباً بنفسجي اللون . ويشترط وجود رابطتين على الأقل بالجزيء لكي يعطي نتيجة إيجابية . هذا الاختبار يعطي نتيجة سالبة مع الكربوهيدرات والدهون والأحماض الأمين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1142640" y="2214360"/>
            <a:ext cx="7715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هيزات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ابيب اختبار – قطارة - محلول كبريتات النح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هيدروكسيد الصودي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ألبيومين البيض (بروتين) – محلول الحمض الأميني جلايس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(ويمكن استعمال أنواع أخرى من الأحماض الأمينية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1285560" y="1714680"/>
            <a:ext cx="77151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ذي أنبوبي اختبار زجاجية وأضيفي ل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ل من المحاليل التالية – كلٍ على حدة – محلول ألبيومين البيض (بروتين) ، محلول جلايسين (أو أي حمض أميني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هيدروكسيد الصودي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رجّي الأنبوبتين جيد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1157400" y="207180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كبريتات النح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رجّي الأنبوبتين جيداً . دوني ملاحظاتك والنتيجة لكل أنب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بروتينات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(البيوريت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uret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1228680" y="1999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لاحظة والاستنتاج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3" name="Picture 2" descr="http://faculty.ntcc.edu/mhearron/BiuretTest.jpg"/>
          <p:cNvPicPr/>
          <p:nvPr/>
        </p:nvPicPr>
        <p:blipFill>
          <a:blip r:embed="rId1"/>
          <a:stretch/>
        </p:blipFill>
        <p:spPr>
          <a:xfrm>
            <a:off x="3429000" y="383220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منياتي لكن بالتوفي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ـدمــ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1356840" y="1499760"/>
            <a:ext cx="7643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حماض الأمينية هي اللبنة الأساسية لبناء جميع البروتينات ، كما تعد مواد أولية لتوليد بعض الهرمو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بيور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بيريميد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imid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فيتامينات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عدد الأحماض الأمينية التي تبنى منها البروتينات في الطبيع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حمضاً أمينياً تـُنتج هذه الأحماض الأمينية إما عن التحلل الكامل للبروتين ، أو تـُصنّع بالطرق الكيمياو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كشف عن الأحماض الأمي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1213920" y="150012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جميع المركبات العضوية اختبارات كشف تعتمد على المجموعة الفعالية لهذه المركبات العضوية وكذلك المجاميع الفعالة الأخرى في السلاسل الجانبية تعطينا مزيداً من المعلومات عن المركبات التي يتم الكشف ع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حماض الأمينية عدة تفاعلات كشف لكن التفاعل المختبري الذي يستعمل بصورة واسعة للكشف عن هذه الأحماض ، هو تفاعل ننهيدر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كشف عن الأحماض الأمي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1214280" y="1676520"/>
            <a:ext cx="7243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فاعل الحمض الأميني مع الننهيدرين ويؤدي إلى تكوين ناتج أزرق أو بنفسجي اللون ، ما عدا الحمض الأميني البرولين يتكون ناتج أصفر متمي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روتينات والمحاليل الأخرى كالسكريات تعطي نتيجة سالبة مع هذا الاخ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1142640" y="2071800"/>
            <a:ext cx="8001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جهيزات التجرب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ابيب اختبار – قطارة - محلول ننهيدر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- محلول ألبيومين البيض (بروتين) – محلول الحمض الأميني جلايس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(ويمكن استعمال أنواع أخرى من الأحماض الأمينية) - محلول الحمض الأميني برول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1285920" y="1928520"/>
            <a:ext cx="78580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طو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ذ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ابيب اختبار زجاجية وأضيفي ل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ل من المحاليل التالية – كلٍ على حدة – محلول ألبيومين البيض (بروتين) ، محلول جلايسين (أو أي حمض أميني) – محلول برو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ضيفي لكل أنب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ل من محلول ننهيدري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، دوني ملاحظاتك والنتيجة لكل أنبو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جربة : الكشف عن الأحماض الأمينية (الننهيدرين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hydrin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1300320" y="207180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لاحظة والاستنتاج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7" name="Picture 2" descr="http://www.rths.k12.il.us/faculty/science/gelsthorpe/proteinanalysis/Ninhydrin_page_files/image056.jpg"/>
          <p:cNvPicPr/>
          <p:nvPr/>
        </p:nvPicPr>
        <p:blipFill>
          <a:blip r:embed="rId1"/>
          <a:srcRect l="34576" t="0" r="30883" b="24745"/>
          <a:stretch/>
        </p:blipFill>
        <p:spPr>
          <a:xfrm>
            <a:off x="6041880" y="3857760"/>
            <a:ext cx="887400" cy="257148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4" descr="http://www.rths.k12.il.us/faculty/science/gelsthorpe/proteinanalysis/Ninhydrin_page_files/image048.jpg"/>
          <p:cNvPicPr/>
          <p:nvPr/>
        </p:nvPicPr>
        <p:blipFill>
          <a:blip r:embed="rId2"/>
          <a:srcRect l="38025" t="18166" r="37798" b="25320"/>
          <a:stretch/>
        </p:blipFill>
        <p:spPr>
          <a:xfrm>
            <a:off x="4959360" y="3857760"/>
            <a:ext cx="923760" cy="2643120"/>
          </a:xfrm>
          <a:prstGeom prst="rect">
            <a:avLst/>
          </a:prstGeom>
          <a:ln w="0">
            <a:noFill/>
          </a:ln>
        </p:spPr>
      </p:pic>
      <p:pic>
        <p:nvPicPr>
          <p:cNvPr id="1929" name="Picture 6" descr="http://www.rths.k12.il.us/faculty/science/gelsthorpe/proteinanalysis/Ninhydrin_page_files/image044.jpg"/>
          <p:cNvPicPr/>
          <p:nvPr/>
        </p:nvPicPr>
        <p:blipFill>
          <a:blip r:embed="rId3"/>
          <a:srcRect l="34576" t="20769" r="41247" b="16963"/>
          <a:stretch/>
        </p:blipFill>
        <p:spPr>
          <a:xfrm>
            <a:off x="3914640" y="3857760"/>
            <a:ext cx="895320" cy="2643120"/>
          </a:xfrm>
          <a:prstGeom prst="rect">
            <a:avLst/>
          </a:prstGeom>
          <a:ln w="0">
            <a:noFill/>
          </a:ln>
        </p:spPr>
      </p:pic>
      <p:pic>
        <p:nvPicPr>
          <p:cNvPr id="1930" name="Picture 8" descr="http://www.rths.k12.il.us/faculty/science/gelsthorpe/proteinanalysis/Ninhydrin_page_files/image042.jpg"/>
          <p:cNvPicPr/>
          <p:nvPr/>
        </p:nvPicPr>
        <p:blipFill>
          <a:blip r:embed="rId4"/>
          <a:srcRect l="31110" t="0" r="34332" b="16950"/>
          <a:stretch/>
        </p:blipFill>
        <p:spPr>
          <a:xfrm>
            <a:off x="2857680" y="3857760"/>
            <a:ext cx="825480" cy="2643120"/>
          </a:xfrm>
          <a:prstGeom prst="rect">
            <a:avLst/>
          </a:prstGeom>
          <a:ln w="0">
            <a:noFill/>
          </a:ln>
        </p:spPr>
      </p:pic>
      <p:pic>
        <p:nvPicPr>
          <p:cNvPr id="1931" name="Picture 10" descr="http://www.rths.k12.il.us/faculty/science/gelsthorpe/proteinanalysis/Ninhydrin_page_files/image050.jpg"/>
          <p:cNvPicPr/>
          <p:nvPr/>
        </p:nvPicPr>
        <p:blipFill>
          <a:blip r:embed="rId5"/>
          <a:srcRect l="31110" t="0" r="34332" b="22142"/>
          <a:stretch/>
        </p:blipFill>
        <p:spPr>
          <a:xfrm>
            <a:off x="7077240" y="3857760"/>
            <a:ext cx="852480" cy="25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372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البروتينات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7:19:43Z</dcterms:created>
  <dc:creator>HA</dc:creator>
  <dc:description/>
  <dc:language>en-US</dc:language>
  <cp:lastModifiedBy>Uzer</cp:lastModifiedBy>
  <dcterms:modified xsi:type="dcterms:W3CDTF">2012-05-14T15:51:35Z</dcterms:modified>
  <cp:revision>50</cp:revision>
  <dc:subject/>
  <dc:title>الشريحة 1</dc:title>
</cp:coreProperties>
</file>