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jpeg" ContentType="image/jpeg"/>
  <Override PartName="/ppt/media/image31.png" ContentType="image/png"/>
  <Override PartName="/ppt/media/image29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  <p:sldId id="278" r:id="rId61"/>
    <p:sldId id="279" r:id="rId62"/>
    <p:sldId id="280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slide" Target="slides/slide23.xml"/><Relationship Id="rId62" Type="http://schemas.openxmlformats.org/officeDocument/2006/relationships/slide" Target="slides/slide24.xml"/><Relationship Id="rId63" Type="http://schemas.openxmlformats.org/officeDocument/2006/relationships/slide" Target="slides/slide25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D74-D67E-4B10-A312-CE7DF52B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2C0-3736-4980-A6D9-C76E440E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8BE3BB-E3E8-41B8-9E49-E156E6F8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5CE540-BA6E-4F59-A7CB-99853295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568741-2A42-4D6F-99ED-76E44197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A947C4-938C-4ABF-B0F2-F2AF733D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298CD4-77D2-4662-8897-D45DCB9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812BCA-21C9-4247-8D47-C779D56C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9052B2-14C4-443B-B809-9BEADED1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B7DE88-008C-4E1D-BFB5-F0DA4339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79E5CD-E02F-464C-AC07-AF57948D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F68645-4873-4671-85F1-F34C9032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9E8-6B7C-4CDA-90F8-50DAF2B6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A5EFCA-46F9-4059-A205-AB8FB5AC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0150DC-5896-4288-BEED-51910A63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FE3DAC-E3CE-4225-8829-E87BCC9D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5527E4-B6EB-4213-BA14-9B4965B6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FB4824-CB1F-4B9B-A01C-987E7A85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C2D331-8569-467A-8C2B-016AAE5C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E4D487-391C-472E-BFF1-586168B4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458C18-75B8-4530-9DD6-276FEBBA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4F5590-F6EF-4FCC-A296-A57E008E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7D872F-A533-47B6-9CB4-5AAB2259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4B8-6A9D-4F4B-A9F3-D3A41DEB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9E7573-32F1-4E90-BDDF-19DBA663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8A4867-D611-4211-AE16-404D2FD0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05FE4D-5415-4DCE-B98C-738ACCC4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9ED033-3447-456B-AC6C-1B175446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AFDFA6-E84B-4A55-AF5C-C43B4411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846A16-C238-4A27-9624-49F6FF74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EA7EF4-4822-4E09-9E1D-50BF7EE7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0A6E68-AF91-4ED2-969F-7FF201AC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204AA3-9DC9-4D38-A4F7-F07A65C9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249DDD-EA0A-4F35-A70E-5B6F3290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FACF-38C0-4547-B949-1B41F0AF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7710D2-6012-4242-8FB8-4DE5112E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854B7C-9AEC-4A40-841A-671C049B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172B5E-510F-47C6-8EBD-7A1B73E0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C76C1-5845-43DE-8FDB-99D93E1F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E7EA2-DDFF-487F-B1FE-CE2A53F8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14F87-E11F-4A69-B7E1-EC4A583E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01995-C881-4503-B48A-88B5F813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3A501-319C-4E94-8E2D-1BD5C914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2BD9E-087A-487B-926E-65C4A858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C90EE-779D-47E7-A26B-257C9FD2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11F9-1C19-43B2-A39D-84C91174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DC44A-6FDD-4700-BE7F-E1E8E4CA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6ED55-72F0-4486-9ABF-652EDE9F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AE483-88EF-49C4-B794-67C76AE9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0BD53-27B2-4A45-9FB5-B444E3F2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62103-0356-4016-9F55-F08542E1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2403C-D961-4139-89BA-7508D858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7A889-9438-4470-B5FF-14580C01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46E46-088F-4DED-978B-FE5C436A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BB80C-A9EB-4550-BC44-8742B2A0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A0BBD-7FA4-4A79-834C-A80683EF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E7B2-C355-496E-B12B-CCDF3721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59480-7C45-4BC5-9ED4-464436A8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C783E-3573-4B06-BAE0-383C3EF8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93783-554A-4ADD-A814-8C3432DA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44474-4889-47AA-9155-C18D9461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9EC56-9BE4-43FE-89B7-B89FA448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B1BFA-F76B-41BB-B002-FCD31978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0A121-1629-4BDC-AD2E-9C0DBB8D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317D7-82A3-4B6E-8BE3-58E9A0BC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CBF17-4A79-4AB6-89B4-49827D04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47E84-DE21-4454-B8D7-ACA39DB9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43A9-C5D2-4716-91D3-7E737A86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AD316-7D2C-4A46-8A54-44DD842F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8D17B-5B15-41FB-AB00-7597B07E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D199E-CFB1-4FE1-BA11-4A096E86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2A333-DD58-4EF8-BDC1-DFE7924E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A825B-481C-445C-BE3C-3EB60B1F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F72CA-AC52-431C-BED7-1B6C9DE1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FC08F-C8CB-4501-90D5-509F2959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DF399-2026-4D7E-B812-335FE4C9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87028-A13B-46BF-822D-DAB17B5A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C637D-6039-430F-87A5-7388BD64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A439-6321-45E3-9BA3-913FB046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AEB8B-CAE3-4B19-8FA5-C125AA5B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829A2-5A98-4862-B7A2-FCE7B472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F8AE0-BE0E-4CCD-BA06-2D122BA9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2A619-9774-449A-8D3F-472C71AA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20805-F6CC-42C0-921A-A7E1AAF1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2F7DB-7B6C-4947-98A0-DA669B4A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4F5EC-E5D5-4E5D-9555-057A96F6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01407-CBC7-4855-8A04-2BCC1D8F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EEBF1-4EC1-42AF-A85D-F72D85C8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47579-8E5F-4A3A-8F48-B2D9F2E6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7938-8E1F-457F-ACCD-810358C7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F5CA5-78C3-4CD5-AD1B-7ACF46A0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604CD-FC4F-4C95-9AF9-C3B76C18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35F0F-63EA-4ED3-987A-F5D06310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5F438-F52A-4995-8720-2AAD5C65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06D3E6-4B8B-4EED-96C4-6667E4CA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54F99-C890-4683-B9E7-F3450B5A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2CF5B-B08A-4E15-B593-2DFCD447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10165-2313-4DDC-AF30-DE7A7AFF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BD286-6851-406C-8E78-89E03F4E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701F0-25D4-4A88-961B-5557746D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F511-601F-4474-B313-659AC98C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111EE-AB09-4BE5-B7FF-46AAEC32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F048D-EB49-4BD0-9356-A2D73E8A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939D7-D78A-404B-845F-A336B042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2EE6A8-C15A-46F0-B044-5E815F0D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5EF3CDC-1328-4EF1-AE6E-84F24A2B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0379448-221F-426B-8BC4-A9EFEEC9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63D11D-BC84-44AA-B649-E4DA42EA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642B44C-E871-4B31-BC94-B1844521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FDE0C5D-4A12-468C-91CE-7C6B8372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8E31CC2-56B8-4A76-859E-38760208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63B-1450-4DAB-BAA6-B14F1C49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104E-943B-48B0-85AB-721F24A3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DA848CE-099E-431D-836D-24628E15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4783B1B-D34A-4672-B3D9-202D074B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E756DB-B830-46B0-B56A-985DE1A4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726698A-8519-4D24-B3D1-20053C96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B8ACCA-5DC7-413C-9577-27FED8ED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F329A-AF34-4EB5-BE47-57F90E84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5972B-B14F-48FE-93D1-E14F1FC9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1C8C3-B5D6-44BE-9321-770A8037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A8829-FF76-4B02-952D-C4F36447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AA14B-4B0D-4F9E-90D3-B059374C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7226-53BD-4FB5-873A-2A00DC00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F2C2A-4202-41B4-88A5-E0916A81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B8B017-784C-43A0-9F5B-02356769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EEF4FE-DB9E-49CE-8A22-721B73D5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BB5CB-D4D1-41A4-A143-6CD94653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8C520-EFCB-434E-B93C-2A718AA0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511A52-8016-4317-9103-A8DE3AB3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7F7C64-D88E-4A36-9726-EF2065F8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0F583-6FE8-435F-AB5F-2316AFFD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9EC56-275C-47D8-B6AD-85D1DFA4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2BA25C-7C93-4D32-B882-0094F70B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030D-7969-4291-AEE3-58923FBC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F4604E-9137-4336-A67B-6857BED9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BB0F70-60E5-49D3-B850-B7788A5F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D6491-2677-48A1-AA39-5984CE8C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04672-BB0E-4FFD-AEB6-A60AF61D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5F815-0C37-49BD-B84B-BF19111B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1585B9-AA13-4BFC-B669-76783229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C2652B-6CB1-4530-84E2-50A378CA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B59C0-764D-4B48-90B0-2EEABD57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66F8C8-AFF9-43F9-A083-D5000616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71D14-3AE9-4205-8620-C3D395B1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2350-D90A-4D4A-8AD8-E6380541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9E3584-7251-401A-AC33-00F862A2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6297F1-3430-47FC-85F8-F25C9FA6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D6ED70-BCC9-4F8E-AAF4-B20D0884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7D04DC-2F31-41C1-899C-124E2BCA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012BD4-27EF-4C99-B500-FD136425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E4922-AF3B-4BE0-A5CA-686D1D58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9E33C4-2A63-4466-8565-37DED56F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C69AA0-2F5F-4E79-A1D5-CEAB5EDA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9FE87E-4D3C-4892-B904-75959E29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1DFF9-917D-46BB-B6E5-48FD5671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1743-E5E0-4142-8518-B514D7B8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4411F2-3ACE-4F35-B4BC-D7AA086C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8AE219-680A-4093-9A0A-C1814505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1DBF96-904B-43A6-9D93-22DBE78E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3EF10C-433B-487C-A76E-52EAC3E2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161B3C-C63F-43A5-9631-88EE8B8F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9192D8-8CBB-4EC7-AD9B-236F8048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50E241-6F91-45F3-B6AB-9B11FD53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1BA70B-3529-4619-AC9E-04EA6566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BB53A-BF19-4FA8-BDCB-FA47F232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5993E1-6925-4ECD-AC78-51D77732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5E82-82A4-4FFA-BB65-8ECEA363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280F14-70DC-416D-8D13-12FF7216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6F4059-BE76-4152-AD6A-2B7FB712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295E24-E396-4C86-9B91-B20E1831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AAC0FA-3077-43F6-BA0E-B314BE95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DF2AAF-080F-4CD2-9CBC-2293C6B7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1566E7-5CFC-4BBD-B202-05854BED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D7A418-3EDC-4700-95D9-54C02A1A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6056F2-56C0-472C-9391-45619702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9778E7-6819-4CF4-9C3C-27B8174C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80C2C2-60D1-4EAF-BB14-DDB981A5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4FFCD-8831-44A4-A22B-F9409D66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BC8FA2-0BCE-4F0E-8666-CA3EEE74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266224-A4E6-41D3-A69C-56C35B7B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146CAA-7A28-4608-A478-5731CCF4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5FD9B0-B43D-42FB-A0C5-1499E9D7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792C3C-8E40-4B26-8524-989CCB92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B6D2C3-3A28-43FF-8A5C-C01EBD5E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504245-252C-4A45-B534-EDB6D915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76D0E4-E830-45A2-AB0B-CE45CD68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8573AE-F09C-46ED-A124-032AA448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93C131-2825-4507-A7B9-EE850B02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0441C-DE4A-4B2D-BA95-80EA82C0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3942BD-0BBC-410C-8AF1-FBEECF0D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A3AD6D-58F8-42B3-9B6F-328C3C04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10690B-D20B-4733-A20D-AB86961B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9C08AF-19F5-4EE4-8762-72480532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2DE6F8-CCCF-4BF3-88E0-6CCD2D8D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D92643-6190-45F8-9EB7-D4A4FB3B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E0194C-C679-48A5-A4CF-30883D06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458A0F-8920-4E33-B7A2-941A0022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A6980A-6D06-4075-9A56-232665E7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2996AC-BAD9-44A1-9E7E-ACE6E917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C0A11-B40E-4BFE-A1EC-D10ABEF8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C3B8CB-8787-4247-9702-93438FEB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C7F1AD-CACC-4B90-ACD1-4473C72C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5CE1C7-E6F1-4059-9CD9-E271D522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652C2E-0508-49A5-8C62-B60680CF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AE50A0-A1C3-4845-BCAD-66B3A650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618E6A-92A4-4208-B7F4-9CFE1005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065899-89AD-44AF-8BE2-B9E03348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115D0F-788E-48A7-8747-AB01DD0F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32BDB8-3C02-488A-A126-AD6DA169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6485CD-942B-4F20-A3BB-0444A8F8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CED6-0477-4371-AA51-DF09D304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EB71EC-3440-4BDB-95CB-A7EB368F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B2DBBD-9822-4945-896A-C58E83DD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218BE4-1774-4DDE-8669-56DF3EC7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F47D39-7A0B-4CB4-9171-4A52ACDC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2DF9FE-62CE-417D-9934-CD5F35A8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B8500D-F878-4233-8E87-0DC6B6DF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4CF868-05F2-44FA-86BA-9D97A31A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ADFD7C-5A96-4E49-AE93-62DA30A2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2BA9C9-7733-4E74-BFE4-C2B386DA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93A4B6-0BC4-4473-B4C1-29A0ACFD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973-2047-4225-935A-80737F21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80723-64AC-4B14-8B0D-063092A4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BF06AA-81C1-4A34-A384-1A5A14F1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998E05-DB2E-404E-AD19-B4619CA7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CD6C06-24E3-41FA-830C-AB399BAC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C27D45-0DF8-40CA-8FC7-F641C618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FC9F4C-BE86-43EA-9F7A-1C7E9B38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55AFAC-BEC2-41C4-9F26-3295E520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AC74F5-257A-4E98-B3A6-06871D92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02BAB6-100D-4512-B284-75451BEC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CA4FC8-8544-4EA2-86DD-395CB686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5359F5-4961-45F7-AA01-6910D602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D4383-2CBB-4E98-A62C-B0DA53E4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80F921-9BA1-4263-9DC6-F1304701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ACD15D-800E-4A9E-BBEE-828D08E8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861298-69AA-46D4-BA54-BD69AFD9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31DD15-F03F-4349-83C6-0D92EB59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F3C576-552C-4D65-89E7-B7898E2A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397678-774A-4445-8CD0-E189CF32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85AC8E-3C28-4857-A334-C8FC4152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D3B32C-5CD8-49D9-B59E-2317F2C0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AEECC1-2F2B-42D0-BA02-9E81D82D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2401D3-52F5-4F30-AF53-45CB4478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569C0-B3BF-4831-AC92-9C547698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90D984-7B9B-427B-9398-33E91E54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812C5C-C9A9-40DC-BF78-E2B880C4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464853-2241-4375-914B-ED25D8AF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43E992-2142-4A54-966B-A42607E0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F9F277-BF12-43F3-BABD-5C7C3103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CB4B7E-0646-44F0-91DA-6B9AB9F3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8BBB05-C274-493B-B7EC-1FA2E188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955A5A-E7ED-47E0-93FB-EB4CF0D6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CB0928-7B30-453B-A9E0-9B096532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F06AD5-E883-46B6-89B2-BF2FBD83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142C-A4D5-4A5F-9DD1-9FC14CE0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AA81C0-47E6-4115-B4A5-AA130D43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1CC003-0858-48DF-A2A3-0A6128A6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D9CD19-204C-473E-87BE-A855D231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A52397-BC36-44A5-936E-6AD2CFA6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14C3E3-B3B4-4AAE-9612-9CA6E226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D2D422-F3EB-4ED4-A275-98427768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5A72B3-78A2-4AD0-B249-C964934A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29C30C-56F9-49D5-859C-1C5A925D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ABC6C5-1AC1-43B8-A675-02F2535A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A9E2FF-D8DB-4A73-97D7-5A5722BE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25199-45EB-4762-96D0-170FE030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82B9BA-212A-40DB-9166-2EC4603B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49008D-71BB-4818-8BE4-DE5288C2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4D2645-37B0-4FB1-84B1-8507BB3F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3211E4-9DD8-43E3-A425-08E82D8C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26A9F6-2B4D-484D-8152-D21AB9B8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812408-98C3-40F6-A6DB-8489871E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A4022B-B922-4225-AE75-DD0D0318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E9DAB0-B420-4AF3-8533-38EC9CE0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153C1A-10E5-4367-BD3A-AC86ABCB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06EC1C-45EA-4B6E-8BA1-382E3D3A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D25A-F535-401A-A07B-87B94573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289D74-3B2B-4EB6-BFFE-16F419CE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67AB0E-765A-4BF5-9CCD-EA25ACFF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164A2D-52D3-42D0-BEE5-6D028442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27740D-1EA5-41E6-B18D-7D86638F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CC94FB-DBFF-4CB4-906E-8BEF85EB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1673A2-410B-4FB0-984D-D7EAFF70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D35C1F-FCD2-4672-8E5F-FF5D71FB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7C3BF1-EC4A-421C-B1C1-C2404BAC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1DF784-FD50-4DEF-BEAE-5934834C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4DC26B-1B4B-44ED-8720-4ADFB5FB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364B8-8FD3-4092-91E9-C7C08861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1489EA-DB08-41D0-83AB-F4F38D6D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B70754-5C8A-4474-A694-4B25A619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A33AA2-1C83-4B2B-8EE9-0D7F25BE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356A32-A04F-47C7-9AE4-D6251200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685541-15A2-466C-9B5B-DB2E309D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4CDDDF-C27D-4CA9-B639-8CE878B5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87BDFC-FED6-4B4D-B375-E8AEBBBD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820F2F-F3B5-444E-93B2-4BD06BA5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D86D93-4DF6-401F-98D7-63C23CAD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844B9F-3F99-4CA0-9E58-726DAD1F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BAC0E-DD26-4C5F-8376-D758F2FE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1357E3-A7AC-476D-8BBB-64210C21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34CB5A-50CA-4CD5-870B-E8FE6EFE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8D0120-1A9C-4E83-B78F-371EE414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A892FC-C473-4E97-9600-3E803F05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7E9A62-D4BD-4744-BB58-BA0510F8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268BD4-EFDE-41BC-B79E-1B1C1E6E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6722CC-DDEB-478D-816E-98E85E75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11ABA9-7FA1-4DD9-8D9B-48755ABD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99CDC6-D143-4DE8-ABCD-5EDDE694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8232EC-A35F-4142-9FD1-AD2A06A5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F3C3C-39D2-4AAA-9EAB-2D6D9B94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53577A-059E-49D5-899E-11022C17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199D48-42B3-4ECC-B6DF-63214B72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491BEB-94C5-47B5-AFB0-E7A7675A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9AE33D-69D1-4631-A86B-0216A359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2DD8FB-3E8A-4F49-9CBD-440E1BF8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592FC9-FD2E-4376-9029-84D40494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6783DB-CB2C-49EB-89D6-399A7BC2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CC1E98-220D-4AF6-84C7-CCE8A5CF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7EC87A-5ED0-4D5A-8B2F-63AD58AA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63ABAE-8E62-469E-8CA8-DA416C4B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FE920-F323-450A-8BC3-8AADAD5E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DFAEBA-89BE-4DB5-B319-D64E4842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9E972E-FFEE-4093-B5B3-0A6CC49A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CD86FB-2D23-4F88-B89F-23D95A10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F76100-4685-430D-AA81-83B16695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55F3F6-6373-4E93-90D9-0550FCEC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769C12-61F0-4599-9234-44B03837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B284D3-73AF-4451-9630-A8CC70AC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8347AC-4479-479F-A291-4A17A96F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D4C0E2-22A4-4548-860E-D9A87DB6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A72004-4E69-4734-BB22-B1870CFE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121-0836-458B-939A-59517F71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28434-A663-4217-9A4F-9ECE2C79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B5B939-EECB-4DEA-BFDE-29EA7440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022D91-E5B0-48D4-B5A5-A34F4F44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A16C7E-8A08-48A0-A4FF-94F7A761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E54E42-5CBD-4357-AE38-93CEA0F2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D69D5A-5856-414B-BE27-4564CBFA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CF2EC2-4F29-407D-AC07-809348F4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181364-326A-4CFE-ADD7-3C0C3820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BD06F1-0F0D-4AD5-917B-B6BDCC19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AD7A70-CD8E-4F36-9414-AEAC2AA4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177719-A36A-4831-A4F2-484F0386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20B6C-320C-437B-967C-8BB3E4E3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FF0541-0E55-46E3-828F-4D7A6BBE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910C6C-E3DF-4FDD-A30E-D6FECD12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3D3C3A-6FC0-4730-8377-9ABEA31D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69E510-F595-48BE-B8D0-AC3D78D8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7C0AEC-B699-472C-BD53-7F2C25BA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9A2BAF-6784-490C-B924-F508B4D4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D25CD6-F2F7-49B1-A42F-0B56C7C2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A8E5C9E-3638-46A4-8826-84867A6F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284384-1274-485B-B548-FDF2CDFD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C592AB-18AC-4758-A598-7274F465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7511E-DFB5-4B88-A870-4A84FC22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8F2D96-7593-4E36-918D-D9165195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59E857-756A-44E7-8824-BB05BEB5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93E3AF-E4DF-441D-BB5F-6D916300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5F3135-F0AC-45BE-96B8-195EE7BE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3750E1-A1FC-437E-BEE1-7590A176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D0DE2C-FD5A-423D-97B1-91FB2518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D85952-C589-4E0F-A343-238C18B1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26EA7B-EBCF-49F1-8C31-418FCC24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84450D-6696-4BC2-8AEB-0EFAE81A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C74946-C5B0-45CE-9A7C-AF41039C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47421-CA5E-4C14-8FFE-2335DC75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7EC1B6-A513-455B-930A-0173BDB0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89030A-0458-4856-A456-64995B58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0C3079-DA01-413B-92D3-F805E021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5AD63B-EBAE-422A-8E01-36A58216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413DB9-D032-499B-9101-E2CCB4E1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B45695-DE93-4E2B-BB5F-7349828A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65CDFD-57E0-46FC-BE58-614B4BDE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1BE921-52FD-4A6C-8E47-0A03D0C2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D94F98-8FCF-4B16-8AC1-D8218578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D06502-46C9-42D7-9C21-82B56602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CC98-A41B-4B78-AD80-2B36DB60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296890-6A32-497D-821F-25866525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216625-43E6-4067-90BD-31F82809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7302C2-6C90-443D-A844-E86C26DF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276B9C-E245-4C30-9859-35DA2844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3E141B-A62D-4174-843E-3CE0510E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37D89-A28D-4655-A37F-46E3DE98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B5AE3-1B6E-44C3-A8E1-392A9FDA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0A460-3365-4830-A474-2236BAE1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583AF-B9D5-4448-8CFB-6E3F2DF4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7A6F2-D4DF-4B52-80AF-E14B6768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1FA-D52D-4D68-B818-491E1AEF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3A073-EB39-46A3-853F-FFB6A4D3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FB406-D563-47EE-BB06-8C1CE730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9EB44-949C-42C5-9599-2F8C0682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EE89A-8E12-49D1-8F20-5A19046C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FCED9-2514-462B-B4E7-35FF73E0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C7E0E-9EBB-45B3-BC79-A7B43F25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B244C-0BE1-4113-A865-CD83867E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08E60-861E-4087-839D-71EE5AB6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BC1AD-CA61-48F0-8E80-17E61238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9D4C2-DC75-40C7-8E1B-88547C0D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63B-36B7-44AE-8334-0A01E63E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836BF-4290-4BF4-B17C-7E7055E4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17E32-3983-4A47-86BF-B97A7EC4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ADC32-18EA-4F1A-B571-F52692FA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F4AF09-A835-4435-AA14-45DAC3A9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BEE738-0BD6-4DE3-97E9-826B9A81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8D2C6-A26A-4CCB-ABC2-42961B1F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DF3C39-2736-49E4-849F-9A83C55C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76390-2D2B-4F52-B090-DFBB058A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58A312-B22D-4489-91C2-420C6D4C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62342-684C-4637-8A67-A1B8D068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422-13F0-487C-B129-65FE3C14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ECBEDE-8FC9-4EBC-9825-DC63F655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0E49C-3CEF-4AF4-B4CE-9A445210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C93231-E234-45A0-99BC-33579C65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66E-C7FF-4FE5-8E23-85B970F8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8E0-0AAD-4301-8F31-259DCFD2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E5EAEC-46D1-427C-9DBF-510A2242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884CEB-579F-4C5C-BBF8-64ADC0EF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2BAC2D-186F-4198-8FF5-605230D8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15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slideLayout" Target="../slideLayouts/slideLayout109.xml"/><Relationship Id="rId22" Type="http://schemas.openxmlformats.org/officeDocument/2006/relationships/slideLayout" Target="../slideLayouts/slideLayout110.xml"/><Relationship Id="rId23" Type="http://schemas.openxmlformats.org/officeDocument/2006/relationships/slideLayout" Target="../slideLayouts/slideLayout111.xml"/><Relationship Id="rId24" Type="http://schemas.openxmlformats.org/officeDocument/2006/relationships/slideLayout" Target="../slideLayouts/slideLayout112.xml"/><Relationship Id="rId25" Type="http://schemas.openxmlformats.org/officeDocument/2006/relationships/slideLayout" Target="../slideLayouts/slideLayout113.xml"/><Relationship Id="rId26" Type="http://schemas.openxmlformats.org/officeDocument/2006/relationships/slideLayout" Target="../slideLayouts/slideLayout114.xml"/><Relationship Id="rId27" Type="http://schemas.openxmlformats.org/officeDocument/2006/relationships/slideLayout" Target="../slideLayouts/slideLayout115.xml"/><Relationship Id="rId28" Type="http://schemas.openxmlformats.org/officeDocument/2006/relationships/slideLayout" Target="../slideLayouts/slideLayout116.xml"/><Relationship Id="rId29" Type="http://schemas.openxmlformats.org/officeDocument/2006/relationships/slideLayout" Target="../slideLayouts/slideLayout117.xml"/><Relationship Id="rId30" Type="http://schemas.openxmlformats.org/officeDocument/2006/relationships/slideLayout" Target="../slideLayouts/slideLayout118.xml"/><Relationship Id="rId31" Type="http://schemas.openxmlformats.org/officeDocument/2006/relationships/slideLayout" Target="../slideLayouts/slideLayout119.xml"/><Relationship Id="rId3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21.xml"/><Relationship Id="rId19" Type="http://schemas.openxmlformats.org/officeDocument/2006/relationships/slideLayout" Target="../slideLayouts/slideLayout122.xml"/><Relationship Id="rId20" Type="http://schemas.openxmlformats.org/officeDocument/2006/relationships/slideLayout" Target="../slideLayouts/slideLayout123.xml"/><Relationship Id="rId21" Type="http://schemas.openxmlformats.org/officeDocument/2006/relationships/slideLayout" Target="../slideLayouts/slideLayout124.xml"/><Relationship Id="rId22" Type="http://schemas.openxmlformats.org/officeDocument/2006/relationships/slideLayout" Target="../slideLayouts/slideLayout125.xml"/><Relationship Id="rId23" Type="http://schemas.openxmlformats.org/officeDocument/2006/relationships/slideLayout" Target="../slideLayouts/slideLayout126.xml"/><Relationship Id="rId24" Type="http://schemas.openxmlformats.org/officeDocument/2006/relationships/slideLayout" Target="../slideLayouts/slideLayout127.xml"/><Relationship Id="rId25" Type="http://schemas.openxmlformats.org/officeDocument/2006/relationships/slideLayout" Target="../slideLayouts/slideLayout128.xml"/><Relationship Id="rId26" Type="http://schemas.openxmlformats.org/officeDocument/2006/relationships/slideLayout" Target="../slideLayouts/slideLayout129.xml"/><Relationship Id="rId27" Type="http://schemas.openxmlformats.org/officeDocument/2006/relationships/slideLayout" Target="../slideLayouts/slideLayout130.xml"/><Relationship Id="rId28" Type="http://schemas.openxmlformats.org/officeDocument/2006/relationships/slideLayout" Target="../slideLayouts/slideLayout131.xml"/><Relationship Id="rId2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33.xml"/><Relationship Id="rId19" Type="http://schemas.openxmlformats.org/officeDocument/2006/relationships/slideLayout" Target="../slideLayouts/slideLayout134.xml"/><Relationship Id="rId20" Type="http://schemas.openxmlformats.org/officeDocument/2006/relationships/slideLayout" Target="../slideLayouts/slideLayout135.xml"/><Relationship Id="rId21" Type="http://schemas.openxmlformats.org/officeDocument/2006/relationships/slideLayout" Target="../slideLayouts/slideLayout136.xml"/><Relationship Id="rId22" Type="http://schemas.openxmlformats.org/officeDocument/2006/relationships/slideLayout" Target="../slideLayouts/slideLayout137.xml"/><Relationship Id="rId23" Type="http://schemas.openxmlformats.org/officeDocument/2006/relationships/slideLayout" Target="../slideLayouts/slideLayout138.xml"/><Relationship Id="rId24" Type="http://schemas.openxmlformats.org/officeDocument/2006/relationships/slideLayout" Target="../slideLayouts/slideLayout139.xml"/><Relationship Id="rId25" Type="http://schemas.openxmlformats.org/officeDocument/2006/relationships/slideLayout" Target="../slideLayouts/slideLayout140.xml"/><Relationship Id="rId26" Type="http://schemas.openxmlformats.org/officeDocument/2006/relationships/slideLayout" Target="../slideLayouts/slideLayout141.xml"/><Relationship Id="rId27" Type="http://schemas.openxmlformats.org/officeDocument/2006/relationships/slideLayout" Target="../slideLayouts/slideLayout142.xml"/><Relationship Id="rId28" Type="http://schemas.openxmlformats.org/officeDocument/2006/relationships/slideLayout" Target="../slideLayouts/slideLayout143.xml"/><Relationship Id="rId2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slideLayout" Target="../slideLayouts/slideLayout145.xml"/><Relationship Id="rId21" Type="http://schemas.openxmlformats.org/officeDocument/2006/relationships/slideLayout" Target="../slideLayouts/slideLayout146.xml"/><Relationship Id="rId22" Type="http://schemas.openxmlformats.org/officeDocument/2006/relationships/slideLayout" Target="../slideLayouts/slideLayout147.xml"/><Relationship Id="rId23" Type="http://schemas.openxmlformats.org/officeDocument/2006/relationships/slideLayout" Target="../slideLayouts/slideLayout148.xml"/><Relationship Id="rId24" Type="http://schemas.openxmlformats.org/officeDocument/2006/relationships/slideLayout" Target="../slideLayouts/slideLayout149.xml"/><Relationship Id="rId25" Type="http://schemas.openxmlformats.org/officeDocument/2006/relationships/slideLayout" Target="../slideLayouts/slideLayout150.xml"/><Relationship Id="rId26" Type="http://schemas.openxmlformats.org/officeDocument/2006/relationships/slideLayout" Target="../slideLayouts/slideLayout151.xml"/><Relationship Id="rId27" Type="http://schemas.openxmlformats.org/officeDocument/2006/relationships/slideLayout" Target="../slideLayouts/slideLayout152.xml"/><Relationship Id="rId28" Type="http://schemas.openxmlformats.org/officeDocument/2006/relationships/slideLayout" Target="../slideLayouts/slideLayout153.xml"/><Relationship Id="rId29" Type="http://schemas.openxmlformats.org/officeDocument/2006/relationships/slideLayout" Target="../slideLayouts/slideLayout154.xml"/><Relationship Id="rId30" Type="http://schemas.openxmlformats.org/officeDocument/2006/relationships/slideLayout" Target="../slideLayouts/slideLayout155.xml"/><Relationship Id="rId3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slideLayout" Target="../slideLayouts/slideLayout157.xml"/><Relationship Id="rId21" Type="http://schemas.openxmlformats.org/officeDocument/2006/relationships/slideLayout" Target="../slideLayouts/slideLayout158.xml"/><Relationship Id="rId22" Type="http://schemas.openxmlformats.org/officeDocument/2006/relationships/slideLayout" Target="../slideLayouts/slideLayout159.xml"/><Relationship Id="rId23" Type="http://schemas.openxmlformats.org/officeDocument/2006/relationships/slideLayout" Target="../slideLayouts/slideLayout160.xml"/><Relationship Id="rId24" Type="http://schemas.openxmlformats.org/officeDocument/2006/relationships/slideLayout" Target="../slideLayouts/slideLayout161.xml"/><Relationship Id="rId25" Type="http://schemas.openxmlformats.org/officeDocument/2006/relationships/slideLayout" Target="../slideLayouts/slideLayout162.xml"/><Relationship Id="rId26" Type="http://schemas.openxmlformats.org/officeDocument/2006/relationships/slideLayout" Target="../slideLayouts/slideLayout163.xml"/><Relationship Id="rId27" Type="http://schemas.openxmlformats.org/officeDocument/2006/relationships/slideLayout" Target="../slideLayouts/slideLayout164.xml"/><Relationship Id="rId28" Type="http://schemas.openxmlformats.org/officeDocument/2006/relationships/slideLayout" Target="../slideLayouts/slideLayout165.xml"/><Relationship Id="rId29" Type="http://schemas.openxmlformats.org/officeDocument/2006/relationships/slideLayout" Target="../slideLayouts/slideLayout166.xml"/><Relationship Id="rId30" Type="http://schemas.openxmlformats.org/officeDocument/2006/relationships/slideLayout" Target="../slideLayouts/slideLayout167.xml"/><Relationship Id="rId3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png"/><Relationship Id="rId22" Type="http://schemas.openxmlformats.org/officeDocument/2006/relationships/image" Target="../media/image41.png"/><Relationship Id="rId23" Type="http://schemas.openxmlformats.org/officeDocument/2006/relationships/slideLayout" Target="../slideLayouts/slideLayout169.xml"/><Relationship Id="rId24" Type="http://schemas.openxmlformats.org/officeDocument/2006/relationships/slideLayout" Target="../slideLayouts/slideLayout170.xml"/><Relationship Id="rId25" Type="http://schemas.openxmlformats.org/officeDocument/2006/relationships/slideLayout" Target="../slideLayouts/slideLayout171.xml"/><Relationship Id="rId26" Type="http://schemas.openxmlformats.org/officeDocument/2006/relationships/slideLayout" Target="../slideLayouts/slideLayout172.xml"/><Relationship Id="rId27" Type="http://schemas.openxmlformats.org/officeDocument/2006/relationships/slideLayout" Target="../slideLayouts/slideLayout173.xml"/><Relationship Id="rId28" Type="http://schemas.openxmlformats.org/officeDocument/2006/relationships/slideLayout" Target="../slideLayouts/slideLayout174.xml"/><Relationship Id="rId29" Type="http://schemas.openxmlformats.org/officeDocument/2006/relationships/slideLayout" Target="../slideLayouts/slideLayout175.xml"/><Relationship Id="rId30" Type="http://schemas.openxmlformats.org/officeDocument/2006/relationships/slideLayout" Target="../slideLayouts/slideLayout176.xml"/><Relationship Id="rId31" Type="http://schemas.openxmlformats.org/officeDocument/2006/relationships/slideLayout" Target="../slideLayouts/slideLayout177.xml"/><Relationship Id="rId32" Type="http://schemas.openxmlformats.org/officeDocument/2006/relationships/slideLayout" Target="../slideLayouts/slideLayout178.xml"/><Relationship Id="rId33" Type="http://schemas.openxmlformats.org/officeDocument/2006/relationships/slideLayout" Target="../slideLayouts/slideLayout179.xml"/><Relationship Id="rId3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81.xml"/><Relationship Id="rId19" Type="http://schemas.openxmlformats.org/officeDocument/2006/relationships/slideLayout" Target="../slideLayouts/slideLayout182.xml"/><Relationship Id="rId20" Type="http://schemas.openxmlformats.org/officeDocument/2006/relationships/slideLayout" Target="../slideLayouts/slideLayout183.xml"/><Relationship Id="rId21" Type="http://schemas.openxmlformats.org/officeDocument/2006/relationships/slideLayout" Target="../slideLayouts/slideLayout184.xml"/><Relationship Id="rId22" Type="http://schemas.openxmlformats.org/officeDocument/2006/relationships/slideLayout" Target="../slideLayouts/slideLayout185.xml"/><Relationship Id="rId23" Type="http://schemas.openxmlformats.org/officeDocument/2006/relationships/slideLayout" Target="../slideLayouts/slideLayout186.xml"/><Relationship Id="rId24" Type="http://schemas.openxmlformats.org/officeDocument/2006/relationships/slideLayout" Target="../slideLayouts/slideLayout187.xml"/><Relationship Id="rId25" Type="http://schemas.openxmlformats.org/officeDocument/2006/relationships/slideLayout" Target="../slideLayouts/slideLayout188.xml"/><Relationship Id="rId26" Type="http://schemas.openxmlformats.org/officeDocument/2006/relationships/slideLayout" Target="../slideLayouts/slideLayout189.xml"/><Relationship Id="rId27" Type="http://schemas.openxmlformats.org/officeDocument/2006/relationships/slideLayout" Target="../slideLayouts/slideLayout190.xml"/><Relationship Id="rId28" Type="http://schemas.openxmlformats.org/officeDocument/2006/relationships/slideLayout" Target="../slideLayouts/slideLayout191.xml"/><Relationship Id="rId2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600" y="6559200"/>
            <a:ext cx="2438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5560" y="6557760"/>
            <a:ext cx="46483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2360" y="6559200"/>
            <a:ext cx="914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BEE1-4EB3-460B-93EC-24C7774C162B}" type="slidenum">
              <a:rPr b="0" lang="ar-SA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3"/>
          <p:cNvGrpSpPr/>
          <p:nvPr/>
        </p:nvGrpSpPr>
        <p:grpSpPr>
          <a:xfrm>
            <a:off x="14400" y="1976400"/>
            <a:ext cx="2043000" cy="533520"/>
            <a:chOff x="14400" y="1976400"/>
            <a:chExt cx="2043000" cy="533520"/>
          </a:xfrm>
        </p:grpSpPr>
        <p:grpSp>
          <p:nvGrpSpPr>
            <p:cNvPr id="413" name="Rectangle 14"/>
            <p:cNvGrpSpPr/>
            <p:nvPr/>
          </p:nvGrpSpPr>
          <p:grpSpPr>
            <a:xfrm>
              <a:off x="14400" y="2287800"/>
              <a:ext cx="2043000" cy="158040"/>
              <a:chOff x="14400" y="2287800"/>
              <a:chExt cx="2043000" cy="158040"/>
            </a:xfrm>
          </p:grpSpPr>
          <p:pic>
            <p:nvPicPr>
              <p:cNvPr id="414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0" y="228780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74520" y="231624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16" name="Rectangle 14"/>
            <p:cNvGrpSpPr/>
            <p:nvPr/>
          </p:nvGrpSpPr>
          <p:grpSpPr>
            <a:xfrm>
              <a:off x="14400" y="2223360"/>
              <a:ext cx="2043000" cy="163080"/>
              <a:chOff x="14400" y="2223360"/>
              <a:chExt cx="2043000" cy="163080"/>
            </a:xfrm>
          </p:grpSpPr>
          <p:pic>
            <p:nvPicPr>
              <p:cNvPr id="417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00" y="222336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74520" y="225432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19" name="Rectangle 14"/>
            <p:cNvGrpSpPr/>
            <p:nvPr/>
          </p:nvGrpSpPr>
          <p:grpSpPr>
            <a:xfrm>
              <a:off x="14400" y="2163960"/>
              <a:ext cx="2043000" cy="158040"/>
              <a:chOff x="14400" y="2163960"/>
              <a:chExt cx="2043000" cy="158040"/>
            </a:xfrm>
          </p:grpSpPr>
          <p:pic>
            <p:nvPicPr>
              <p:cNvPr id="420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0" y="216396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74520" y="219240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22" name="Rectangle 14"/>
            <p:cNvGrpSpPr/>
            <p:nvPr/>
          </p:nvGrpSpPr>
          <p:grpSpPr>
            <a:xfrm>
              <a:off x="14400" y="2099880"/>
              <a:ext cx="2043000" cy="163080"/>
              <a:chOff x="14400" y="2099880"/>
              <a:chExt cx="2043000" cy="163080"/>
            </a:xfrm>
          </p:grpSpPr>
          <p:pic>
            <p:nvPicPr>
              <p:cNvPr id="423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0" y="209988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74520" y="213084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25" name="Rectangle 14"/>
            <p:cNvGrpSpPr/>
            <p:nvPr/>
          </p:nvGrpSpPr>
          <p:grpSpPr>
            <a:xfrm>
              <a:off x="14400" y="2040480"/>
              <a:ext cx="2043000" cy="158040"/>
              <a:chOff x="14400" y="2040480"/>
              <a:chExt cx="2043000" cy="158040"/>
            </a:xfrm>
          </p:grpSpPr>
          <p:pic>
            <p:nvPicPr>
              <p:cNvPr id="426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4400" y="204048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74520" y="206892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28" name="Rectangle 14"/>
            <p:cNvGrpSpPr/>
            <p:nvPr/>
          </p:nvGrpSpPr>
          <p:grpSpPr>
            <a:xfrm>
              <a:off x="14400" y="1976400"/>
              <a:ext cx="2043000" cy="163080"/>
              <a:chOff x="14400" y="1976400"/>
              <a:chExt cx="2043000" cy="163080"/>
            </a:xfrm>
          </p:grpSpPr>
          <p:pic>
            <p:nvPicPr>
              <p:cNvPr id="429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4400" y="197640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74520" y="200736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31" name="Rectangle 14"/>
            <p:cNvGrpSpPr/>
            <p:nvPr/>
          </p:nvGrpSpPr>
          <p:grpSpPr>
            <a:xfrm>
              <a:off x="14400" y="2346840"/>
              <a:ext cx="2043000" cy="163080"/>
              <a:chOff x="14400" y="2346840"/>
              <a:chExt cx="2043000" cy="163080"/>
            </a:xfrm>
          </p:grpSpPr>
          <p:pic>
            <p:nvPicPr>
              <p:cNvPr id="432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4400" y="234684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74520" y="237780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434" name="Group 35"/>
          <p:cNvGrpSpPr/>
          <p:nvPr/>
        </p:nvGrpSpPr>
        <p:grpSpPr>
          <a:xfrm>
            <a:off x="8583480" y="1976400"/>
            <a:ext cx="552600" cy="542880"/>
            <a:chOff x="8583480" y="1976400"/>
            <a:chExt cx="552600" cy="542880"/>
          </a:xfrm>
        </p:grpSpPr>
        <p:grpSp>
          <p:nvGrpSpPr>
            <p:cNvPr id="435" name="Rectangle 14"/>
            <p:cNvGrpSpPr/>
            <p:nvPr/>
          </p:nvGrpSpPr>
          <p:grpSpPr>
            <a:xfrm>
              <a:off x="8583480" y="2290320"/>
              <a:ext cx="552600" cy="159480"/>
              <a:chOff x="8583480" y="2290320"/>
              <a:chExt cx="552600" cy="159480"/>
            </a:xfrm>
          </p:grpSpPr>
          <p:pic>
            <p:nvPicPr>
              <p:cNvPr id="436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2903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>
                <a:off x="8634240" y="23187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38" name="Rectangle 14"/>
            <p:cNvGrpSpPr/>
            <p:nvPr/>
          </p:nvGrpSpPr>
          <p:grpSpPr>
            <a:xfrm>
              <a:off x="8583480" y="2225520"/>
              <a:ext cx="552600" cy="164160"/>
              <a:chOff x="8583480" y="2225520"/>
              <a:chExt cx="552600" cy="164160"/>
            </a:xfrm>
          </p:grpSpPr>
          <p:pic>
            <p:nvPicPr>
              <p:cNvPr id="439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255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8634240" y="22564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41" name="Rectangle 14"/>
            <p:cNvGrpSpPr/>
            <p:nvPr/>
          </p:nvGrpSpPr>
          <p:grpSpPr>
            <a:xfrm>
              <a:off x="8583480" y="2165760"/>
              <a:ext cx="552600" cy="159480"/>
              <a:chOff x="8583480" y="2165760"/>
              <a:chExt cx="552600" cy="159480"/>
            </a:xfrm>
          </p:grpSpPr>
          <p:pic>
            <p:nvPicPr>
              <p:cNvPr id="442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657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8634240" y="21942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44" name="Rectangle 14"/>
            <p:cNvGrpSpPr/>
            <p:nvPr/>
          </p:nvGrpSpPr>
          <p:grpSpPr>
            <a:xfrm>
              <a:off x="8583480" y="2100960"/>
              <a:ext cx="552600" cy="164160"/>
              <a:chOff x="8583480" y="2100960"/>
              <a:chExt cx="552600" cy="164160"/>
            </a:xfrm>
          </p:grpSpPr>
          <p:pic>
            <p:nvPicPr>
              <p:cNvPr id="445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009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8634240" y="21319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47" name="Rectangle 41"/>
            <p:cNvGrpSpPr/>
            <p:nvPr/>
          </p:nvGrpSpPr>
          <p:grpSpPr>
            <a:xfrm>
              <a:off x="8583480" y="2040840"/>
              <a:ext cx="552600" cy="159480"/>
              <a:chOff x="8583480" y="2040840"/>
              <a:chExt cx="552600" cy="159480"/>
            </a:xfrm>
          </p:grpSpPr>
          <p:pic>
            <p:nvPicPr>
              <p:cNvPr id="448" name="Rectangl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4084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>
                <a:off x="8634240" y="20692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50" name="Rectangle 14"/>
            <p:cNvGrpSpPr/>
            <p:nvPr/>
          </p:nvGrpSpPr>
          <p:grpSpPr>
            <a:xfrm>
              <a:off x="8583480" y="1976400"/>
              <a:ext cx="552600" cy="164160"/>
              <a:chOff x="8583480" y="1976400"/>
              <a:chExt cx="552600" cy="164160"/>
            </a:xfrm>
          </p:grpSpPr>
          <p:pic>
            <p:nvPicPr>
              <p:cNvPr id="451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197640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8634240" y="20073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53" name="Rectangle 14"/>
            <p:cNvGrpSpPr/>
            <p:nvPr/>
          </p:nvGrpSpPr>
          <p:grpSpPr>
            <a:xfrm>
              <a:off x="8583480" y="2359800"/>
              <a:ext cx="552600" cy="159480"/>
              <a:chOff x="8583480" y="2359800"/>
              <a:chExt cx="552600" cy="159480"/>
            </a:xfrm>
          </p:grpSpPr>
          <p:pic>
            <p:nvPicPr>
              <p:cNvPr id="454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598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8634240" y="2388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456" name="Oval 28"/>
          <p:cNvGrpSpPr/>
          <p:nvPr/>
        </p:nvGrpSpPr>
        <p:grpSpPr>
          <a:xfrm>
            <a:off x="8553600" y="6022800"/>
            <a:ext cx="182520" cy="182880"/>
            <a:chOff x="8553600" y="6022800"/>
            <a:chExt cx="182520" cy="182880"/>
          </a:xfrm>
        </p:grpSpPr>
        <p:pic>
          <p:nvPicPr>
            <p:cNvPr id="457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022800"/>
              <a:ext cx="182520" cy="1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45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460" name="Oval 28" descr=""/>
            <p:cNvPicPr/>
            <p:nvPr/>
          </p:nvPicPr>
          <p:blipFill>
            <a:blip r:embed="rId18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462" name="Oval 28"/>
          <p:cNvGrpSpPr/>
          <p:nvPr/>
        </p:nvGrpSpPr>
        <p:grpSpPr>
          <a:xfrm>
            <a:off x="8553600" y="5456160"/>
            <a:ext cx="182520" cy="182520"/>
            <a:chOff x="8553600" y="5456160"/>
            <a:chExt cx="182520" cy="182520"/>
          </a:xfrm>
        </p:grpSpPr>
        <p:pic>
          <p:nvPicPr>
            <p:cNvPr id="463" name="Oval 28" descr=""/>
            <p:cNvPicPr/>
            <p:nvPr/>
          </p:nvPicPr>
          <p:blipFill>
            <a:blip r:embed="rId19"/>
            <a:stretch/>
          </p:blipFill>
          <p:spPr>
            <a:xfrm>
              <a:off x="8553600" y="5456160"/>
              <a:ext cx="18252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465" name="Oval 28"/>
          <p:cNvGrpSpPr/>
          <p:nvPr/>
        </p:nvGrpSpPr>
        <p:grpSpPr>
          <a:xfrm>
            <a:off x="8553600" y="5735520"/>
            <a:ext cx="182520" cy="184320"/>
            <a:chOff x="8553600" y="5735520"/>
            <a:chExt cx="182520" cy="184320"/>
          </a:xfrm>
        </p:grpSpPr>
        <p:pic>
          <p:nvPicPr>
            <p:cNvPr id="466" name="Oval 28" descr=""/>
            <p:cNvPicPr/>
            <p:nvPr/>
          </p:nvPicPr>
          <p:blipFill>
            <a:blip r:embed="rId20"/>
            <a:stretch/>
          </p:blipFill>
          <p:spPr>
            <a:xfrm>
              <a:off x="8553600" y="5735520"/>
              <a:ext cx="1825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2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23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AABC-C7C0-4340-BAB8-283CB554559C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24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1"/>
    <p:sldLayoutId id="2147483767" r:id="rId22"/>
    <p:sldLayoutId id="2147483768" r:id="rId23"/>
    <p:sldLayoutId id="2147483769" r:id="rId24"/>
    <p:sldLayoutId id="2147483770" r:id="rId25"/>
    <p:sldLayoutId id="2147483771" r:id="rId26"/>
    <p:sldLayoutId id="2147483772" r:id="rId27"/>
    <p:sldLayoutId id="2147483773" r:id="rId28"/>
    <p:sldLayoutId id="2147483774" r:id="rId29"/>
    <p:sldLayoutId id="2147483775" r:id="rId30"/>
    <p:sldLayoutId id="2147483776" r:id="rId31"/>
    <p:sldLayoutId id="2147483777" r:id="rId3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510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51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13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51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16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51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19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520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22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523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4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25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526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28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529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0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531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532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533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35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536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38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539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41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542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44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545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47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548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50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551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553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554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26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8F13-FC43-4E70-BFA0-A128BC0476BE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27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8"/>
    <p:sldLayoutId id="2147483780" r:id="rId19"/>
    <p:sldLayoutId id="2147483781" r:id="rId20"/>
    <p:sldLayoutId id="2147483782" r:id="rId21"/>
    <p:sldLayoutId id="2147483783" r:id="rId22"/>
    <p:sldLayoutId id="2147483784" r:id="rId23"/>
    <p:sldLayoutId id="2147483785" r:id="rId24"/>
    <p:sldLayoutId id="2147483786" r:id="rId25"/>
    <p:sldLayoutId id="2147483787" r:id="rId26"/>
    <p:sldLayoutId id="2147483788" r:id="rId27"/>
    <p:sldLayoutId id="2147483789" r:id="rId28"/>
    <p:sldLayoutId id="2147483790" r:id="rId2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59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59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0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60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0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60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0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60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1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61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1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61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1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61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61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62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62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2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62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2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62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2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63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3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63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3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63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3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63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64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64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28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29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30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7AD6-8577-4CB0-8985-D01E76B294B1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8"/>
    <p:sldLayoutId id="2147483793" r:id="rId19"/>
    <p:sldLayoutId id="2147483794" r:id="rId20"/>
    <p:sldLayoutId id="2147483795" r:id="rId21"/>
    <p:sldLayoutId id="2147483796" r:id="rId22"/>
    <p:sldLayoutId id="2147483797" r:id="rId23"/>
    <p:sldLayoutId id="2147483798" r:id="rId24"/>
    <p:sldLayoutId id="2147483799" r:id="rId25"/>
    <p:sldLayoutId id="2147483800" r:id="rId26"/>
    <p:sldLayoutId id="2147483801" r:id="rId27"/>
    <p:sldLayoutId id="2147483802" r:id="rId28"/>
    <p:sldLayoutId id="2147483803" r:id="rId2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8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68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8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69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9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69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9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69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9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69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0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70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0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70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70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70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70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1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71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1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71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1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71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2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72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2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72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2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72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72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73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pic>
        <p:nvPicPr>
          <p:cNvPr id="732" name="Answer Base" descr=""/>
          <p:cNvPicPr/>
          <p:nvPr/>
        </p:nvPicPr>
        <p:blipFill>
          <a:blip r:embed="rId18"/>
          <a:stretch/>
        </p:blipFill>
        <p:spPr>
          <a:xfrm>
            <a:off x="176040" y="1444680"/>
            <a:ext cx="8334720" cy="2066760"/>
          </a:xfrm>
          <a:prstGeom prst="rect">
            <a:avLst/>
          </a:prstGeom>
          <a:ln w="0">
            <a:noFill/>
          </a:ln>
        </p:spPr>
      </p:pic>
      <p:pic>
        <p:nvPicPr>
          <p:cNvPr id="733" name="Answer" descr=""/>
          <p:cNvPicPr/>
          <p:nvPr/>
        </p:nvPicPr>
        <p:blipFill>
          <a:blip r:embed="rId19"/>
          <a:stretch/>
        </p:blipFill>
        <p:spPr>
          <a:xfrm>
            <a:off x="176040" y="1444680"/>
            <a:ext cx="8334720" cy="245088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31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32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33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A6D8-E308-44CB-B594-7697532BC32D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0"/>
    <p:sldLayoutId id="2147483806" r:id="rId21"/>
    <p:sldLayoutId id="2147483807" r:id="rId22"/>
    <p:sldLayoutId id="2147483808" r:id="rId23"/>
    <p:sldLayoutId id="2147483809" r:id="rId24"/>
    <p:sldLayoutId id="2147483810" r:id="rId25"/>
    <p:sldLayoutId id="2147483811" r:id="rId26"/>
    <p:sldLayoutId id="2147483812" r:id="rId27"/>
    <p:sldLayoutId id="2147483813" r:id="rId28"/>
    <p:sldLayoutId id="2147483814" r:id="rId29"/>
    <p:sldLayoutId id="2147483815" r:id="rId30"/>
    <p:sldLayoutId id="2147483816" r:id="rId3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77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7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7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78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8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78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8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78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8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78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9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79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9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79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79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79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79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0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80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0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80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0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80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1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81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1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81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1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81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81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82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pic>
        <p:nvPicPr>
          <p:cNvPr id="822" name="Answer Base" descr=""/>
          <p:cNvPicPr/>
          <p:nvPr/>
        </p:nvPicPr>
        <p:blipFill>
          <a:blip r:embed="rId18"/>
          <a:stretch/>
        </p:blipFill>
        <p:spPr>
          <a:xfrm>
            <a:off x="225360" y="1365120"/>
            <a:ext cx="8242200" cy="1536840"/>
          </a:xfrm>
          <a:prstGeom prst="rect">
            <a:avLst/>
          </a:prstGeom>
          <a:ln w="0">
            <a:noFill/>
          </a:ln>
        </p:spPr>
      </p:pic>
      <p:pic>
        <p:nvPicPr>
          <p:cNvPr id="823" name="Answer" descr=""/>
          <p:cNvPicPr/>
          <p:nvPr/>
        </p:nvPicPr>
        <p:blipFill>
          <a:blip r:embed="rId19"/>
          <a:stretch/>
        </p:blipFill>
        <p:spPr>
          <a:xfrm>
            <a:off x="225360" y="1365120"/>
            <a:ext cx="8242200" cy="2457720"/>
          </a:xfrm>
          <a:prstGeom prst="rect">
            <a:avLst/>
          </a:prstGeom>
          <a:ln w="0">
            <a:noFill/>
          </a:ln>
        </p:spPr>
      </p:pic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34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35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36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419C-16C1-4106-ACFD-BA20BA21AB28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0"/>
    <p:sldLayoutId id="2147483819" r:id="rId21"/>
    <p:sldLayoutId id="2147483820" r:id="rId22"/>
    <p:sldLayoutId id="2147483821" r:id="rId23"/>
    <p:sldLayoutId id="2147483822" r:id="rId24"/>
    <p:sldLayoutId id="2147483823" r:id="rId25"/>
    <p:sldLayoutId id="2147483824" r:id="rId26"/>
    <p:sldLayoutId id="2147483825" r:id="rId27"/>
    <p:sldLayoutId id="2147483826" r:id="rId28"/>
    <p:sldLayoutId id="2147483827" r:id="rId29"/>
    <p:sldLayoutId id="2147483828" r:id="rId30"/>
    <p:sldLayoutId id="2147483829" r:id="rId3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86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86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6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87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7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87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7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87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7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87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8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88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8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88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88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88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88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9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89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9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89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9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89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0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90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0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90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0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90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90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91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pic>
        <p:nvPicPr>
          <p:cNvPr id="912" name="Rectangle 10" descr=""/>
          <p:cNvPicPr/>
          <p:nvPr/>
        </p:nvPicPr>
        <p:blipFill>
          <a:blip r:embed="rId18"/>
          <a:stretch/>
        </p:blipFill>
        <p:spPr>
          <a:xfrm>
            <a:off x="7693200" y="2054160"/>
            <a:ext cx="792000" cy="500040"/>
          </a:xfrm>
          <a:prstGeom prst="rect">
            <a:avLst/>
          </a:prstGeom>
          <a:ln w="0">
            <a:noFill/>
          </a:ln>
        </p:spPr>
      </p:pic>
      <p:pic>
        <p:nvPicPr>
          <p:cNvPr id="913" name="TextBox 25" descr=""/>
          <p:cNvPicPr/>
          <p:nvPr/>
        </p:nvPicPr>
        <p:blipFill>
          <a:blip r:embed="rId19"/>
          <a:stretch/>
        </p:blipFill>
        <p:spPr>
          <a:xfrm>
            <a:off x="7693200" y="2700360"/>
            <a:ext cx="792000" cy="506520"/>
          </a:xfrm>
          <a:prstGeom prst="rect">
            <a:avLst/>
          </a:prstGeom>
          <a:ln w="0">
            <a:noFill/>
          </a:ln>
        </p:spPr>
      </p:pic>
      <p:pic>
        <p:nvPicPr>
          <p:cNvPr id="914" name="TextBox 26" descr=""/>
          <p:cNvPicPr/>
          <p:nvPr/>
        </p:nvPicPr>
        <p:blipFill>
          <a:blip r:embed="rId20"/>
          <a:stretch/>
        </p:blipFill>
        <p:spPr>
          <a:xfrm>
            <a:off x="7693200" y="3425760"/>
            <a:ext cx="792000" cy="500040"/>
          </a:xfrm>
          <a:prstGeom prst="rect">
            <a:avLst/>
          </a:prstGeom>
          <a:ln w="0">
            <a:noFill/>
          </a:ln>
        </p:spPr>
      </p:pic>
      <p:pic>
        <p:nvPicPr>
          <p:cNvPr id="915" name="TextBox 31" descr=""/>
          <p:cNvPicPr/>
          <p:nvPr/>
        </p:nvPicPr>
        <p:blipFill>
          <a:blip r:embed="rId21"/>
          <a:stretch/>
        </p:blipFill>
        <p:spPr>
          <a:xfrm>
            <a:off x="7693200" y="4108320"/>
            <a:ext cx="792000" cy="506520"/>
          </a:xfrm>
          <a:prstGeom prst="rect">
            <a:avLst/>
          </a:prstGeom>
          <a:ln w="0">
            <a:noFill/>
          </a:ln>
        </p:spPr>
      </p:pic>
      <p:pic>
        <p:nvPicPr>
          <p:cNvPr id="916" name="TextBox 32" descr=""/>
          <p:cNvPicPr/>
          <p:nvPr/>
        </p:nvPicPr>
        <p:blipFill>
          <a:blip r:embed="rId22"/>
          <a:stretch/>
        </p:blipFill>
        <p:spPr>
          <a:xfrm>
            <a:off x="7693200" y="4797360"/>
            <a:ext cx="792000" cy="50004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37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38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39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CBE4-40FD-4DEA-A5F8-39E5BECE6C78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3"/>
    <p:sldLayoutId id="2147483832" r:id="rId24"/>
    <p:sldLayoutId id="2147483833" r:id="rId25"/>
    <p:sldLayoutId id="2147483834" r:id="rId26"/>
    <p:sldLayoutId id="2147483835" r:id="rId27"/>
    <p:sldLayoutId id="2147483836" r:id="rId28"/>
    <p:sldLayoutId id="2147483837" r:id="rId29"/>
    <p:sldLayoutId id="2147483838" r:id="rId30"/>
    <p:sldLayoutId id="2147483839" r:id="rId31"/>
    <p:sldLayoutId id="2147483840" r:id="rId32"/>
    <p:sldLayoutId id="2147483841" r:id="rId33"/>
    <p:sldLayoutId id="2147483842" r:id="rId3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959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960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1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62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963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65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966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7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68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969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71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972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74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975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6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77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978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9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980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981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982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84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985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6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87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988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9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90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991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2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93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994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5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96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997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99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1000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1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1002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1003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1005" name="Straight Connector 23"/>
          <p:cNvSpPr/>
          <p:nvPr/>
        </p:nvSpPr>
        <p:spPr>
          <a:xfrm>
            <a:off x="3886200" y="22860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6" name="Straight Connector 25"/>
          <p:cNvSpPr/>
          <p:nvPr/>
        </p:nvSpPr>
        <p:spPr>
          <a:xfrm>
            <a:off x="3886200" y="32004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7" name="Straight Connector 23"/>
          <p:cNvSpPr/>
          <p:nvPr/>
        </p:nvSpPr>
        <p:spPr>
          <a:xfrm flipV="1">
            <a:off x="3886200" y="32004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8" name="Straight Connector 23"/>
          <p:cNvSpPr/>
          <p:nvPr/>
        </p:nvSpPr>
        <p:spPr>
          <a:xfrm>
            <a:off x="3886200" y="50292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9" name="Straight Connector 23"/>
          <p:cNvSpPr/>
          <p:nvPr/>
        </p:nvSpPr>
        <p:spPr>
          <a:xfrm flipV="1">
            <a:off x="3886200" y="2286000"/>
            <a:ext cx="914400" cy="36576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ftr" idx="40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 type="dt" idx="41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 type="sldNum" idx="42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76EB-4DFE-47E8-B0C5-BEAFD37548BD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8"/>
    <p:sldLayoutId id="2147483845" r:id="rId19"/>
    <p:sldLayoutId id="2147483846" r:id="rId20"/>
    <p:sldLayoutId id="2147483847" r:id="rId21"/>
    <p:sldLayoutId id="2147483848" r:id="rId22"/>
    <p:sldLayoutId id="2147483849" r:id="rId23"/>
    <p:sldLayoutId id="2147483850" r:id="rId24"/>
    <p:sldLayoutId id="2147483851" r:id="rId25"/>
    <p:sldLayoutId id="2147483852" r:id="rId26"/>
    <p:sldLayoutId id="2147483853" r:id="rId27"/>
    <p:sldLayoutId id="2147483854" r:id="rId28"/>
    <p:sldLayoutId id="2147483855" r:id="rId2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sldNum" idx="43"/>
          </p:nvPr>
        </p:nvSpPr>
        <p:spPr>
          <a:xfrm>
            <a:off x="1645920" y="6477120"/>
            <a:ext cx="102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7991-EEAB-487E-B15C-32AB2E4F3B70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ftr" idx="44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dt" idx="45"/>
          </p:nvPr>
        </p:nvSpPr>
        <p:spPr>
          <a:xfrm>
            <a:off x="73148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a0a0a0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a0a0a0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46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47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48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F833-B5C9-48D7-96F7-DD362F8CB95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49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50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51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53BA-FFE2-4F72-A2D8-FE5400C1054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5F65-5B91-4990-8182-BF91F06E42F2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47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48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0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51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3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54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6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57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9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60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2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63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5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66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68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69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70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2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73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5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76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8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79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1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82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4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85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7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88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90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91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52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ftr" idx="53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sldNum" idx="54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99C7-ADEB-42A9-B582-5986ABD8E4B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55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ftr" idx="56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sldNum" idx="57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493B-3795-4529-8047-94E1CB3F174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58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59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sldNum" idx="60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D858-5BC0-406D-95B4-AFBAD669D0F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6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6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6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C912-AA4E-4AC8-A30E-E4ACCD3A0F6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6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6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6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D49F-2CCF-489C-AC03-82E45C2CF1C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 type="dt" idx="6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 type="ftr" idx="6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 type="sldNum" idx="6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1706-B01C-42C2-AC92-88095CBED7D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 type="dt" idx="7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 type="ftr" idx="7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 type="sldNum" idx="7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60FB-820A-403E-A095-71712EB8189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 type="dt" idx="7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 type="ftr" idx="7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 type="sldNum" idx="7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44CE-412B-478B-A55C-EF1D764AAFA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76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77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78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41A9-2B5E-4A41-BA90-8363CCC75CF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79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80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81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4790-6C2B-45CD-9816-C5860312EB2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C2C9-6D83-4D3F-A9CA-8E4D25990C8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dt" idx="82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ftr" idx="83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 type="sldNum" idx="84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CE76-830B-4626-A7AC-67359672966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 type="dt" idx="85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 type="ftr" idx="86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 type="sldNum" idx="87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72BF-04A0-4A7D-9E1A-7EA73BD587B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88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ftr" idx="89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 type="sldNum" idx="90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C5FB-020E-4DC6-993B-5CCEDAFA287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 type="dt" idx="9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 type="ftr" idx="9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 type="sldNum" idx="9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7165-7BF9-47E2-89CC-F5006F1B9C3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 type="dt" idx="9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 type="ftr" idx="9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 type="sldNum" idx="9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8036-B1B4-49D5-88D7-E9F27B4C1C8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 type="dt" idx="9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 type="ftr" idx="9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 type="sldNum" idx="9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1F90-34B9-45CC-90AB-3C8CA51B313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 type="dt" idx="10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 type="ftr" idx="10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 type="sldNum" idx="10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1412-C0D8-4D5C-B52C-19EC89D948B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 type="dt" idx="10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 type="ftr" idx="10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 type="sldNum" idx="10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A1A3-3BC8-4D67-91DA-DC9555CB5F7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2A70-08FB-4026-B6F1-B507C8931D0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7DA2-BB24-469E-A876-BA6A892EC6B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53960" y="5181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76040" y="187200"/>
            <a:ext cx="8763120" cy="6213600"/>
          </a:xfrm>
          <a:prstGeom prst="rect">
            <a:avLst/>
          </a:prstGeom>
          <a:noFill/>
          <a:ln cap="rnd" w="9360">
            <a:solidFill>
              <a:srgbClr val="6c6c6c"/>
            </a:solidFill>
            <a:custDash>
              <a:ds d="499000" sp="201000"/>
            </a:custDash>
            <a:miter/>
          </a:ln>
          <a:effectLst>
            <a:outerShdw dist="1260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66600" y="6559200"/>
            <a:ext cx="2438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7"/>
          </p:nvPr>
        </p:nvSpPr>
        <p:spPr>
          <a:xfrm>
            <a:off x="8172360" y="6559200"/>
            <a:ext cx="914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7A0A-6486-41E7-98F5-647D9170362B}" type="slidenum">
              <a:rPr b="0" lang="ar-SA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8"/>
          </p:nvPr>
        </p:nvSpPr>
        <p:spPr>
          <a:xfrm>
            <a:off x="2995560" y="6557760"/>
            <a:ext cx="46483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9"/>
          </p:nvPr>
        </p:nvSpPr>
        <p:spPr>
          <a:xfrm>
            <a:off x="1645920" y="6477120"/>
            <a:ext cx="102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CF89-5BB4-4A54-AE44-762BB7F1221A}" type="slidenum">
              <a:rPr b="0" lang="ar-SA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0"/>
          </p:nvPr>
        </p:nvSpPr>
        <p:spPr>
          <a:xfrm>
            <a:off x="2995560" y="6557760"/>
            <a:ext cx="46483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dt" idx="21"/>
          </p:nvPr>
        </p:nvSpPr>
        <p:spPr>
          <a:xfrm>
            <a:off x="73148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a0a0a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أحماض الأميني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minoacid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و البروتينا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285560" y="4876560"/>
            <a:ext cx="6715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دى القحط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447560" y="274680"/>
            <a:ext cx="73134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قـدمــ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 txBox="1"/>
          <p:nvPr/>
        </p:nvSpPr>
        <p:spPr>
          <a:xfrm>
            <a:off x="1213920" y="1356840"/>
            <a:ext cx="7929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بروتينات مركبات ذات أوزان جزيئية كبيرة ، تتكون من وحدات من الأحماض الأمينية المترابطة مع بعضها بواسطة رابطة الببتي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بروتينات هي المكون الأساسي للخلية الحية ، ومهمة جداً للحياة حيث أنها تدخل في تركيب الإنزيمات والهرمونات كما أن هيموجلوبين خلايا الدم الحمراء ليس إلا بروتيناً مرتبطاً ... وغير ذلك وظائف للبروتين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قـدمــ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 txBox="1"/>
          <p:nvPr/>
        </p:nvSpPr>
        <p:spPr>
          <a:xfrm>
            <a:off x="685800" y="167652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مد خواص المادة البروتينية إلى حد كبير على عدد ونوع الأحماض الأمينية الداخلة في تركيب هذه المادة وكذلك ترتيب هذه الأحماض في السلسلة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صنيف البروتين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 txBox="1"/>
          <p:nvPr/>
        </p:nvSpPr>
        <p:spPr>
          <a:xfrm>
            <a:off x="1300320" y="167652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نقسم البروتينات من حيث تركيبها إ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قسام رئيسية 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بروتينات البسيط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عبارة عن بروتينات متكونة من أحماض أمينية فقط وغير مرتبطة بمركبات أخرى ، وعند تحللها فإنه ينتـُج خليطاً من الأحماض الأمينية . وتنقسم البروتينات البسيطة حسب شكلها إلى قسمين رئيسيي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صنيف البروتين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1213920" y="1676520"/>
            <a:ext cx="7929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نقسم البروتينات من حيث تركيبها إ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قسام رئيسية 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بروتينات البسيط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بروتينات الليفية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ي عبارة عن بروتينات على شكل ألياف ولا تذوب في الماء كما أنها لا تهضم ، ومن أمثلتها الكولاجين وهو من المكونات الرئيسية للأنسجة الضامة للغضاريف ، و الأستين الموجود في العضلات ، والكرياتين الذي يوجد في الشعر والأظاف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صنيف البروتين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 txBox="1"/>
          <p:nvPr/>
        </p:nvSpPr>
        <p:spPr>
          <a:xfrm>
            <a:off x="1285920" y="121392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نقسم البروتينات من حيث تركيبها إ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قسام رئيسية 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بروتينات البسيط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بروتينات الكروية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تكون من سلاسل ببتيدية متعددة منطوية بشدة ولتكون كرات متراصة . وتذوب أغلب البروتينات الكروية في المحاليل المائية . معظم الإنزيمات المعروفة عبارة عن بروتينات كروية ، وكذلك المضادات الحيوية . وتشمل البروتينات الكروية الألبيومينات مثل ألبيومين البيض ، والجلوبيولينات مثل جلوبيولين سيرم الد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صنيف البروتين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 txBox="1"/>
          <p:nvPr/>
        </p:nvSpPr>
        <p:spPr>
          <a:xfrm>
            <a:off x="1285920" y="1676520"/>
            <a:ext cx="75722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نقسم البروتينات من حيث تركيبها إ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قسام رئيسية 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بروتينات المرتبط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تكون من بروتينات بسيطة مرتبطة بمركبات غير بروتينية ، ويسمى الجزء غير البروتين باسم المجموعة المرتبطة . وهذه البروتينات تنقسم إلى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"/>
          <p:cNvSpPr txBox="1"/>
          <p:nvPr/>
        </p:nvSpPr>
        <p:spPr>
          <a:xfrm>
            <a:off x="1500120" y="499680"/>
            <a:ext cx="7500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نقسم البروتينات من حيث تركيبها إ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قسام رئيسية 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بروتينات المرتبط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بروتينات النووي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proteins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ي تحتوي على بروتينات بسيطة مثل الهستونات أو البروتامينات مرتبطة مع حمض نوو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, R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هي توجد في أنوية الخلايا وفي السيتوبلازم والميتوكوندري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بروتينات الفوسفاتية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ي بروتينات مرتبطة مع حمض الفوسفوريك برابطة أسترية ومن أمثلتها كازين اللب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i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"/>
          <p:cNvSpPr txBox="1"/>
          <p:nvPr/>
        </p:nvSpPr>
        <p:spPr>
          <a:xfrm>
            <a:off x="1213920" y="785880"/>
            <a:ext cx="7643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بروتينات المرتبط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بروتينات الكربوهيدراتي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ycoprotein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في هذه الحالة تكون المجموعة المرتبطة عبارة عن كربوهيدرات ومن أمثلتها الميوسين الموجود في اللعا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بروتينات الملون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omoproteins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ي عبارة عن بروتين بسيط متحد مع مركب ملون ومن أمثلتها الهيموجلوب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 txBox="1"/>
          <p:nvPr/>
        </p:nvSpPr>
        <p:spPr>
          <a:xfrm>
            <a:off x="1285560" y="428760"/>
            <a:ext cx="7715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بروتينات المرتبط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بروتينات الدهني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poproteins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ي عبارة عن بروتينات بسيطة مع الدهون ، وتوجد في سيرم المخ والأنسجة العصب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بروتينات المعدني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lloproteins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ي عبارة عن بروتينات بسيطة مع أيونات غير عضوية مثل المغنيسيوم والكالسيوم ، ومن أمثلتها العديد من الإنزيمات التي تحتاج إلى هذه الأيونات في عم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"/>
          <p:cNvSpPr txBox="1"/>
          <p:nvPr/>
        </p:nvSpPr>
        <p:spPr>
          <a:xfrm>
            <a:off x="1300320" y="785520"/>
            <a:ext cx="75578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بروتينات المشتقة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ي البروتينات التي تتكون نتيجة تأثير بعض العوامل الطبيعية الكيميائية على البروتينات وتغير من تركيبتها الطبيعية ولكنها تحتفظ بخواصها العامة المميزة ومن أمثلتها الببتو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o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والبروتيوس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os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343160" y="2428920"/>
            <a:ext cx="737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الأحماض الأميني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inoaci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جربة : الكشف عن البروتينات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البيوريت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uret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 txBox="1"/>
          <p:nvPr/>
        </p:nvSpPr>
        <p:spPr>
          <a:xfrm>
            <a:off x="1213920" y="2000160"/>
            <a:ext cx="7858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بدأ التجربة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ي اختبار البيوري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ure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يتم معاملة البروتين بمحلول كبريتات النحاس في وسط قلوي ينتج مركباً بنفسجي اللون . ويشترط وجود رابطتين على الأقل بالجزيء لكي يعطي نتيجة إيجابية . هذا الاختبار يعطي نتيجة سالبة مع الكربوهيدرات والدهون والأحماض الأمين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جربة : الكشف عن البروتينات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البيوريت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uret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 txBox="1"/>
          <p:nvPr/>
        </p:nvSpPr>
        <p:spPr>
          <a:xfrm>
            <a:off x="1142640" y="2214360"/>
            <a:ext cx="77151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جهيزات التجربة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ابيب اختبار – قطارة - محلول كبريتات النحاس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- محلول هيدروكسيد الصوديو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- محلول ألبيومين البيض (بروتين) – محلول الحمض الأميني جلايس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(ويمكن استعمال أنواع أخرى من الأحماض الأمينية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جربة : الكشف عن البروتينات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البيوريت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uret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1285560" y="1714680"/>
            <a:ext cx="771516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خطوا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ذي أنبوبي اختبار زجاجية وأضيفي ل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ل من المحاليل التالية – كلٍ على حدة – محلول ألبيومين البيض (بروتين) ، محلول جلايسين (أو أي حمض أميني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ضيفي لكل أنبو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ل من محلول هيدروكسيد الصوديو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، رجّي الأنبوبتين جيدا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جربة : الكشف عن البروتينات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البيوريت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uret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1157400" y="207180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خطوا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ضيفي لكل أنبو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ل من محلول كبريتات النحاس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، رجّي الأنبوبتين جيداً . دوني ملاحظاتك والنتيجة لكل أنبو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جربة : الكشف عن البروتينات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البيوريت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uret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1228680" y="199980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لاحظة والاستنتاج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3" name="Picture 2" descr="http://faculty.ntcc.edu/mhearron/BiuretTest.jpg"/>
          <p:cNvPicPr/>
          <p:nvPr/>
        </p:nvPicPr>
        <p:blipFill>
          <a:blip r:embed="rId1"/>
          <a:stretch/>
        </p:blipFill>
        <p:spPr>
          <a:xfrm>
            <a:off x="3429000" y="3832200"/>
            <a:ext cx="3286080" cy="246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منياتي لكن بالتوفي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قـدمــ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 txBox="1"/>
          <p:nvPr/>
        </p:nvSpPr>
        <p:spPr>
          <a:xfrm>
            <a:off x="1356840" y="1499760"/>
            <a:ext cx="7643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أحماض الأمينية هي اللبنة الأساسية لبناء جميع البروتينات ، كما تعد مواد أولية لتوليد بعض الهرمون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البيورين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البيريميدين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imidi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الفيتامين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tami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ن عدد الأحماض الأمينية التي تبنى منها البروتينات في الطبيع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حمضاً أمينياً تـُنتج هذه الأحماض الأمينية إما عن التحلل الكامل للبروتين ، أو تـُصنّع بالطرق الكيمياو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كشف عن الأحماض الأمين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 txBox="1"/>
          <p:nvPr/>
        </p:nvSpPr>
        <p:spPr>
          <a:xfrm>
            <a:off x="1213920" y="1500120"/>
            <a:ext cx="7643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جميع المركبات العضوية اختبارات كشف تعتمد على المجموعة الفعالية لهذه المركبات العضوية وكذلك المجاميع الفعالة الأخرى في السلاسل الجانبية تعطينا مزيداً من المعلومات عن المركبات التي يتم الكشف عن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أحماض الأمينية عدة تفاعلات كشف لكن التفاعل المختبري الذي يستعمل بصورة واسعة للكشف عن هذه الأحماض ، هو تفاعل ننهيدر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hydri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كشف عن الأحماض الأمين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1214280" y="1676520"/>
            <a:ext cx="72439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فاعل الحمض الأميني مع الننهيدرين ويؤدي إلى تكوين ناتج أزرق أو بنفسجي اللون ، ما عدا الحمض الأميني البرولين يتكون ناتج أصفر متمي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بروتينات والمحاليل الأخرى كالسكريات تعطي نتيجة سالبة مع هذا الاختب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جربة : الكشف عن الأحماض الأمينية (الننهيدرين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nhydrin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 txBox="1"/>
          <p:nvPr/>
        </p:nvSpPr>
        <p:spPr>
          <a:xfrm>
            <a:off x="1142640" y="2071800"/>
            <a:ext cx="80010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جهيزات التجربة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ابيب اختبار – قطارة - محلول ننهيدر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- محلول ألبيومين البيض (بروتين) – محلول الحمض الأميني جلايس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(ويمكن استعمال أنواع أخرى من الأحماض الأمينية) - محلول الحمض الأميني برول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جربة : الكشف عن الأحماض الأمينية (الننهيدرين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nhydrin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 txBox="1"/>
          <p:nvPr/>
        </p:nvSpPr>
        <p:spPr>
          <a:xfrm>
            <a:off x="1285920" y="1928520"/>
            <a:ext cx="78580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خطوا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ذ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نابيب اختبار زجاجية وأضيفي ل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ل من المحاليل التالية – كلٍ على حدة – محلول ألبيومين البيض (بروتين) ، محلول جلايسين (أو أي حمض أميني) – محلول برول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ضيفي لكل أنبو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ل من محلول ننهيدر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، دوني ملاحظاتك والنتيجة لكل أنبو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جربة : الكشف عن الأحماض الأمينية (الننهيدرين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nhydrin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1300320" y="207180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لاحظة والاستنتاج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7" name="Picture 2" descr="http://www.rths.k12.il.us/faculty/science/gelsthorpe/proteinanalysis/Ninhydrin_page_files/image056.jpg"/>
          <p:cNvPicPr/>
          <p:nvPr/>
        </p:nvPicPr>
        <p:blipFill>
          <a:blip r:embed="rId1"/>
          <a:srcRect l="34576" t="0" r="30883" b="24745"/>
          <a:stretch/>
        </p:blipFill>
        <p:spPr>
          <a:xfrm>
            <a:off x="6041880" y="3857760"/>
            <a:ext cx="887400" cy="2571480"/>
          </a:xfrm>
          <a:prstGeom prst="rect">
            <a:avLst/>
          </a:prstGeom>
          <a:ln w="0">
            <a:noFill/>
          </a:ln>
        </p:spPr>
      </p:pic>
      <p:pic>
        <p:nvPicPr>
          <p:cNvPr id="1928" name="Picture 4" descr="http://www.rths.k12.il.us/faculty/science/gelsthorpe/proteinanalysis/Ninhydrin_page_files/image048.jpg"/>
          <p:cNvPicPr/>
          <p:nvPr/>
        </p:nvPicPr>
        <p:blipFill>
          <a:blip r:embed="rId2"/>
          <a:srcRect l="38025" t="18166" r="37798" b="25320"/>
          <a:stretch/>
        </p:blipFill>
        <p:spPr>
          <a:xfrm>
            <a:off x="4959360" y="3857760"/>
            <a:ext cx="923760" cy="2643120"/>
          </a:xfrm>
          <a:prstGeom prst="rect">
            <a:avLst/>
          </a:prstGeom>
          <a:ln w="0">
            <a:noFill/>
          </a:ln>
        </p:spPr>
      </p:pic>
      <p:pic>
        <p:nvPicPr>
          <p:cNvPr id="1929" name="Picture 6" descr="http://www.rths.k12.il.us/faculty/science/gelsthorpe/proteinanalysis/Ninhydrin_page_files/image044.jpg"/>
          <p:cNvPicPr/>
          <p:nvPr/>
        </p:nvPicPr>
        <p:blipFill>
          <a:blip r:embed="rId3"/>
          <a:srcRect l="34576" t="20769" r="41247" b="16963"/>
          <a:stretch/>
        </p:blipFill>
        <p:spPr>
          <a:xfrm>
            <a:off x="3914640" y="3857760"/>
            <a:ext cx="895320" cy="2643120"/>
          </a:xfrm>
          <a:prstGeom prst="rect">
            <a:avLst/>
          </a:prstGeom>
          <a:ln w="0">
            <a:noFill/>
          </a:ln>
        </p:spPr>
      </p:pic>
      <p:pic>
        <p:nvPicPr>
          <p:cNvPr id="1930" name="Picture 8" descr="http://www.rths.k12.il.us/faculty/science/gelsthorpe/proteinanalysis/Ninhydrin_page_files/image042.jpg"/>
          <p:cNvPicPr/>
          <p:nvPr/>
        </p:nvPicPr>
        <p:blipFill>
          <a:blip r:embed="rId4"/>
          <a:srcRect l="31110" t="0" r="34332" b="16950"/>
          <a:stretch/>
        </p:blipFill>
        <p:spPr>
          <a:xfrm>
            <a:off x="2857680" y="3857760"/>
            <a:ext cx="825480" cy="2643120"/>
          </a:xfrm>
          <a:prstGeom prst="rect">
            <a:avLst/>
          </a:prstGeom>
          <a:ln w="0">
            <a:noFill/>
          </a:ln>
        </p:spPr>
      </p:pic>
      <p:pic>
        <p:nvPicPr>
          <p:cNvPr id="1931" name="Picture 10" descr="http://www.rths.k12.il.us/faculty/science/gelsthorpe/proteinanalysis/Ninhydrin_page_files/image050.jpg"/>
          <p:cNvPicPr/>
          <p:nvPr/>
        </p:nvPicPr>
        <p:blipFill>
          <a:blip r:embed="rId5"/>
          <a:srcRect l="31110" t="0" r="34332" b="22142"/>
          <a:stretch/>
        </p:blipFill>
        <p:spPr>
          <a:xfrm>
            <a:off x="7077240" y="3857760"/>
            <a:ext cx="852480" cy="255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914040" y="2286000"/>
            <a:ext cx="7372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البروتينات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7:19:43Z</dcterms:created>
  <dc:creator>HA</dc:creator>
  <dc:description/>
  <dc:language>en-US</dc:language>
  <cp:lastModifiedBy>Uzer</cp:lastModifiedBy>
  <dcterms:modified xsi:type="dcterms:W3CDTF">2012-05-14T15:51:35Z</dcterms:modified>
  <cp:revision>50</cp:revision>
  <dc:subject/>
  <dc:title>الشريحة 1</dc:title>
</cp:coreProperties>
</file>