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864-D7F8-4492-865F-096FF36C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894-A7EC-43E0-AC1E-16F7484C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352-9CC4-458D-A286-52FCD33C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97C-764F-4361-A640-FE03E321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2036-D1BD-4DDD-9022-B263BA72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B9F-92FB-4CF3-985D-3715BE6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645D-CEAB-4A15-BE53-C7A72BB3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E63-57CE-46D4-BAF8-4F818181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F67-2CB9-43D4-8AEE-E65F395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F2A-5FAF-4E58-ACB3-2B39B5E4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2CE-16A0-4941-AE77-AF1C15FC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063-EE31-48F4-BAC8-F1AC7C76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7B8C-12BC-4785-B105-42A869C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878E-F336-4086-B091-C7FFEFE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8C5-3697-44CD-9A0F-D05A37F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A4B2-1132-4602-A47F-C97D0EC1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AD2-D81F-4FD5-8D55-DD90D02D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0B2-303D-45CE-AA9F-59230E5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F44-768C-4CCE-9D13-E35A9D60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894-D0BA-463B-BCC5-142AE565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1C3-C6B1-47D9-8BE3-B1F048D4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0C7-E5E8-4805-9F6D-D296B3B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497-6E8B-4C61-8FCF-6ED222A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A7A-A36D-44DC-9752-A527951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C248-9626-450A-80E2-4824AFD1B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FD2-2160-4A48-AC0A-3F2D4EDFD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b7e7ff"/>
                </a:solidFill>
                <a:latin typeface="Arial"/>
              </a:rPr>
              <a:t>تقرير رقم (</a:t>
            </a:r>
            <a:r>
              <a:rPr b="1" i="1" lang="en-US" sz="2400" spc="-1" strike="noStrike">
                <a:solidFill>
                  <a:srgbClr val="b7e7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b7e7ff"/>
                </a:solidFill>
                <a:latin typeface="Arial"/>
              </a:rPr>
              <a:t>)</a:t>
            </a:r>
            <a:br>
              <a:rPr sz="2400"/>
            </a:br>
            <a:br>
              <a:rPr sz="4000"/>
            </a:br>
            <a:r>
              <a:rPr b="1" i="1" lang="hi-IN" sz="4000" spc="-1" strike="noStrike">
                <a:solidFill>
                  <a:srgbClr val="b7e7ff"/>
                </a:solidFill>
                <a:latin typeface="Arial"/>
              </a:rPr>
              <a:t>المجامع النصرانية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مجامع المسكونية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دة / ملل ون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عداد الطالب / خالد الطو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دكتور / سليمان العي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مجمع المسكوني الرابع(مجمع خلدقونية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4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 قالوا أن مريم العذراء ولدت إلهنا ، ربنا يسوع المسيح الذي هو مع أبيه في الطبيعة الإلهية ومع الناس في الطبيعة الإنسانية ، وشهدوا أن المسيح له طبيعتان وأقنوم واحد ووجه 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 لعنوا نسطورس وديسقورس ومن يقول بمقالته ونفوه (النسطوريين كانوا يقولون أن أقنوم الابن لم يكن من العنصرين بل من العنصر الإنساني وحده )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7e7ff"/>
                </a:solidFill>
                <a:latin typeface="Arial"/>
              </a:rPr>
              <a:t>دور السلطة السياسية في المجامع وعلى العقيدة النصرانية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لدعوة لانعقاد المجم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لضغط للتأثير على القر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ستخدام السلطة للإلزام بالقرارا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تحقيق المكاسب والمصالح السيا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كثير من القساوسة الذين وقعوا على الوثيقة والقانون يعرفون بطلانها لكن الخوف والإغراء كان سبباً في بيعهم الدين بالدنيا والعياذ بالله 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سنهدرين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عريفه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هو المجلس الأعلى عند اليهود والذي كان يضم رؤساء الأحبار ومعلمي الشريعة ، وشيوخ الشعب ويرأسهم رئيس الأحبار(مجلس اليهود ) مثل مجمع السبعين الذي اقرت فيه الترجمة اليونانية للعهد القدي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على غراره عقد مجمع أورشليم الأول برئاسة القديس يعقوب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المبحث الأول :</a:t>
            </a:r>
            <a:br>
              <a:rPr sz="4000"/>
            </a:b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 المجامع المسكونية(</a:t>
            </a:r>
            <a:r>
              <a:rPr b="1" i="1" lang="ar-SA" sz="2800" spc="-1" strike="noStrike">
                <a:solidFill>
                  <a:srgbClr val="ffffcc"/>
                </a:solidFill>
                <a:latin typeface="Arial"/>
              </a:rPr>
              <a:t>النشأة والتاريخ و الأسباب </a:t>
            </a: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) 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نشأة : القرن الرابع بمدينة ني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تاريخ : 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325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أسباب : حل الخلافات المتعلقة بالقضايا اللاهوت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أنواع المجامع ( الملتقيات 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هناك ملتقيات كبيرة عالمية تسمى المسكو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واخرى خاصة صغيرة تسمى السينودس وهي تعن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”الإجتماع من أجل المناقشة في القضايا اللاهوتية للوصول إلى اتفاق عام حولها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أنواع المجام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وتنقسم المجامع إلى ثلاثة أقسام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عامة أويقال لها مسكونية ( عالمية )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مليه : أي طائف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أقليمية أي محلية .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6600"/>
                </a:solidFill>
                <a:latin typeface="Arial"/>
              </a:rPr>
              <a:t>اول المجام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* مجمع أورشليم الأو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( برئاسة القديس يعق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ضم الحواريين لمناقشة ما استحدثه بولس من نسخ وإبطال لبعض من قواعد الشريعة الموسو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لها : مجمع ني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ها : أكثر من عشرين مجمعا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سبابها : مناقشة القضايا اللاهوت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ثر المجامع المسكونية في العقيدة النصرانية     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نتائج مدم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دور الإمبراطور قسطنط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جو الرعب يسود المؤتم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قرارات المجمع ملزمة للجمي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إجبار المخالفين والتعذيب والطرد واللعن لمن خال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مصير أريوس واتباعه الموحد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a8472"/>
                </a:solidFill>
                <a:latin typeface="Arial"/>
              </a:rPr>
              <a:t>أهم القرارات لمجمع نيقية (المجمع الاول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* أصدرت قانون الإيمان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وخلاصته تاليه عيسى عليه السلام بالتثليث (جوهر واحد وثلاثة أقانيم ، الأب والابن والروح القدس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عن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إشراك بالله (القضاء على عقيدة التوحيد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عبادة الصور والتماث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أفخارستيا (العشاء الرباني - الخبز والخمر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e7ff"/>
                </a:solidFill>
                <a:latin typeface="Arial"/>
              </a:rPr>
              <a:t>المجمع المسكوني الثاني(مجمع القسطنطينية الاول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8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أكد خلاله الحاضرون قانون الإيمان النيقاوي(تاليه عيسى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توجيه التهمة لمن ينفون ألوهية الروح القدس باعتباره الأقنوم الثالث في عقيدة التثليث (بطريارك القسطنطينية المطرود ماسيدونيس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لمجمع المسكوني الثالث (مجمع أفسس الأول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3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- تأليه مريم العذراء رداً على نسط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- حرمان ونفي وطرد نسطور الذي قال بان مريم لم تلد          الإله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8:31:55Z</dcterms:created>
  <dc:creator>mnkm</dc:creator>
  <dc:description/>
  <dc:language>en-US</dc:language>
  <cp:lastModifiedBy>mnkm</cp:lastModifiedBy>
  <dcterms:modified xsi:type="dcterms:W3CDTF">2006-04-23T21:49:38Z</dcterms:modified>
  <cp:revision>24</cp:revision>
  <dc:subject/>
  <dc:title>المجامع النصرانية</dc:title>
</cp:coreProperties>
</file>