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E26-D677-4629-848B-06023D46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67A-7D71-4B4E-A722-7B6CB5EE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061-779B-4F88-8A77-2147F147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757-99D2-4DE3-9958-338DACCB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ABE1-6D16-4C2F-8868-0D1DF58C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CD40-8300-4086-8060-5EF19B46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887A-0C56-454F-AB41-039D3577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1D96-671C-4721-9D30-08630794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B07E-7121-44D1-8A4A-CDB73385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85AF-7FD1-403B-B807-9A118710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EBBB-53CA-48F9-BD8E-9EC66156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444-7523-451A-BE1B-2789B248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31A2-A151-45DD-AFBD-A67CA2EA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FA1F-C486-4566-BDE8-1D62B01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15A0-4179-485D-BEC8-56F343D3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30D3-5B95-469E-9B5A-8F6F4808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4883-D5DD-4E4E-94EA-F2C727E5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2C2-9C81-41BE-9598-B42A948F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AF0-CF16-4E3C-A953-DED7AFEB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979-EF64-44F2-B411-BB9D1969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E206-CC15-4A86-98B9-52EDA169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B9F-9960-40AF-AFC8-3B590B2C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AAF-1537-4140-BB17-4EDFBB78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D1C-DD30-42C9-8CC3-BEE3838F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CF3E-CC86-4BF8-83D4-13D52CB58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28B-4B79-4504-866E-6BAD138CA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>
                <a:solidFill>
                  <a:srgbClr val="b7e7ff"/>
                </a:solidFill>
                <a:latin typeface="Arial"/>
              </a:rPr>
              <a:t>تقرير رقم (</a:t>
            </a:r>
            <a:r>
              <a:rPr b="1" i="1" lang="en-US" sz="2400" spc="-1" strike="noStrike">
                <a:solidFill>
                  <a:srgbClr val="b7e7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b7e7ff"/>
                </a:solidFill>
                <a:latin typeface="Arial"/>
              </a:rPr>
              <a:t>)</a:t>
            </a:r>
            <a:br>
              <a:rPr sz="2400"/>
            </a:br>
            <a:br>
              <a:rPr sz="4000"/>
            </a:br>
            <a:r>
              <a:rPr b="1" i="1" lang="hi-IN" sz="4000" spc="-1" strike="noStrike">
                <a:solidFill>
                  <a:srgbClr val="b7e7ff"/>
                </a:solidFill>
                <a:latin typeface="Arial"/>
              </a:rPr>
              <a:t>المجامع النصرانية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6364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المجامع المسكونية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دة / ملل ون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عداد الطالب / خالد الطو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دكتور / سليمان العي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لمجمع المسكوني الرابع(مجمع خلدقونية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اريخه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54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تائجه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- قالوا أن مريم العذراء ولدت إلهنا ، ربنا يسوع المسيح الذي هو مع أبيه في الطبيعة الإلهية ومع الناس في الطبيعة الإنسانية ، وشهدوا أن المسيح له طبيعتان وأقنوم واحد ووجه واحد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- لعنوا نسطورس وديسقورس ومن يقول بمقالته ونفوه (النسطوريين كانوا يقولون أن أقنوم الابن لم يكن من العنصرين بل من العنصر الإنساني وحده ) 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b7e7ff"/>
                </a:solidFill>
                <a:latin typeface="Arial"/>
              </a:rPr>
              <a:t>دور السلطة السياسية في المجامع وعلى العقيدة النصرانية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الدعوة لانعقاد المجم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الضغط للتأثير على القرا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استخدام السلطة للإلزام بالقرارات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تحقيق المكاسب والمصالح السياس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كثير من القساوسة الذين وقعوا على الوثيقة والقانون يعرفون بطلانها لكن الخوف والإغراء كان سبباً في بيعهم الدين بالدنيا والعياذ بالله )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لسنهدرين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عريفه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هو المجلس الأعلى عند اليهود والذي كان يضم رؤساء الأحبار ومعلمي الشريعة ، وشيوخ الشعب ويرأسهم رئيس الأحبار(مجلس اليهود ) مثل مجمع السبعين الذي اقرت فيه الترجمة اليونانية للعهد القدي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وعلى غراره عقد مجمع أورشليم الأول برئاسة القديس يعقوب 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ffcc"/>
                </a:solidFill>
                <a:latin typeface="Arial"/>
              </a:rPr>
              <a:t>المبحث الأول :</a:t>
            </a:r>
            <a:br>
              <a:rPr sz="4000"/>
            </a:br>
            <a:r>
              <a:rPr b="1" i="1" lang="ar-SA" sz="4000" spc="-1" strike="noStrike">
                <a:solidFill>
                  <a:srgbClr val="ffffcc"/>
                </a:solidFill>
                <a:latin typeface="Arial"/>
              </a:rPr>
              <a:t> المجامع المسكونية(</a:t>
            </a:r>
            <a:r>
              <a:rPr b="1" i="1" lang="ar-SA" sz="2800" spc="-1" strike="noStrike">
                <a:solidFill>
                  <a:srgbClr val="ffffcc"/>
                </a:solidFill>
                <a:latin typeface="Arial"/>
              </a:rPr>
              <a:t>النشأة والتاريخ و الأسباب </a:t>
            </a:r>
            <a:r>
              <a:rPr b="1" i="1" lang="ar-SA" sz="4000" spc="-1" strike="noStrike">
                <a:solidFill>
                  <a:srgbClr val="ffffcc"/>
                </a:solidFill>
                <a:latin typeface="Arial"/>
              </a:rPr>
              <a:t>) 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النشأة : القرن الرابع بمدينة نيق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التاريخ :  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325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الأسباب : حل الخلافات المتعلقة بالقضايا اللاهوت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أنواع المجامع ( الملتقيات 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هناك ملتقيات كبيرة عالمية تسمى المسكو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واخرى خاصة صغيرة تسمى السينودس وهي تعن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”الإجتماع من أجل المناقشة في القضايا اللاهوتية للوصول إلى اتفاق عام حولها 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أنواع المجام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وتنقسم المجامع إلى ثلاثة أقسام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- مجامع عامة أويقال لها مسكونية ( عالمية ) 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- مجامع مليه : أي طائفي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- مجامع أقليمية أي محلية .</a:t>
            </a:r>
            <a:br>
              <a:rPr sz="3200"/>
            </a:br>
            <a:r>
              <a:rPr b="1" i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6600"/>
                </a:solidFill>
                <a:latin typeface="Arial"/>
              </a:rPr>
              <a:t>اول المجام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* مجمع أورشليم الأو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( برئاسة القديس يعقو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 وضم الحواريين لمناقشة ما استحدثه بولس من نسخ وإبطال لبعض من قواعد الشريعة الموسو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ولها : مجمع نيق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ها : أكثر من عشرين مجمعا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42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سبابها : مناقشة القضايا اللاهوت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ثر المجامع المسكونية في العقيدة النصرانية      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نتائج مدم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دور الإمبراطور قسطنط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جو الرعب يسود المؤتم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قرارات المجمع ملزمة للجمي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إجبار المخالفين والتعذيب والطرد واللعن لمن خال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مصير أريوس واتباعه الموحد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a8472"/>
                </a:solidFill>
                <a:latin typeface="Arial"/>
              </a:rPr>
              <a:t>أهم القرارات لمجمع نيقية (المجمع الاول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* أصدرت قانون الإيمان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وخلاصته تاليه عيسى عليه السلام بالتثليث (جوهر واحد وثلاثة أقانيم ، الأب والابن والروح القدس 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ا يعن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إشراك بالله (القضاء على عقيدة التوحيد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عبادة الصور والتماثي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الأفخارستيا (العشاء الرباني - الخبز والخمر)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98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e7ff"/>
                </a:solidFill>
                <a:latin typeface="Arial"/>
              </a:rPr>
              <a:t>المجمع المسكوني الثاني(مجمع القسطنطينية الاول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اريخه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8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تائجه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-أكد خلاله الحاضرون قانون الإيمان النيقاوي(تاليه عيسى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-توجيه التهمة لمن ينفون ألوهية الروح القدس باعتباره الأقنوم الثالث في عقيدة التثليث (بطريارك القسطنطينية المطرود ماسيدونيس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Arial"/>
              </a:rPr>
              <a:t>المجمع المسكوني الثالث (مجمع أفسس الأول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اريخه :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31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تائجه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- تأليه مريم العذراء رداً على نسطو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- حرمان ونفي وطرد نسطور الذي قال بان مريم لم تلد          الإله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8:31:55Z</dcterms:created>
  <dc:creator>mnkm</dc:creator>
  <dc:description/>
  <dc:language>en-US</dc:language>
  <cp:lastModifiedBy>mnkm</cp:lastModifiedBy>
  <dcterms:modified xsi:type="dcterms:W3CDTF">2006-04-23T21:49:38Z</dcterms:modified>
  <cp:revision>24</cp:revision>
  <dc:subject/>
  <dc:title>المجامع النصرانية</dc:title>
</cp:coreProperties>
</file>