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9EE87-C51D-4C9B-A211-6CF516791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08B3-5CE3-46D1-BAE6-C5A03D88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77F82-0EB1-4C1F-8F3A-DF7A7342A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BD11-20BC-4BEE-8BD1-1F58F1C98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E1B3-9296-4CA4-8DE9-15941935C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7EC1E-8CC2-4149-8BD5-8C60811C6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7128-B25C-430C-B4A2-308AC569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6C2C-4BCE-44C5-94F2-442D4E7D7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00EB-C889-4104-A7D0-669DD2B84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09CB-9B65-4B59-90D6-A26D5C85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3482-02D7-4130-A5AF-EDEEFE69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9E24-67AE-41F9-B56B-2DCC9596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A73F-0D71-440D-9444-9365D373B4B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2148120"/>
            <a:ext cx="7886880" cy="1434600"/>
            <a:chOff x="628560" y="2148120"/>
            <a:chExt cx="7886880" cy="1434600"/>
          </a:xfrm>
        </p:grpSpPr>
        <p:pic>
          <p:nvPicPr>
            <p:cNvPr id="42" name="عنوان 1" descr=""/>
            <p:cNvPicPr/>
            <p:nvPr/>
          </p:nvPicPr>
          <p:blipFill>
            <a:blip r:embed="rId1"/>
            <a:stretch/>
          </p:blipFill>
          <p:spPr>
            <a:xfrm>
              <a:off x="628560" y="2322360"/>
              <a:ext cx="7886880" cy="100656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ndalus"/>
                  <a:cs typeface="Andalus"/>
                </a:rPr>
                <a:t>موقف العقلانيين من شروط المجتهد</a:t>
              </a:r>
              <a:endParaRPr b="0" lang="en-US" sz="4400" spc="-1" strike="noStrike">
                <a:solidFill>
                  <a:srgbClr val="000000"/>
                </a:solidFill>
                <a:latin typeface="Calibri"/>
              </a:endParaRPr>
            </a:p>
          </p:txBody>
        </p:sp>
      </p:grpSp>
      <p:grpSp>
        <p:nvGrpSpPr>
          <p:cNvPr id="44" name="عنوان فرعي 2"/>
          <p:cNvGrpSpPr/>
          <p:nvPr/>
        </p:nvGrpSpPr>
        <p:grpSpPr>
          <a:xfrm>
            <a:off x="1311120" y="3767040"/>
            <a:ext cx="6516720" cy="774720"/>
            <a:chOff x="1311120" y="3767040"/>
            <a:chExt cx="6516720" cy="774720"/>
          </a:xfrm>
        </p:grpSpPr>
        <p:pic>
          <p:nvPicPr>
            <p:cNvPr id="45" name="عنوان فرعي 2" descr=""/>
            <p:cNvPicPr/>
            <p:nvPr/>
          </p:nvPicPr>
          <p:blipFill>
            <a:blip r:embed="rId2"/>
            <a:stretch/>
          </p:blipFill>
          <p:spPr>
            <a:xfrm>
              <a:off x="1311120" y="3767040"/>
              <a:ext cx="6516720" cy="774720"/>
            </a:xfrm>
            <a:prstGeom prst="rect">
              <a:avLst/>
            </a:prstGeom>
            <a:ln w="0">
              <a:noFill/>
            </a:ln>
          </p:spPr>
        </p:pic>
        <p:sp>
          <p:nvSpPr>
            <p:cNvPr id="46" name=""/>
            <p:cNvSpPr/>
            <p:nvPr/>
          </p:nvSpPr>
          <p:spPr>
            <a:xfrm>
              <a:off x="1371600" y="3886200"/>
              <a:ext cx="6400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d0d0d"/>
                  </a:solidFill>
                  <a:latin typeface="Sakkal Majalla"/>
                  <a:cs typeface="Sakkal Majalla"/>
                </a:rPr>
                <a:t>إعداد: وفاء بنت محمد العيسى</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600"/>
            <a:ext cx="8229600" cy="143244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33"/>
                </a:solidFill>
                <a:latin typeface="Andalus"/>
                <a:cs typeface="Andalus"/>
              </a:rPr>
              <a:t>موقف العقلانيين من شروط المجتهد</a:t>
            </a:r>
            <a:endParaRPr b="0" lang="en-US" sz="4400" spc="-1" strike="noStrike">
              <a:solidFill>
                <a:srgbClr val="000000"/>
              </a:solidFill>
              <a:latin typeface="Calibri"/>
            </a:endParaRPr>
          </a:p>
        </p:txBody>
      </p:sp>
      <p:pic>
        <p:nvPicPr>
          <p:cNvPr id="48"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56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ndalus"/>
                <a:cs typeface="Andalus"/>
              </a:rPr>
              <a:t>من الملاحظ  عليهم أنهم  في المستوى  النظري  ينقسمون إلى  قسمين</a:t>
            </a:r>
            <a:endParaRPr b="0" lang="en-US" sz="4400" spc="-1" strike="noStrike">
              <a:solidFill>
                <a:srgbClr val="000000"/>
              </a:solidFill>
              <a:latin typeface="Calibri"/>
            </a:endParaRPr>
          </a:p>
        </p:txBody>
      </p:sp>
      <p:pic>
        <p:nvPicPr>
          <p:cNvPr id="50"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24360"/>
            <a:ext cx="8229600" cy="25290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على المستوى التطبيقي  فكثير منهم توسع في  جانب الاجتهاد ولذلك  خرجت الآراء الشاذة  وهذا الخلل على  مستويين نظري وتطبيقي  والرد عليهم بالإجمال  فيما يلي:</a:t>
            </a:r>
            <a:endParaRPr b="0" lang="en-US" sz="3200" spc="-1" strike="noStrike">
              <a:solidFill>
                <a:srgbClr val="000000"/>
              </a:solidFill>
              <a:latin typeface="Calibri"/>
            </a:endParaRPr>
          </a:p>
        </p:txBody>
      </p:sp>
      <p:pic>
        <p:nvPicPr>
          <p:cNvPr id="52" name="صورة 3" descr="$2$.gif"/>
          <p:cNvPicPr/>
          <p:nvPr/>
        </p:nvPicPr>
        <p:blipFill>
          <a:blip r:embed="rId1"/>
          <a:stretch/>
        </p:blipFill>
        <p:spPr>
          <a:xfrm>
            <a:off x="468360" y="249228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520"/>
            <a:ext cx="8229600" cy="21027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ndalus"/>
                <a:ea typeface="Andalus"/>
              </a:rPr>
              <a:t>(</a:t>
            </a:r>
            <a:r>
              <a:rPr b="0" lang="ar-SA" sz="4400" spc="-1" strike="noStrike">
                <a:solidFill>
                  <a:srgbClr val="000000"/>
                </a:solidFill>
                <a:latin typeface="Andalus"/>
                <a:ea typeface="Andalus"/>
              </a:rPr>
              <a:t>1</a:t>
            </a:r>
            <a:r>
              <a:rPr b="0" lang="ar-SA" sz="4400" spc="-1" strike="noStrike">
                <a:solidFill>
                  <a:srgbClr val="000000"/>
                </a:solidFill>
                <a:latin typeface="Andalus"/>
                <a:ea typeface="Andalus"/>
              </a:rPr>
              <a:t>) الاجتهادات الباطلة  والصادرة عن أي كان  مصدر بطلانها أحد  وجهين:</a:t>
            </a:r>
            <a:endParaRPr b="0" lang="en-US" sz="4400" spc="-1" strike="noStrike">
              <a:solidFill>
                <a:srgbClr val="000000"/>
              </a:solidFill>
              <a:latin typeface="Calibri"/>
            </a:endParaRPr>
          </a:p>
        </p:txBody>
      </p:sp>
      <p:sp>
        <p:nvSpPr>
          <p:cNvPr id="54" name="PlaceHolder 2"/>
          <p:cNvSpPr>
            <a:spLocks noGrp="1"/>
          </p:cNvSpPr>
          <p:nvPr>
            <p:ph/>
          </p:nvPr>
        </p:nvSpPr>
        <p:spPr>
          <a:xfrm>
            <a:off x="457200" y="2335320"/>
            <a:ext cx="8229600" cy="538884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أولاً:أنها صادرة عمن ليس أهلا للاجتهاد لعدم توفر شروط الاجتهاد  فيه وحقيقة هذا كما قال الشاطبي: إنه رأي بمجرد التشهي وخبط  في عماية واتباع للهوى</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ثانياً: قد تصدر اجتهادات باطلة وشاذة عمن ليس بأهل الاجتهاد ولو  جزئيا وذلك لعدم بذله وسعه في الاجتهاد أو لاخلاله ببعض الشروط  كمخالفة النصوص بحجة تحقيق المصلحة</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تقييم: أصحاب هذا الاتجاه من جهة لم تتوفر فيهم شروط الاجتهاد إما  غير مؤهل أو لديه أهلية لمنه لم يسلك المسلك الشر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solidFill>
            <a:srgbClr val="ffffff"/>
          </a:solidFill>
          <a:ln w="25560">
            <a:solidFill>
              <a:srgbClr val="c0504d"/>
            </a:solidFill>
            <a:miter/>
          </a:ln>
        </p:spPr>
        <p:txBody>
          <a:bodyPr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ndalus"/>
                <a:ea typeface="Andalus"/>
              </a:rPr>
              <a:t> (</a:t>
            </a:r>
            <a:r>
              <a:rPr b="0" lang="ar-SA" sz="4000" spc="-1" strike="noStrike">
                <a:solidFill>
                  <a:srgbClr val="000000"/>
                </a:solidFill>
                <a:latin typeface="Andalus"/>
                <a:ea typeface="Andalus"/>
              </a:rPr>
              <a:t>2</a:t>
            </a:r>
            <a:r>
              <a:rPr b="0" lang="ar-SA" sz="4000" spc="-1" strike="noStrike">
                <a:solidFill>
                  <a:srgbClr val="000000"/>
                </a:solidFill>
                <a:latin typeface="Andalus"/>
                <a:ea typeface="Andalus"/>
              </a:rPr>
              <a:t>) إن الواجب على جميع من يتصدى لبيان مراد الله ورسوله من النصوص الشرعية قرآنا وسنة  استشعار عظيم في المنزلة وشدة خطورة القول على الله بغير علم </a:t>
            </a:r>
            <a:endParaRPr b="0" lang="en-US" sz="4000" spc="-1" strike="noStrike">
              <a:solidFill>
                <a:srgbClr val="000000"/>
              </a:solidFill>
              <a:latin typeface="Calibri"/>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79640"/>
            <a:ext cx="8229600" cy="2286360"/>
          </a:xfrm>
          <a:prstGeom prst="rect">
            <a:avLst/>
          </a:prstGeom>
          <a:solidFill>
            <a:srgbClr val="ffffff"/>
          </a:solidFill>
          <a:ln w="25560">
            <a:solidFill>
              <a:srgbClr val="c0504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ndalus"/>
                <a:ea typeface="Andalus"/>
              </a:rPr>
              <a:t>(</a:t>
            </a:r>
            <a:r>
              <a:rPr b="0" lang="ar-SA" sz="3600" spc="-1" strike="noStrike">
                <a:solidFill>
                  <a:srgbClr val="000000"/>
                </a:solidFill>
                <a:latin typeface="Andalus"/>
                <a:ea typeface="Andalus"/>
              </a:rPr>
              <a:t>3</a:t>
            </a:r>
            <a:r>
              <a:rPr b="0" lang="ar-SA" sz="3600" spc="-1" strike="noStrike">
                <a:solidFill>
                  <a:srgbClr val="000000"/>
                </a:solidFill>
                <a:latin typeface="Andalus"/>
                <a:ea typeface="Andalus"/>
              </a:rPr>
              <a:t>) المناداة بتيسير وتخفيف شروط  الاجتهاد يحتاج إلى تدقيق وضبط ولا  يصح أن يطلق لئلا يتخذ ذريعة ليقول  من شاء ما شاء بحجة الاجتهاد</a:t>
            </a:r>
            <a:endParaRPr b="0" lang="en-US" sz="3600" spc="-1" strike="noStrike">
              <a:solidFill>
                <a:srgbClr val="000000"/>
              </a:solidFill>
              <a:latin typeface="Calibri"/>
            </a:endParaRPr>
          </a:p>
        </p:txBody>
      </p:sp>
      <p:sp>
        <p:nvSpPr>
          <p:cNvPr id="58" name="PlaceHolder 2"/>
          <p:cNvSpPr>
            <a:spLocks noGrp="1"/>
          </p:cNvSpPr>
          <p:nvPr>
            <p:ph/>
          </p:nvPr>
        </p:nvSpPr>
        <p:spPr>
          <a:xfrm>
            <a:off x="539280" y="2420640"/>
            <a:ext cx="8425080" cy="69044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أولاً:إذا كان المراد هو تيسر وسائل الاجتهاد بحيث سهل  الرجوع إلى كتب التفسير والحديث والفقه والأصول بشكل  لم يسبق له فهذا صحيح، ولكن ذلك لا يغني شيئا مالم توجد  ملكة الاجتهاد والتي تحصل بعد سلوك الطريق الصحيح  لتعلم علوم الشريعة وطول الممارسة</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ثانياً: إذا كان المراد بذلك هو تصوير أن تحقيق الشروط  في غاية الصعوبة فهذا لا يقبل لأنه يؤدي إلى أن يتجرأ  الجهلة على الشريعة والعلماء إنما قرروها لئلا يتلاعب بها  أهل الاهواء</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ثالثاً: لا تنافي بين الأمر بتدبر القرآن والعمل بما فيه وبما سنة  النبي لعموم المسلمين وبين تحقيق شروط الاجتهاد إذ إن تلك  الشروط مطلوبة فيما هو من مجال الاجتهاد</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رابعاً: إن عدم الالتزام بما قرره أهل العلم المعتبرون في هذا  الباب سيؤدي إلى رفع مصالح وجلب مفاسد للأمة في دينها  باسم الاجتهاد والدفاع عن الاسلام وتحسين صورت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07:36Z</dcterms:created>
  <dc:creator>وفاء بنت محمد العيسى</dc:creator>
  <dc:description/>
  <dc:language>en-US</dc:language>
  <cp:lastModifiedBy>ساره</cp:lastModifiedBy>
  <dcterms:modified xsi:type="dcterms:W3CDTF">2013-03-08T15:15:31Z</dcterms:modified>
  <cp:revision>3</cp:revision>
  <dc:subject/>
  <dc:title>موقف العقلانيين من شروط المجتهد</dc:title>
</cp:coreProperties>
</file>