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320-2846-470E-BCB6-724ADE9E33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557-37B6-41D5-8375-E5A2B1809AD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C318-90A2-446E-94EE-AC4AF85C1D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053-FDCC-4EF2-9C2E-CDC81D1C2A6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461-FDD0-4131-851A-56AA87C7E37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1EC-BC0F-40DD-BF25-508EEBF757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8035-05F9-4C70-8339-FAFF3E0A5DF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0C8-9BBE-4F89-B95F-3C51A42E6A4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5FC1-0CF7-4A0B-A114-748889D757F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6B0-FCCD-4E15-AE97-6A6C3DA8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4E2-3AB1-45C4-9E80-AA727A3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A77-027A-450E-81BD-266324E7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DFC-8C99-4C38-8E96-0D79207B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1AC-E23E-4EDB-8F69-321CC922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19B-8DBC-48E0-8B23-46618E9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2C0-77F5-4966-A01A-62476E2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D104-7146-4CE4-A682-7D9AA22B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BB8F-66F9-4186-A220-0F436FE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E11-DE25-48A5-A4FE-94F7140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1693-0E87-4D0B-9303-477290FE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0AE-9D3D-412C-A6A2-829CEDF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127-5A36-47D8-B5E5-09E7A5C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0205-49E3-489D-8CD7-4B49F52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11A-5CBC-400C-A454-CF0EFF4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D7F8-F67E-4614-B7EB-9FB5107B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18F1-329C-45AE-8121-40D5213F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1FAC-BEE5-46EF-95B6-4B075D11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A4DA-63ED-484A-86B4-7E0C3E4C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7A01-7EFF-4F86-8BC6-40371A49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1D12-A583-4465-848C-F242512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00BB-6C62-4A7C-9411-53F83324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2DA-11EA-4592-B843-5C84AF04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7D28-7C4E-42F6-8F7D-0F1220E8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6E9F-2152-4C29-95DB-84C5BC6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76EE-612E-4A72-9645-7D81E73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79CA-AFFC-407F-BA2C-9F06E34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EB74-4EC6-4683-AA29-38BE538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93E0-5650-4FD4-8FCE-11C25DDC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5867-4138-493E-889A-36D029AE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9654-D26D-4382-9234-17204287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E7C42-8769-4F30-BD77-84040BE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C11D-44EE-4AC0-B35A-565251F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8BC-7DA6-479B-A278-878C1E3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9CB6-64CC-4908-AEB5-B0354AC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CEF0-46A3-445E-A3AA-503A5F5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8E31-7486-44D8-A3AF-F284633E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900B-8A30-4873-99C4-5E858F3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D650-E9A3-4AB2-ACAD-40CF996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58D4-7D76-4F5A-BBB9-E3C98D5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BCED-8FFA-4102-B8C1-4A81C0ED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A0B4-46FD-4C84-8187-6A526F6E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D30E-3998-42A9-97AB-552DA436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3EFC-DDF2-426F-8989-80586538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F65-8AD5-4B42-BAEC-AC6F86F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A1858-5E39-4FD9-B751-CF67FA3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88C8-12B4-4EDF-962F-1611EBBF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F0CB-C2C5-4E8A-BB1C-E4664F43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AA71-7276-4D83-8C7A-61010B0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911F-7CDE-4BE4-A56C-D6E239FE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AC13-5352-4803-A38F-70006C0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A4EF-8D88-41B8-ADB8-F890F51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CA50-FF00-408C-BD9C-02A597F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07E0-A319-4268-8C15-49579C02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74A5-6E72-41A9-A142-740C7B70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4D6-81E1-494D-BEC2-721A4D8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AE64-1EA3-4F52-8F29-C458A2BB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0CA-6818-4BC3-B85C-D8732A6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EE1-4DFF-48A7-920E-301A135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9D6-B7BE-4ACF-ADAE-CCB314C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E42-4AB0-4EF0-819E-8C5F1776A1DA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F780-5A01-4E8D-B9BA-02526188618C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44C-F028-486D-B5A9-52CC2CA7DCE6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0F14-B8D5-4328-97BB-A7BF082E429F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285-5660-4383-A27E-6265D65E0FAD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9640" y="743040"/>
            <a:ext cx="510840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Salwa Humsani</cp:lastModifiedBy>
  <dcterms:modified xsi:type="dcterms:W3CDTF">2017-12-11T09:11:15Z</dcterms:modified>
  <cp:revision>16</cp:revision>
  <dc:subject/>
  <dc:title>مقياس العوامل الخمس الكبرى في الشخصية</dc:title>
</cp:coreProperties>
</file>