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F2738-61E5-42A9-A275-91F8DA79C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AC352-580F-48CF-9677-B7E4E6BD8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6AB6F-4645-408F-9A21-581E5F997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BEEB6-D7B6-4588-ADD5-46CD6255A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E02F4-957A-4875-8FAE-EDBAD336B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B6E6C-7257-4AA0-AD06-49D31E4D7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E1206-3842-48C8-8EFF-50DFDB5DF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8A140-AEAE-4C0E-859D-AFD9ED5E5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118DC-5989-49AF-8C6A-5C8B3F3A9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1C33C-C6D9-4609-A70B-DBA5254B7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4D76B-D05C-4D9D-B773-1C5F3AE0A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47157-5921-4282-B5B0-E98A39AC2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BFE4E-9D24-49CE-8DDD-0E6C4087C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99DDC-241F-4199-8375-4C6F07C46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B8A31-E306-42B8-8B1A-42711D86E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DBD32-B748-424F-ACB9-7D26B1C5C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6D4AB-D6EF-4F33-90A9-560AA51A7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5069A-2788-4368-95B8-93BCBCA3F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5532A-764D-44FD-A48B-4AC8B1A59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2C7BF-0467-4FD7-A201-74E67BEDA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28BF0-2C74-4BF8-BA18-0F3F3CFB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E3FD7-26C3-40D2-87BC-4182E9196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8173D-2258-452F-85A7-71D4A3C8D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CE4A9-91C2-412D-BAD6-065B1BA96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lgn="r" rtl="1">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lgn="r" rtl="1">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lgn="r" rtl="1">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BF21-3B28-4035-8CC6-5F0014AF68B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9B32-AEC5-497A-BC58-FB5020D2B34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rtl="1">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200" spc="-1" strike="noStrike">
                <a:solidFill>
                  <a:srgbClr val="ffffff"/>
                </a:solidFill>
                <a:latin typeface="Times New Roman"/>
              </a:rPr>
              <a:t>الفصل الثاني</a:t>
            </a:r>
            <a:r>
              <a:rPr b="0" lang="en-US" sz="6800" spc="-1" strike="noStrike">
                <a:solidFill>
                  <a:srgbClr val="ffffff"/>
                </a:solidFill>
                <a:latin typeface="Times New Roman"/>
              </a:rPr>
              <a:t> </a:t>
            </a:r>
            <a:endParaRPr b="0" lang="en-US" sz="68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800" spc="-1" strike="noStrike">
                <a:solidFill>
                  <a:srgbClr val="ffffff"/>
                </a:solidFill>
                <a:latin typeface="Arial"/>
              </a:rPr>
              <a:t>خطة البحث</a:t>
            </a:r>
            <a:endParaRPr b="0" lang="en-US" sz="5800" spc="-1" strike="noStrike">
              <a:solidFill>
                <a:srgbClr val="ffffff"/>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blinds(horizontal)"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box(in)" transition="in">
                                      <p:cBhvr additive="repl">
                                        <p:cTn id="12"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تحديد مشكلة البحث:</a:t>
            </a:r>
            <a:endParaRPr b="0" lang="en-US" sz="4400" spc="-1" strike="noStrike">
              <a:solidFill>
                <a:srgbClr val="ffffff"/>
              </a:solidFill>
              <a:latin typeface="Times New Roman"/>
            </a:endParaRPr>
          </a:p>
        </p:txBody>
      </p:sp>
      <p:sp>
        <p:nvSpPr>
          <p:cNvPr id="109" name="PlaceHolder 2"/>
          <p:cNvSpPr>
            <a:spLocks noGrp="1"/>
          </p:cNvSpPr>
          <p:nvPr>
            <p:ph/>
          </p:nvPr>
        </p:nvSpPr>
        <p:spPr>
          <a:xfrm>
            <a:off x="395280" y="170028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جب أن يكون دقيقا يبلور المشكلة أبعادها وجوانبها.</a:t>
            </a:r>
            <a:endParaRPr b="0" lang="en-US" sz="3100" spc="-1" strike="noStrike">
              <a:solidFill>
                <a:srgbClr val="ffffff"/>
              </a:solidFill>
              <a:latin typeface="Arial"/>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حدود المشكلة:</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حتاج الباحث على الرغم من كتابته للمقدمة : وتحديده الدقيق لمشكلة البحث إلى وضع بعض الحدود الإضافية المتعلقة ببعض جوانب المشكلة ومجالاتها , وذلك بهدف المزيد من التحديد والتوجه نحو الغرض الرئيس للمشكلة، بحيث تكون كل اهتمامات الباحث مركزة على محور المشكلة بعد وضع حدودها .</a:t>
            </a:r>
            <a:endParaRPr b="0" lang="en-US" sz="3100" spc="-1" strike="noStrike">
              <a:solidFill>
                <a:srgbClr val="ffffff"/>
              </a:solidFill>
              <a:latin typeface="Arial"/>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وضع المسلمات أو الافتراضات:</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هي مجموعة من العبارات يضعها الباحث أساسا لبحثه, ويسلم بصحتها دون ان يحتاج إلى إثباتها وإقامة الدليل عليها ، </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وهي عبارة عن حقائق واضحة بذاتها أو بديهيات لاتحتاج إلى أن يقدم دليلا عليها))</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بحث المقترح يستند إلى المسلمات الآتيه:</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بالإمكان تحسين أداء المعلمين عن طريق التدريب</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إن رفع كفاءات المعلمين يؤدي إلى تحسين تعلم التلاميذ</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المعلمون الذين يمتلكون الكفايات اللازمة لممارسة التعليم يؤدون أدوارهم بطريقة أفضل من أولئك الذين لايمتلكون هذه الكفايات </a:t>
            </a:r>
            <a:endParaRPr b="0" lang="en-US" sz="3100" spc="-1" strike="noStrike">
              <a:solidFill>
                <a:srgbClr val="ffffff"/>
              </a:solidFill>
              <a:latin typeface="Arial"/>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فروض:</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هو الإجابة المحتملة عن سؤال الدراسة , إنه استنتاج من الباحث , ولكنه ليس استنتاجا عشوائيا , بل استنتاج مبني على معلومات أو نظرية أو خبرة علميه محددة .</a:t>
            </a:r>
            <a:endParaRPr b="0" lang="en-US" sz="2700" spc="-1" strike="noStrike">
              <a:solidFill>
                <a:srgbClr val="ffffff"/>
              </a:solidFill>
              <a:latin typeface="Arial"/>
            </a:endParaRPr>
          </a:p>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وان ابرز خصائص الفروض الجيد هو إمكان اختباره إحصائيا.. وبما ان الفروض يعبر عن علاقة بين متغيرين فإنه يصاغ بشكل يوضح العلاقة .. مثال :</a:t>
            </a:r>
            <a:endParaRPr b="0" lang="en-US" sz="2700" spc="-1" strike="noStrike">
              <a:solidFill>
                <a:srgbClr val="ffffff"/>
              </a:solidFill>
              <a:latin typeface="Arial"/>
            </a:endParaRPr>
          </a:p>
          <a:p>
            <a:pPr marL="343080" indent="-34308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توجد فروق ذات دلالة إحصائية بين معرفة المعلمين للكفايات وبين ممارستهم لها . &gt;&gt; يتحدث هذا الفرض عن  علاقة إحصائية بين المتغيرات .</a:t>
            </a:r>
            <a:endParaRPr b="0" lang="en-US" sz="2700" spc="-1" strike="noStrike">
              <a:solidFill>
                <a:srgbClr val="ffffff"/>
              </a:solidFill>
              <a:latin typeface="Arial"/>
            </a:endParaRPr>
          </a:p>
          <a:p>
            <a:pPr marL="34308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فروض تعبر عن وجود الفروق ؟!</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4000"/>
          </a:bodyPr>
          <a:p>
            <a:pPr marL="322200" indent="-32220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الفروض التي تعبر عن وجود الفروق تسمى فروضا مباشرة(</a:t>
            </a:r>
            <a:r>
              <a:rPr b="0" lang="en-US" sz="3100" spc="-1" strike="noStrike">
                <a:solidFill>
                  <a:srgbClr val="ffffff"/>
                </a:solidFill>
                <a:latin typeface="Arial"/>
              </a:rPr>
              <a:t>DirectionaI Hypo</a:t>
            </a:r>
            <a:r>
              <a:rPr b="0" lang="ar-SA" sz="3100" spc="-1" strike="noStrike">
                <a:solidFill>
                  <a:srgbClr val="ffffff"/>
                </a:solidFill>
                <a:latin typeface="Arial"/>
              </a:rPr>
              <a:t>)</a:t>
            </a:r>
            <a:endParaRPr b="0" lang="en-US" sz="3100" spc="-1" strike="noStrike">
              <a:solidFill>
                <a:srgbClr val="ffffff"/>
              </a:solidFill>
              <a:latin typeface="Arial"/>
            </a:endParaRPr>
          </a:p>
          <a:p>
            <a:pPr marL="322200" indent="-32220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والفروض التي ننفي فيها هذه الفروق تسمى فروضا صفرية (</a:t>
            </a:r>
            <a:r>
              <a:rPr b="0" lang="en-US" sz="3100" spc="-1" strike="noStrike">
                <a:solidFill>
                  <a:srgbClr val="ffffff"/>
                </a:solidFill>
                <a:latin typeface="Arial"/>
              </a:rPr>
              <a:t>Null Hypothesis</a:t>
            </a:r>
            <a:r>
              <a:rPr b="0" lang="en-US" sz="3100" spc="-1" strike="noStrike">
                <a:solidFill>
                  <a:srgbClr val="ffffff"/>
                </a:solidFill>
                <a:latin typeface="Arial"/>
              </a:rPr>
              <a:t> </a:t>
            </a:r>
            <a:r>
              <a:rPr b="0" lang="ar-SA" sz="3100" spc="-1" strike="noStrike">
                <a:solidFill>
                  <a:srgbClr val="ffffff"/>
                </a:solidFill>
                <a:latin typeface="Arial"/>
              </a:rPr>
              <a:t>) </a:t>
            </a:r>
            <a:endParaRPr b="0" lang="en-US" sz="3100" spc="-1" strike="noStrike">
              <a:solidFill>
                <a:srgbClr val="ffffff"/>
              </a:solidFill>
              <a:latin typeface="Arial"/>
            </a:endParaRPr>
          </a:p>
          <a:p>
            <a:pPr marL="3222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 ويصاغ الفرض الصفري على النحو الاتي :</a:t>
            </a:r>
            <a:endParaRPr b="0" lang="en-US" sz="3100" spc="-1" strike="noStrike">
              <a:solidFill>
                <a:srgbClr val="ffffff"/>
              </a:solidFill>
              <a:latin typeface="Arial"/>
            </a:endParaRPr>
          </a:p>
          <a:p>
            <a:pPr marL="322200" indent="-322200" algn="r" rtl="1">
              <a:spcBef>
                <a:spcPts val="774"/>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لاتوجد فروق ذات دلالة إحصائية بين .......,.......</a:t>
            </a:r>
            <a:endParaRPr b="0" lang="en-US" sz="3100" spc="-1" strike="noStrike">
              <a:solidFill>
                <a:srgbClr val="ffffff"/>
              </a:solidFill>
              <a:latin typeface="Arial"/>
            </a:endParaRPr>
          </a:p>
          <a:p>
            <a:pPr marL="322200" indent="-322200" algn="r" rtl="1">
              <a:spcBef>
                <a:spcPts val="774"/>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gt;&gt; نحن هنا ننقي وجود الفروق , وعلينا نثبت هذه الفروض </a:t>
            </a:r>
            <a:endParaRPr b="0" lang="en-US" sz="3100" spc="-1" strike="noStrike">
              <a:solidFill>
                <a:srgbClr val="ffffff"/>
              </a:solidFill>
              <a:latin typeface="Arial"/>
            </a:endParaRPr>
          </a:p>
          <a:p>
            <a:pPr marL="32220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imes New Roman"/>
              </a:rPr>
              <a:t>الفرض الصفري أكثر دقة من الفرض المباشر؟؟!</a:t>
            </a:r>
            <a:endParaRPr b="0" lang="en-US" sz="40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لأن من الصعب على الباحث أن يضع فرضا مباشرا في بداية بحثه  لعدم قدرته على جمع معلومات وبيانات تؤهله إلى اصدار حكم أولــي على وجود هذه الفروق ”والفرض الصفري اسهل في القياس والتحقيق ”</a:t>
            </a:r>
            <a:endParaRPr b="0" lang="en-US" sz="3100" spc="-1" strike="noStrike">
              <a:solidFill>
                <a:srgbClr val="ffffff"/>
              </a:solidFill>
              <a:latin typeface="Arial"/>
            </a:endParaRPr>
          </a:p>
        </p:txBody>
      </p:sp>
    </p:spTree>
  </p:cSld>
  <p:transition>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إجراءات الدراسة :</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7000"/>
          </a:bodyPr>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أن الإجابة عن اسئلة الدراسة , وإثبات فرضياتهــا يتطلب ان يقوم الباحث بسلسلة من الإجراءات ما يلي :</a:t>
            </a:r>
            <a:endParaRPr b="0" lang="en-US" sz="2700" spc="-1" strike="noStrike">
              <a:solidFill>
                <a:srgbClr val="ffffff"/>
              </a:solidFill>
              <a:latin typeface="Arial"/>
            </a:endParaRPr>
          </a:p>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تحديد مجتمع الدراسة او المجوعة التي ستجري عليها الدراسة. </a:t>
            </a:r>
            <a:endParaRPr b="0" lang="en-US" sz="2700" spc="-1" strike="noStrike">
              <a:solidFill>
                <a:srgbClr val="ffffff"/>
              </a:solidFill>
              <a:latin typeface="Arial"/>
            </a:endParaRPr>
          </a:p>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تحديد الأدوات والمقاييس التي سيصممها .</a:t>
            </a:r>
            <a:endParaRPr b="0" lang="en-US" sz="2700" spc="-1" strike="noStrike">
              <a:solidFill>
                <a:srgbClr val="ffffff"/>
              </a:solidFill>
              <a:latin typeface="Arial"/>
            </a:endParaRPr>
          </a:p>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الطرق والأساليب التي سيستخدمها  والتصميمات التي يضعها لإثبات صحة فروض الدراسة .</a:t>
            </a:r>
            <a:endParaRPr b="0" lang="en-US" sz="2700" spc="-1" strike="noStrike">
              <a:solidFill>
                <a:srgbClr val="ffffff"/>
              </a:solidFill>
              <a:latin typeface="Arial"/>
            </a:endParaRPr>
          </a:p>
          <a:p>
            <a:pPr marL="332640" indent="-332640" algn="r" rtl="1">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700" spc="-1" strike="noStrike">
                <a:solidFill>
                  <a:srgbClr val="ffffff"/>
                </a:solidFill>
                <a:latin typeface="Arial"/>
              </a:rPr>
              <a:t>توضيح الأساليب الإحصائية التي سيستخدمها  في تحليل النتائج .</a:t>
            </a:r>
            <a:endParaRPr b="0" lang="en-US" sz="2700" spc="-1" strike="noStrike">
              <a:solidFill>
                <a:srgbClr val="ffffff"/>
              </a:solidFill>
              <a:latin typeface="Arial"/>
            </a:endParaRPr>
          </a:p>
          <a:p>
            <a:pPr marL="332640"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تحديد المصطلحات :</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قوم الباحث بتعريف  بعض المفاهيم المرتبطة بالدراسة ويحدد لها معنى اصطلاحياً كأن يقول :</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قصد بالكفاية , وصول المعلم إلى مستوى معين من الإتقان في مجال ما.</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قصد بالمعلم , معلم الإلزامية.</a:t>
            </a:r>
            <a:endParaRPr b="0" lang="en-US" sz="3100" spc="-1" strike="noStrike">
              <a:solidFill>
                <a:srgbClr val="ffffff"/>
              </a:solidFill>
              <a:latin typeface="Arial"/>
            </a:endParaRPr>
          </a:p>
        </p:txBody>
      </p:sp>
    </p:spTree>
  </p:cSld>
  <p:transition>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قائمة المراجع:</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حدد الباحث في خطته عددا من المراجع والمصادر العلمية التي لها علاقة بموضوع البحث.</a:t>
            </a:r>
            <a:endParaRPr b="0" lang="en-US" sz="3100" spc="-1" strike="noStrike">
              <a:solidFill>
                <a:srgbClr val="ffffff"/>
              </a:solidFill>
              <a:latin typeface="Arial"/>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ahoma"/>
                <a:cs typeface="Tahoma"/>
              </a:rPr>
              <a:t>خطة البحث:   </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هي تقرير واف يكتبه الباحث بعد استكمال الدراسات الأولية في المجال الذي اختــار فيه مشكلته , ويوضح هذا التقرير أهميه المشكلة والجهود التي بذلت في مواجهتها والدوافع التي دفعت الباحث لاختيارها , كما يحدد التقرير مشكلة البحث ويعين أبعادها وحدودها ومسلماتها وفرضياتها وإجراءاتها.</a:t>
            </a:r>
            <a:endParaRPr b="0" lang="en-US" sz="3100" spc="-1" strike="noStrike">
              <a:solidFill>
                <a:srgbClr val="ffffff"/>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خطة:</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هي عبارة عن تقرير يعطي الباحث صورة وافية عن مشكلة بحثه كمــا يعطي القارئ صورة مماثلة عن مشكلة الباحث.</a:t>
            </a:r>
            <a:endParaRPr b="0" lang="en-US" sz="3100" spc="-1" strike="noStrike">
              <a:solidFill>
                <a:srgbClr val="ffffff"/>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ahoma"/>
                <a:cs typeface="Tahoma"/>
              </a:rPr>
              <a:t>محتويات خطة البحث:</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a:t>
            </a:r>
            <a:r>
              <a:rPr b="0" lang="en-US" sz="3100" spc="-1" strike="noStrike">
                <a:solidFill>
                  <a:srgbClr val="ffffff"/>
                </a:solidFill>
                <a:latin typeface="Arial"/>
              </a:rPr>
              <a:t>- عنوان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a:t>
            </a:r>
            <a:r>
              <a:rPr b="0" lang="en-US" sz="3100" spc="-1" strike="noStrike">
                <a:solidFill>
                  <a:srgbClr val="ffffff"/>
                </a:solidFill>
                <a:latin typeface="Arial"/>
              </a:rPr>
              <a:t>-مقدمة</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3</a:t>
            </a:r>
            <a:r>
              <a:rPr b="0" lang="en-US" sz="3100" spc="-1" strike="noStrike">
                <a:solidFill>
                  <a:srgbClr val="ffffff"/>
                </a:solidFill>
                <a:latin typeface="Arial"/>
              </a:rPr>
              <a:t>-مشكلة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a:t>
            </a:r>
            <a:r>
              <a:rPr b="0" lang="en-US" sz="3100" spc="-1" strike="noStrike">
                <a:solidFill>
                  <a:srgbClr val="ffffff"/>
                </a:solidFill>
                <a:latin typeface="Arial"/>
              </a:rPr>
              <a:t>-حدود مشكلة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a:t>
            </a:r>
            <a:r>
              <a:rPr b="0" lang="en-US" sz="3100" spc="-1" strike="noStrike">
                <a:solidFill>
                  <a:srgbClr val="ffffff"/>
                </a:solidFill>
                <a:latin typeface="Arial"/>
              </a:rPr>
              <a:t>-مسلمات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6</a:t>
            </a:r>
            <a:r>
              <a:rPr b="0" lang="en-US" sz="3100" spc="-1" strike="noStrike">
                <a:solidFill>
                  <a:srgbClr val="ffffff"/>
                </a:solidFill>
                <a:latin typeface="Arial"/>
              </a:rPr>
              <a:t>-فرضيات البحث</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7</a:t>
            </a:r>
            <a:r>
              <a:rPr b="0" lang="en-US" sz="3100" spc="-1" strike="noStrike">
                <a:solidFill>
                  <a:srgbClr val="ffffff"/>
                </a:solidFill>
                <a:latin typeface="Arial"/>
              </a:rPr>
              <a:t>-إجراءات البحث</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عنوان:</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ؤدي العنوان وظيفة إعلاميه عن موضوع البحث ومجاله , ولذلك يفترض أن يكون واضحا مكتوبا بعبارة مختصرة ولغة سهله , فالعنوان يرشد القارئ الى ان البحث يقع في مجال معين , ويصنف الموضوع في المكتبات بناءعلى عنوانه .</a:t>
            </a:r>
            <a:endParaRPr b="0" lang="en-US" sz="3100" spc="-1" strike="noStrike">
              <a:solidFill>
                <a:srgbClr val="ffffff"/>
              </a:solidFill>
              <a:latin typeface="Arial"/>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أمثله على عناوين أبحاث:</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كفايات معلم المرحلة الإلزامية“</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مشكلات تشغيل الآلات الثقيلة“</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دوافع العمال الصناعيين“</a:t>
            </a:r>
            <a:endParaRPr b="0" lang="en-US" sz="3100" spc="-1" strike="noStrike">
              <a:solidFill>
                <a:srgbClr val="ffffff"/>
              </a:solidFill>
              <a:latin typeface="Arial"/>
            </a:endParaRPr>
          </a:p>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الهجرة من الريف إلى المدينة“</a:t>
            </a:r>
            <a:endParaRPr b="0" lang="en-US" sz="3100" spc="-1" strike="noStrike">
              <a:solidFill>
                <a:srgbClr val="ffffff"/>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أختلاف العنوان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يختلف العنوان في صياغته ووظيفته عن تحديد المشكلة</a:t>
            </a:r>
            <a:endParaRPr b="0" lang="en-US" sz="3100" spc="-1" strike="noStrike">
              <a:solidFill>
                <a:srgbClr val="ffffff"/>
              </a:solidFill>
              <a:latin typeface="Arial"/>
            </a:endParaRPr>
          </a:p>
          <a:p>
            <a:pPr marL="343080" indent="0" algn="r"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المقدمة:</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شمل توضيحا لمجال المشكلة , وأهميتها والجهود التي بذلت في مجالها , والدراسات والأبحاث التي تناولت هذا المجال.</a:t>
            </a:r>
            <a:endParaRPr b="0" lang="en-US" sz="3100" spc="-1" strike="noStrike">
              <a:solidFill>
                <a:srgbClr val="ffffff"/>
              </a:solidFill>
              <a:latin typeface="Arial"/>
            </a:endParaRPr>
          </a:p>
        </p:txBody>
      </p:sp>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rPr>
              <a:t>محتويات المقدمة :</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3000"/>
          </a:bodyPr>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مجال المشكلة </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أهمية الموضوع</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مدى النقص الناتج عن عدم القيام بهذا البحث </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استعراض الجهود السابقة التي قام بها الآخرون في هذا المجال </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أسباب اختيار الباحث لهذه المشكلة </a:t>
            </a:r>
            <a:endParaRPr b="0" lang="en-US" sz="3100" spc="-1" strike="noStrike">
              <a:solidFill>
                <a:srgbClr val="ffffff"/>
              </a:solidFill>
              <a:latin typeface="Arial"/>
            </a:endParaRPr>
          </a:p>
          <a:p>
            <a:pPr marL="318960" indent="-31896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100" spc="-1" strike="noStrike">
                <a:solidFill>
                  <a:srgbClr val="ffffff"/>
                </a:solidFill>
                <a:latin typeface="Arial"/>
              </a:rPr>
              <a:t>توضيح الجهات التي ستفيد من هذا البحث</a:t>
            </a:r>
            <a:endParaRPr b="0" lang="en-US" sz="3100" spc="-1" strike="noStrike">
              <a:solidFill>
                <a:srgbClr val="ffffff"/>
              </a:solidFill>
              <a:latin typeface="Arial"/>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08:27:31Z</dcterms:created>
  <dc:creator>tcom</dc:creator>
  <dc:description/>
  <dc:language>en-US</dc:language>
  <cp:lastModifiedBy>tcom</cp:lastModifiedBy>
  <dcterms:modified xsi:type="dcterms:W3CDTF">2010-02-12T10:14:25Z</dcterms:modified>
  <cp:revision>2</cp:revision>
  <dc:subject/>
  <dc:title>الفصل الثاني </dc:title>
</cp:coreProperties>
</file>