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4183-D458-4195-9836-CEC238C6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FDF3-260B-4CA1-9DE1-AA6CDF1D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10238-9671-4FAD-9671-44DD981D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03D30-FD2E-4745-AFBC-99DD1F61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8C82F-4E0D-41DA-B4F1-3BF88773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BB618-8030-41C0-A809-C8CFF6CA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09E81-6751-4D6B-8FCA-FCB75E97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67177-46FF-4CA9-BF38-194CB845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33817-3205-480F-B2F7-5884A00E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20540-84B3-4A38-A003-0AEB0326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26B86-EBBF-4ABE-A1CA-6F828CA4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72C5B-4B47-43EE-8C6A-8D8DBE57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940-F2EA-4F09-B176-1059EE27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3E986-0B29-476B-853D-92BF7301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0C822-CA2A-4270-866D-7947846B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6F192-96D8-48E9-8F13-E0EB136B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FAAD0-5907-48FC-887A-8B61ACA6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36204-8B4B-4899-9CB0-0C592AA6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B4889-A110-49BC-9592-17E39BB9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A8BB9-76D0-4614-9D23-8C102C78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2D62E-694B-4017-A4B1-B20C424D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96172-2172-4E1E-9A2A-B982A149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57C5D-77F2-45AA-8C8B-85FBF2E1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F1F-7B0C-4808-86DB-ED693C66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B1E7D-A067-451C-84CD-587B1A99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1800D-09F6-476D-A3ED-4E07F8D9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18CD7-1E64-415F-9CDF-45372E99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9C1E9-460C-402A-A13F-576E505E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5DDAF-F363-40B4-85AE-2B744608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3F259-D93E-4766-9403-9E7C4138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C8422-EFAA-4A1A-8072-8503C083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3BCB0-F6E4-4E49-A002-50B5BF8B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EBAF5-0F53-42E5-A14D-D65D62EE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196D5-FA90-4BB6-9848-5AAFCC1E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4896-68F3-4C49-A012-7039801F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C5ACB-3587-4DBC-A884-15EAF978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9AC4A-1508-4A58-87AB-3CAA8B91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9FA4F-FBC9-4253-9BC2-4FB1B10E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1CB9D-75B7-4485-9A38-7F5F8BDB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6ED55-C3DF-4D3F-89FF-E3B9335F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0960A-8DA9-4BFB-9549-70DA1092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A6512-D332-454D-B37F-A307B39E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6A23B-2309-409B-9A2E-55969EFB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4EAA8-C666-470B-BD3F-8A932424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FBB25-D968-41CF-BAB3-F8B6244B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E17C-D6C1-4145-AE99-3843DD91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7DABB-73A2-4D42-A961-CAA9490E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858F1-FEB3-4640-9DCE-2FE6E6B6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0C716-7603-4E65-892C-57BA960A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ED544-BBDB-4113-BEB0-8DFCAED6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96628-2FF8-466A-A8D4-8EB01624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7862A-CC0C-4338-824E-F8CCB9BA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D9F4A-8F19-4C3A-9689-585D09D5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62EA4-287C-42EA-8BBC-7432CD08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455A2-CAB6-474C-BA06-A99ADC7D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00F7A-CDE2-478A-8C78-92B84513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F6E0-3AE8-4348-87CA-C3F472B3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E303A7-688A-4A2B-B942-9D73A920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B109B-24C9-45B3-9241-A797DE8B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B2156-6DAC-4F86-A9EB-ACF020E1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42853-0FF7-460E-A6C9-24C5F28E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0ADEB2-92A2-43CA-81F8-A4ECF4C8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624D9-FC82-46A8-B160-7E36D0FA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470277-9CE6-44C7-BD4C-F2EF6F79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43FF-8152-4644-BEA7-14A392E2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93AB-2B96-49FC-9691-65503543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2590-827E-410B-BBA5-72403484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5B70-3AF3-44D3-A938-111F8D1A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B8BD-7730-4A4D-A20F-6574AC2B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4D41-F9A2-4D51-8F44-F052A6E9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CBCE-84DF-4D32-96C7-8DFA39E5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72F9-D607-45DF-BB93-F9227D63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AFA8-192C-4476-BFA3-9B92798E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323D-1939-4AA6-8D8A-7771F130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D7309-02F3-41B1-8FFB-923EDB02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7D776-399C-403E-B367-FBB41CE6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0E419-9229-43A4-9A45-80F5FE50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61491-F87B-4FCB-9F8E-F19158E9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ED5BA-B749-4609-A80F-122EBB89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41B-0183-4724-A2C2-70CEEBEC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6BB0-ABA1-4EDB-B81B-187D467C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8C865-5186-412F-A8A2-6191302E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96219-BA7D-464B-A150-096EB1EA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F865-33E7-4D8D-AD4D-85BD278D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F06DE-4859-4B20-BEC8-A9D82B12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0B198-E60D-4EA9-A983-D28AAB8B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B3902-C6E2-4F86-9147-FC8CE815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8DAC1-7994-411E-8A06-F7DED5DD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2BDA1-5123-4DA2-B549-F144750F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DB910-EF77-4185-A8D1-125F814B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210-5331-4E01-953D-734F6FC4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82FD1-8C8A-4DD6-9119-1919F33C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BF38-A08E-48C4-946A-C5B73D75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BD42B-AC60-4DE5-83DF-058BFDCD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EFC7D-740D-42D8-BA0B-FADBC514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2EF30-5E50-40FF-9D4D-C2FA8B98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95B20-D1C2-45E5-A66A-3EEC7382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50CE8-7F86-486C-A673-18651530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9E9AF-4869-4644-8312-B26CE2B8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1913F-0855-4986-B4C7-FBBF4EC4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F46CE-98B8-4F7F-8338-0AAEB520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F55-A273-4883-ABDE-22966D45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CEC67-8D09-4963-8B40-8277D907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7CA36-3ED4-4C1C-91DC-BDDE279C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B9F09-0259-4E76-AB32-51F577D4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888ED-08A8-4C0B-A59D-25D23251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45EE0-BB1C-41E3-930E-67297CBA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39953-2436-450D-B342-D7FEC648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5C18B-D19A-4DC4-AD3A-79DD0E4E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262E3-20C1-4970-A062-7A5569A1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12D3D-D307-40BA-B6DE-BB8C7F8E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6335B-3CD7-4456-83ED-55745DAC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7D1-0876-4C9F-9C6A-EFA44BC6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EAEF3-8514-4849-AE1E-D73B2184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76380-7B40-4898-A609-C210B166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F7354-67F7-4AAC-AFFF-EF171767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E3AF9-1FC7-4CC5-801A-B6DECF3F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1D1C0-2BF0-4654-85F5-6ACCC06D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F0AE0-F69D-40B8-A97D-BEC47EE6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75C3B-14DD-49DE-9DC4-AE13F555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8BB9C-0CBA-4680-9FDB-2A128963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84CB9-C4B0-4B6E-8BE9-486C8BE2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94DEA-AFB7-4BC6-9C7D-AB21C180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E1CD-F608-4429-A331-2DF2396F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68514-60A7-4930-814E-F5D5F3D7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9DF5F-2A8D-43A0-9A81-0AF68E17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B5AEC-1F29-4283-A98A-89FB33C3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963F2-FC19-4143-AEFB-982624E0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F491B-AE87-45D7-B44E-AB52EC15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C29CC-5771-4853-8652-AF86273D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70BC7-E285-4A64-B898-154352D0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7A6E3-3053-43EE-A02E-78D1B5C1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B380C-7991-4AD8-89E4-236BB31A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3FE69-9F2D-44D2-8CAF-5DC25F48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3850-07CB-4D31-865A-01318156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1E626-9075-4986-93C0-86693848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6B8E8-BAD8-45C5-88A4-D6A235A3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65741-8CD9-4287-B943-E27CA281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C1AAD-C69A-4785-BAFF-1C5766AE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22775-134A-4664-AC2E-9594A18D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6BD8F-6D01-4F4D-AD4C-9FD2497D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F86D6-49F2-4B5C-96B4-C476D43C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0471E-0EA5-42B2-B5FC-68D90E62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B62D3-9913-4FF6-8E5C-19CCDCDC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8B62D-1CFC-4E0A-86AC-F5CCB3BE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2A55-7BEC-42AB-BC5A-CC93F107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8D074-6C65-4511-A2BC-F7C292B0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80AE0-B1ED-46AA-B654-F98B604B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40D18-E2DD-4B5F-928D-2874D660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9197D-A7D6-40E7-AA46-0087449D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E0C14-9658-46BB-A4EB-DD12F9A2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0DA7C-1A8F-4083-A552-5DABE13F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F1241-FC1F-442A-B600-CAC5DC4F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BB69B-861A-4B8D-9E26-593B89AD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032F5-3E04-4AC7-90B2-F44E13AC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8890F-3788-4445-B3B8-5D66DFA9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53BB-DDAF-433D-96D6-D3EEEB62A75D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96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093E-8FD5-436B-BAB8-42AE29159BA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3E41-0D65-4CF0-9B52-399A48D5EA9F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58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60EF-44EF-45EF-BF12-814F65CE872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6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6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F114-A8CC-41A9-9FCA-0D519F6D1114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B23F-3BC4-4FD7-AD74-A02622B61626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4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1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84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8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87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3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7A0B-D803-4584-ACFB-E21445102B1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69A0-E501-4059-9238-2EDADA8CE41D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CE8A-9AEA-48FE-8BEB-71CEE1F2233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9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9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0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99F1-AA15-411E-AFB9-0CE515F580B1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59BC-E119-47F8-87D5-60589E669370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8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C750-9E02-4577-843C-C52D2FAC7EC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33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3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443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447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2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5C23-F9BE-4685-AB69-732F924B420B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WordArt 4"/>
          <p:cNvSpPr txBox="1"/>
          <p:nvPr/>
        </p:nvSpPr>
        <p:spPr>
          <a:xfrm>
            <a:off x="2000160" y="1957320"/>
            <a:ext cx="450540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6666cc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حرية الاقتصادية المقيدة</a:t>
            </a:r>
            <a:endParaRPr b="0" lang="en-US" sz="4400" spc="1" strike="noStrike">
              <a:ln w="9360">
                <a:solidFill>
                  <a:srgbClr val="6666cc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advTm="2000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ccff"/>
                </a:solidFill>
                <a:latin typeface="Arabic Typesetting"/>
                <a:cs typeface="Arabic Typesetting"/>
              </a:rPr>
              <a:t>إشراف الأستاذة : </a:t>
            </a:r>
            <a:r>
              <a:rPr b="0" lang="hi-IN" sz="3200" spc="-1" strike="noStrike">
                <a:solidFill>
                  <a:srgbClr val="cc9900"/>
                </a:solidFill>
                <a:latin typeface="Arabic Typesetting"/>
                <a:cs typeface="Arabic Typesetting"/>
              </a:rPr>
              <a:t>مريم الشمران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ccff"/>
                </a:solidFill>
                <a:latin typeface="Arabic Typesetting"/>
                <a:cs typeface="Arabic Typesetting"/>
              </a:rPr>
              <a:t>إعداد الطالبات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9900"/>
                </a:solidFill>
                <a:latin typeface="Arabic Typesetting"/>
                <a:cs typeface="Arabic Typesetting"/>
              </a:rPr>
              <a:t>نوف الحرب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9900"/>
                </a:solidFill>
                <a:latin typeface="Arabic Typesetting"/>
                <a:cs typeface="Arabic Typesetting"/>
              </a:rPr>
              <a:t>ريف المعج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9900"/>
                </a:solidFill>
                <a:latin typeface="Arabic Typesetting"/>
                <a:cs typeface="Arabic Typesetting"/>
              </a:rPr>
              <a:t>نوف اليوس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ccff"/>
                </a:solidFill>
                <a:latin typeface="Arabic Typesetting"/>
                <a:cs typeface="Arabic Typesetting"/>
              </a:rPr>
              <a:t>اسم المقرر : </a:t>
            </a:r>
            <a:r>
              <a:rPr b="0" lang="hi-IN" sz="3200" spc="-1" strike="noStrike">
                <a:solidFill>
                  <a:srgbClr val="cc9900"/>
                </a:solidFill>
                <a:latin typeface="Arabic Typesetting"/>
                <a:cs typeface="Arabic Typesetting"/>
              </a:rPr>
              <a:t>النظام الاقتصادي في الاسلا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ccff"/>
                </a:solidFill>
                <a:latin typeface="Arabic Typesetting"/>
                <a:cs typeface="Arabic Typesetting"/>
              </a:rPr>
              <a:t>رقم الشعبة :  </a:t>
            </a:r>
            <a:r>
              <a:rPr b="0" lang="en-US" sz="3200" spc="-1" strike="noStrike">
                <a:solidFill>
                  <a:srgbClr val="cc9900"/>
                </a:solidFill>
                <a:latin typeface="Arabic Typesetting"/>
                <a:ea typeface="Arabic Typesetting"/>
              </a:rPr>
              <a:t>4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WordArt 5"/>
          <p:cNvSpPr txBox="1"/>
          <p:nvPr/>
        </p:nvSpPr>
        <p:spPr>
          <a:xfrm>
            <a:off x="4071960" y="2214720"/>
            <a:ext cx="4172040" cy="12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903"/>
                <a:gd name="adj2" fmla="val -63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الضوابط الشرعية الواردة على النـشاط الاقتصادي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-411120" y="3571920"/>
            <a:ext cx="103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8080"/>
                </a:solidFill>
                <a:latin typeface="Arial"/>
                <a:cs typeface="Andalus"/>
              </a:rPr>
              <a:t>القيود التي تضبط النشاط الاقتصادي لضمان جلب المصالح ، و درء المفاسد للفر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8080"/>
                </a:solidFill>
                <a:latin typeface="Arial"/>
                <a:cs typeface="Andalus"/>
              </a:rPr>
              <a:t>و المجتمع و لا يقتصر ذلك على الدنيا بل يشمل الدنيا و الآخ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WordArt 8"/>
          <p:cNvSpPr txBox="1"/>
          <p:nvPr/>
        </p:nvSpPr>
        <p:spPr>
          <a:xfrm>
            <a:off x="714240" y="5214960"/>
            <a:ext cx="7678800" cy="150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6767ff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و لتحقيق تلك الغاية السامية (جلب المصالح و درء المفاسد)</a:t>
            </a:r>
            <a:endParaRPr b="0" lang="en-US" sz="2000" spc="1" strike="noStrike">
              <a:ln w="9360">
                <a:solidFill>
                  <a:srgbClr val="6767ff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6767ff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6767ff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جعل النظام الاقتصادي الإسلامي قيوداً لضبط النشاط الاقتصادي منها :</a:t>
            </a:r>
            <a:endParaRPr b="0" lang="en-US" sz="2000" spc="1" strike="noStrike">
              <a:ln w="9360">
                <a:solidFill>
                  <a:srgbClr val="6767ff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712" name="WordArt 4"/>
          <p:cNvSpPr txBox="1"/>
          <p:nvPr/>
        </p:nvSpPr>
        <p:spPr>
          <a:xfrm>
            <a:off x="2286000" y="1357200"/>
            <a:ext cx="450540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95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50" spc="1" strike="noStrike">
                <a:ln w="9360">
                  <a:solidFill>
                    <a:srgbClr val="9933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طلب الثاني</a:t>
            </a:r>
            <a:endParaRPr b="0" lang="en-US" sz="1050" spc="1" strike="noStrike">
              <a:ln w="9360">
                <a:solidFill>
                  <a:srgbClr val="9933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advTm="15000">
    <p:pull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WordArt 5"/>
          <p:cNvSpPr txBox="1"/>
          <p:nvPr/>
        </p:nvSpPr>
        <p:spPr>
          <a:xfrm>
            <a:off x="571680" y="35712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8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أ- تطبيق أحكام الإسلام في الحلال و الحرام 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ولذالك صور كثيرة منها :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4" name="Rectangle 6"/>
          <p:cNvSpPr/>
          <p:nvPr/>
        </p:nvSpPr>
        <p:spPr>
          <a:xfrm>
            <a:off x="2928960" y="1428840"/>
            <a:ext cx="568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00"/>
                </a:solidFill>
                <a:latin typeface="Arial"/>
                <a:ea typeface="Andalus"/>
              </a:rPr>
              <a:t>1</a:t>
            </a:r>
            <a:r>
              <a:rPr b="0" lang="ar-SA" sz="2400" spc="-1" strike="noStrike">
                <a:solidFill>
                  <a:srgbClr val="003300"/>
                </a:solidFill>
                <a:latin typeface="Arial"/>
                <a:ea typeface="Andalus"/>
              </a:rPr>
              <a:t>- تحريم إنتاج و استهلاك السلع و الخدمات الخبيث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WordArt 8"/>
          <p:cNvSpPr txBox="1"/>
          <p:nvPr/>
        </p:nvSpPr>
        <p:spPr>
          <a:xfrm>
            <a:off x="4643280" y="2143080"/>
            <a:ext cx="3929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9080">
                  <a:solidFill>
                    <a:srgbClr val="9966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و أهم الآثار الايجابية لتطبيق قيد الحلال والحرام :</a:t>
            </a:r>
            <a:endParaRPr b="0" lang="en-US" sz="2800" spc="1" strike="noStrike">
              <a:ln w="19080">
                <a:solidFill>
                  <a:srgbClr val="9966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6" name="Rectangle 9"/>
          <p:cNvSpPr/>
          <p:nvPr/>
        </p:nvSpPr>
        <p:spPr>
          <a:xfrm>
            <a:off x="-3454920" y="2928960"/>
            <a:ext cx="159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6600"/>
                </a:solidFill>
                <a:latin typeface="Arabic Typesetting"/>
                <a:cs typeface="Arabic Typesetting"/>
              </a:rPr>
              <a:t>أولاً: المحافظة على الضروريات الخمس و هي: حفظ الدين و النفس و العقل و النسل و الم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WordArt 13"/>
          <p:cNvSpPr txBox="1"/>
          <p:nvPr/>
        </p:nvSpPr>
        <p:spPr>
          <a:xfrm>
            <a:off x="428760" y="4357800"/>
            <a:ext cx="807084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1" strike="noStrike">
                <a:ln w="0">
                  <a:noFill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- </a:t>
            </a:r>
            <a:r>
              <a:rPr b="0" lang="hi-IN" sz="400" spc="1" strike="noStrike">
                <a:ln w="0">
                  <a:noFill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تحريم طرق الكسب الغير المشروع كالربا  و الغرر  و الغش بأشكاله المختلفة كالرشوة و التزوير وغير ذللك مما نص على تحريمه</a:t>
            </a:r>
            <a:r>
              <a:rPr b="0" lang="en-US" sz="400" spc="1" strike="noStrike">
                <a:ln w="0">
                  <a:noFill/>
                </a:ln>
                <a:solidFill>
                  <a:srgbClr val="99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400" spc="1" strike="noStrike">
              <a:ln w="0">
                <a:noFill/>
              </a:ln>
              <a:solidFill>
                <a:srgbClr val="99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8" name="Rectangle 14"/>
          <p:cNvSpPr/>
          <p:nvPr/>
        </p:nvSpPr>
        <p:spPr>
          <a:xfrm>
            <a:off x="2000160" y="3500280"/>
            <a:ext cx="66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00"/>
                </a:solidFill>
                <a:latin typeface="Arial"/>
                <a:cs typeface="Traditional Arabic"/>
              </a:rPr>
              <a:t>ثانياً: زيادة رفاهية المجتمع و تمتعه بالسلع و الخدمات الناف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ll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35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85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4"/>
          <p:cNvSpPr/>
          <p:nvPr/>
        </p:nvSpPr>
        <p:spPr>
          <a:xfrm>
            <a:off x="2286000" y="785880"/>
            <a:ext cx="60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DecoType Naskh Extensions"/>
              </a:rPr>
              <a:t>ب- الالتزام بعدد من الواجبات الشرعية الاقتصادية و منه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5"/>
          <p:cNvSpPr/>
          <p:nvPr/>
        </p:nvSpPr>
        <p:spPr>
          <a:xfrm>
            <a:off x="1714680" y="2143080"/>
            <a:ext cx="70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f497d"/>
                </a:solidFill>
                <a:latin typeface="Arial"/>
                <a:cs typeface="DecoType Naskh Extensions"/>
              </a:rPr>
              <a:t>جـ- الحجر على السفهاء و الصبيان و المجاني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WordArt 7" descr=""/>
          <p:cNvPicPr/>
          <p:nvPr/>
        </p:nvPicPr>
        <p:blipFill>
          <a:blip r:embed="rId1"/>
          <a:stretch/>
        </p:blipFill>
        <p:spPr>
          <a:xfrm>
            <a:off x="-30240" y="2743200"/>
            <a:ext cx="8966160" cy="119556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8"/>
          <p:cNvSpPr/>
          <p:nvPr/>
        </p:nvSpPr>
        <p:spPr>
          <a:xfrm>
            <a:off x="0" y="1571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9900"/>
                </a:solidFill>
                <a:latin typeface="Arial"/>
                <a:cs typeface="DecoType Naskh Extensions"/>
              </a:rPr>
              <a:t>انه ملزم بالإنفاق في بعض الأوجه ولا خيار له في ذلك و من هذه الأوجه اداءالزكاة و نفقة الأقارب و نفقه الزوجة و الأولاد و غير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9"/>
          <p:cNvSpPr/>
          <p:nvPr/>
        </p:nvSpPr>
        <p:spPr>
          <a:xfrm>
            <a:off x="1143000" y="407196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f81bd"/>
                </a:solidFill>
                <a:latin typeface="Arabic Typesetting"/>
                <a:cs typeface="DecoType Naskh"/>
              </a:rPr>
              <a:t>أولا : حجر لمصلحة الغير كالحجر على المفلس لمصلحه الغرما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ar-SA" sz="2400" spc="-1" strike="noStrike">
                <a:solidFill>
                  <a:srgbClr val="4f81bd"/>
                </a:solidFill>
                <a:latin typeface="Arabic Typesetting"/>
                <a:cs typeface="DecoType Naskh"/>
              </a:rPr>
              <a:t>ثانياً: الحجر على إنسان لمصله نفسه كالحجر على السفيه و الصبي و المجنو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857160" y="55720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f497d"/>
                </a:solidFill>
                <a:latin typeface="Arial"/>
                <a:cs typeface="DecoType Naskh Extensions"/>
              </a:rPr>
              <a:t>د- إذا تعارضت المصلحة الخاصة مع المحصلة العامة تقدم المصلحة العامة :</a:t>
            </a:r>
            <a:br>
              <a:rPr sz="2400"/>
            </a:br>
            <a:r>
              <a:rPr b="0" lang="ar-SA" sz="2400" spc="-1" strike="noStrike">
                <a:solidFill>
                  <a:srgbClr val="1f497d"/>
                </a:solidFill>
                <a:latin typeface="Arial"/>
                <a:cs typeface="DecoType Naskh Extensions"/>
              </a:rPr>
              <a:t>من أمثلة على ذلك : منع الاحتكار بمعناه الشرعي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cover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92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400"/>
                            </p:stCondLst>
                            <p:childTnLst>
                              <p:par>
                                <p:cTn id="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400"/>
                            </p:stCondLst>
                            <p:childTnLst>
                              <p:par>
                                <p:cTn id="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4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64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WordArt 5"/>
          <p:cNvSpPr txBox="1"/>
          <p:nvPr/>
        </p:nvSpPr>
        <p:spPr>
          <a:xfrm>
            <a:off x="4500720" y="836640"/>
            <a:ext cx="28796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المطلب الثالث ..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1357200" y="20001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cc00"/>
                </a:solidFill>
                <a:latin typeface="Arial"/>
              </a:rPr>
              <a:t>تدخل الدولة في النشاط الاقتصادي</a:t>
            </a:r>
            <a:r>
              <a:rPr b="0" lang="ar-SA" sz="2400" spc="-1" strike="noStrike">
                <a:solidFill>
                  <a:srgbClr val="006666"/>
                </a:solidFill>
                <a:latin typeface="Arial"/>
                <a:ea typeface="DecoType Naskh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0"/>
          <p:cNvSpPr/>
          <p:nvPr/>
        </p:nvSpPr>
        <p:spPr>
          <a:xfrm>
            <a:off x="-541440" y="2857680"/>
            <a:ext cx="96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66"/>
                </a:solidFill>
                <a:latin typeface="Microsoft Uighur"/>
                <a:cs typeface="Microsoft Uighur"/>
              </a:rPr>
              <a:t>قصد بالدولة هنا الحكومة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66"/>
                </a:solidFill>
                <a:latin typeface="Microsoft Uighur"/>
                <a:cs typeface="Microsoft Uighur"/>
              </a:rPr>
              <a:t>أما عندما يقال "تدخل الدولة" فيقصد به أي نوع من أنواع تدخل الحكومة للتأثير على قوى العر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66"/>
                </a:solidFill>
                <a:latin typeface="Microsoft Uighur"/>
                <a:cs typeface="Microsoft Uighur"/>
              </a:rPr>
              <a:t>والطلب لتحقيق أهداف اقتصادية معينة , مثل : إجراءات خفض البطالة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newsflash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WordArt 5"/>
          <p:cNvSpPr txBox="1"/>
          <p:nvPr/>
        </p:nvSpPr>
        <p:spPr>
          <a:xfrm rot="5400000">
            <a:off x="-1728360" y="2529720"/>
            <a:ext cx="5040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أولاً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: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9" name="WordArt 7"/>
          <p:cNvSpPr txBox="1"/>
          <p:nvPr/>
        </p:nvSpPr>
        <p:spPr>
          <a:xfrm>
            <a:off x="3857760" y="714240"/>
            <a:ext cx="38242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6600cc"/>
                </a:solidFill>
                <a:latin typeface="Arial"/>
              </a:rPr>
              <a:t>تدخل الدولة في النظام الرأسمالي :-</a:t>
            </a:r>
            <a:endParaRPr b="0" lang="en-US" sz="4000" spc="1" strike="noStrike">
              <a:ln w="0">
                <a:noFill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730" name="Rectangle 9"/>
          <p:cNvSpPr/>
          <p:nvPr/>
        </p:nvSpPr>
        <p:spPr>
          <a:xfrm>
            <a:off x="-3310920" y="2143080"/>
            <a:ext cx="160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Microsoft Uighur"/>
                <a:ea typeface="Microsoft Uighur"/>
              </a:rPr>
              <a:t> طبقت مبادئ  النظام الرأسمالي الحر بصورتها المثالية حوالي نصف قر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Microsoft Uighur"/>
                <a:cs typeface="Microsoft Uighur"/>
              </a:rPr>
              <a:t>لم تكن الدولة تتدخل في النشاط الاقتصادي , وبعد ظهور بعض سلبيات الحرية المطلقة أُعيد تدخل الدولة 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Microsoft Uighur"/>
                <a:cs typeface="Microsoft Uighur"/>
              </a:rPr>
              <a:t>فليس هناك حكومة في أي مكان من العالم تستطيع أن ترفع يدها عن الاقتص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WordArt 11" descr="عمودي ضيق"/>
          <p:cNvPicPr/>
          <p:nvPr/>
        </p:nvPicPr>
        <p:blipFill>
          <a:blip r:embed="rId1"/>
          <a:stretch/>
        </p:blipFill>
        <p:spPr>
          <a:xfrm>
            <a:off x="920880" y="3279600"/>
            <a:ext cx="7729560" cy="120672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12"/>
          <p:cNvSpPr/>
          <p:nvPr/>
        </p:nvSpPr>
        <p:spPr>
          <a:xfrm>
            <a:off x="714240" y="4572000"/>
            <a:ext cx="797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Microsoft Uighur"/>
                <a:cs typeface="Microsoft Uighur"/>
              </a:rPr>
              <a:t>فالاتجاه العام هو أن الدولة في ظل النظام الرأسمالي لا تتدخل إلا عندما يختل النظام أو يعجز عن أداء وظائفه على الوجه المطلوب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Microsoft Uighur"/>
                <a:cs typeface="Microsoft Uighur"/>
              </a:rPr>
              <a:t>وقد جاء هذا التدخل بعد تجربة عدم التدخل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r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400"/>
                            </p:stCondLst>
                            <p:childTnLst>
                              <p:par>
                                <p:cTn id="1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900"/>
                            </p:stCondLst>
                            <p:childTnLst>
                              <p:par>
                                <p:cTn id="1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900"/>
                            </p:stCondLst>
                            <p:childTnLst>
                              <p:par>
                                <p:cTn id="1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8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WordArt 5"/>
          <p:cNvSpPr txBox="1"/>
          <p:nvPr/>
        </p:nvSpPr>
        <p:spPr>
          <a:xfrm rot="5400000">
            <a:off x="5434200" y="3286800"/>
            <a:ext cx="5904000" cy="571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ثـانياً</a:t>
            </a: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:..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4" name="WordArt 8" descr=""/>
          <p:cNvPicPr/>
          <p:nvPr/>
        </p:nvPicPr>
        <p:blipFill>
          <a:blip r:embed="rId1"/>
          <a:stretch/>
        </p:blipFill>
        <p:spPr>
          <a:xfrm>
            <a:off x="2371680" y="938160"/>
            <a:ext cx="4462560" cy="127476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9"/>
          <p:cNvSpPr/>
          <p:nvPr/>
        </p:nvSpPr>
        <p:spPr>
          <a:xfrm>
            <a:off x="0" y="2349360"/>
            <a:ext cx="7921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cc99"/>
                </a:solidFill>
                <a:latin typeface="Arial"/>
                <a:cs typeface="Andalus"/>
              </a:rPr>
              <a:t>هناك قسمين من الوظائف الاقتصادية للدولة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تدخل الدولة لتطبيق الأحكام الشرع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تدخل الدولة فيما يعد من السياسة الشرعي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1143000" y="3571920"/>
            <a:ext cx="68403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99"/>
                </a:solidFill>
                <a:latin typeface="Arabic Typesetting"/>
                <a:ea typeface="DecoType Naskh Extensions"/>
              </a:rPr>
              <a:t>(أ) تدخل الدولة لتطبيق الأحكام الشرعية الاقتصادية المنصوص عليها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DecoType Naskh"/>
              </a:rPr>
              <a:t>ي أنها تكون مسئولة عن تطبيق  الضوابط الشرعية المتعلقة بالنشاط الاقتصادي كمنع المحرما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DecoType Naskh"/>
              </a:rPr>
              <a:t>مثل :- الربا , والغرر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DecoType Naskh"/>
              </a:rPr>
              <a:t>فمنهج التربية الإسلامية يربيهم على تجنب الحرا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DecoType Naskh"/>
              </a:rPr>
              <a:t>ويغرس في أذهانهم الخوف من الله , ويربيهم على الالتزام بالواجبات كأداء الزكاة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DecoType Naskh"/>
              </a:rPr>
              <a:t>مثال// كان النبي صلى الله عليه وسلم يمر بالأسواق فيأمر الناس بالالتزام بأحكام الشريعة في تعاملهم , وينهاهم عن المعاملات المحرمة كالغش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5"/>
          <p:cNvSpPr/>
          <p:nvPr/>
        </p:nvSpPr>
        <p:spPr>
          <a:xfrm>
            <a:off x="0" y="6429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0066"/>
                </a:solidFill>
                <a:latin typeface="Arial"/>
              </a:rPr>
              <a:t>(ب) تدخل الدولة فيما يعد من السياسة الشرع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WordArt 7"/>
          <p:cNvSpPr txBox="1"/>
          <p:nvPr/>
        </p:nvSpPr>
        <p:spPr>
          <a:xfrm>
            <a:off x="5286240" y="3429000"/>
            <a:ext cx="32781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cap="rnd" w="9360">
                  <a:solidFill>
                    <a:srgbClr val="330066"/>
                  </a:solidFill>
                  <a:custDash>
                    <a:ds d="100000" sp="1000"/>
                  </a:custDash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حدود تدخل الدولة:.</a:t>
            </a:r>
            <a:endParaRPr b="0" lang="en-US" sz="2800" spc="1" strike="noStrike">
              <a:ln cap="rnd" w="9360">
                <a:solidFill>
                  <a:srgbClr val="330066"/>
                </a:solidFill>
                <a:custDash>
                  <a:ds d="100000" sp="1000"/>
                </a:custDash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cap="rnd" w="9360">
                  <a:solidFill>
                    <a:srgbClr val="330066"/>
                  </a:solidFill>
                  <a:custDash>
                    <a:ds d="100000" sp="1000"/>
                  </a:custDash>
                  <a:miter/>
                </a:ln>
                <a:solidFill>
                  <a:srgbClr val="cc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ضوابط العمل بالمصلحة :.</a:t>
            </a:r>
            <a:endParaRPr b="0" lang="en-US" sz="2800" spc="1" strike="noStrike">
              <a:ln cap="rnd" w="9360">
                <a:solidFill>
                  <a:srgbClr val="330066"/>
                </a:solidFill>
                <a:custDash>
                  <a:ds d="100000" sp="1000"/>
                </a:custDash>
                <a:miter/>
              </a:ln>
              <a:solidFill>
                <a:srgbClr val="cc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428760" y="171468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cc"/>
                </a:solidFill>
                <a:latin typeface="Arial"/>
                <a:ea typeface="Andalus"/>
              </a:rPr>
              <a:t>1</a:t>
            </a:r>
            <a:r>
              <a:rPr b="0" lang="ar-SA" sz="2400" spc="-1" strike="noStrike">
                <a:solidFill>
                  <a:srgbClr val="6600cc"/>
                </a:solidFill>
                <a:latin typeface="Arial"/>
                <a:cs typeface="Andalus"/>
              </a:rPr>
              <a:t>تعرف السياسة الشرعية بأنها تصرف الحاكم بالمصلحة وفق ضوابطها الشرع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cc"/>
                </a:solidFill>
                <a:latin typeface="Arial"/>
                <a:cs typeface="Andalus"/>
              </a:rPr>
              <a:t>أو هي عمل ولي الأمر بالمصالح التي لم يدر من الشارع دليل لها على الخصو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cc"/>
                </a:solidFill>
                <a:latin typeface="Arial"/>
                <a:cs typeface="Andalus"/>
              </a:rPr>
              <a:t>والامثله : ولكن ليس هناك نص شرعي أو قياس صحيح يحدد مواصفات أبواب المتأخر التي تحقق هذا المقصد فالأمر متروك للجهة صاحبه الاختصا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9"/>
          <p:cNvSpPr/>
          <p:nvPr/>
        </p:nvSpPr>
        <p:spPr>
          <a:xfrm>
            <a:off x="285840" y="3857760"/>
            <a:ext cx="8429400" cy="2786040"/>
          </a:xfrm>
          <a:prstGeom prst="leftArrow">
            <a:avLst>
              <a:gd name="adj1" fmla="val 72833"/>
              <a:gd name="adj2" fmla="val 0"/>
            </a:avLst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cc00"/>
                </a:solidFill>
                <a:latin typeface="Arial"/>
                <a:ea typeface="DecoType Thuluth"/>
              </a:rPr>
              <a:t>1</a:t>
            </a:r>
            <a:r>
              <a:rPr b="0" lang="ar-SA" sz="2000" spc="-1" strike="noStrike">
                <a:solidFill>
                  <a:srgbClr val="cccc00"/>
                </a:solidFill>
                <a:latin typeface="Arial"/>
                <a:ea typeface="DecoType Thuluth"/>
              </a:rPr>
              <a:t>-إن نكون المصلحة ألمقصوده من التدخل الحكومة مندرج تحت المقاصد الشريع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cc00"/>
                </a:solidFill>
                <a:latin typeface="Arial"/>
                <a:ea typeface="DecoType Thuluth"/>
              </a:rPr>
              <a:t>2</a:t>
            </a:r>
            <a:r>
              <a:rPr b="0" lang="ar-SA" sz="2000" spc="-1" strike="noStrike">
                <a:solidFill>
                  <a:srgbClr val="cccc00"/>
                </a:solidFill>
                <a:latin typeface="Arial"/>
                <a:ea typeface="DecoType Thuluth"/>
              </a:rPr>
              <a:t>- إن تكون  المصلحة ألمقصوده من التداخل غير متعارضة مع حكم ثابت بدليل شرع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cc00"/>
                </a:solidFill>
                <a:latin typeface="Arial"/>
                <a:ea typeface="DecoType Thuluth"/>
              </a:rPr>
              <a:t> من القرآن أو السنة أو القيا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cc00"/>
                </a:solidFill>
                <a:latin typeface="Arial"/>
                <a:ea typeface="DecoType Thuluth"/>
              </a:rPr>
              <a:t>3</a:t>
            </a:r>
            <a:r>
              <a:rPr b="0" lang="ar-SA" sz="2000" spc="-1" strike="noStrike">
                <a:solidFill>
                  <a:srgbClr val="cccc00"/>
                </a:solidFill>
                <a:latin typeface="Arial"/>
                <a:ea typeface="DecoType Thuluth"/>
              </a:rPr>
              <a:t>- إلا تؤدي المصلحة  المقصودة من التدخل الدولة إلى تفويت مصلحه أخرى أهم منها أو مساوية ل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ll dir="l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4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900"/>
                            </p:stCondLst>
                            <p:childTnLst>
                              <p:par>
                                <p:cTn id="2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9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4"/>
          <p:cNvSpPr/>
          <p:nvPr/>
        </p:nvSpPr>
        <p:spPr>
          <a:xfrm>
            <a:off x="1143000" y="64296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f81bd"/>
                </a:solidFill>
                <a:latin typeface="Arial"/>
                <a:cs typeface="DecoType Thuluth"/>
              </a:rPr>
              <a:t>أمثله للوظائف الاقتصادية للدولة المبنية على السياسة الشرع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214200" y="2214720"/>
            <a:ext cx="8643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- أداره الموارد الطبيعية مثل اتخاذ الإجراءات التي تؤدي إلى الانتفاع بالموارد الطبيعية المتوفرة كالأراضي الزراعية و المعاد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- أداره ميزانيه الدو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- تنظيم النشاط الاقتصاد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- تدخل لمعالجه بعض الظواهر الاقتصادية مثل : البطاله و الانكما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wipe dir="u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9:37:44Z</dcterms:created>
  <dc:creator>sada</dc:creator>
  <dc:description/>
  <dc:language>en-US</dc:language>
  <cp:lastModifiedBy>user</cp:lastModifiedBy>
  <dcterms:modified xsi:type="dcterms:W3CDTF">2009-12-21T17:06:23Z</dcterms:modified>
  <cp:revision>19</cp:revision>
  <dc:subject/>
  <dc:title>الشريحة 1</dc:title>
</cp:coreProperties>
</file>