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2CF-E26B-48AB-9716-DCF150B8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AF4-2124-4ED8-9AEE-7DE3CA0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DAA3-DDF9-4001-A2AE-5C71D08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3AFC-7A54-4A05-B254-E3F3285F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339F3-0B96-4F70-925B-3FC497C2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D9FD-5133-4857-A57B-7687C2A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AD926-45A5-424E-8F7E-C405B50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A3A7-C3BF-47E3-8767-31634EC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FA71-8096-4DE4-B128-482253D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467B9-7501-4D96-9924-C10FA3D6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CE33-7EBC-4BC0-AC9E-40B33EF2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576D-43D8-43FA-887C-7A898FA0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09C-37C0-4FD2-9492-41FBF2DA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D439E-CE85-4112-97F5-912A245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3E961-D884-4409-BF93-42779448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45D71-610E-4414-80AE-C403ECC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C1777-EC58-447F-8346-D484847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BEB04-A861-48B3-8652-883EFC1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CCEE-DD9C-4256-BF54-C8C0B24B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7324B-2F92-4318-911F-8C88ACB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8D12D-2C06-4B45-9E1C-1BF0B9C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240E-D166-4BCD-BE79-63AD202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8D56F-C5CA-4721-AC0C-BFEAD523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5F6-B65B-4866-A619-2005592C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3E000-0057-4DF1-A89E-C577BFA9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FB285-DAA1-4975-8A11-05D88370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2441B-A9C5-4ABB-833E-D6D41DD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B745-5828-4E2A-AB27-BFC89E8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5ED22-6744-404D-BC6C-BCED5C1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CFBF-3A8B-4D1A-B2C9-15EF862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63966-E5BC-4C94-ACA6-49DF1198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DB211-CE8F-40D1-A6A8-603582D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58F1-AAF7-44A0-843F-3C262E9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D85BC-3458-4E26-80B4-F1D15D8B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FDC-1A50-4BEF-BD1B-3DF47870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4415D-D20E-4CA4-A725-68C35785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352A-6B67-4EC5-9A67-1F1EFD3B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168D8-2C60-4E36-A3C0-C68297B2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13A90-3870-470C-9956-23C70F72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743E8-A8BD-4F2A-AE04-51DA055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BCB91-5498-4E8A-8C33-AF58CA8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750ED-962B-4575-8A6B-95BD08A0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189E3-BCA8-40EE-B068-E4987AE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64482-189F-475B-A7AA-2BF5520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FA0A2-2CA4-451F-BF81-0A6DFC4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2DF-1DCB-437C-9E45-D03E079C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435D1-618E-4EE2-8AF0-5823074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0A43B-DCDD-45D8-886F-0A66292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B8AC8-9712-4305-8C71-234BF1A2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ED4AC-9FD1-4E7C-8117-50BE946E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DC512-4225-4949-8785-74761A6C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04733-4E43-4D85-B618-CD6E84C5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F4747-144E-4264-A3BC-505E4E8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21D4B-63AE-4D91-A9C8-87CD4F0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8D32B-9FBD-4366-993B-3687597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83E0E-DAF8-479C-BDF4-7C6CB211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C26-CB65-41E2-B86B-C52DBBA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71261-43A3-43A4-8C9F-06DD797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4D6E3-6B30-4051-AAA7-CD3D147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B91A9-C217-4892-860B-4B94900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61B0D-A85E-462F-A0A5-A031974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44AF7-0C27-4DF2-989F-A93D0B5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2A467-064E-40CB-AACF-842E492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0EC89-9BD3-4EE2-B1DD-E67F9286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D24-6516-46BC-806C-21B4E2D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5C22-28BD-4B82-86A8-9AC460BE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719A-20C1-4155-A28B-7ECB147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4D7-D443-48FC-A996-430748B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156-DCBB-461B-84B0-D56049E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D38-1A33-484D-BD8A-61B5389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77F0-2B20-41E3-8419-B76C01F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366-7C2F-475E-833A-37D3E55C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FA36-40D1-438C-81C0-A07607BD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7AF7-80DA-49F1-8C76-D031EC5A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2B61-2C1D-4FA7-8FCD-A44565EF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D88C-E77C-4213-99DF-826A0BBD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65E6-903E-4020-B17D-C240E2D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1B73-0DBD-4FA3-ABA2-D66B4B9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432B-A903-4211-90CA-7C2C37F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1C8-D7A1-4622-8487-C55DD3D5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AC93-A13A-49F4-AE66-B59C6FC1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FF35-BA0B-4913-BD94-E0D6500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12DA-EB9D-4CC2-A9BE-A6AE9E5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3BDC-79ED-4F2F-8EB7-CB51875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FAB1-5E95-429C-8EE2-6DF72315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A2D9-65F8-4ACB-9430-7686294B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575F-BF87-4F11-ADB4-A1B74832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3EEE-FFA4-4B70-9453-CC85FE00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0FA9-3A66-4F05-BC29-F5B94C4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F129-CFD2-47AC-9263-92918F2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A7D-EB64-40F9-8DB4-B1C0EBEF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F4E9-758D-477E-B3EE-DE93347D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A535-BA1F-4CC1-A48E-F0A90EB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C7EF-CE0B-49AF-B396-3FFC5B8F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3E41-07E8-490F-B9DD-014B7A8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C33A-CE70-4199-B0FD-A006CEE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DD69-CBF9-4920-897E-A4B8114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3C99-FF8F-48B1-960B-AE18FE9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6AF1-0746-49F0-A674-F7A0B866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FA6F-DDAC-4C74-B486-A0CBBEDC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46CA-3C2C-456D-A438-086F9DD6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9AC-1FED-4248-A5CE-F8C087E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0D88-3724-4ABA-9F56-730C7CE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0806-D562-4F2A-9411-F4FB2A33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D5B2-9B51-4D2B-90B6-5904E2D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00BC-3519-4BEE-99BE-214F0520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BBF9-5F18-4CC1-A38B-FAB3F62A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47A1-BA6C-4F3F-BDE6-5823726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28EF-1D49-4F6C-971E-1481066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0F5F-5068-43EA-BFF5-95F84E3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34AE-42A4-48D5-9037-9EF51DF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A4BA-91F4-4715-9FD7-3F0BCD26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B04-B8F9-4B91-88FC-C94AAE5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32E8-F904-411D-9E11-B10CD898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FEFF-6BEB-463F-8860-508E71ED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C910-FF42-4EA4-9582-63CFAD1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D228-6667-4F8D-83A2-BAF1C335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0870-019C-47D2-9153-434EFD43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8945-F9F4-4CD4-9418-67E55AD9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C302-1983-40EB-B287-AC09B0E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DC0D-8208-494E-91C6-5B7C0AF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1180-FDF5-4041-9693-27EE916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93AD-F045-47DA-ADEA-E087C7F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D76-872D-4AF1-8CF3-FA11A2C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8656-8C78-4255-8213-8E1A181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A772-C23B-48BB-8CBD-A9631D0C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4E091-9F6F-4E98-B836-C9C6FDEE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33B7-C4FA-4AE2-8844-54A4EDF8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E885-9294-401E-B7F0-DFE0CD95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1876A-8DA3-43BB-B47E-B899E88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0530-580F-4941-8BE7-6442EDAF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AD92B-F743-4B04-80AA-DEB26A7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2B96-7135-4B04-A379-49BB5307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FBDA4-66F9-4BA6-BB96-C6F8736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2B4-63EF-4428-8DDF-4187D3C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84ABD-E150-419C-8BFC-4BE99BF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B814-1527-4DA1-802C-EA6F971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EFB03-1CFA-4CAA-BE86-ED9CE66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DE68-FBCF-4BCB-9C77-E420670B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E3E8-3EF5-4B0B-A3E8-B67D25F3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128F-F7D2-404E-8C70-0D1A86E3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CAF3-42F4-487D-A424-B56D0531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6094-4A65-434F-9F0F-1FEE39C9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69248-771D-4540-AF74-28B79883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93B7-AF7E-4845-8195-8343381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D33-941B-4AE6-A89E-AF4FE29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57A17-14A7-4C90-955E-D56E950D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FD38-2F6F-4AD3-AA98-C35EFCD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344B-4CEA-421C-B86D-93C5086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6039-A33A-4B96-8F39-F589A04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EDE41-28F1-4E68-B2A3-1CCD8888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0265-136A-4934-A5CC-C5950416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C95C-4A69-4A68-A850-65098691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A55F-FD1A-4631-B2D6-3EFA5DB0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373BA-05BE-43E8-B4C1-02BC875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F8373-5485-4933-930C-31A5F39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0945-2BB5-4E68-94FE-60671258C13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BB1-FFD7-4CB6-B36E-36C2BF56426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2FA-309A-47D0-AF5A-040880A4FDD3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8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0788-0402-4DF7-83AA-86DF6917191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2C5E-ED7C-463F-8976-440764487DDD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127-D5BE-4B1C-B7A5-B83AFC47DDC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2009-101F-4FCF-BBF4-E79FF5E4536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A27-627E-4768-AB24-47B3FBDEFB4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E34D-190E-4558-8C17-63310DC1ABA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15E-3AF8-4D98-B2F4-4F4359746D17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4F6-1408-4AA7-9CAD-2BEB1AD6D26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8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129-93EC-49FF-A697-6A32ECCCFFA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4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4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6C0-896C-48DD-9617-21CAAA1799F9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4"/>
          <p:cNvSpPr txBox="1"/>
          <p:nvPr/>
        </p:nvSpPr>
        <p:spPr>
          <a:xfrm>
            <a:off x="2000160" y="1957320"/>
            <a:ext cx="450540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حرية الاقتصادية المقيدة</a:t>
            </a:r>
            <a:endParaRPr b="0" lang="en-US" sz="4400" spc="1" strike="noStrike">
              <a:ln w="9360">
                <a:solidFill>
                  <a:srgbClr val="6666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2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إشراف الأستاذة : </a:t>
            </a: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مريم الشمرا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إعداد الطالب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نوف الحرب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ريف المعج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نوف اليوس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اسم المقرر : </a:t>
            </a: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النظام الاقتصادي في الاسل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رقم الشعبة :  </a:t>
            </a:r>
            <a:r>
              <a:rPr b="0" lang="en-US" sz="3200" spc="-1" strike="noStrike">
                <a:solidFill>
                  <a:srgbClr val="cc9900"/>
                </a:solidFill>
                <a:latin typeface="Arabic Typesetting"/>
                <a:ea typeface="Arabic Typesetting"/>
              </a:rPr>
              <a:t>4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WordArt 5"/>
          <p:cNvSpPr txBox="1"/>
          <p:nvPr/>
        </p:nvSpPr>
        <p:spPr>
          <a:xfrm>
            <a:off x="4071960" y="2214720"/>
            <a:ext cx="41720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903"/>
                <a:gd name="adj2" fmla="val -63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لضوابط الشرعية الواردة على النـشاط الاقتصادي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-411120" y="3571920"/>
            <a:ext cx="103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80"/>
                </a:solidFill>
                <a:latin typeface="Arial"/>
                <a:cs typeface="Andalus"/>
              </a:rPr>
              <a:t>القيود التي تضبط النشاط الاقتصادي لضمان جلب المصالح ، و درء المفاسد للفر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80"/>
                </a:solidFill>
                <a:latin typeface="Arial"/>
                <a:cs typeface="Andalus"/>
              </a:rPr>
              <a:t>و المجتمع و لا يقتصر ذلك على الدنيا بل يشمل الدنيا و الآخ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8"/>
          <p:cNvSpPr txBox="1"/>
          <p:nvPr/>
        </p:nvSpPr>
        <p:spPr>
          <a:xfrm>
            <a:off x="714240" y="5214960"/>
            <a:ext cx="7678800" cy="15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6767ff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و لتحقيق تلك الغاية السامية (جلب المصالح و درء المفاسد)</a:t>
            </a: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6767ff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جعل النظام الاقتصادي الإسلامي قيوداً لضبط النشاط الاقتصادي منها :</a:t>
            </a: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2286000" y="1357200"/>
            <a:ext cx="450540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5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5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طلب الثاني</a:t>
            </a:r>
            <a:endParaRPr b="0" lang="en-US" sz="1050" spc="1" strike="noStrike">
              <a:ln w="9360">
                <a:solidFill>
                  <a:srgbClr val="9933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15000">
    <p:pull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5"/>
          <p:cNvSpPr txBox="1"/>
          <p:nvPr/>
        </p:nvSpPr>
        <p:spPr>
          <a:xfrm>
            <a:off x="571680" y="35712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أ- تطبيق أحكام الإسلام في الحلال و الحرام 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ولذالك صور كثيرة منها :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928960" y="1428840"/>
            <a:ext cx="56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Arial"/>
                <a:ea typeface="Andalus"/>
              </a:rPr>
              <a:t>1</a:t>
            </a:r>
            <a:r>
              <a:rPr b="0" lang="ar-SA" sz="2400" spc="-1" strike="noStrike">
                <a:solidFill>
                  <a:srgbClr val="003300"/>
                </a:solidFill>
                <a:latin typeface="Arial"/>
                <a:ea typeface="Andalus"/>
              </a:rPr>
              <a:t>- تحريم إنتاج و استهلاك السلع و الخدمات الخبيث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8"/>
          <p:cNvSpPr txBox="1"/>
          <p:nvPr/>
        </p:nvSpPr>
        <p:spPr>
          <a:xfrm>
            <a:off x="4643280" y="2143080"/>
            <a:ext cx="392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66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و أهم الآثار الايجابية لتطبيق قيد الحلال والحرام :</a:t>
            </a:r>
            <a:endParaRPr b="0" lang="en-US" sz="2800" spc="1" strike="noStrike">
              <a:ln w="19080">
                <a:solidFill>
                  <a:srgbClr val="9966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-3454920" y="2928960"/>
            <a:ext cx="159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Arabic Typesetting"/>
                <a:cs typeface="Arabic Typesetting"/>
              </a:rPr>
              <a:t>أولاً: المحافظة على الضروريات الخمس و هي: حفظ الدين و النفس و العقل و النسل و الم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WordArt 13"/>
          <p:cNvSpPr txBox="1"/>
          <p:nvPr/>
        </p:nvSpPr>
        <p:spPr>
          <a:xfrm>
            <a:off x="428760" y="4357800"/>
            <a:ext cx="807084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ريم طرق الكسب الغير المشروع كالربا  و الغرر  و الغش بأشكاله المختلفة كالرشوة و التزوير وغير ذللك مما نص على تحريمه</a:t>
            </a:r>
            <a:r>
              <a:rPr b="0" lang="en-US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400" spc="1" strike="noStrike">
              <a:ln w="0">
                <a:noFill/>
              </a:ln>
              <a:solidFill>
                <a:srgbClr val="99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2000160" y="350028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ثانياً: زيادة رفاهية المجتمع و تمتعه بالسلع و الخدمات الناف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35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85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"/>
          <p:cNvSpPr/>
          <p:nvPr/>
        </p:nvSpPr>
        <p:spPr>
          <a:xfrm>
            <a:off x="2286000" y="78588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DecoType Naskh Extensions"/>
              </a:rPr>
              <a:t>ب- الالتزام بعدد من الواجبات الشرعية الاقتصادية و من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1714680" y="214308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جـ- الحجر على السفهاء و الصبيان و المجان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WordArt 7" descr=""/>
          <p:cNvPicPr/>
          <p:nvPr/>
        </p:nvPicPr>
        <p:blipFill>
          <a:blip r:embed="rId1"/>
          <a:stretch/>
        </p:blipFill>
        <p:spPr>
          <a:xfrm>
            <a:off x="-30240" y="2743200"/>
            <a:ext cx="8966160" cy="119556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8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9900"/>
                </a:solidFill>
                <a:latin typeface="Arial"/>
                <a:cs typeface="DecoType Naskh Extensions"/>
              </a:rPr>
              <a:t>انه ملزم بالإنفاق في بعض الأوجه ولا خيار له في ذلك و من هذه الأوجه اداءالزكاة و نفقة الأقارب و نفقه الزوجة و الأولاد و غير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143000" y="407196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81bd"/>
                </a:solidFill>
                <a:latin typeface="Arabic Typesetting"/>
                <a:cs typeface="DecoType Naskh"/>
              </a:rPr>
              <a:t>أولا : حجر لمصلحة الغير كالحجر على المفلس لمصلحه الغرم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f81bd"/>
                </a:solidFill>
                <a:latin typeface="Arabic Typesetting"/>
                <a:cs typeface="DecoType Naskh"/>
              </a:rPr>
              <a:t>ثانياً: الحجر على إنسان لمصله نفسه كالحجر على السفيه و الصبي و المجن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857160" y="55720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د- إذا تعارضت المصلحة الخاصة مع المحصلة العامة تقدم المصلحة العامة :</a:t>
            </a:r>
            <a:br>
              <a:rPr sz="2400"/>
            </a:b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من أمثلة على ذلك : منع الاحتكار بمعناه الشرعي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ver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2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40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4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6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WordArt 5"/>
          <p:cNvSpPr txBox="1"/>
          <p:nvPr/>
        </p:nvSpPr>
        <p:spPr>
          <a:xfrm>
            <a:off x="4500720" y="836640"/>
            <a:ext cx="2879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المطلب الثالث ..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1357200" y="20001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cc00"/>
                </a:solidFill>
                <a:latin typeface="Arial"/>
              </a:rPr>
              <a:t>تدخل الدولة في النشاط الاقتصادي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DecoType Naskh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-541440" y="2857680"/>
            <a:ext cx="96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قصد بالدولة هنا الحكومة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أما عندما يقال "تدخل الدولة" فيقصد به أي نوع من أنواع تدخل الحكومة للتأثير على قوى العر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والطلب لتحقيق أهداف اقتصادية معينة , مثل : إجراءات خفض البطالة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WordArt 5"/>
          <p:cNvSpPr txBox="1"/>
          <p:nvPr/>
        </p:nvSpPr>
        <p:spPr>
          <a:xfrm rot="5400000">
            <a:off x="-1728360" y="252972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أولاً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: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9" name="WordArt 7"/>
          <p:cNvSpPr txBox="1"/>
          <p:nvPr/>
        </p:nvSpPr>
        <p:spPr>
          <a:xfrm>
            <a:off x="3857760" y="714240"/>
            <a:ext cx="3824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6600cc"/>
                </a:solidFill>
                <a:latin typeface="Arial"/>
              </a:rPr>
              <a:t>تدخل الدولة في النظام الرأسمالي :-</a:t>
            </a:r>
            <a:endParaRPr b="0" lang="en-US" sz="4000" spc="1" strike="noStrike">
              <a:ln w="0">
                <a:noFill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-3310920" y="2143080"/>
            <a:ext cx="160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ea typeface="Microsoft Uighur"/>
              </a:rPr>
              <a:t> طبقت مبادئ  النظام الرأسمالي الحر بصورتها المثالية حوالي نصف ق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لم تكن الدولة تتدخل في النشاط الاقتصادي , وبعد ظهور بعض سلبيات الحرية المطلقة أُعيد تدخل الدولة 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فليس هناك حكومة في أي مكان من العالم تستطيع أن ترفع يدها عن الاقتص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WordArt 11" descr="عمودي ضيق"/>
          <p:cNvPicPr/>
          <p:nvPr/>
        </p:nvPicPr>
        <p:blipFill>
          <a:blip r:embed="rId1"/>
          <a:stretch/>
        </p:blipFill>
        <p:spPr>
          <a:xfrm>
            <a:off x="920880" y="3279600"/>
            <a:ext cx="7729560" cy="12067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2"/>
          <p:cNvSpPr/>
          <p:nvPr/>
        </p:nvSpPr>
        <p:spPr>
          <a:xfrm>
            <a:off x="714240" y="4572000"/>
            <a:ext cx="79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فالاتجاه العام هو أن الدولة في ظل النظام الرأسمالي لا تتدخل إلا عندما يختل النظام أو يعجز عن أداء وظائفه على الوجه المطلو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وقد جاء هذا التدخل بعد تجربة عدم التدخل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4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9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WordArt 5"/>
          <p:cNvSpPr txBox="1"/>
          <p:nvPr/>
        </p:nvSpPr>
        <p:spPr>
          <a:xfrm rot="5400000">
            <a:off x="5434200" y="3286800"/>
            <a:ext cx="590400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ثـانياً</a:t>
            </a: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:.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4" name="WordArt 8" descr=""/>
          <p:cNvPicPr/>
          <p:nvPr/>
        </p:nvPicPr>
        <p:blipFill>
          <a:blip r:embed="rId1"/>
          <a:stretch/>
        </p:blipFill>
        <p:spPr>
          <a:xfrm>
            <a:off x="2371680" y="938160"/>
            <a:ext cx="4462560" cy="12747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9"/>
          <p:cNvSpPr/>
          <p:nvPr/>
        </p:nvSpPr>
        <p:spPr>
          <a:xfrm>
            <a:off x="0" y="2349360"/>
            <a:ext cx="7921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cc99"/>
                </a:solidFill>
                <a:latin typeface="Arial"/>
                <a:cs typeface="Andalus"/>
              </a:rPr>
              <a:t>هناك قسمين من الوظائف الاقتصادية للدولة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تدخل الدولة لتطبيق الأحكام الشرع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تدخل الدولة فيما يعد من السياسة الشر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1143000" y="3571920"/>
            <a:ext cx="68403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abic Typesetting"/>
                <a:ea typeface="DecoType Naskh Extensions"/>
              </a:rPr>
              <a:t>(أ) تدخل الدولة لتطبيق الأحكام الشرعية الاقتصادية المنصوص عليها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ي أنها تكون مسئولة عن تطبيق  الضوابط الشرعية المتعلقة بالنشاط الاقتصادي كمنع المحرم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مثل :- الربا , والغرر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فمنهج التربية الإسلامية يربيهم على تجنب الحرا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ويغرس في أذهانهم الخوف من الله , ويربيهم على الالتزام بالواجبات كأداء الزكاة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مثال// كان النبي صلى الله عليه وسلم يمر بالأسواق فيأمر الناس بالالتزام بأحكام الشريعة في تعاملهم , وينهاهم عن المعاملات المحرمة كالغش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0" y="6429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0066"/>
                </a:solidFill>
                <a:latin typeface="Arial"/>
              </a:rPr>
              <a:t>(ب) تدخل الدولة فيما يعد من السياسة الشرع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7"/>
          <p:cNvSpPr txBox="1"/>
          <p:nvPr/>
        </p:nvSpPr>
        <p:spPr>
          <a:xfrm>
            <a:off x="5286240" y="3429000"/>
            <a:ext cx="32781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cap="rnd" w="9360">
                  <a:solidFill>
                    <a:srgbClr val="330066"/>
                  </a:solidFill>
                  <a:custDash>
                    <a:ds d="100000" sp="1000"/>
                  </a:custDash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دود تدخل الدولة:.</a:t>
            </a:r>
            <a:endParaRPr b="0" lang="en-US" sz="2800" spc="1" strike="noStrike">
              <a:ln cap="rnd" w="9360">
                <a:solidFill>
                  <a:srgbClr val="330066"/>
                </a:solidFill>
                <a:custDash>
                  <a:ds d="100000" sp="1000"/>
                </a:custDash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cap="rnd" w="9360">
                  <a:solidFill>
                    <a:srgbClr val="330066"/>
                  </a:solidFill>
                  <a:custDash>
                    <a:ds d="100000" sp="1000"/>
                  </a:custDash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ضوابط العمل بالمصلحة :.</a:t>
            </a:r>
            <a:endParaRPr b="0" lang="en-US" sz="2800" spc="1" strike="noStrike">
              <a:ln cap="rnd" w="9360">
                <a:solidFill>
                  <a:srgbClr val="330066"/>
                </a:solidFill>
                <a:custDash>
                  <a:ds d="100000" sp="1000"/>
                </a:custDash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428760" y="17146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ea typeface="Andalus"/>
              </a:rPr>
              <a:t>1</a:t>
            </a: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تعرف السياسة الشرعية بأنها تصرف الحاكم بالمصلحة وفق ضوابطها الشرع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أو هي عمل ولي الأمر بالمصالح التي لم يدر من الشارع دليل لها على الخصو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والامثله : ولكن ليس هناك نص شرعي أو قياس صحيح يحدد مواصفات أبواب المتأخر التي تحقق هذا المقصد فالأمر متروك للجهة صاحبه الاختص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9"/>
          <p:cNvSpPr/>
          <p:nvPr/>
        </p:nvSpPr>
        <p:spPr>
          <a:xfrm>
            <a:off x="285840" y="3857760"/>
            <a:ext cx="8429400" cy="2786040"/>
          </a:xfrm>
          <a:prstGeom prst="leftArrow">
            <a:avLst>
              <a:gd name="adj1" fmla="val 72833"/>
              <a:gd name="adj2" fmla="val 0"/>
            </a:avLst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1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إن نكون المصلحة ألمقصوده من التدخل الحكومة مندرج تحت المقاصد الشري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2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 إن تكون  المصلحة ألمقصوده من التداخل غير متعارضة مع حكم ثابت بدليل شر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 من القرآن أو السنة أو القي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3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 إلا تؤدي المصلحة  المقصودة من التدخل الدولة إلى تفويت مصلحه أخرى أهم منها أو مساوية ل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9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Arial"/>
                <a:cs typeface="DecoType Thuluth"/>
              </a:rPr>
              <a:t>أمثله للوظائف الاقتصادية للدولة المبنية على السياسة الشرع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214200" y="221472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أداره الموارد الطبيعية مثل اتخاذ الإجراءات التي تؤدي إلى الانتفاع بالموارد الطبيعية المتوفرة كالأراضي الزراعية و المعاد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أداره ميزانيه الد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تنظيم النشاط الاقتصا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تدخل لمعالجه بعض الظواهر الاقتصادية مثل : البطاله و الانكما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ipe dir="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9:37:44Z</dcterms:created>
  <dc:creator>sada</dc:creator>
  <dc:description/>
  <dc:language>en-US</dc:language>
  <cp:lastModifiedBy>user</cp:lastModifiedBy>
  <dcterms:modified xsi:type="dcterms:W3CDTF">2009-12-21T17:06:23Z</dcterms:modified>
  <cp:revision>19</cp:revision>
  <dc:subject/>
  <dc:title>الشريحة 1</dc:title>
</cp:coreProperties>
</file>