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BD77-4148-4EBA-884F-33DA278803C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D655-1FA5-44E4-A851-34C8E834023E}"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303CA-FBBB-41C5-973A-76E10A312D4F}"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77DA-FE55-4E8F-813C-3962A7583063}"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DEE4-FD8A-47ED-A6BC-89F9E025AC6A}"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FACD-F2F5-4E73-AABE-BA8B1E4E564F}"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89D5-69BD-481A-A0D3-B114C850BF90}"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0FFA-74D9-4969-A391-D22444063254}"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47B0-4052-48F6-92E1-DFCB709316DA}"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02B9-FABD-49C7-BABC-E8F64A0221C4}"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9AC9-C8DF-48EA-A4FD-BF5C5AE953B9}"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BA23-3E5F-44EA-A7E9-61E187081773}"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315D-52EC-43D4-A50B-92C019F09685}"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DA12-B2F4-4292-9E7B-78BAA8D02796}"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EF0D-E4A6-4232-AEC2-F99B7CB8356E}"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0E79-22E6-468B-B61F-E514FE9FEB48}"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01CE-6C95-4641-BAD7-FAF8DEA8BC5C}"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5384-2D94-4008-AAE0-B0D5DC2F6CF2}"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ED71-0788-4651-B7E3-01C299244587}"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039B-40E1-443B-9E0F-409E1BAF14FC}"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F832-CD86-48E5-A69F-72DEFEB22DC8}"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0B3B-412B-4283-A67D-F02FA2329D81}"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6659-3354-4666-83E5-E807E09A1771}"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CB4B-773A-4549-A5CE-46A6AA2C194E}"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A660-B2FD-435B-AF65-E333FB07498B}"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8D4C-EF0C-48D3-8A2E-9F8E8419E382}"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6839-532C-4799-94D9-DCDDE18758AB}"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8BE7-9EA6-4044-87E0-092802E702CD}"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06F2-ECFC-4C36-892B-012093C95495}"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58238-48E5-49B1-A2B0-491E8E241B5A}"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F761-DDA6-4973-A2E2-C65DAF8F76C3}"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7ACB-D427-4F4E-9AD2-FBE62B352727}"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84F2-569D-4A99-AEF3-242AAB9830CB}"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2E40-29BF-4824-8E5A-165C6071B47B}"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C145-C8C7-4FF4-A683-4EF95CEB6D56}"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22C3-3E5E-4A5B-BD31-771778CEDA4C}"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3F37-73B8-4EDE-A9C3-A4A7387E40CD}"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6B46-2B0E-4E5E-9BAE-B6729D762088}"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8DC8-F44A-4B30-812C-81548666BF25}"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8F15-68A4-4308-86A3-BC0A78B260AF}"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5768-26D3-45ED-8ECA-3445E9B12171}"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A125-8E6E-4D19-95D2-D4D0B53002F9}"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D4064-20B5-419C-94F6-B12B0EFDB633}"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D5A30-5404-41EB-9C94-85C0BFF47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56167-6270-4E7F-8B90-1704614C3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759B0-B76F-409E-B297-76F52FC0B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C6600-ECF7-4C46-AD2D-CB8A00D1C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A8D61-92EA-48B8-8DA6-3E719EF52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60457-FB1E-424A-AF17-E70BC684B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A4543-84D6-4086-BDF2-4E0BC0435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FFD52-D6F9-4089-9175-2551BFEC1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B3B00-E6F0-485B-8770-B2865AAAF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8A1C4-E9E6-45AD-8D27-3A6B8E5A5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E0173-22EB-4FF7-986C-2FA264DB9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B634A-4B6A-4FB8-9A54-335044CB9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C6254-5F23-4D93-9720-B0AB3E896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2D554-F35C-4BF9-8534-4DB15D9A6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0FAFA-BA80-44B8-BAED-21CF4DBD7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0C309-1B35-4319-BA6A-663D7DCEC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5C647A-B425-4B13-AD61-414B71282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8B454E-F443-4BBA-B4E9-64C6B0C86C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D0F505-1C83-40CB-B2B9-8B481903B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EF43A6-3926-44C7-8375-26A9B030A3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6E2170-36A2-465A-84F8-01FCA0D3B8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061E4B-A4C1-4895-A313-6775DBE1F0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23379-CDB9-4410-B549-99C8903AC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9F6B3E-6CA7-414E-BFC0-08F24140A7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FFFC5D-771B-480D-A73C-4865AAA4ED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C95EF-978A-4DEB-91FA-97EB2A9BB2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1287B8-0A40-459A-B2A3-039771CD4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85C7F-23DB-432B-9A5A-4EF4714F65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22507A-9090-45B8-B70C-20067AF9BC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FD1743-4632-4EB1-A463-21C83AF149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AFF023-503C-4C48-B009-85EF95F337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6F0ED2-BFA3-4D5D-8AA9-5F471CEB69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EBC24F-B0C1-493E-B1A0-0F8DB02514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0A1C9-120F-4708-BBA5-79DDE7450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916200-0AF1-4E41-9B1C-DD81CAB291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EC77E4-98F7-44BE-AB7F-6FF76E31A6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65BBC6-8B6C-4159-B4B6-458F3CE032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36468C-D645-45CD-9653-542414AC5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396ACE-FF92-4407-98B1-C9BA5A520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39ED2E-19C0-461F-B7D9-BB3C38A514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1FA147-4CA1-41C8-918C-DF52CE91ED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D103A5-EB91-4619-AC73-695F617B6A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E80A98-3949-426D-9787-59A5C6B23F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48FA2-8A88-464B-944B-DAC93B89B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A5C39-5F04-474F-9C81-71B03D2EC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56778-6C12-4B24-AF57-8A2BEF2A6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B3AC9-15E9-483E-9FFD-D0F905B25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31836-69AF-43E0-AD72-AC61EA52E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1B49-3B56-4C96-B05F-055A467CAD3A}"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F5F9-5DA8-4C14-91A3-8A34298DC194}"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206B-9574-4B91-B1E9-D7C7546747B4}"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شكل حر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شكل حر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1546-0855-446B-B82F-EB2032117F24}"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682560" y="901800"/>
            <a:ext cx="8034480" cy="1530360"/>
          </a:xfrm>
          <a:prstGeom prst="rect">
            <a:avLst/>
          </a:prstGeom>
          <a:ln w="0">
            <a:noFill/>
          </a:ln>
        </p:spPr>
      </p:pic>
      <p:sp>
        <p:nvSpPr>
          <p:cNvPr id="203" name="PlaceHolder 1"/>
          <p:cNvSpPr>
            <a:spLocks noGrp="1"/>
          </p:cNvSpPr>
          <p:nvPr>
            <p:ph type="subTitle"/>
          </p:nvPr>
        </p:nvSpPr>
        <p:spPr>
          <a:xfrm>
            <a:off x="539280" y="2276280"/>
            <a:ext cx="8280360" cy="3362040"/>
          </a:xfrm>
          <a:prstGeom prst="rect">
            <a:avLst/>
          </a:prstGeom>
          <a:noFill/>
          <a:ln w="0">
            <a:noFill/>
          </a:ln>
        </p:spPr>
        <p:txBody>
          <a:bodyPr lIns="0" rIns="18360" tIns="46800" bIns="46800" anchor="t">
            <a:noAutofit/>
          </a:bodyPr>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Constantia"/>
              </a:rPr>
              <a:t>أبو عبد الله شمس الدين مجمد بن أبي بكر ابن ايوب بن سعد بن حريز بن مكي زين الدين ثم الدمشقي الحنبلي الشهير بابن قيم الجوزية. ولد في دمشق في شهر صفر </a:t>
            </a:r>
            <a:r>
              <a:rPr b="1" lang="ar-SA" sz="2600" spc="-1" strike="noStrike">
                <a:solidFill>
                  <a:srgbClr val="ffffff"/>
                </a:solidFill>
                <a:latin typeface="Constantia"/>
              </a:rPr>
              <a:t>691</a:t>
            </a:r>
            <a:r>
              <a:rPr b="1" lang="ar-SA" sz="2600" spc="-1" strike="noStrike">
                <a:solidFill>
                  <a:srgbClr val="ffffff"/>
                </a:solidFill>
                <a:latin typeface="Constantia"/>
              </a:rPr>
              <a:t> هـ ووالده أحد العباد الصلحاء كان قيما على المدرسة الجوزية،فعرف بها وقيل له قيم الجوزية، واشتهرت به ذريته وحفدتهم من بعد ذلك صار الوحد منهم يدعي بابن قيم الجوزية.</a:t>
            </a:r>
            <a:endParaRPr b="0" lang="en-US" sz="2600" spc="-1" strike="noStrike">
              <a:solidFill>
                <a:srgbClr val="ffffff"/>
              </a:solidFill>
              <a:latin typeface="Constanti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620280"/>
            <a:ext cx="8229600" cy="5505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فإنه موقوف على أسباب آخر من وجود محل قابل وأسباب آخر تنضم إلى ذلك السبب أما اسبب الوحيد المستقل بالتأثير الذي لا يتوقف تأثيره على غيره فهو مسبب الأسباب عز وجل ويربط ابن القيم هذه الحقيقة بالتوحيد فيقول ما مؤداه إذا كان الله عز وجل مستقلا وحده بالتأثير فلا ينبغي للعباد أن تتعلق قلوبهم بسواه فالخوف وحده والرجاء فيه وحده.</a:t>
            </a:r>
            <a:endParaRPr b="0" lang="en-US" sz="2600" spc="-1" strike="noStrike">
              <a:solidFill>
                <a:srgbClr val="000000"/>
              </a:solidFill>
              <a:latin typeface="Constanti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4617b"/>
                </a:solidFill>
                <a:uFillTx/>
                <a:latin typeface="Calibri"/>
              </a:rPr>
              <a:t>الجوانب النفسية عند ابن القيم</a:t>
            </a:r>
            <a:endParaRPr b="0" lang="en-US" sz="32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تعاريف النفس والروح</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ناقش ابن القيم في كتابه "الروح" حقيقة النفس؟ هل هي جزء من أجزاء البدن أو عرض من أعراضه أو جسم مساكن له مودع فيه أو جوهر مجرد؟ وهل هي الروح أو غيرها؟ وهل الأمارة واللوامة والمطمئنة نفس واحدة لها هذه الصفات أم هي ثلاث أنفس؟</a:t>
            </a:r>
            <a:r>
              <a:rPr b="0" lang="ar-SA"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476280"/>
            <a:ext cx="8229600" cy="56498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أورد خمسة أقوال في ذلك وحكم عليها بالبطلان ثم قال:</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سادس: أنه جسم مخالف بالماهيه لهذا الجسم المحسوس وهو جسم نوراني علوي خفيف حي متحرك ينفذ في جوهر الأعضاء ويسري فيها سريان الماء في الورد الدهن في الزيتون والنار في الفحم.فما دامت هذه الأعضاء صالحة لقبول الآثار الفائضة عليها من هذا الجسم اللطيف بقي ذلك الجسم اللطيف مشابكا لهذه الأعضاء وأفادها هذه الآثار من الحس والحركة الإرادية وإذا فسدت هذه الأعضاء بسبب استيلاء الأخلاط الغليظة عليها</a:t>
            </a:r>
            <a:r>
              <a:rPr b="0" lang="ar-SA"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692280"/>
            <a:ext cx="8229600" cy="5433840"/>
          </a:xfrm>
          <a:prstGeom prst="rect">
            <a:avLst/>
          </a:prstGeom>
          <a:noFill/>
          <a:ln w="0">
            <a:noFill/>
          </a:ln>
        </p:spPr>
        <p:txBody>
          <a:bodyPr lIns="90000" rIns="90000" tIns="46800" bIns="46800" anchor="t">
            <a:normAutofit/>
          </a:bodyPr>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خرجت عن قبول تلك الآثار فارق الروح البدن وانفصل إلى عالم الروح وهذا القول هو الصواب في المسألة وهو الذي لا يصح غيره وكل الأقوال سواه باطلة وعليه دل الكتاب والسنة وإجماع الصحابة وأدلة العقل والفطرة ثم ساق الأدلة منها قوله تعالى :{وَلَوْ تَرَى إِذِ الظَّالِمُونَ فِي غَمَرَاتِ الْمَوْتِ وَالْمَلآئِكَةُ بَاسِطُواْ أَيْدِيهِمْ أَخْرِجُواْ أَنفُسَكُمُ الْيَوْمَ تُجْزَوْنَ عَذَابَ الْهُونِ</a:t>
            </a:r>
            <a:r>
              <a:rPr b="1" lang="ar-SA" sz="2600" spc="-1" strike="noStrike">
                <a:solidFill>
                  <a:srgbClr val="000000"/>
                </a:solidFill>
                <a:latin typeface="Constantia"/>
              </a:rPr>
              <a:t>	</a:t>
            </a:r>
            <a:r>
              <a:rPr b="1" lang="ar-SA" sz="2600" spc="-1" strike="noStrike">
                <a:solidFill>
                  <a:srgbClr val="000000"/>
                </a:solidFill>
                <a:latin typeface="Constantia"/>
              </a:rPr>
              <a:t> ... الى قوله تعالى:{ وَلَقَدْ جِئْتُمُونَا فُرَادَى كَمَا خَلَقْنَاكُمْ أَوَّلَ مَرَّةٍ} وقال معلقا على الآية: فيها أربعة أدلة: أحدها بسط الملائكة أيدهم لتناولها والذي يتناول جسم, الثاني: وصفها بالإخراج والخروج والذي يخرج يُخرج جسم.</a:t>
            </a:r>
            <a:endParaRPr b="0" lang="en-US" sz="2600" spc="-1" strike="noStrike">
              <a:solidFill>
                <a:srgbClr val="000000"/>
              </a:solidFill>
              <a:latin typeface="Constantia"/>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ثالث: الإخبار عن عذابها في ذلك اليوم والذي يحس بالعذاب جسم.</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رابع: الإخبار عن مجيئها إلى ربها يجيء جسم.</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من الأدلة أيضا قوله صلى الله عليه وسلم "أن الروح إذا قبض تبعه البصر "قال ابن القيم عن الحديث: فيه دليلان: أحدهما وصفه بأنه يقبض والثاني: أن البصر يراه واستنتج رحمه الله من الأدلة التي أوردها أن الروح جسم مباين للبدن منفصل عنه مؤثر فيه.</a:t>
            </a:r>
            <a:endParaRPr b="0" lang="en-US" sz="2600" spc="-1" strike="noStrike">
              <a:solidFill>
                <a:srgbClr val="000000"/>
              </a:solidFill>
              <a:latin typeface="Constanti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قلب: تحدث ابن القيم عن القلب وعن أنواع القلوب واعتنى بهذا الموضوع عناية خاصة فخصه بمؤلف كبير هو "إغاثة اللهفان في مصايد الشيطان" كما تناوله في كتب أخرى ولو أن أحدا جمع ما ذكره ابن القيم حول القلب لخرج بنظرية متكاملة في الصحة النفسية أو في السوء النفسي.</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يقسم ابن القيم القلوب إلى ثلاثة أقسام: صحيح وميت وسقيم.</a:t>
            </a:r>
            <a:endParaRPr b="0" lang="en-US" sz="2600" spc="-1" strike="noStrike">
              <a:solidFill>
                <a:srgbClr val="000000"/>
              </a:solidFill>
              <a:latin typeface="Constanti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1</a:t>
            </a:r>
            <a:r>
              <a:rPr b="1" lang="ar-SA" sz="2600" spc="-1" strike="noStrike">
                <a:solidFill>
                  <a:srgbClr val="000000"/>
                </a:solidFill>
                <a:latin typeface="Constantia"/>
              </a:rPr>
              <a:t>- القلب الصحيح هو القلب السليم الذي لا ينجو إلا من أتي الله به, كما قال سبحانه وتعالى :{يَوْمَ لَا يَنفَعُ مَالٌ وَلَا بَنُونَ إِلَّا مَنْ أَتَى اللَّهَ بِقَلْبٍ سَلِيمٍ} وعرفه بأنه الذي قد "سلم من كل شهوة تخالف أمر الله ونهيه ومن كل شبهة تعارض خبره فسلم من عبودية ما سواه وسلم من تحكيم غير رسوله.... أي أنه القلب السالم من الشهوات والشبهات.</a:t>
            </a:r>
            <a:endParaRPr b="0" lang="en-US" sz="2600" spc="-1" strike="noStrike">
              <a:solidFill>
                <a:srgbClr val="000000"/>
              </a:solidFill>
              <a:latin typeface="Constanti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8360" y="836640"/>
            <a:ext cx="8229600" cy="52466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2</a:t>
            </a:r>
            <a:r>
              <a:rPr b="1" lang="ar-SA" sz="2600" spc="-1" strike="noStrike">
                <a:solidFill>
                  <a:srgbClr val="000000"/>
                </a:solidFill>
                <a:latin typeface="Constantia"/>
              </a:rPr>
              <a:t>- القلب الثاني ضد هذا وهو القلب الذي لا حياة به, فهو لا يعرب ربه ولا يعبده بأمره وما يحبه ويرضاه, بل هو واقف مع شهواته ولذاذاته, ولو كان فيها سخط ربه وغضبه.</a:t>
            </a:r>
            <a:endParaRPr b="0" lang="en-US" sz="2600" spc="-1" strike="noStrike">
              <a:solidFill>
                <a:srgbClr val="000000"/>
              </a:solidFill>
              <a:latin typeface="Constanti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3</a:t>
            </a:r>
            <a:r>
              <a:rPr b="1" lang="ar-SA" sz="2600" spc="-1" strike="noStrike">
                <a:solidFill>
                  <a:srgbClr val="000000"/>
                </a:solidFill>
                <a:latin typeface="Constantia"/>
              </a:rPr>
              <a:t>- القلب الثالث قلب له حياة و به علة فله مادتان تمده هذه مرة وهذه أخرى, وهو لما غلب عليه منهما, ففيه من محبة الله والإيمان به والإخلاص له والتوكل عليه ما هو مادة حياته وفيه من محبة الشهوات وإيثارها والحرص على تحصيلها والحسد والكبر والعجب وحب العلو في الأرض بالرياسة ما هو من مادة هلاكه وعبطه.... فالقلب الأول حي مجيب لين واع. والثاني يابس ميت, والثالث مريض فإما إلى السلامة أدنى أو إلى العطب أدنى.</a:t>
            </a:r>
            <a:endParaRPr b="0" lang="en-US" sz="2600" spc="-1" strike="noStrike">
              <a:solidFill>
                <a:srgbClr val="000000"/>
              </a:solidFill>
              <a:latin typeface="Constanti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620280"/>
            <a:ext cx="8229600" cy="5505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فالقلب الصحيح السليم ليس بينه وبين قبول الحق ومحبته وإيثاره سوى إدراكه, فهو صحيح الإدراك تام الانقياد والقبول له.</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القلب الميت القاسي لا يقبله ولا ينقاد له.</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القلب المريض إن غلب عليه مرضه التحق بالميت القاسي وإن غلبت عليه صحته التحق بالسليم.</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خواطر وعلاقتها بالسلوك:</a:t>
            </a:r>
            <a:endParaRPr b="0" lang="en-US" sz="2600" spc="-1" strike="noStrike">
              <a:solidFill>
                <a:srgbClr val="000000"/>
              </a:solidFill>
              <a:latin typeface="Constanti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620280"/>
            <a:ext cx="8229600" cy="5505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عرف ابن قيم بسعة العلم وكثرة العبادة وحسن الخلق والزهد في الدنيا، كما عرف أيضا بالصدع بالحق وإنكار المنكرات حتى أنه أوذي بسبب ذلك وسجن.معه في قلعة دمشق ولم يفرج عنه إلى أن توفي شيخ الإسلام عا</a:t>
            </a:r>
            <a:r>
              <a:rPr b="1" lang="ar-SA" sz="2600" spc="-1" strike="noStrike">
                <a:solidFill>
                  <a:srgbClr val="000000"/>
                </a:solidFill>
                <a:latin typeface="Constantia"/>
              </a:rPr>
              <a:t>728</a:t>
            </a:r>
            <a:r>
              <a:rPr b="1" lang="ar-SA" sz="2600" spc="-1" strike="noStrike">
                <a:solidFill>
                  <a:srgbClr val="000000"/>
                </a:solidFill>
                <a:latin typeface="Constantia"/>
              </a:rPr>
              <a:t> هـ</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قد توفي ابن القيم بعد ذلك عام </a:t>
            </a:r>
            <a:r>
              <a:rPr b="1" lang="ar-SA" sz="2600" spc="-1" strike="noStrike">
                <a:solidFill>
                  <a:srgbClr val="000000"/>
                </a:solidFill>
                <a:latin typeface="Constantia"/>
              </a:rPr>
              <a:t>751</a:t>
            </a:r>
            <a:r>
              <a:rPr b="1" lang="ar-SA" sz="2600" spc="-1" strike="noStrike">
                <a:solidFill>
                  <a:srgbClr val="000000"/>
                </a:solidFill>
                <a:latin typeface="Constantia"/>
              </a:rPr>
              <a:t> هـ رحمه الله رحمة واسعة.</a:t>
            </a:r>
            <a:endParaRPr b="0" lang="en-US" sz="2600" spc="-1" strike="noStrike">
              <a:solidFill>
                <a:srgbClr val="000000"/>
              </a:solidFill>
              <a:latin typeface="Constanti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476280"/>
            <a:ext cx="8229600" cy="56498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أنموذج السلوك عن ابن القيم</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خاطرة__ (معالجة) فكر __ ذكرى __ إرادة ___ الجوارح (السلوك) ___ عاد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للخواطر في سيكولوجية ابن القيم شأن كبير فهي عنده أصل تصرفات العبد وأعماله, أو هي مفتاح السلوك, ومبدأ الصحة النفسية, ومعالجتها وإصلاحها سبيل إلى إصلاح السلوك كما أن انحرافها سبيل إلى انحرافه لهذا اعتنى بها في عدد من كتبه, منها كتاب "الفوائد" الذي صاغ فيه ما يمكن أن يسمى بنظرية عن العلاقة بين الخواطر والسلوك, ومنها كتاب "الجواب الكافي" الذي صاغ فيه الخطوط العامة لمنهج في الإرشاد النفسي.</a:t>
            </a:r>
            <a:endParaRPr b="0" lang="en-US" sz="2600" spc="-1" strike="noStrike">
              <a:solidFill>
                <a:srgbClr val="000000"/>
              </a:solidFill>
              <a:latin typeface="Constanti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476280"/>
            <a:ext cx="8229600" cy="56498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يرى أبن القيم رحمه الله أن القلب لا يخلو قط من الفكر, إما في واجب آخرته ومصالحها, وإما في مصالح دنياه ومعاشه, وإما في الوساوس والأماني الباطلة والمقدرات المفروضة ويرى أن لهذه الخواطر علاقة بتصرفات الإنسان, فإذا حسنت حسن سلوكه وإذا ساءت ساء سلوكه, وهو يشبه النفس "بالرحا"  التي تدور ولا تتوقف أبدا فإن ألقى فيها حب دارت به وأخرجت الدقيق وما ينفع الناس, وأن ألقى فيها زجاج وحصا دارت به وأخرجت ما لا يفيد أو ما يضر.</a:t>
            </a:r>
            <a:endParaRPr b="0" lang="en-US" sz="2600" spc="-1" strike="noStrike">
              <a:solidFill>
                <a:srgbClr val="000000"/>
              </a:solidFill>
              <a:latin typeface="Constanti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260280"/>
            <a:ext cx="8229600" cy="5865840"/>
          </a:xfrm>
          <a:prstGeom prst="rect">
            <a:avLst/>
          </a:prstGeom>
          <a:noFill/>
          <a:ln w="0">
            <a:noFill/>
          </a:ln>
        </p:spPr>
        <p:txBody>
          <a:bodyPr lIns="90000" rIns="90000" tIns="46800" bIns="46800" anchor="t">
            <a:normAutofit/>
          </a:bodyPr>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يرى ابن القيم أن الفكر هو مبدأ الإرادة والطلب, ويقول "أعلم أن الخطرات والوساوس تؤدي متعلقاتها إلى الفكر فيأخذها الفكر فيؤديها إلى التذكر فيأخذها الذكر فيؤديها إلى الإرادة فتأخذها فتؤديها إلى الجوارح والعمل فتستحكم فتصير عادة. ويقول ابن القيم "مبدأ كل علم نظري وعمل اختياري هو الخواطر والأفكار فإنها توجب التصورات والتصورات تدعو إلى الإرادات والإرادات تقتضي وقوع الفعل, وكثرة تكراره تعطي العادة, فصلاح هذه المراتب بصلاح الخواطر وفسادها بفسادها, فصلاح الخواطر بأن تكون مراقبة لوليها وإلهها صاعدة إليه دائرة على مرضاته ومحابه</a:t>
            </a:r>
            <a:r>
              <a:rPr b="1" lang="ar-SA" sz="2600" spc="-1" strike="noStrike">
                <a:solidFill>
                  <a:srgbClr val="000000"/>
                </a:solidFill>
                <a:latin typeface="Arial"/>
              </a:rPr>
              <a:t>”.</a:t>
            </a:r>
            <a:endParaRPr b="0" lang="en-US" sz="2600" spc="-1" strike="noStrike">
              <a:solidFill>
                <a:srgbClr val="000000"/>
              </a:solidFill>
              <a:latin typeface="Constantia"/>
            </a:endParaRPr>
          </a:p>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250560" y="476280"/>
            <a:ext cx="8435880" cy="5649840"/>
          </a:xfrm>
          <a:prstGeom prst="rect">
            <a:avLst/>
          </a:prstGeom>
          <a:noFill/>
          <a:ln w="0">
            <a:noFill/>
          </a:ln>
        </p:spPr>
        <p:txBody>
          <a:bodyPr lIns="90000" rIns="90000" tIns="46800" bIns="46800" anchor="t">
            <a:normAutofit/>
          </a:bodyPr>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يرى ابن القيم أن العبد لا يستطيع قطع هذه الخواطر ولا إماتتها إلا أنه يستطيع توجيهها والتحكم في مسارها بقوة العقل والإيمان.</a:t>
            </a:r>
            <a:endParaRPr b="0" lang="en-US" sz="2600" spc="-1" strike="noStrike">
              <a:solidFill>
                <a:srgbClr val="000000"/>
              </a:solidFill>
              <a:latin typeface="Constantia"/>
            </a:endParaRPr>
          </a:p>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يرى ابن القيم أن إصلاح السلوك والعوائد بإصلاح الأصل وهو الخواطر.</a:t>
            </a:r>
            <a:endParaRPr b="0" lang="en-US" sz="2600" spc="-1" strike="noStrike">
              <a:solidFill>
                <a:srgbClr val="000000"/>
              </a:solidFill>
              <a:latin typeface="Constantia"/>
            </a:endParaRPr>
          </a:p>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إذن تغيير تصورات الشخص وما هو مقتنع به- أو صلاح "الجانب المعرفي" عنده- هو الخطوة الأولى في تغيير عاداته وإصلاح سلوكه, ويرى ابن القيم أن انحراف الخواطر والأفكار أو الفساد في الجانب المعرفي عند الشخص أعظم خطرا من الانحراف في السلوك, ويضرب لهذا مثلاً بأن تمني الخيانة وإشغال الفكر والقلب بها أضر على القلب من الخيانة نفسها ولاسيما إذا فرغ القلب منها بعد مباشرتها.</a:t>
            </a:r>
            <a:endParaRPr b="0" lang="en-US" sz="2600" spc="-1" strike="noStrike">
              <a:solidFill>
                <a:srgbClr val="000000"/>
              </a:solidFill>
              <a:latin typeface="Constanti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04617b"/>
                </a:solidFill>
                <a:uFillTx/>
                <a:latin typeface="Calibri"/>
              </a:rPr>
              <a:t>سيكولوجية المعصية عند ابن القيم</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يرى ابن القيم رحمه الله أن للأخلاق حدا إذا جاوزته صارت عدوانا, ومتى قصرت عنه كانت نقصا ومهانة فالغضب مثلاً له حد وهو الشجاعة المحمودة والأنفة من الرذائل والنقائص, فإذا جاوز الغضب الحد تعدى صاحبه وجار, وإذا نقص عنه جبن ولم يأنف من الرذائل, ويرى ابن القيم رحمه الله أن سبب الانحراف عن الحد سواء بتجاوزه أو بالقصور عنه تعلق القلب بغير الله, فالعبد قد يطيع القوة الغضبية فيظلم غيره ويتجاوز الجد, أو يطيع القوة الشهوانية فيقصر عن الحد</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أما أثر الشيطان في انحراف العبد عن حد العدل سواء بتجاوزه أو القصور عنه فله طرق: أولها هو التزيد أو الإسراف, فيزيد العبد على قدر حاجته في المباحات, وثانيها هو الغفلة عن ذكر الله عز وجل, وثالثها هو تكلف ما لا يعنيه من جميع الأشياء. ويرجع ابن القيم هذه الأسباب الثلاثة إلى سبب واحد وهو جهل العبد ربه وجهل العبد نفسه.</a:t>
            </a:r>
            <a:endParaRPr b="0" lang="en-US" sz="2600" spc="-1" strike="noStrike">
              <a:solidFill>
                <a:srgbClr val="000000"/>
              </a:solidFill>
              <a:latin typeface="Constantia"/>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250560" y="475920"/>
            <a:ext cx="8435880" cy="6048360"/>
          </a:xfrm>
          <a:prstGeom prst="rect">
            <a:avLst/>
          </a:prstGeom>
          <a:noFill/>
          <a:ln w="0">
            <a:noFill/>
          </a:ln>
        </p:spPr>
        <p:txBody>
          <a:bodyPr lIns="90000" rIns="90000" tIns="46800" bIns="46800" anchor="t">
            <a:normAutofit fontScale="96000"/>
          </a:bodyPr>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أما آثار المعصية عل النفس فمنها:</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أولاً": أنها مع تكرارها تصبح هيئة راسخة يصعب إلى العبد التخلص منها فيغدو أسيراً لها تنازعه نفسه إذا حاول التخلص منها.</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ثانياً: أن المعصية تزرع أمثالها ويولد بعضها بعضا فالسلوك المنحرف يستتبع سلوكا آخر منحرفا ويفضي إليه.</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ثالثاً: أنه ينسلخ من القلب استقباحها فتصير له عادة.</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رابعاً: أنها تورث الذل ومهانة النفس عند صاحبها وهذا شعور داخلي يكون له أثر على السلوك الظاهر.</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خامساً: أن العاصي يجد وحشة بينه وبين الله وبينه وبين الناس. سادساً: حرمان اعلم, فالمعصية تطفئ نور العلم.</a:t>
            </a:r>
            <a:endParaRPr b="0" lang="en-US" sz="2600" spc="-1" strike="noStrike">
              <a:solidFill>
                <a:srgbClr val="000000"/>
              </a:solidFill>
              <a:latin typeface="Constantia"/>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4617b"/>
                </a:solidFill>
                <a:uFillTx/>
                <a:latin typeface="Calibri"/>
              </a:rPr>
              <a:t>ومن أساليب الإرشاد النفسي عند ابن القيم</a:t>
            </a:r>
            <a:r>
              <a:rPr b="0" lang="ar-SA" sz="5000" spc="-1" strike="noStrike">
                <a:solidFill>
                  <a:srgbClr val="04617b"/>
                </a:solidFill>
                <a:latin typeface="Calibri"/>
              </a:rPr>
              <a:t> </a:t>
            </a:r>
            <a:endParaRPr b="0" lang="en-US" sz="5000" spc="-1" strike="noStrike">
              <a:solidFill>
                <a:srgbClr val="04617b"/>
              </a:solidFill>
              <a:latin typeface="Calibri"/>
            </a:endParaRPr>
          </a:p>
        </p:txBody>
      </p:sp>
      <p:sp>
        <p:nvSpPr>
          <p:cNvPr id="234" name=""/>
          <p:cNvSpPr txBox="1"/>
          <p:nvPr/>
        </p:nvSpPr>
        <p:spPr>
          <a:xfrm>
            <a:off x="457200" y="1341360"/>
            <a:ext cx="8229600" cy="5112000"/>
          </a:xfrm>
          <a:prstGeom prst="rect">
            <a:avLst/>
          </a:prstGeom>
          <a:noFill/>
          <a:ln w="0">
            <a:noFill/>
          </a:ln>
        </p:spPr>
        <p:txBody>
          <a:bodyPr lIns="90000" rIns="90000" tIns="46800" bIns="46800" anchor="t">
            <a:normAutofit fontScale="85000"/>
          </a:bodyPr>
          <a:p>
            <a:pPr marL="231840" indent="-23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تراث ابن القيم عن الإرشاد النفسي متنوع, ودراسته دراسة شاملة سوف تكشف للباحث تفرد ابن القيم في مجال الإرشاد وإبداعه.</a:t>
            </a:r>
            <a:endParaRPr b="0" lang="en-US" sz="2800" spc="-1" strike="noStrike">
              <a:solidFill>
                <a:srgbClr val="000000"/>
              </a:solidFill>
              <a:latin typeface="Constantia"/>
            </a:endParaRPr>
          </a:p>
          <a:p>
            <a:pPr marL="231840" indent="-23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وابن القيم له أسلوب شامل في الإرشاد يتناول جوانب السلوك المتعددة ولعل معظم آرائه موجودة في خمسة من كتبه هي:</a:t>
            </a:r>
            <a:endParaRPr b="0" lang="en-US" sz="2800" spc="-1" strike="noStrike">
              <a:solidFill>
                <a:srgbClr val="000000"/>
              </a:solidFill>
              <a:latin typeface="Constantia"/>
            </a:endParaRPr>
          </a:p>
          <a:p>
            <a:pPr marL="231840" indent="-23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a:t>
            </a:r>
            <a:r>
              <a:rPr b="1" lang="ar-SA" sz="2800" spc="-1" strike="noStrike">
                <a:solidFill>
                  <a:srgbClr val="000000"/>
                </a:solidFill>
                <a:latin typeface="Constantia"/>
              </a:rPr>
              <a:t>1</a:t>
            </a:r>
            <a:r>
              <a:rPr b="1" lang="ar-SA" sz="2800" spc="-1" strike="noStrike">
                <a:solidFill>
                  <a:srgbClr val="000000"/>
                </a:solidFill>
                <a:latin typeface="Constantia"/>
              </a:rPr>
              <a:t>- إغاثة اللهفان وفيه تكلم عن الخطرات والوساوس وبين كيف يستطيع العبد التخلص منها.</a:t>
            </a:r>
            <a:endParaRPr b="0" lang="en-US" sz="2800" spc="-1" strike="noStrike">
              <a:solidFill>
                <a:srgbClr val="000000"/>
              </a:solidFill>
              <a:latin typeface="Constantia"/>
            </a:endParaRPr>
          </a:p>
          <a:p>
            <a:pPr marL="231840" indent="-23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a:t>
            </a:r>
            <a:r>
              <a:rPr b="1" lang="ar-SA" sz="2800" spc="-1" strike="noStrike">
                <a:solidFill>
                  <a:srgbClr val="000000"/>
                </a:solidFill>
                <a:latin typeface="Constantia"/>
              </a:rPr>
              <a:t>2</a:t>
            </a:r>
            <a:r>
              <a:rPr b="1" lang="ar-SA" sz="2800" spc="-1" strike="noStrike">
                <a:solidFill>
                  <a:srgbClr val="000000"/>
                </a:solidFill>
                <a:latin typeface="Constantia"/>
              </a:rPr>
              <a:t>- الجواب الكافي لمن سأل عن الدواء الشافي أو كتاب الداء والدواء وعالج فيه مرض العشق وكيفية التخلص منه.</a:t>
            </a:r>
            <a:endParaRPr b="0" lang="en-US" sz="2800" spc="-1" strike="noStrike">
              <a:solidFill>
                <a:srgbClr val="000000"/>
              </a:solidFill>
              <a:latin typeface="Constantia"/>
            </a:endParaRPr>
          </a:p>
          <a:p>
            <a:pPr marL="231840" indent="-23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a:t>
            </a:r>
            <a:r>
              <a:rPr b="1" lang="ar-SA" sz="2800" spc="-1" strike="noStrike">
                <a:solidFill>
                  <a:srgbClr val="000000"/>
                </a:solidFill>
                <a:latin typeface="Constantia"/>
              </a:rPr>
              <a:t>3</a:t>
            </a:r>
            <a:r>
              <a:rPr b="1" lang="ar-SA" sz="2800" spc="-1" strike="noStrike">
                <a:solidFill>
                  <a:srgbClr val="000000"/>
                </a:solidFill>
                <a:latin typeface="Constantia"/>
              </a:rPr>
              <a:t>- طريق الهجرتين وعالج فيه معوقات السير إلى الله تعالى وكيفية التغلب عليها.</a:t>
            </a:r>
            <a:endParaRPr b="0" lang="en-US" sz="2800" spc="-1" strike="noStrike">
              <a:solidFill>
                <a:srgbClr val="000000"/>
              </a:solidFill>
              <a:latin typeface="Constantia"/>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476280"/>
            <a:ext cx="8229600" cy="56498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4</a:t>
            </a:r>
            <a:r>
              <a:rPr b="1" lang="ar-SA" sz="2600" spc="-1" strike="noStrike">
                <a:solidFill>
                  <a:srgbClr val="000000"/>
                </a:solidFill>
                <a:latin typeface="Constantia"/>
              </a:rPr>
              <a:t>- مفتاح دار السعادة وعالج فيه ما يعين العبد على العباد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5</a:t>
            </a:r>
            <a:r>
              <a:rPr b="1" lang="ar-SA" sz="2600" spc="-1" strike="noStrike">
                <a:solidFill>
                  <a:srgbClr val="000000"/>
                </a:solidFill>
                <a:latin typeface="Constantia"/>
              </a:rPr>
              <a:t>- عدة الصابرين وذخيرة الشاكرين.</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في كتب ابن القيم الأخرى إضافات وشرح لأسلوب يحسن الرجوع إليها ومن هذه الكتب كتاب مدارج السالكين وكتاب الفوائد الذي شرح فيه المراحل التي يمر بها السلوك.</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لابد قبل الحديث عن طرق ابن القيم في الإرشاد النفسي من استحضار أنموذجه في السلوك وقد سبق الإشارة إليه فارجع إليه في موضعه, تناول ابن القيم جانب العلاج بعد وقوع الاضطراب النفسي وجانب الوقاية قبل وقوع الاضطراب, ويمكن تلخيص طريقته فيما يلي:</a:t>
            </a:r>
            <a:endParaRPr b="0" lang="en-US" sz="2600" spc="-1" strike="noStrike">
              <a:solidFill>
                <a:srgbClr val="000000"/>
              </a:solidFill>
              <a:latin typeface="Constantia"/>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476280"/>
            <a:ext cx="8229600" cy="56498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أول: إصلاح المشاعر وفي هذا تحدث محسناً لمشاعر الخير مبديا لجمال الفضيلة ومقبحا للانحراف وموضحا شؤم المعصية وسوء عاقبتها وهذا كله من أجل إصلاح مشاعر الشخص وتقويمها لأن مشاعره إذا نفرت من سلوك ابتعد هو عنه, وإذا مالت إلى سلوك سعى حثيثاً إليه.</a:t>
            </a:r>
            <a:endParaRPr b="0" lang="en-US" sz="2600" spc="-1" strike="noStrike">
              <a:solidFill>
                <a:srgbClr val="000000"/>
              </a:solidFill>
              <a:latin typeface="Constanti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4617b"/>
                </a:solidFill>
                <a:uFillTx/>
                <a:latin typeface="Calibri"/>
              </a:rPr>
              <a:t>المنهجية</a:t>
            </a:r>
            <a:endParaRPr b="0" lang="en-US" sz="32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يعتمد ابن القيم على القرآن والسنة ويقدمها على سواها وقد أبان تبن القيم عن منهجيه في عدد منة كتبه لعل أهم كتابه " الصواعق المرسلة على الجهمية والمعطلة" حيث ناقش فيها عددا من المناهج المنحرفة كتقديم العقل على النقل مطلقا وفي كتاب "مدارج السالكين" بحث ممتع لخص فيه المنهج الحق الذي ينبغي للمسلم أن يسلكه في ذلك .يقول فيه " التواضع للدين هو الانقياد لما جاء به الرسول صلى الله عليه وسلم والاستلام له والإذعان وذلك بثلاثة أشياء:</a:t>
            </a:r>
            <a:endParaRPr b="0" lang="en-US" sz="2600" spc="-1" strike="noStrike">
              <a:solidFill>
                <a:srgbClr val="000000"/>
              </a:solidFill>
              <a:latin typeface="Constantia"/>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476280"/>
            <a:ext cx="8229600" cy="56498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ثانياً: إصلاح الأفكار والاعتقادات وفي هذا يحاول ابن القيم أن يقنع الشخص بسلامة سلوك معين وخطأ آخر ويخاطب في هذا عقله مقدما له الحجج العقلية وموردا الأدلة النقلية التي تؤيد صحة السلوك الذي يدعو إليه وتبين خطأ السلوك الذي يحذر منه.</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ثالثاً: مراقبة الخواطر وإصلاحها والخواطر عند ابن القيم مقدمة للإرادة والعزم, والخواطر متى استقامت فأحبت الخير ونفرت من الشر والخطأ وتأيد ذلك بقناعة عقلية فلن تتحرك إرادته حينئذ إلا نحو الخير فيعزم على فعله, والإرادة هي المسئولة عن التحكم في الفكر الذي يقوم بمعالجة الخواطر العارضة في الذهن, والخاطرة متى ما عرضت في الذهن ولم يعالجها الفكر فإنها تزول ولا يكون لها أثر نفسي, يقول ابن القيم "فإذا دفعت (الخاطر) الوارد عليك اندفع عنك ما بعده, وإن قبلته صار فكرا جوالاً فاستخدم الإرادة فتساعدك هي والفكر على استخدام الجوارح.</a:t>
            </a:r>
            <a:endParaRPr b="0" lang="en-US" sz="2600" spc="-1" strike="noStrike">
              <a:solidFill>
                <a:srgbClr val="000000"/>
              </a:solidFill>
              <a:latin typeface="Constantia"/>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انسجاما مع هذا المنهج في الإرشاد النفسي اعتنى ابن القيم بأثر الأفكار والخواطر في السلوك ورأى أنها مبدأ كل عمل اختياري وعلم نظري وأن علاج السلوك يبدأ منها, ويقول ابن القيم في ذلك "وأما الخطرات فنشأتها أصعب فإنها مبدء الخير والشر ومنها تتولد الإرادة والهمم والعزائم, فمن راعى خطراته ملك زمام نفسه, وقهر هواه ومن غلبته خطراته فهواه ونفسه له أغلب ومن استهان بالخطرات قادته قسراً إلى الهلكات ولا تزال الخطرات تتردد على القلب حتى تصير منى باطلة" كسراب بقيعة يحسبه الظمآن ماء"</a:t>
            </a:r>
            <a:endParaRPr b="0" lang="en-US" sz="2600" spc="-1" strike="noStrike">
              <a:solidFill>
                <a:srgbClr val="000000"/>
              </a:solidFill>
              <a:latin typeface="Constantia"/>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476280"/>
            <a:ext cx="8229600" cy="5649840"/>
          </a:xfrm>
          <a:prstGeom prst="rect">
            <a:avLst/>
          </a:prstGeom>
          <a:noFill/>
          <a:ln w="0">
            <a:noFill/>
          </a:ln>
        </p:spPr>
        <p:txBody>
          <a:bodyPr lIns="90000" rIns="90000" tIns="46800" bIns="46800" anchor="t">
            <a:normAutofit/>
          </a:bodyPr>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من النظريات الحديثة التي قد تتفق مع ابن القيم إلى حد ما في اسلوبه العلاجي نظرية العلاج العقلاني الانفعالي التي ابتكرها (إليس) وملخص هذه النظرية هو أن إليس يرى أن الاضطراب السلوكي نتيجة للتفكير غير العقلاني, وعلاجه يكون بمهاجمة الأفكار والانفعالات السلبية أو القاهرة للذات وذلك بإعادة تنظيم الإدراك والتفكير بدرجة يصبح معها الفرد منطقياً في تفكيره وتصوراته ومشاعره, ويرى إليس أن هف الإرشاد والعلاج النفسي هو أن يوضح المرشد للفرد المسترشد أن حديثه مع ذاته أي حديث النفس والخواطر هو المصدر الأساس للاضطراب الانفعالي والعلاج يكون بتعليم الشخص وتعويده على التفكير المعقول وتخليصه من ضده.</a:t>
            </a:r>
            <a:endParaRPr b="0" lang="en-US" sz="2600" spc="-1" strike="noStrike">
              <a:solidFill>
                <a:srgbClr val="000000"/>
              </a:solidFill>
              <a:latin typeface="Constanti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4617b"/>
                </a:solidFill>
                <a:uFillTx/>
                <a:latin typeface="Calibri"/>
              </a:rPr>
              <a:t>سيكولوجية الصبر</a:t>
            </a:r>
            <a:endParaRPr b="0" lang="en-US" sz="3200" spc="-1" strike="noStrike">
              <a:solidFill>
                <a:srgbClr val="04617b"/>
              </a:solidFill>
              <a:latin typeface="Calibri"/>
            </a:endParaRPr>
          </a:p>
        </p:txBody>
      </p:sp>
      <p:sp>
        <p:nvSpPr>
          <p:cNvPr id="242" name=""/>
          <p:cNvSpPr txBox="1"/>
          <p:nvPr/>
        </p:nvSpPr>
        <p:spPr>
          <a:xfrm>
            <a:off x="468360" y="1484280"/>
            <a:ext cx="8229600" cy="4525920"/>
          </a:xfrm>
          <a:prstGeom prst="rect">
            <a:avLst/>
          </a:prstGeom>
          <a:noFill/>
          <a:ln w="0">
            <a:noFill/>
          </a:ln>
        </p:spPr>
        <p:txBody>
          <a:bodyPr lIns="90000" rIns="90000" tIns="46800" bIns="46800" anchor="t">
            <a:normAutofit fontScale="87000"/>
          </a:bodyPr>
          <a:p>
            <a:pPr marL="237240" indent="-237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يعرف ابن القيم الصبر بأنه "حبس النفس عن الجزع والتسخط وحبس اللسان عن الشكوى, وحبس الجوارح عن التشويش"</a:t>
            </a:r>
            <a:endParaRPr b="0" lang="en-US" sz="2800" spc="-1" strike="noStrike">
              <a:solidFill>
                <a:srgbClr val="000000"/>
              </a:solidFill>
              <a:latin typeface="Constantia"/>
            </a:endParaRPr>
          </a:p>
          <a:p>
            <a:pPr marL="237240" indent="-237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والصبر ثلاث درجات: صبر بالله وصبر لله وصبر مع الله</a:t>
            </a:r>
            <a:endParaRPr b="0" lang="en-US" sz="2800" spc="-1" strike="noStrike">
              <a:solidFill>
                <a:srgbClr val="000000"/>
              </a:solidFill>
              <a:latin typeface="Constantia"/>
            </a:endParaRPr>
          </a:p>
          <a:p>
            <a:pPr marL="237240" indent="-237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الأول استعانة به سبحانه ولا يلزم منه العبادة كالمشركين الذين يستعينون به سبحانه وتعالى في البحر فإذا نجاهم إلى البر أشركوا, والثاني عباده له عز وجل إذ الباعث على الصبر محبة الله وإرادة وجهه والتقرب إليه لا لإظهار قوة النفس, والثالث الصبر مع الله وهو دوران العبد مع مراد الله الديني منه</a:t>
            </a:r>
            <a:r>
              <a:rPr b="0" lang="en-US" sz="2800" spc="-1" strike="noStrike">
                <a:solidFill>
                  <a:srgbClr val="000000"/>
                </a:solidFill>
                <a:latin typeface="Constantia"/>
              </a:rPr>
              <a:t> </a:t>
            </a:r>
            <a:endParaRPr b="0" lang="en-US" sz="2800" spc="-1" strike="noStrike">
              <a:solidFill>
                <a:srgbClr val="000000"/>
              </a:solidFill>
              <a:latin typeface="Constantia"/>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476280"/>
            <a:ext cx="8229600" cy="56498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مع أحكامه الدينية صابراً نفسه معها سائرا بسيرها أي قد جعل نفسه وقفا على أوامره ومحابه حتى لو كان ذلك ضرر عليه أو مشقة في الحياة الدنيا, وهذا أشد أنواع الصبر وأصعبها وهو صبر الصديقين.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هذه الدرجة الأخيرة هي أفضل درجات الصبر وأعلاها بينما الدرجة الأولى هي أدناها منزلة.</a:t>
            </a:r>
            <a:endParaRPr b="0" lang="en-US" sz="2600" spc="-1" strike="noStrike">
              <a:solidFill>
                <a:srgbClr val="000000"/>
              </a:solidFill>
              <a:latin typeface="Constantia"/>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4617b"/>
                </a:solidFill>
                <a:uFillTx/>
                <a:latin typeface="Calibri"/>
              </a:rPr>
              <a:t>أنواع الصبر</a:t>
            </a:r>
            <a:endParaRPr b="0" lang="en-US" sz="32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أول: الصبر عن المعصية وله سببان الأول الخوف من وعيد الله وعقابه ويبعث عليه قوة الإيمان بالخبر والتصديق بمضمون, .الثاني: الحياء ويبعث عليه قوة المعرفة ومشاهدة معاني الأسماء والصفات والسبب الثاني أعلى وأجل, لأن من وازعه الخوف قلبه حاضر مع العقوبة, ومن وازعه الحياء قلبه حاضر مع الله, والخائف مراع جانب نفسه وحمايتها, والمستحيي مراع جانب ربه وملاحظ عظمته وكلا المقامين من مقامات أهل الإيمان.</a:t>
            </a:r>
            <a:endParaRPr b="0" lang="en-US" sz="2600" spc="-1" strike="noStrike">
              <a:solidFill>
                <a:srgbClr val="000000"/>
              </a:solidFill>
              <a:latin typeface="Constantia"/>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ثاني: الصبر على الطاعة بالمحافظة عليها دوما ورعايتها إخلاصاً وتحسينها علما.</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ثالث: الصبر على البلاء بملاحظة حسن الجزاء وانتظار الفرج وتهوين المصيبة بعد نعم الله سبحانه وتذكر ما سلف إليه منها.</a:t>
            </a:r>
            <a:endParaRPr b="0" lang="en-US" sz="2600" spc="-1" strike="noStrike">
              <a:solidFill>
                <a:srgbClr val="000000"/>
              </a:solidFill>
              <a:latin typeface="Constantia"/>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4617b"/>
                </a:solidFill>
                <a:uFillTx/>
                <a:latin typeface="Calibri"/>
              </a:rPr>
              <a:t>سيكولوجية الهداية</a:t>
            </a:r>
            <a:endParaRPr b="0" lang="en-US" sz="32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lIns="90000" rIns="90000" tIns="46800" bIns="46800" anchor="t">
            <a:normAutofit fontScale="88000"/>
          </a:bodyPr>
          <a:p>
            <a:pPr marL="240120" indent="-240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يرى ابن القيم أنه لابد للسائرين إلى الله عز وجل من المرور بأربعة منازل هي:</a:t>
            </a:r>
            <a:endParaRPr b="0" lang="en-US" sz="2800" spc="-1" strike="noStrike">
              <a:solidFill>
                <a:srgbClr val="000000"/>
              </a:solidFill>
              <a:latin typeface="Constantia"/>
            </a:endParaRPr>
          </a:p>
          <a:p>
            <a:pPr marL="240120" indent="-240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اليقظة والفكرة والبصيرة والعزم.</a:t>
            </a:r>
            <a:endParaRPr b="0" lang="en-US" sz="2800" spc="-1" strike="noStrike">
              <a:solidFill>
                <a:srgbClr val="000000"/>
              </a:solidFill>
              <a:latin typeface="Constantia"/>
            </a:endParaRPr>
          </a:p>
          <a:p>
            <a:pPr marL="240120" indent="-240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وهذه المنازل الأربعة لسائر المنازل كالأساس للبنيان وعليها مدار منازل السفر إلى الله ولا يتصور السفر إليه بدون نزولها البتة, وهي على ترتيب السير الحسي, فإن ابن القيم في وطنه لا يتأتى منه السفر حتى يستيقظ من غفلته عن السير ثم يتبصر في أمر سفره وخطره, وما فيه من المنفعة له والمصلحة, ثم يفكر في أهبة السفر والتزود في إعداد عدته, ثم يعزم عليه.</a:t>
            </a:r>
            <a:endParaRPr b="0" lang="en-US" sz="2800" spc="-1" strike="noStrike">
              <a:solidFill>
                <a:srgbClr val="000000"/>
              </a:solidFill>
              <a:latin typeface="Constantia"/>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620280"/>
            <a:ext cx="8229600" cy="5505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يشبه ابن القيم العبد في هذه المنازل بالنائم الذي يصحو ويستيقظ ولهذا يقول معرفا اليقظة التي هي أول منازل العبودية "هي انزعاج القلب لروعة الانتباه من رقدة الغفلة" وموجب اليقظة عنده هو "لحظ القلب إلى النعمة على اليأس من عدها, والوقوف على حدها, والتفرغ إلى معرفة المنة بها, والعلم بالتقصير في حقها" وإدراك العبد لنعم الله عز وجل وعجزة عن الوفاء بها وشكرها يوجب له نوعين من العبودية: الأول محبة المنعم والخضوع له سبحانه, والثاني إزراؤه على نفسه.</a:t>
            </a:r>
            <a:endParaRPr b="0" lang="en-US" sz="2600" spc="-1" strike="noStrike">
              <a:solidFill>
                <a:srgbClr val="000000"/>
              </a:solidFill>
              <a:latin typeface="Constanti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أول: أن لا يعارض شيئا مما جاء به بشيء من المعارضات الأربعة السارية في العالم المسماة بالمعقول والقياس والذوق والسياسة, فالأول للمنحرفين أهل الكبر من المتكلمين الذين عارضوا نصوص الوحي بمعقولاتهم الفاسدة, وقالوا إذا تعارض العقل والنقل قدمنا العقل....... والثاني للمتكبرين من المنتسبين إلى الفقه... والثالث للمتكبرين من المنتسبين إلى التصوف والزهد.... والرابع للمتكبرين المنحرفين من الولاة والأمراء الجائرين إذا تعارضت عندهم الشريعة والسياسة قدموا السياسة ولم يلتفتوا إلى حكم الشريعة.</a:t>
            </a:r>
            <a:endParaRPr b="0" lang="en-US" sz="2600" spc="-1" strike="noStrike">
              <a:solidFill>
                <a:srgbClr val="000000"/>
              </a:solidFill>
              <a:latin typeface="Constantia"/>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4617b"/>
                </a:solidFill>
                <a:uFillTx/>
                <a:latin typeface="Calibri"/>
              </a:rPr>
              <a:t>منزلة الفكرة</a:t>
            </a:r>
            <a:endParaRPr b="0" lang="en-US" sz="32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إذا استحكم استيقاظ العبد أوجب له ذلك الفكرة وهي "تحديق القلب إلى جهة المطلوب التماسا له" فهي سعي القلب إلى معرفة ما يجب عليه.</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الفكرة ثلاثة أنواع, فكرة تتعلق بالعلم والمعرفة وهي التمييز بين الحق والباطل, وفكرة تتعلق بالطلب والإرادة وهي التمييز بين النافع والضار, تتعلق بالطريق الموصلة إلى ذلك, فيسلك التي توصل إلى ما ينفع, ويترك التي توصل إلى ما يضر.</a:t>
            </a:r>
            <a:endParaRPr b="0" lang="en-US" sz="2600" spc="-1" strike="noStrike">
              <a:solidFill>
                <a:srgbClr val="000000"/>
              </a:solidFill>
              <a:latin typeface="Constantia"/>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2</a:t>
            </a:r>
            <a:r>
              <a:rPr b="1" lang="ar-SA" sz="2600" spc="-1" strike="noStrike">
                <a:solidFill>
                  <a:srgbClr val="000000"/>
                </a:solidFill>
                <a:latin typeface="Constantia"/>
              </a:rPr>
              <a:t>- منزلة البصير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إذا صحت فكرة العبد أوجبت له البصيرة, وهي نور في القلب يرى به حقيقة ما أخبرت به الرسل فلا يشك فيه ولا يرتاب ويتجرد من معارضته هوى أو تقليد.</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3</a:t>
            </a:r>
            <a:r>
              <a:rPr b="1" lang="ar-SA" sz="2600" spc="-1" strike="noStrike">
                <a:solidFill>
                  <a:srgbClr val="000000"/>
                </a:solidFill>
                <a:latin typeface="Constantia"/>
              </a:rPr>
              <a:t>- منزلة العزم</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هي استجماع قوى الإرادة على الفعل أي أنه بعد صحت البصيرة للعبد أوجب ذلك له العزم على فعل ما أخبرت به الرسل.</a:t>
            </a:r>
            <a:endParaRPr b="0" lang="en-US" sz="2600" spc="-1" strike="noStrike">
              <a:solidFill>
                <a:srgbClr val="000000"/>
              </a:solidFill>
              <a:latin typeface="Constantia"/>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404280"/>
            <a:ext cx="8229600" cy="5721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يرى ابن القيم رحمه الله أن ترتيب هذه المنازل ليس باعتبار أن السالك يقطع منزلة ويفارقها ثم ينتقل إلى التي تليها كمنازل السفر الحسي – هذا محال بل هي متلازمة ومتداخلة فاليقظة مثلاً تستمر مع العبد في كل منزلة من المنازل التي تليها.</a:t>
            </a:r>
            <a:r>
              <a:rPr b="0" lang="ar-SA"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ثاني: أن لا يتهم دليلا من أدلة الدين بحيث يظنه فاسد الدلالة أو ناقص الدلالة أو قاصرها أو أن غيره كان أولى منه ومتى عرض له شيء من ذلك فليتهم فهمه.</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ثالث: أن لا يجد إلى خلاف النص سبيلاً البتة لا بباطنه ولا بلسانه ولا بفعله ولا بحاله بل إذا أحس بشيء من الخلاف فهو كخلاف المقدم على الزنا وشرب الخمر وقتل النفس أما مصادر ابن القيم في نظراته النفسية فتعتمد على:</a:t>
            </a:r>
            <a:endParaRPr b="0" lang="en-US" sz="2600" spc="-1" strike="noStrike">
              <a:solidFill>
                <a:srgbClr val="000000"/>
              </a:solidFill>
              <a:latin typeface="Constanti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1</a:t>
            </a:r>
            <a:r>
              <a:rPr b="1" lang="ar-SA" sz="2600" spc="-1" strike="noStrike">
                <a:solidFill>
                  <a:srgbClr val="000000"/>
                </a:solidFill>
                <a:latin typeface="Constantia"/>
              </a:rPr>
              <a:t>- القرآن والسنة من وجهه وعلى تجاربه وخبراته وملاحظاته من جهة أخرى كما حاول ابن القيم المزج بين الوحي وما صح من تجارب المتصوفة وتأملاتهم فأعطى كتاباته ميزة خاصة وأهم كتبه التي لها علاقة بموضوعنا هنا كتابه الفوائد حيث نجد فيه نظرات تتعلق بالخواطر وأثرها على النفس والسلوك وكتاب الروح الذي ناقش فيه موضوع الروح بتوسع وعرض فيه عدد من المذاهب للمتصوفة والفلاسفة فرد الباطل منها وأثبت ما رأى أنه الحق معتمدا على القرآن، والسنة</a:t>
            </a:r>
            <a:r>
              <a:rPr b="0" lang="ar-SA"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7200" y="620280"/>
            <a:ext cx="8229600" cy="5505480"/>
          </a:xfrm>
          <a:prstGeom prst="rect">
            <a:avLst/>
          </a:prstGeom>
          <a:noFill/>
          <a:ln w="0">
            <a:noFill/>
          </a:ln>
        </p:spPr>
        <p:txBody>
          <a:bodyPr lIns="90000" rIns="90000" tIns="46800" bIns="46800" anchor="t">
            <a:normAutofit/>
          </a:bodyPr>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منها كتاب الهجرتين وكتاب" مفتاح دار السعادة" وكتاب " إغاثة اللهفان في مصايد الشيطان" الذي ناقش فيه موضوع القلب وصحته وسقمه وكتاب " الجواب الكافي لمن سأل عند الدواء الشافي" الذي عرض فيه منهجاً في العلاج النفسي وكتاب " مدارج السالكين "التي تحدث فيه عن أحوال النفس وتدرجها وترقيها في منازلها وكتاب تحفة المودود بأحكام المولود الذي يمكن أن يعد موسوعة عن الطفل ففيه تحدث عن الطفل وما يتعلق به من أحكام فقهية كالتسمية العقيقة والختان وعقد فيه فصول عن تأديب الأطفال وتربيتهم والأطوار التي يمرون بها من وقت كونهم نطفة إلى أن يستقروا في الجنة أو النار كما حوى موضوعات قيمة عن نفسية الطفل.</a:t>
            </a:r>
            <a:endParaRPr b="0" lang="en-US" sz="2600" spc="-1" strike="noStrike">
              <a:solidFill>
                <a:srgbClr val="000000"/>
              </a:solidFill>
              <a:latin typeface="Constanti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4617b"/>
                </a:solidFill>
                <a:uFillTx/>
                <a:latin typeface="Calibri"/>
              </a:rPr>
              <a:t>السببية</a:t>
            </a:r>
            <a:endParaRPr b="0" lang="en-US" sz="32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1" lang="ar-SA" sz="2600" spc="-1" strike="noStrike">
                <a:solidFill>
                  <a:srgbClr val="000000"/>
                </a:solidFill>
                <a:latin typeface="Constantia"/>
              </a:rPr>
              <a:t>قبل الحديث عن الجوانب النفسية عند ابن القيم نشير إشارة سريعة إلى تصور ابن القيم للعلاقة بين الظاهرات والحوادث التي في الوجود أو مسألة السببية يدور جدل بين بعض المدارس الفكرية حول مدى استقلال سبب واحد للتأثير ببعض المدارس الفكرية ترى أن من الممكن أن يوجد عامل واحد يعزى إليه التغيير كالعامل الاقتصادي حيث تفسر به بعض المدارس التغير الاجتماعي وكثير من المدارس الفكرية</a:t>
            </a:r>
            <a:r>
              <a:rPr b="0" lang="ar-SA"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765000"/>
            <a:ext cx="8229600" cy="536112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تتجه إلى أنه لا يوجد سبب واحد مستقل بذاته يعزى إليه الأثر وابن القيم ناقش هذه المسألة في كتاب الفوائد في لفتة من لفتاته قال ليس في الوجود الممكن سبب واحد مستقل بالتأثير بل لا يؤثر سبب البتة إلا بانضمام سبب آخر إليه وانتقاء مانع يمنع تأثيره وهذا في الأسباب المشهودة بالعيان وفي الأسباب الغائبة والأسباب المعنوية تأثير الشمس في الحيوان والنبات.</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0T22:31:14Z</dcterms:created>
  <dc:creator>Diamond</dc:creator>
  <dc:description/>
  <dc:language>en-US</dc:language>
  <cp:lastModifiedBy>user</cp:lastModifiedBy>
  <dcterms:modified xsi:type="dcterms:W3CDTF">2011-05-15T07:23:57Z</dcterms:modified>
  <cp:revision>3</cp:revision>
  <dc:subject/>
  <dc:title>ابن القيم</dc:title>
</cp:coreProperties>
</file>