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5FB-CE11-4668-BB58-FD06CCED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316-A8C2-4E67-A0DE-C9888C3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51A-8740-421D-AFB6-B90B690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537-AFC0-4641-A93F-590778A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59E-0DAE-4EC5-948F-9138C466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15C5-AAE1-45D1-8A24-8A42E9E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8E16-ECB8-41D9-B0A0-6346B4D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282-2FF5-4FFA-8559-0C5E5AA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11C-938E-4309-B8B6-784ED9CF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8585-3B51-49A5-A467-C032529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60B-572E-4AAE-AC6D-D36C029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8F0-C3E3-4202-AA1C-8F7FC4D2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F05-41EA-4312-B3C3-C77140B0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80A2-3164-47BC-A38D-621276E1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EFB3-7C2C-4607-A959-8B2B4A6A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F98-8472-42CD-8444-0C0BA852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4BBD-A3D5-47E5-B9F6-F040C052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83-40B1-4FD7-8286-6E5D798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075-F58D-43B2-921C-52B3BB3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A07-4C03-4D0B-9B7B-70DC2A9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82-C6BC-4999-A0EE-18C64F3B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F27-2549-4D26-9687-466903E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F4E-5463-406A-917B-28E6B88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9B0-2F5B-4C4E-91BC-78818C6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0B4-95E9-4B87-A928-7EF573D99CB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4A5-2652-42BB-A2CB-CF390BE6F3D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1660-45E9-4529-8333-52136981429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600" spc="-1" strike="noStrike">
                <a:solidFill>
                  <a:srgbClr val="ffffff"/>
                </a:solidFill>
                <a:latin typeface="Arial"/>
              </a:rPr>
              <a:t>السلام عليكن و رحمة الله و بركاته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الخريف"/>
          <p:cNvPicPr/>
          <p:nvPr/>
        </p:nvPicPr>
        <p:blipFill>
          <a:blip r:embed="rId1"/>
          <a:stretch/>
        </p:blipFill>
        <p:spPr>
          <a:xfrm>
            <a:off x="685800" y="3276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24D-C868-4605-A406-D78340269EF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تحديد مواصفات التصميم التفصيلي و ضوابطه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65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تصميم التفصي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ccff"/>
                </a:solidFill>
                <a:latin typeface="Arial"/>
              </a:rPr>
              <a:t>مواصفات التشغي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قاعد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اصفات الامن و الرق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1D2-7A96-4E97-9B90-A43DD3127A7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ضوابط مواصفات التصميم ص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ضوابط تحديد المواص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كل الرسمي للمخر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سارات المرج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فق نظام الرقابة مع التصم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فق توثيق النظام مع التصم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B404-A6CE-4550-9C6C-F390B9FC74E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طوة جديدة بعد التصميم التفصيلي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9900"/>
                </a:solidFill>
                <a:uFillTx/>
                <a:latin typeface="Arial"/>
              </a:rPr>
              <a:t>اختيار الاجهزة اللازمة لتشغيل النظام و تدريب الافراد( قراءة الفقرة مع التحليل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- اعداد دراسة جدوي لتحديد الاجهزة 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– تحديد المؤهلات 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- اختيار مدير نظام المعلومات الشخص المشرف علي التنفيذ و التشغيل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93F-A0B3-46F9-97BC-A49D3375993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خطوة الاخيرة في التصميم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6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تقرير نها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555-2054-46C9-8CF2-224EEEEA0A8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505320" y="5562720"/>
            <a:ext cx="48765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تنفيذ النظام -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7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احل التنفيذ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خطو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دوات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خريطة حانت  او اسلوب بير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شرح مختصر لخطو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راء الاجه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جهيز المك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ضير 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دريب الافر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ختبار 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ختبار النظام ك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حويل للنظام الجد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وثيق  الفصل الثالث  مثال ص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لي ال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B543-BC27-4E7F-A6C0-E341B127866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تابعة تنفيذ النظام و صيانت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صيانة مستم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صيانة استثن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كفاءة و 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EC5B-AC36-4CE7-BA7E-64042CA76D2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طريق الملك فهد بجد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جده"/>
          <p:cNvPicPr/>
          <p:nvPr/>
        </p:nvPicPr>
        <p:blipFill>
          <a:blip r:embed="rId1"/>
          <a:stretch/>
        </p:blipFill>
        <p:spPr>
          <a:xfrm>
            <a:off x="380880" y="1371600"/>
            <a:ext cx="7543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454-A4E6-4116-BEE3-82CA1A7152E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فندق الهلتون بجدة  مارايك في هذا لبناء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الهلتون"/>
          <p:cNvPicPr/>
          <p:nvPr/>
        </p:nvPicPr>
        <p:blipFill>
          <a:blip r:embed="rId1"/>
          <a:stretch/>
        </p:blipFill>
        <p:spPr>
          <a:xfrm>
            <a:off x="380880" y="1523880"/>
            <a:ext cx="7696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DBA-2F3E-4540-8950-47BEE36E235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- تكلفة الاستثمار في نظام المعلومات المحاسبي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- تصنيف التكاليف وفقاً لعلاقتها بالاقتراح الاستثما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رأسمال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تمثل خاصة في تكلفة شراء المعدات والبرامج الجديدة، تكلفة تدريب المستخدمين، تكلفة تجهيز الموقع، تكلفة التحويل إلى النظام الجدي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إيراد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هي التكاليف المتعلقة بتشغيل النظام و المتمثلة في، تكلفة صيانة البرامج والمعدات، نفقات تخزين البيانات، تكلفة الاتصال الداخلي، تكلفة المعدات المستأجرة، تكلفة المعدات القابلة للاستهلاك والنفقات الأخرى مثل الورق...الخ، تكلفة أمن النظ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340-1818-4235-B0C3-E4C1C185361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ar-SA" sz="3800" spc="-1" strike="noStrike" u="sng">
                <a:solidFill>
                  <a:srgbClr val="ffffff"/>
                </a:solidFill>
                <a:uFillTx/>
                <a:latin typeface="Arial"/>
              </a:rPr>
              <a:t>- تصنيف التكاليف على أساس علاقتها بالوظائف الرئيسية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تقسيم تكاليف نظام المعلومات المحاسبي إل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تجميع البيانات و إدخالها إلى الحاسب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مثل في تكاليف الأسطوانات و أجور العمال المساهمين في عملية تجميع البيان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النظام إعداد و تشغيل  الحاسب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التي تتمثل في تكاليف المعدات، الحاسب و تكاليف الطاقة المستخدمة، بالإضافة إلى أجور و رواتب العاملين على الحاس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التحليل و البرمج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تتمثل في تكاليف إعداد البرامج و صيانة هذه البرام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اليف إدار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تضم مختلف التكاليف الادارية المتعلقة بقسم المعلومات المحاسب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12E-389F-48AB-BEBD-5C8F3BAFAA5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مرحبا : محاضرة اليوم تتناول الفصل الراب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خطوات التفصيلية لتصميم 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4EA-1A7D-413A-A793-AE9C4980AFF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- تصنيف التكاليف على أساس مسلكها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نقسم مثل هذه التكاليف إلى ما يلي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اليف متغيرة: و تتمثل في التكاليف التي تزداد كلما زادت عملية تشغيل النظام و تنخفض مع انخفاضها و من أمثلتها نجد تكلفة مهام التشغيل ...ال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اليف ثابتة: هي تكاليف غير متغيرة ترتبط بعمليات ثابتة و تكلفة  المعدات و الحاسبات و تكاليف البرامج بالإضافة إلى التكاليف الإدار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5572-C7B7-46CE-A905-5960962EEBB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متطلبات الاستثمار في نظام المعلومات المحاسبي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حصول على الأجهز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ان التطور في تكنولوجيا المعلومات خلال السنوات الأخيرة ملموسا و ذا أثر جوهري على سرعة تقادم الوحدات المركزية لمعالجة البيانات,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يوجد العديد من البدائل المتاح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لحصول على أجهزة جديدة, فبجانب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شر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ء الأجهزة بإمكان المؤسسة تأ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جير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على فترات قصيرة أو طويلة الأجل مع حق شرائها بعد انتهاء عقد الاستئجار, و يصعب قرار الاختيار بين هذه البدائل كلما تعددت الاعتبارات الاقتصادية وخاص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آثار الضريبي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ترتبة على القر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تكون الحاجة للحصول على الأجهزة و البرامج الإضافي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اضح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ة لأسباب اقتصادية واقعية في بعض الأحي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ما في البعض الآخر فقد يسود هذا الموقف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غموض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ول ما إذا كان من الضروري الحصول على أجهزة إضافية, أو يمكن تحقيق نفس الغاية من خلال تحسين أو تطوير الاستخدامات الحالية للأجهزة القائم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80B9-A4C7-432C-883A-FF2FAD6C451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الحصول على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البرامج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البا ما يكون لوجود برامج التطبيقات الجيدة تأثيراً جوهرياً في الاختيار ما بي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نواع أجهز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كمبيوتر المختلفة, فقد تفضل المؤسسة الحصول على أجهزة كمبيوتر أقل كفاءة مقابل توافر برامج التطبيقات التي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لاءم متطلبات نظام المعلومات المحاسب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, وتقوم المؤسسة بالمفاضلة بين برامج التطبيقات المتاحة سواءً كانت بصدد استخدام نظم المعلومات الإلكترونية لأول مرة, أو تطوير البرامج الحالية للمؤس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عد قرارات الحصول على البرامج وتطويرها من القرارات الهامة, نظراً لأنه في الأغلب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تفوق استثمارات أي مؤسسة في البرام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كلفة الاستثمار في الأجهزة و المعدات، و يتمثل القرار الهام الذي يشغل بال الإدارة في المؤسسات المختلفة في المفاضلة بين شراء و استئجار برامج الكمبيوتر الجاهزة, وتعتبر تلك القرارات من أنواع القرارات التقليدية التي تنطوي على المفاضلة بين الشراء والاستئج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إذا تماثلت الظروف يكون الاختيار بين البديلين بسيطا للحصول على البرامج الأكثر فاعلي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( من حيث المنفعة والتكلفة 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واءً بإعدادها وتطويرها داخليا بواسطة المستخدم نفس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و من المصادر الخارجية ( سواءً شرائها أو استئجارها ), ونظرا لأنه من النادر أن تتماثل الظروف, فيجب فحص العوامل ذات الأثر الهام على قرار الحصول على البرامج بعنا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83D-E299-4BE0-A48A-E5641AC3FE4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-الحصول على الموارد البشرية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بلور الأمر أولاً و أخيراً، في المورد البشرية, فهو الذين تعتمد عليهم كفاءة و فعالية تشغيل النظام، و هو الذي يستخدم مخرجاته في إدارة شؤون المؤسسة، لذلك يمثل العنصر البشري لنظام المعلومات المحور الرئيسي الذي عليه يعتمد نجاح أو فشل النظام، و بالتالي النشاط الاقتصادي للمؤسسة، فالحاجة للموارد البشرية شيء لازم لشغل الوظائف المتعددة في كل من إدارات المحاسبة و مراكز أنظمة المعلومات, و التي تتراوح لشغل الوظائف المتعددة في كل من إدارات المحاسبة و مراكز أنظمة المعلومات, و التي تتراوح فيما بين المختصين في إدخال البيانات و معدّي البرامج محللي الموازنات, و المراقبين الماليين و محاسبي التكاليف, ومحللي النظم, ومديري مراكز أنظمة المعلوم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530-9924-4E2A-AB3F-177B951F78A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تطبيق عملي من الطالب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ل يمكنك الحصول علي او إعداد دراسة وصفية عن احد نظم المعلومات المحاسبي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ل يمكنك الحصول علي  إعداد دراسة رقمية عن تكلفة نظام المعلومات المحاسبي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6B46-B570-4DBC-98A8-3DC30651AFA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وصلنا الي نهاية المحاضرة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9F3-F23F-49E0-A1AE-C9E3C16DBD1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اذا تشاهدين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النافورة"/>
          <p:cNvPicPr/>
          <p:nvPr/>
        </p:nvPicPr>
        <p:blipFill>
          <a:blip r:embed="rId1"/>
          <a:stretch/>
        </p:blipFill>
        <p:spPr>
          <a:xfrm>
            <a:off x="380880" y="1447920"/>
            <a:ext cx="815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A71-6D4C-498A-9193-1FBC3A1BD3E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دمة  ص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4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مرحلة الاولي في التطوير هي التحليل بهدف التعرف علي النظام القائم و تكوين خلفية عامة عن كافة التفاصيل الادارية و الفنية و التسويقية ثم  إعداد التوص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فترض ان القرار هو بناء نظام جد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ن ما خطوات البناء ؟ اولا تحديد الاهداف بدقة ثم تصميم النظام المحقق للأهداف المرغ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C79-B413-4D0E-9F9E-CB15048080C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التحديد الدقيق لأهداف النظام  و اهميته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3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المحل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اهداف  العامة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 نظام حسابات المورد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اهداف الفرعية للنظام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مخرجات المستهدفة من النظا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لبيانات المطلوبة ( المدخلات 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ديد اساليب الرقابة الضرور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ياسات و الاجراءات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عتماد الادارة العليا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36EB-1D17-457E-8F07-C2DC66B9632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لعلاقة بين اهداف النظام و تصميم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و تحديد المواصفات التفصيلي للنظام علي الورق خطوة هامة و حساسة تتوقف عليها صلاحية النظام و قابليته للتطبي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هو ترجمة الاهداف و المبادئ الي نظام كامل قابل للتطبيق بخطوتين هم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عداد تصور عام لاختيار البديل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واصفات التفصي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7A8-B91D-43CD-A08F-4BBC2D5E93F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اعتبارات تصميم النظام (حالة  نظام استخدام الحاسب الالي جديد  )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4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ديد مدي ضرورة النظام الجد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طريقة في تشغيل البيانات (تغذية مجمعة  ام تغذية مباشر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درجة المركزية  في التشغيل ( باستخدام حاسب مركزي ام  التشغيل في مراكز التجميع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نوعية و طبيعة المستندات ( ورقية ام الية ) و اجراءات المراجعة و التدق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غبات و قدرات العاملين ( رغبة ايجابية – رغبة سلب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AA6-44EA-4B65-987C-4629669479F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حديد الهيكل العام للنظام للمقترح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يقصد به ان يقوم محلل النظم بوضع خطة لترتيب اجزاء النظام في شكل متك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س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وات تنفيذ عملية التصمي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اخل تحديد الهيكل العام للنظام ثلاث هي 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زايا و عيوب  كل من المركزية و لا مركز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رض د. امال فود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30CF-D1B0-4195-9620-A6E44287074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البدائل المتاحة عي عملية  التصميم ” الطرق او المناهج ” المتبعة  في عملية التصميم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صميم من اعلي لأسفل هو ......... و المي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صميم من اسفل لأعلي هو ........ و المي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صميم بالتجزئة ثم التجميع هو  .. الميزة  ..و الع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1:29:06Z</dcterms:created>
  <dc:creator>HOME</dc:creator>
  <dc:description/>
  <dc:language>en-US</dc:language>
  <cp:lastModifiedBy>user</cp:lastModifiedBy>
  <dcterms:modified xsi:type="dcterms:W3CDTF">2013-03-09T06:09:26Z</dcterms:modified>
  <cp:revision>15</cp:revision>
  <dc:subject/>
  <dc:title>الفصل الرابع</dc:title>
</cp:coreProperties>
</file>