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345-5003-4A34-87E9-E3551E0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B6E-7F0C-48BD-B657-D4FB4944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244-72C5-42FF-B34F-D2D81878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DE7-C872-467B-92DA-BEE48683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FFB5-E4CC-4CF2-9524-DE33708E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C67E-29EE-4C3D-B418-D5BA79C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53DA-4B31-4E4C-8BB0-DA1E81E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A3A-4B79-45F7-87EC-EF3F1994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AEBC-43CE-4015-833E-E3F0CD1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20C8-2D29-4259-B192-6FAA06E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BA5F-082F-4AE0-A63A-2F9C1E0D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90C-C212-468C-85E8-C27B3D5F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D29C-F9C6-4A5B-961E-4A0960D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9AC-CEF6-4044-9AA7-2005E90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4543-24B9-4A17-A37B-1F4ED19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3DC4-6391-43C0-8EA2-33EA92AC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7AC-325F-40CD-8720-C90666C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2B8-5BF1-4F5E-97BB-C577495C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6CA-7854-4A7F-8924-A8635B61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4C1-51C8-4407-92D3-DBB3168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F06-6288-41B9-9FE8-825C1A4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0E7-4608-4363-8136-49DBD3F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812-7455-4C09-9843-480FEFC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1A1-D6AB-4DE0-A81B-7ED8D00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16D-A223-4B15-B1D8-5E96EA894F0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582-95DC-40DA-91CB-85C6C479FF9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698C-669D-4B56-AF1B-78F08B7A37D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600" spc="-1" strike="noStrike">
                <a:solidFill>
                  <a:srgbClr val="ffffff"/>
                </a:solidFill>
                <a:latin typeface="Arial"/>
              </a:rPr>
              <a:t>السلام عليكن و رحمة الله و بركاته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الخريف"/>
          <p:cNvPicPr/>
          <p:nvPr/>
        </p:nvPicPr>
        <p:blipFill>
          <a:blip r:embed="rId1"/>
          <a:stretch/>
        </p:blipFill>
        <p:spPr>
          <a:xfrm>
            <a:off x="685800" y="3276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6D80-C1C2-421E-AC98-F47C647C328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تحديد مواصفات التصميم التفصيلي و ضوابطه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65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تصميم التفصي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ccff"/>
                </a:solidFill>
                <a:latin typeface="Arial"/>
              </a:rPr>
              <a:t>مواصفات التشغي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قاعد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امن و الرق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3E6-7419-4559-81A4-DA6A5CA0185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ضوابط مواصفات التصميم ص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ضوابط تحديد المواص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كل الرسمي للمخر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سارات المرج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فق نظام الرقابة مع التصم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فق توثيق النظام مع التصم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185-85D5-4823-AD10-FC1C856D4DF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طوة جديدة بعد التصميم التفصيلي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9900"/>
                </a:solidFill>
                <a:uFillTx/>
                <a:latin typeface="Arial"/>
              </a:rPr>
              <a:t>اختيار الاجهزة اللازمة لتشغيل النظام و تدريب الافراد( قراءة الفقرة مع التحليل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- اعداد دراسة جدوي لتحديد الاجهزة 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– تحديد المؤهلات 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- اختيار مدير نظام المعلومات الشخص المشرف علي التنفيذ و التشغيل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3C4-684F-465F-A4D0-C6F1E9F269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خطوة الاخيرة في التصميم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تقرير نها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0892-4928-43B1-A495-5ACCCC29D6D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505320" y="5562720"/>
            <a:ext cx="48765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تنفيذ النظام -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7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احل التنفيذ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خطو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دوات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خريطة حانت  او اسلوب بير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شرح مختصر لخطو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راء الاجه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جهيز المك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ضير 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دريب الافر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ختبار 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ختبار النظام ك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حويل للنظام الجد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وثيق  الفصل الثالث  مثال ص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لي ال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0FC-69DB-4A94-9EFC-1D57B3B5DDA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تابعة تنفيذ النظام و صيانت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صيانة مستم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صيانة استثن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كفاءة و 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B83B-65BB-41B1-9E3A-1D40293CB14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طريق الملك فهد بجد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جده"/>
          <p:cNvPicPr/>
          <p:nvPr/>
        </p:nvPicPr>
        <p:blipFill>
          <a:blip r:embed="rId1"/>
          <a:stretch/>
        </p:blipFill>
        <p:spPr>
          <a:xfrm>
            <a:off x="380880" y="1371600"/>
            <a:ext cx="7543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D646-4D97-47FB-988D-2FFF31F4360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فندق الهلتون بجدة  مارايك في هذا لبناء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الهلتون"/>
          <p:cNvPicPr/>
          <p:nvPr/>
        </p:nvPicPr>
        <p:blipFill>
          <a:blip r:embed="rId1"/>
          <a:stretch/>
        </p:blipFill>
        <p:spPr>
          <a:xfrm>
            <a:off x="380880" y="1523880"/>
            <a:ext cx="7696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A69-8768-4BDF-A633-6E0963AFB11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- تكلفة الاستثمار في نظام المعلومات المحاسبي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- تصنيف التكاليف وفقاً لعلاقتها بالاقتراح الاستثما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رأسمال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تمثل خاصة في تكلفة شراء المعدات والبرامج الجديدة، تكلفة تدريب المستخدمين، تكلفة تجهيز الموقع، تكلفة التحويل إلى النظام الجدي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إيراد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هي التكاليف المتعلقة بتشغيل النظام و المتمثلة في، تكلفة صيانة البرامج والمعدات، نفقات تخزين البيانات، تكلفة الاتصال الداخلي، تكلفة المعدات المستأجرة، تكلفة المعدات القابلة للاستهلاك والنفقات الأخرى مثل الورق...الخ، تكلفة أمن النظ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B2D2-E9D9-496B-AA5A-D76B4C0ADC0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ar-SA" sz="3800" spc="-1" strike="noStrike" u="sng">
                <a:solidFill>
                  <a:srgbClr val="ffffff"/>
                </a:solidFill>
                <a:uFillTx/>
                <a:latin typeface="Arial"/>
              </a:rPr>
              <a:t>- تصنيف التكاليف على أساس علاقتها بالوظائف الرئيسية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تقسيم تكاليف نظام المعلومات المحاسبي إل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تجميع البيانات و إدخالها إلى الحاسب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مثل في تكاليف الأسطوانات و أجور العمال المساهمين في عملية تجميع البيان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النظام إعداد و تشغيل  الحاسب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التي تتمثل في تكاليف المعدات، الحاسب و تكاليف الطاقة المستخدمة، بالإضافة إلى أجور و رواتب العاملين على الحاس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التحليل و البرمج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تتمثل في تكاليف إعداد البرامج و صيانة هذه البرام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إدار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تضم مختلف التكاليف الادارية المتعلقة بقسم المعلومات المحاسب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E6FD-0575-4E3F-8E35-47B67E104E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مرحبا : محاضرة اليوم تتناول الفصل الراب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خطوات التفصيلية لتصميم 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0B39-3A4C-4AD0-A0F3-8FD52FB9029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- تصنيف التكاليف على أساس مسلكها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نقسم مثل هذه التكاليف إلى ما يلي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اليف متغيرة: و تتمثل في التكاليف التي تزداد كلما زادت عملية تشغيل النظام و تنخفض مع انخفاضها و من أمثلتها نجد تكلفة مهام التشغيل ...ال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اليف ثابتة: هي تكاليف غير متغيرة ترتبط بعمليات ثابتة و تكلفة  المعدات و الحاسبات و تكاليف البرامج بالإضافة إلى التكاليف الإدار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9B7-88F8-41D1-97EE-B79E3D237EC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متطلبات الاستثمار في نظام المعلومات المحاسبي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حصول على الأجهز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ان التطور في تكنولوجيا المعلومات خلال السنوات الأخيرة ملموسا و ذا أثر جوهري على سرعة تقادم الوحدات المركزية لمعالجة البيانات,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يوجد العديد من البدائل المتاح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لحصول على أجهزة جديدة, فبجانب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شر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ء الأجهزة بإمكان المؤسسة تأ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جير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على فترات قصيرة أو طويلة الأجل مع حق شرائها بعد انتهاء عقد الاستئجار, و يصعب قرار الاختيار بين هذه البدائل كلما تعددت الاعتبارات الاقتصادية وخاص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آثار الضريبي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ترتبة على القر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تكون الحاجة للحصول على الأجهزة و البرامج الإضافي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اضح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ة لأسباب اقتصادية واقعية في بعض الأحي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ما في البعض الآخر فقد يسود هذا الموقف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غموض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ول ما إذا كان من الضروري الحصول على أجهزة إضافية, أو يمكن تحقيق نفس الغاية من خلال تحسين أو تطوير الاستخدامات الحالية للأجهزة القائم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3DBF-1D6D-4D93-9F4B-FA8A8022CA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الحصول على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البرامج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البا ما يكون لوجود برامج التطبيقات الجيدة تأثيراً جوهرياً في الاختيار ما بي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نواع أجهز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كمبيوتر المختلفة, فقد تفضل المؤسسة الحصول على أجهزة كمبيوتر أقل كفاءة مقابل توافر برامج التطبيقات التي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لاءم متطلبات نظام المعلومات المحاسب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, وتقوم المؤسسة بالمفاضلة بين برامج التطبيقات المتاحة سواءً كانت بصدد استخدام نظم المعلومات الإلكترونية لأول مرة, أو تطوير البرامج الحالية للمؤس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عد قرارات الحصول على البرامج وتطويرها من القرارات الهامة, نظراً لأنه في الأغلب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فوق استثمارات أي مؤسسة في البرام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كلفة الاستثمار في الأجهزة و المعدات، و يتمثل القرار الهام الذي يشغل بال الإدارة في المؤسسات المختلفة في المفاضلة بين شراء و استئجار برامج الكمبيوتر الجاهزة, وتعتبر تلك القرارات من أنواع القرارات التقليدية التي تنطوي على المفاضلة بين الشراء والاستئج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إذا تماثلت الظروف يكون الاختيار بين البديلين بسيطا للحصول على البرامج الأكثر فاعلي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( من حيث المنفعة والتكلفة 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واءً بإعدادها وتطويرها داخليا بواسطة المستخدم نفس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و من المصادر الخارجية ( سواءً شرائها أو استئجارها ), ونظرا لأنه من النادر أن تتماثل الظروف, فيجب فحص العوامل ذات الأثر الهام على قرار الحصول على البرامج بعنا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ED8-9BD3-461F-8F1C-73D1DCA4698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-الحصول على الموارد البشرية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بلور الأمر أولاً و أخيراً، في المورد البشرية, فهو الذين تعتمد عليهم كفاءة و فعالية تشغيل النظام، و هو الذي يستخدم مخرجاته في إدارة شؤون المؤسسة، لذلك يمثل العنصر البشري لنظام المعلومات المحور الرئيسي الذي عليه يعتمد نجاح أو فشل النظام، و بالتالي النشاط الاقتصادي للمؤسسة، فالحاجة للموارد البشرية شيء لازم لشغل الوظائف المتعددة في كل من إدارات المحاسبة و مراكز أنظمة المعلومات, و التي تتراوح لشغل الوظائف المتعددة في كل من إدارات المحاسبة و مراكز أنظمة المعلومات, و التي تتراوح فيما بين المختصين في إدخال البيانات و معدّي البرامج محللي الموازنات, و المراقبين الماليين و محاسبي التكاليف, ومحللي النظم, ومديري مراكز أنظمة المعلوم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3427-44FF-4D2B-B4CB-36656728A06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تطبيق عملي من الطالب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ل يمكنك الحصول علي او إعداد دراسة وصفية عن احد نظم المعلومات المحاسبي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ل يمكنك الحصول علي  إعداد دراسة رقمية عن تكلفة نظام المعلومات المحاسبي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AF4-C2C7-4684-BB83-A835D3438B3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وصلنا الي نهاية المحاضرة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8F5D-BD1C-46F8-A6F3-0F846046E8E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اذا تشاهدين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النافورة"/>
          <p:cNvPicPr/>
          <p:nvPr/>
        </p:nvPicPr>
        <p:blipFill>
          <a:blip r:embed="rId1"/>
          <a:stretch/>
        </p:blipFill>
        <p:spPr>
          <a:xfrm>
            <a:off x="380880" y="1447920"/>
            <a:ext cx="815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DEE-D790-46DD-ABFC-E08A59ADB78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دمة  ص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4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مرحلة الاولي في التطوير هي التحليل بهدف التعرف علي النظام القائم و تكوين خلفية عامة عن كافة التفاصيل الادارية و الفنية و التسويقية ثم  إعداد التوص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فترض ان القرار هو بناء نظام جد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ن ما خطوات البناء ؟ اولا تحديد الاهداف بدقة ثم تصميم النظام المحقق للأهداف المرغ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036-54CB-4FF2-92F1-D0432828A70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التحديد الدقيق لأهداف النظام  و اهميته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3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المحل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اهداف  العامة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 نظام حسابات المورد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اهداف الفرعية للنظام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مخرجات المستهدفة من النظا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بيانات المطلوبة ( المدخلات 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ساليب الرقابة الضرور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ياسات و الاجراءات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عتماد الادارة العليا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542-5822-49EF-8ECD-21E9CEB279F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لعلاقة بين اهداف النظام و تصميم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و تحديد المواصفات التفصيلي للنظام علي الورق خطوة هامة و حساسة تتوقف عليها صلاحية النظام و قابليته للتطبي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هو ترجمة الاهداف و المبادئ الي نظام كامل قابل للتطبيق بخطوتين هم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عداد تصور عام لاختيار البديل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واصفات التفصي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B0A-97BB-4DEE-8250-59E0C047429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اعتبارات تصميم النظام (حالة  نظام استخدام الحاسب الالي جديد  )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4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ديد مدي ضرورة النظام الجد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طريقة في تشغيل البيانات (تغذية مجمعة  ام تغذية مباشر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درجة المركزية  في التشغيل ( باستخدام حاسب مركزي ام  التشغيل في مراكز التجميع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نوعية و طبيعة المستندات ( ورقية ام الية ) و اجراءات المراجعة و التدق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غبات و قدرات العاملين ( رغبة ايجابية – رغبة سلب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998F-4114-48D5-9F66-4473943A8E4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حديد الهيكل العام للنظام للمقترح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يقصد به ان يقوم محلل النظم بوضع خطة لترتيب اجزاء النظام في شكل متك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س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وات تنفيذ عملية التصمي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اخل تحديد الهيكل العام للنظام ثلاث هي 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زايا و عيوب  كل من المركزية و لا مركز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1DC-095E-43B3-A966-F77038552A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البدائل المتاحة عي عملية  التصميم ” الطرق او المناهج ” المتبعة  في عملية التصميم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من اعلي لأسفل هو ......... و المي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صميم من اسفل لأعلي هو ........ و المي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صميم بالتجزئة ثم التجميع هو  .. الميزة  ..و الع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1:29:06Z</dcterms:created>
  <dc:creator>HOME</dc:creator>
  <dc:description/>
  <dc:language>en-US</dc:language>
  <cp:lastModifiedBy>user</cp:lastModifiedBy>
  <dcterms:modified xsi:type="dcterms:W3CDTF">2013-03-09T06:09:26Z</dcterms:modified>
  <cp:revision>15</cp:revision>
  <dc:subject/>
  <dc:title>الفصل الرابع</dc:title>
</cp:coreProperties>
</file>