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869-F0EE-4444-8FD9-DB7B9583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308-55F2-4AEB-A4F9-AA8FDC7B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506-0BE1-4F88-B29F-AFC28E44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E36-1637-4E17-9ED1-77E55E69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B2A-3A57-43F4-A5D6-FA735AE3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C57-7312-4D21-AD1A-A74460B4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527-1794-451E-BF55-33C8D4CE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3A3-6094-4E73-A6BA-1EAA402F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210-5E6B-442C-9430-1A7DCECE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332-7B14-4A79-A361-43D93EE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D73-A1E9-42A8-82E3-A9A8B4C6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8C3-1EA3-4536-8B4E-24F7D7F8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B23D-936C-4C82-91AF-C73069FFB55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42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1287360" y="2890800"/>
            <a:ext cx="674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تحضير الانكيت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50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6"/>
          <p:cNvSpPr/>
          <p:nvPr/>
        </p:nvSpPr>
        <p:spPr>
          <a:xfrm>
            <a:off x="1835280" y="395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8360" y="1557360"/>
            <a:ext cx="83516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مفهوم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سبب اعتماد تحضير الانكيت في كلية الترب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التدرب على اعداد الدروس بطريقة تحضير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الانكيت هي عبارة عن منظمة دولية تهتم باعتماد برامج اعداد المعلمين والتخصصات الأخرى التي سيعمل خريجها في قطاع التعلي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476360" y="297000"/>
            <a:ext cx="6624720" cy="1692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انكي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30" descr="PE01561_"/>
          <p:cNvPicPr/>
          <p:nvPr/>
        </p:nvPicPr>
        <p:blipFill>
          <a:blip r:embed="rId1"/>
          <a:stretch/>
        </p:blipFill>
        <p:spPr>
          <a:xfrm>
            <a:off x="179280" y="3760920"/>
            <a:ext cx="4362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مل هيئة الانكيت على إحداث فرق واضح وملموس في نوعية التعليم من حيث تحسين مستوى المعلمين الذين يتم اعدادهم لمهنة المستقب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نطلق هذا العمل من نتائج الدراسات الكثيرة التي أشارت إلى أن الإعداد الجيد للمعلم يعتبر من العوامل الهامة جدا في رفع مستوى تحصيل تلاميذ المدار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ject 1" descr=""/>
          <p:cNvPicPr/>
          <p:nvPr/>
        </p:nvPicPr>
        <p:blipFill>
          <a:blip r:embed="rId1"/>
          <a:stretch/>
        </p:blipFill>
        <p:spPr>
          <a:xfrm>
            <a:off x="108000" y="4437000"/>
            <a:ext cx="3244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م مزايا تحضير الانكي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ميز هذا النوع من التحضير بأنه لا تنتهي مهمته بمجرد الانتهاء من شرح الدرس , بل هو يستمر لمرحلة ما بعد شرح الدرس ليعود المعلم إلى نموذج التحضير مرة أخرى ليقوم بتقييم الدرس وكافة مجرياته , ويضع مقترحات للتحسين والتطوي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ورقة عمل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عدي بالتعاون مع زميلاتك أحد الدروس بطريقة الانكي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3203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user</cp:lastModifiedBy>
  <dcterms:modified xsi:type="dcterms:W3CDTF">2013-10-28T17:14:03Z</dcterms:modified>
  <cp:revision>45</cp:revision>
  <dc:subject/>
  <dc:title>الانكيت</dc:title>
</cp:coreProperties>
</file>