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046-4BC6-4E60-896F-1401702C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B01-265A-49C1-AA18-2B866BA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007-A693-4E94-AEC1-07C341E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EC0-BA87-46E2-A6AE-27F9BE1A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486-9439-442B-94BC-97D07AF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725-E3EE-4566-9828-58B831E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BF9-2B2A-4F54-9757-9FBB17D5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AFD-612D-437A-A5E2-A8B0590C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DA9-C406-4F97-9B1F-8697CB7C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1FE-714A-41EF-9AA4-F71E9EE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F8C-60F7-4E9F-BF35-4A448B4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8E7-DDDD-424F-A850-EDB4062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8B3-31F2-44B9-AD0A-16796760B36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4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1287360" y="2890800"/>
            <a:ext cx="674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حضير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50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حضير 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ورقة عمل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user</cp:lastModifiedBy>
  <dcterms:modified xsi:type="dcterms:W3CDTF">2013-10-28T17:14:03Z</dcterms:modified>
  <cp:revision>45</cp:revision>
  <dc:subject/>
  <dc:title>الانكيت</dc:title>
</cp:coreProperties>
</file>