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AD2B3-BE68-4A5A-96B3-30574F9FD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CB696-03BF-4477-BAA0-1FD00D5F7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030DF-F87A-44C7-90C5-16F373D89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6DA4F-286E-4D57-83B6-A02DF9410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ED3743-6E52-42DA-9C6F-140B2A8D02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EC488-E6FA-4B46-933A-CE695817CD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69C15-2036-4661-88FD-326893F24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9FFE3-AC9C-41D5-9517-53C0B10B4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7C7AB-E578-452E-8697-0134B9CAB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1BCFE-78B7-4B67-9665-031C88B50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A4552-D4AD-4800-8046-806A64841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5DFC7-CBB3-4961-9717-1056E7749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5A2DF-055F-49A4-8AB1-2A802973C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A5CA2-5306-48B6-A38B-97EAFB135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56E9C-CB39-4317-9871-782216216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8989EC-28B4-4A8E-86E3-7860EBDC4B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9D4DE8-E3EC-4AED-AA7C-F30A41AC8E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D8CBB3-9AB7-425C-A42B-FF810022EB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0B3C5E-6834-4041-9458-84E3D7DFAD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2FD682-5D49-4A64-AC53-2F138B52AA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92C55B-0491-4B18-99CF-437C7969E3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43808F-EADD-4F15-9CB2-75D24960EF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14073-4DC7-4016-87AF-F2F92C866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8D0D98-D71F-4EE1-88E1-36F780E2E6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0E88F6-AE09-41CC-ACC0-7CCC6808D3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361E5B-CC93-4F8A-ABEC-A8DF158BC7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2339DA-FEE4-4677-9349-7C170DB4B0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A8B66E-63D8-4ED5-AE20-168CE13866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772D83-3629-4184-9067-D50EFDA83B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863D11-6E21-44CF-B7A1-F3DB1CE258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A24A48-89DB-43BE-A1CD-58545A8884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0C3AF4-0738-416A-B6E3-3F2416DB35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EC687D-B1E6-4EE0-8638-6D63FB466F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8622E-16D2-4E1D-A898-B9B3A8A68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A6D55C-AB6A-4DAA-82E7-46BE41A715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67E9D0-6F71-46EE-89EA-56AD7AECDD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AF6FB5-4029-47A7-B62E-314C1D6357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DB20B7-E346-471C-9BE1-255D2868A8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4380CD-C141-42D2-AD6D-0E005B80F0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BC66EF-D6A6-4596-8D9B-C7C5A29FAA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928208-59FC-41BF-B5F2-EE775C0FC8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983CDE-FAD6-423D-9946-6E5695B4DE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DB80B4-82CE-4365-A7D1-BDC4351D0A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E49E2-DE03-45C6-96B2-FB13E90A4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EF04B-18A5-4325-9917-79BE529DB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A5AE9-0B23-49F3-8E5A-055FE27C0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7778F-211C-4751-8812-FAA3D2C01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AD612-F3F5-4049-8778-B52E9CDDBE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60FE5-5D4D-469F-9799-7377690D7256}"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A4F6B-F562-4E65-91ED-44F6C9275AF4}"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A0747-01E9-42CD-B2D1-74A73B54E11C}"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AFB23-1CC5-4CC6-BA56-922F6B4B6976}"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6400" y="701640"/>
            <a:ext cx="8253720" cy="24987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فصل السابع</a:t>
            </a:r>
            <a:endParaRPr b="0" lang="en-US" sz="2600" spc="-1" strike="noStrike">
              <a:solidFill>
                <a:srgbClr val="ffffff"/>
              </a:solidFill>
              <a:latin typeface="Constantia"/>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a:t>
            </a:r>
            <a:endParaRPr b="0" lang="en-US" sz="5000" spc="-1" strike="noStrike">
              <a:solidFill>
                <a:srgbClr val="04617b"/>
              </a:solidFill>
              <a:latin typeface="Calibri"/>
            </a:endParaRPr>
          </a:p>
        </p:txBody>
      </p:sp>
      <p:pic>
        <p:nvPicPr>
          <p:cNvPr id="214" name="Content Placeholder 3" descr=""/>
          <p:cNvPicPr/>
          <p:nvPr/>
        </p:nvPicPr>
        <p:blipFill>
          <a:blip r:embed="rId1"/>
          <a:stretch/>
        </p:blipFill>
        <p:spPr>
          <a:xfrm>
            <a:off x="0" y="1857240"/>
            <a:ext cx="8872560" cy="5000760"/>
          </a:xfrm>
          <a:prstGeom prst="rect">
            <a:avLst/>
          </a:prstGeom>
          <a:ln w="0">
            <a:noFill/>
          </a:ln>
        </p:spPr>
      </p:pic>
      <p:cxnSp>
        <p:nvCxnSpPr>
          <p:cNvPr id="215" name="Straight Arrow Connector 5"/>
          <p:cNvCxnSpPr/>
          <p:nvPr/>
        </p:nvCxnSpPr>
        <p:spPr>
          <a:xfrm flipV="1">
            <a:off x="713160" y="1571400"/>
            <a:ext cx="2520" cy="4572720"/>
          </a:xfrm>
          <a:prstGeom prst="straightConnector1">
            <a:avLst/>
          </a:prstGeom>
          <a:ln w="9360">
            <a:solidFill>
              <a:srgbClr val="065093"/>
            </a:solidFill>
            <a:miter/>
            <a:tailEnd len="med" type="arrow" w="med"/>
          </a:ln>
        </p:spPr>
      </p:cxnSp>
      <p:cxnSp>
        <p:nvCxnSpPr>
          <p:cNvPr id="216" name="Straight Arrow Connector 7"/>
          <p:cNvCxnSpPr/>
          <p:nvPr/>
        </p:nvCxnSpPr>
        <p:spPr>
          <a:xfrm>
            <a:off x="713880" y="6000840"/>
            <a:ext cx="7859160" cy="2160"/>
          </a:xfrm>
          <a:prstGeom prst="straightConnector1">
            <a:avLst/>
          </a:prstGeom>
          <a:ln w="9360">
            <a:solidFill>
              <a:srgbClr val="065093"/>
            </a:solidFill>
            <a:miter/>
            <a:tailEnd len="med" type="arrow" w="med"/>
          </a:ln>
        </p:spPr>
      </p:cxn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00040" y="5713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 تابع</a:t>
            </a:r>
            <a:endParaRPr b="0" lang="en-US" sz="5000" spc="-1" strike="noStrike">
              <a:solidFill>
                <a:srgbClr val="04617b"/>
              </a:solidFill>
              <a:latin typeface="Calibri"/>
            </a:endParaRPr>
          </a:p>
        </p:txBody>
      </p:sp>
      <p:sp>
        <p:nvSpPr>
          <p:cNvPr id="218" name=""/>
          <p:cNvSpPr txBox="1"/>
          <p:nvPr/>
        </p:nvSpPr>
        <p:spPr>
          <a:xfrm>
            <a:off x="457200" y="1785600"/>
            <a:ext cx="8229600" cy="4786200"/>
          </a:xfrm>
          <a:prstGeom prst="rect">
            <a:avLst/>
          </a:prstGeom>
          <a:noFill/>
          <a:ln w="0">
            <a:noFill/>
          </a:ln>
        </p:spPr>
        <p:txBody>
          <a:bodyPr anchor="t">
            <a:normAutofit fontScale="92000"/>
          </a:bodyPr>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منافع: </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سعى المنظمة لأن تكون أطول مدة ممكنة.</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عمل المنظمة على إدامة هذه الفترة من خلال زيادة درجة تعقيد الميزة التنافسية، بما لا يتيح الفرصة أمام المنافسين في تقليدها وبسهولة </a:t>
            </a:r>
            <a:r>
              <a:rPr b="1" lang="ar-SA" sz="2200" spc="-1" strike="noStrike">
                <a:solidFill>
                  <a:srgbClr val="000000"/>
                </a:solidFill>
                <a:latin typeface="Wingdings"/>
                <a:ea typeface="Wingdings"/>
              </a:rPr>
              <a:t></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رتفاع التكلفة المترتبة على بنائها، أو الإمكانات والمهارات البشرية  اللازمة لتنفيذها، كإمتلاك التأثير الأكبر في التحكم بالفرص المتاحة في السوق.</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انحدار:</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يزة التنافسية للمنظمة أصبحت تقليدية، وفقدت قوتها التأثيرية في السوق ويظهر ذلك من خلال انخفاض حجم المبيعات بسبب: امتلاك المنافسون لميزة تنافسية أفضل (السعر، الجودة، ...)</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نحنى قد يكون سريعاً أو بطيئاً تبعاً إلى القوة التأثيرية للمنافسين الآخرين في السوق وحجم ما يمتلكونه من ميزة تنافسية جديدة. </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كيف يمكن للمنظمة أن تبني ميزتها التنافسية؟</a:t>
            </a:r>
            <a:endParaRPr b="0" lang="en-US" sz="2400" spc="-1" strike="noStrike">
              <a:solidFill>
                <a:srgbClr val="000000"/>
              </a:solidFill>
              <a:latin typeface="Constantia"/>
            </a:endParaRPr>
          </a:p>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1</a:t>
            </a:r>
            <a:r>
              <a:rPr b="0" lang="ar-SA" sz="4400" spc="-1" strike="noStrike">
                <a:solidFill>
                  <a:srgbClr val="04617b"/>
                </a:solidFill>
                <a:latin typeface="Calibri"/>
              </a:rPr>
              <a:t>-</a:t>
            </a:r>
            <a:r>
              <a:rPr b="0" lang="ar-SA" sz="5000" spc="-1" strike="noStrike">
                <a:solidFill>
                  <a:srgbClr val="04617b"/>
                </a:solidFill>
                <a:latin typeface="Calibri"/>
              </a:rPr>
              <a:t> مدخل البناء الداخلي</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دخل المستند إلى </a:t>
            </a:r>
            <a:r>
              <a:rPr b="1" lang="ar-SA" sz="2600" spc="-1" strike="noStrike">
                <a:solidFill>
                  <a:srgbClr val="000000"/>
                </a:solidFill>
                <a:latin typeface="Constantia"/>
              </a:rPr>
              <a:t>القدرات </a:t>
            </a:r>
            <a:r>
              <a:rPr b="0" lang="ar-SA" sz="2600" spc="-1" strike="noStrike">
                <a:solidFill>
                  <a:srgbClr val="000000"/>
                </a:solidFill>
                <a:latin typeface="Constantia"/>
              </a:rPr>
              <a:t>(موجودات، وموارد) والتي يمكن تسخيرها مجتمعة في خلق وبناء الميزة التنافسية، والتي تكون مميزة وصعبة التقليد من قبل المنافسين.</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فائلة: </a:t>
            </a:r>
            <a:r>
              <a:rPr b="0" lang="ar-SA" sz="2600" spc="-1" strike="noStrike">
                <a:solidFill>
                  <a:srgbClr val="000000"/>
                </a:solidFill>
                <a:latin typeface="Constantia"/>
              </a:rPr>
              <a:t>تحليل مكامن القوة لأنها الأساس في مواجهة المنافسين في السوق، وبالتالي النجاح.</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شائمة: </a:t>
            </a:r>
            <a:r>
              <a:rPr b="0" lang="ar-SA" sz="2600" spc="-1" strike="noStrike">
                <a:solidFill>
                  <a:srgbClr val="000000"/>
                </a:solidFill>
                <a:latin typeface="Constantia"/>
              </a:rPr>
              <a:t>معالجة نقاط الضعف، النجاحات يصعب تحقيقها وغير ممكنة قبل أن يتم معالجة نقاط الضعف في المنظمة كي تواجه المنافسين.</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2</a:t>
            </a:r>
            <a:r>
              <a:rPr b="0" lang="ar-SA" sz="4800" spc="-1" strike="noStrike">
                <a:solidFill>
                  <a:srgbClr val="04617b"/>
                </a:solidFill>
                <a:latin typeface="Calibri"/>
              </a:rPr>
              <a:t>-</a:t>
            </a:r>
            <a:r>
              <a:rPr b="0" lang="ar-SA" sz="5000" spc="-1" strike="noStrike">
                <a:solidFill>
                  <a:srgbClr val="04617b"/>
                </a:solidFill>
                <a:latin typeface="Calibri"/>
              </a:rPr>
              <a:t> مدخل البناء الخارجي</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ركز المنظمة على السوق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تمد على الفرص التسويقية الجذابة لتحديد خياراتها الاستراتيجية التي تحقق لها التميز في السوق.</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 تسهم عوامل بيئية خارجية عامة في تسهيل بناء الميزة التنافسية (التشريعات، القوانين، التسهيلات الحكومي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28760" y="71388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a:t>
            </a:r>
            <a:r>
              <a:rPr b="0" lang="en-US" sz="5000" spc="-1" strike="noStrike">
                <a:solidFill>
                  <a:srgbClr val="04617b"/>
                </a:solidFill>
                <a:latin typeface="Calibri"/>
              </a:rPr>
              <a:t>Source of C.A</a:t>
            </a:r>
            <a:endParaRPr b="0" lang="en-US" sz="5000" spc="-1" strike="noStrike">
              <a:solidFill>
                <a:srgbClr val="04617b"/>
              </a:solidFill>
              <a:latin typeface="Calibri"/>
            </a:endParaRPr>
          </a:p>
        </p:txBody>
      </p:sp>
      <p:sp>
        <p:nvSpPr>
          <p:cNvPr id="224" name=""/>
          <p:cNvSpPr txBox="1"/>
          <p:nvPr/>
        </p:nvSpPr>
        <p:spPr>
          <a:xfrm>
            <a:off x="457200" y="1935000"/>
            <a:ext cx="8229600" cy="4708800"/>
          </a:xfrm>
          <a:prstGeom prst="rect">
            <a:avLst/>
          </a:prstGeom>
          <a:noFill/>
          <a:ln w="0">
            <a:noFill/>
          </a:ln>
        </p:spPr>
        <p:txBody>
          <a:bodyPr anchor="t">
            <a:normAutofit/>
          </a:bodyPr>
          <a:p>
            <a:pPr marL="444600" indent="-44460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دخلات: </a:t>
            </a:r>
            <a:r>
              <a:rPr b="0" lang="ar-SA" sz="2600" spc="-1" strike="noStrike">
                <a:solidFill>
                  <a:srgbClr val="000000"/>
                </a:solidFill>
                <a:latin typeface="Constantia"/>
              </a:rPr>
              <a:t>مجموعة العناصر التي تؤثر على ديمومة واستمرار المنظمة في عملها (الموجودات، الموارد البشرية..)</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درتها على خلق قيمة بشكل أفضل من المنافسين </a:t>
            </a:r>
            <a:r>
              <a:rPr b="1" lang="ar-SA" sz="2400" spc="-1" strike="noStrike">
                <a:solidFill>
                  <a:srgbClr val="000000"/>
                </a:solidFill>
                <a:latin typeface="Wingdings"/>
                <a:ea typeface="Wingdings"/>
              </a:rPr>
              <a:t></a:t>
            </a:r>
            <a:r>
              <a:rPr b="1" lang="ar-SA" sz="2400" spc="-1" strike="noStrike">
                <a:solidFill>
                  <a:srgbClr val="000000"/>
                </a:solidFill>
                <a:latin typeface="Constantia"/>
              </a:rPr>
              <a:t> مصدر قوة.</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ذات قيمة نادرة وغير قابلة للإحلال ومكلفة إذا ما تم تقليدها.</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أن تؤدي أنشطتها بشكل أفضل من المنافس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متلاك هذه المدخلات لا يكفي بل لا بد أن ترافقها الاستخدام الأمثل لتلك الموارد في أنشطتها ووحدات الأعمال الاستراتيجية.</a:t>
            </a:r>
            <a:endParaRPr b="0" lang="en-US" sz="2400" spc="-1" strike="noStrike">
              <a:solidFill>
                <a:srgbClr val="000000"/>
              </a:solidFill>
              <a:latin typeface="Constantia"/>
            </a:endParaRPr>
          </a:p>
          <a:p>
            <a:pPr marL="444600" indent="-44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 تابع</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444600" indent="-444600" algn="just" rtl="1">
              <a:spcBef>
                <a:spcPts val="649"/>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0c9f8"/>
                </a:solidFill>
                <a:latin typeface="Constantia"/>
              </a:rPr>
              <a:t>2</a:t>
            </a:r>
            <a:r>
              <a:rPr b="1" lang="ar-SA" sz="2600" spc="-1" strike="noStrike">
                <a:solidFill>
                  <a:srgbClr val="20c9f8"/>
                </a:solidFill>
                <a:latin typeface="Constantia"/>
              </a:rPr>
              <a:t>. </a:t>
            </a:r>
            <a:r>
              <a:rPr b="1" lang="ar-SA" sz="2600" spc="-1" strike="noStrike">
                <a:solidFill>
                  <a:srgbClr val="000000"/>
                </a:solidFill>
                <a:latin typeface="Constantia"/>
              </a:rPr>
              <a:t>العمليات: </a:t>
            </a:r>
            <a:r>
              <a:rPr b="0" lang="ar-SA" sz="2600" spc="-1" strike="noStrike">
                <a:solidFill>
                  <a:srgbClr val="000000"/>
                </a:solidFill>
                <a:latin typeface="Constantia"/>
              </a:rPr>
              <a:t>تتمثل بكافة الفعاليات والأنشطة التي تتم داخل المنظمة لتحويل المدخلات إلى مخرجات (ذات قيمة للزبون) وسواء كانت سلع أم خدمات وبما يحقق التفوق في السوق الذي تعمل بها.</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إنجاز الأنشطة بكلفة أقل، من خلال رفع مستوى الأداء (زيادة خبرة العامل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رتبط منحنى الخبرة بالعلاقة بين الأداء المتحقق لدى العاملين وعامل الزم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مستوى التلف الصفري</a:t>
            </a:r>
            <a:r>
              <a:rPr b="0" lang="ar-SA" sz="2400" spc="-1" strike="noStrike">
                <a:solidFill>
                  <a:srgbClr val="000000"/>
                </a:solidFill>
                <a:latin typeface="Constantia"/>
              </a:rPr>
              <a:t>: مرور الوقت وزيادة التعليم والتدريب </a:t>
            </a:r>
            <a:r>
              <a:rPr b="1" lang="ar-SA" sz="2400" spc="-1" strike="noStrike">
                <a:solidFill>
                  <a:srgbClr val="000000"/>
                </a:solidFill>
                <a:latin typeface="Wingdings"/>
                <a:ea typeface="Wingdings"/>
              </a:rPr>
              <a:t></a:t>
            </a:r>
            <a:r>
              <a:rPr b="0" lang="ar-SA" sz="2400" spc="-1" strike="noStrike">
                <a:solidFill>
                  <a:srgbClr val="000000"/>
                </a:solidFill>
                <a:latin typeface="Constantia"/>
              </a:rPr>
              <a:t>تخفيض التكاليف والتلف إلى أدنى حد.</a:t>
            </a:r>
            <a:endParaRPr b="0" lang="en-US" sz="2400" spc="-1" strike="noStrike">
              <a:solidFill>
                <a:srgbClr val="000000"/>
              </a:solidFill>
              <a:latin typeface="Constantia"/>
            </a:endParaRPr>
          </a:p>
          <a:p>
            <a:pPr marL="444600" indent="-444600" algn="r" rtl="1">
              <a:spcBef>
                <a:spcPts val="649"/>
              </a:spcBef>
              <a:buClr>
                <a:srgbClr val="0bd0d9"/>
              </a:buClr>
              <a:buSzPct val="9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قياس الميزة التنافسية</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نوع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توقع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درك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قياسية.</a:t>
            </a:r>
            <a:endParaRPr b="0" lang="en-US" sz="2400" spc="-1" strike="noStrike">
              <a:solidFill>
                <a:srgbClr val="000000"/>
              </a:solidFill>
              <a:latin typeface="Constantia"/>
            </a:endParaRPr>
          </a:p>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كم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قاييس جودة المنتج النسبي.</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نتجات الجديدة النسب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كاليف التسويق.</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حصة السوق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نسب الربحية.</a:t>
            </a:r>
            <a:endParaRPr b="0" lang="en-US" sz="2400" spc="-1" strike="noStrike">
              <a:solidFill>
                <a:srgbClr val="000000"/>
              </a:solidFill>
              <a:latin typeface="Constanti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أبعاد التنافس</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كلف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جودة: </a:t>
            </a:r>
            <a:r>
              <a:rPr b="0" lang="ar-SA" sz="2600" spc="-1" strike="noStrike">
                <a:solidFill>
                  <a:srgbClr val="000000"/>
                </a:solidFill>
                <a:latin typeface="Constantia"/>
              </a:rPr>
              <a:t>التصميم، المطابقة، الخدم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رون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تسليم.</a:t>
            </a:r>
            <a:endParaRPr b="0" lang="en-US" sz="2600" spc="-1" strike="noStrike">
              <a:solidFill>
                <a:srgbClr val="000000"/>
              </a:solidFill>
              <a:latin typeface="Constanti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457200" y="706320"/>
            <a:ext cx="8308800" cy="1519200"/>
          </a:xfrm>
          <a:prstGeom prst="rect">
            <a:avLst/>
          </a:prstGeom>
          <a:ln w="0">
            <a:noFill/>
          </a:ln>
        </p:spPr>
      </p:pic>
      <p:sp>
        <p:nvSpPr>
          <p:cNvPr id="232" name="Bevel 4"/>
          <p:cNvSpPr/>
          <p:nvPr/>
        </p:nvSpPr>
        <p:spPr>
          <a:xfrm>
            <a:off x="2214720" y="2428920"/>
            <a:ext cx="4643280" cy="3357360"/>
          </a:xfrm>
          <a:prstGeom prst="bevel">
            <a:avLst>
              <a:gd name="adj" fmla="val 125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5"/>
          <p:cNvSpPr/>
          <p:nvPr/>
        </p:nvSpPr>
        <p:spPr>
          <a:xfrm>
            <a:off x="2714760" y="2357280"/>
            <a:ext cx="335736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جودة الأعلى</a:t>
            </a:r>
            <a:endParaRPr b="0" lang="en-US" sz="2800" spc="-1" strike="noStrike">
              <a:solidFill>
                <a:srgbClr val="000000"/>
              </a:solidFill>
              <a:latin typeface="Arial"/>
            </a:endParaRPr>
          </a:p>
        </p:txBody>
      </p:sp>
      <p:sp>
        <p:nvSpPr>
          <p:cNvPr id="234" name="TextBox 6"/>
          <p:cNvSpPr/>
          <p:nvPr/>
        </p:nvSpPr>
        <p:spPr>
          <a:xfrm>
            <a:off x="2500200" y="3786120"/>
            <a:ext cx="37148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الميزة التنافسية</a:t>
            </a:r>
            <a:endParaRPr b="0" lang="en-US" sz="3200" spc="-1" strike="noStrike">
              <a:solidFill>
                <a:srgbClr val="000000"/>
              </a:solidFill>
              <a:latin typeface="Arial"/>
            </a:endParaRPr>
          </a:p>
        </p:txBody>
      </p:sp>
      <p:pic>
        <p:nvPicPr>
          <p:cNvPr id="235" name="TextBox 7" descr=""/>
          <p:cNvPicPr/>
          <p:nvPr/>
        </p:nvPicPr>
        <p:blipFill>
          <a:blip r:embed="rId2"/>
          <a:stretch/>
        </p:blipFill>
        <p:spPr>
          <a:xfrm>
            <a:off x="2127240" y="2859120"/>
            <a:ext cx="749160" cy="2498760"/>
          </a:xfrm>
          <a:prstGeom prst="rect">
            <a:avLst/>
          </a:prstGeom>
          <a:ln w="0">
            <a:noFill/>
          </a:ln>
        </p:spPr>
      </p:pic>
      <p:sp>
        <p:nvSpPr>
          <p:cNvPr id="236" name="TextBox 8"/>
          <p:cNvSpPr/>
          <p:nvPr/>
        </p:nvSpPr>
        <p:spPr>
          <a:xfrm>
            <a:off x="5895720" y="2857680"/>
            <a:ext cx="1033560" cy="257148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رونة العالية</a:t>
            </a:r>
            <a:endParaRPr b="0" lang="en-US" sz="2800" spc="-1" strike="noStrike">
              <a:solidFill>
                <a:srgbClr val="000000"/>
              </a:solidFill>
              <a:latin typeface="Arial"/>
            </a:endParaRPr>
          </a:p>
        </p:txBody>
      </p:sp>
      <p:sp>
        <p:nvSpPr>
          <p:cNvPr id="237" name="TextBox 9"/>
          <p:cNvSpPr/>
          <p:nvPr/>
        </p:nvSpPr>
        <p:spPr>
          <a:xfrm>
            <a:off x="3357720" y="5357880"/>
            <a:ext cx="171432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كلفة الأقل</a:t>
            </a:r>
            <a:endParaRPr b="0" lang="en-US" sz="2800" spc="-1" strike="noStrike">
              <a:solidFill>
                <a:srgbClr val="000000"/>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Rectangle 4" descr=""/>
          <p:cNvPicPr/>
          <p:nvPr/>
        </p:nvPicPr>
        <p:blipFill>
          <a:blip r:embed="rId1"/>
          <a:stretch/>
        </p:blipFill>
        <p:spPr>
          <a:xfrm>
            <a:off x="2462040" y="1109520"/>
            <a:ext cx="4273560" cy="474192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قدمــــة</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1000"/>
          </a:bodyPr>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ن امتلاك المنظمة للميزة التنافسية يعني قدرتها الموضوعية في مواجهة متغيرات البيئة في السوق وفحصها الدقيق لبيئة الصناعة، وبالتالي قدرتها في مواجهة الآخرين وإمكانية البقاء والاستمرار.</a:t>
            </a:r>
            <a:endParaRPr b="0" lang="en-US" sz="2600" spc="-1" strike="noStrike">
              <a:solidFill>
                <a:srgbClr val="000000"/>
              </a:solidFill>
              <a:latin typeface="Constantia"/>
            </a:endParaRPr>
          </a:p>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حتويات الفصل:</a:t>
            </a:r>
            <a:endParaRPr b="0" lang="en-US" sz="26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فهوم وتعريف الميزة التنافسية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كيفية بناء الميزة التنافسية والمداخل المعتمدة في ذلك.</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اهية مصادر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ؤشرات النوعية والكمية في قياس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أبعاد الرئيسة للتنافس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علاقة ما بين أبعاد التنافس.</a:t>
            </a:r>
            <a:endParaRPr b="0" lang="en-US" sz="2400" spc="-1" strike="noStrike">
              <a:solidFill>
                <a:srgbClr val="000000"/>
              </a:solidFill>
              <a:latin typeface="Constanti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28760" y="714240"/>
            <a:ext cx="8229600" cy="8575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a:t>
            </a:r>
            <a:endParaRPr b="0" lang="en-US" sz="5000" spc="-1" strike="noStrike">
              <a:solidFill>
                <a:srgbClr val="04617b"/>
              </a:solidFill>
              <a:latin typeface="Calibri"/>
            </a:endParaRPr>
          </a:p>
        </p:txBody>
      </p:sp>
      <p:sp>
        <p:nvSpPr>
          <p:cNvPr id="200" name=""/>
          <p:cNvSpPr txBox="1"/>
          <p:nvPr/>
        </p:nvSpPr>
        <p:spPr>
          <a:xfrm>
            <a:off x="642600" y="1857240"/>
            <a:ext cx="8001000" cy="4572000"/>
          </a:xfrm>
          <a:prstGeom prst="rect">
            <a:avLst/>
          </a:prstGeom>
          <a:noFill/>
          <a:ln w="0">
            <a:noFill/>
          </a:ln>
        </p:spPr>
        <p:txBody>
          <a:bodyPr anchor="t">
            <a:normAutofit fontScale="90000"/>
          </a:bodyPr>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هي إحدى المكونات الرئيسة للاستراتيجية.</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بناء الاستراتيجية وتنفيذها في الواقع الميداني المعبر عنه بالسوق، يكمن في ما تمتلكه المنظمة من ميزة تنافسية تختلف بها كلياً أو جزئياً عن غيرها من المنظمات في ذات الصناعة التتي تعمل بها.</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ني المركز التنافسي الذي تكون به المنظمة والذي تعمل على تطويره بوجه منافسيها من خلال ما تمتلكه من قدرات ومهارات وموارد تتيح لها فرصة التفوق على منافسيها.  </a:t>
            </a:r>
            <a:endParaRPr b="0" lang="en-US" sz="2600" spc="-1" strike="noStrike">
              <a:solidFill>
                <a:srgbClr val="000000"/>
              </a:solidFill>
              <a:latin typeface="Constanti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fontScale="97000"/>
          </a:bodyPr>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هي عبارة عن خليط من أمور </a:t>
            </a:r>
            <a:r>
              <a:rPr b="1" lang="ar-SA" sz="2600" spc="-1" strike="noStrike">
                <a:solidFill>
                  <a:srgbClr val="000000"/>
                </a:solidFill>
                <a:latin typeface="Constantia"/>
              </a:rPr>
              <a:t>مادية وغير مادية</a:t>
            </a:r>
            <a:r>
              <a:rPr b="0" lang="ar-SA" sz="2600" spc="-1" strike="noStrike">
                <a:solidFill>
                  <a:srgbClr val="000000"/>
                </a:solidFill>
                <a:latin typeface="Constantia"/>
              </a:rPr>
              <a:t>.</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بر عن </a:t>
            </a:r>
            <a:r>
              <a:rPr b="1" lang="ar-SA" sz="2600" spc="-1" strike="noStrike">
                <a:solidFill>
                  <a:srgbClr val="000000"/>
                </a:solidFill>
                <a:latin typeface="Constantia"/>
              </a:rPr>
              <a:t>حالة التفرد </a:t>
            </a:r>
            <a:r>
              <a:rPr b="0" lang="ar-SA" sz="2600" spc="-1" strike="noStrike">
                <a:solidFill>
                  <a:srgbClr val="000000"/>
                </a:solidFill>
                <a:latin typeface="Constantia"/>
              </a:rPr>
              <a:t>التي تكون بها المنظمة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ية منظمة صغيرة أو كبيرة يمكنها امتلاك الميزة التنافسية شريطة أن تُسخِّر إمكاناتها وقدراتها في الاستثمار الصحيح للفرص المتاحة بالسوق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ذاً لا بد من الاهتمام بعمليات الرصد والمسح البيئي.  </a:t>
            </a:r>
            <a:endParaRPr b="0" lang="en-US" sz="2600" spc="-1" strike="noStrike">
              <a:solidFill>
                <a:srgbClr val="000000"/>
              </a:solidFill>
              <a:latin typeface="Constanti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7239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4" name=""/>
          <p:cNvSpPr txBox="1"/>
          <p:nvPr/>
        </p:nvSpPr>
        <p:spPr>
          <a:xfrm>
            <a:off x="457200" y="1428480"/>
            <a:ext cx="8229600" cy="5143320"/>
          </a:xfrm>
          <a:prstGeom prst="rect">
            <a:avLst/>
          </a:prstGeom>
          <a:noFill/>
          <a:ln w="0">
            <a:noFill/>
          </a:ln>
        </p:spPr>
        <p:txBody>
          <a:bodyPr anchor="t">
            <a:normAutofit fontScale="98000"/>
          </a:bodyPr>
          <a:p>
            <a:pPr marL="267120" indent="-26712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ناحية التسويقية:</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ميزة التنافسية تعني قدرة المنظمة على جذب الزبائن وبناء المكانة الذهنية لها كمنظمة أو لمنتجاتها، وزيادة القيمة المدركة من قبلهم وتحقيق رضاهم.</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خلق قيمة للزبون = التركيز على جانب السعر + جودة المنتج والأمان المتحقق منه + المنافع المخلفة للمنتج + التلف والأضرار الناجمة عن الاستخدام + ...الخ.</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يس هناك ميزة تنافسية ثابتة أو نجاح مستمر </a:t>
            </a:r>
            <a:r>
              <a:rPr b="1" lang="ar-SA" sz="3800" spc="-1" strike="noStrike">
                <a:solidFill>
                  <a:srgbClr val="000000"/>
                </a:solidFill>
                <a:latin typeface="Wingdings"/>
                <a:ea typeface="Wingdings"/>
              </a:rPr>
              <a:t></a:t>
            </a:r>
            <a:r>
              <a:rPr b="0" lang="ar-SA" sz="2600" spc="-1" strike="noStrike">
                <a:solidFill>
                  <a:srgbClr val="000000"/>
                </a:solidFill>
                <a:latin typeface="Constantia"/>
              </a:rPr>
              <a:t>لا بد من تعزيز وتطوير الميزة التنافسية بما يتناسب مع متطلبات السوق والمنافسة القائمة ورغبة المستهلك المستمرة في التغير، وإدراك أن كل شيء يتغير عدا التغير فهو ثابت.</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جزء من عناصر أخرى مشتركة معها في النجاح، ولكن قد يكون لها السبق في تحقيق النجاح. </a:t>
            </a:r>
            <a:endParaRPr b="0" lang="en-US" sz="2600" spc="-1" strike="noStrike">
              <a:solidFill>
                <a:srgbClr val="000000"/>
              </a:solidFill>
              <a:latin typeface="Constanti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برز النتائج التي ستحققها المنظمة من امتلاكها للميزة التنافسي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رتها على إقناع الزبائن بما تقدمه لهم من منتجات أكثر تميزاً بها عن المنافسين </a:t>
            </a:r>
            <a:r>
              <a:rPr b="1" lang="ar-SA" sz="2600" spc="-1" strike="noStrike">
                <a:solidFill>
                  <a:srgbClr val="000000"/>
                </a:solidFill>
                <a:latin typeface="Wingdings"/>
                <a:ea typeface="Wingdings"/>
              </a:rPr>
              <a:t></a:t>
            </a:r>
            <a:r>
              <a:rPr b="0" lang="ar-SA" sz="2600" spc="-1" strike="noStrike">
                <a:solidFill>
                  <a:srgbClr val="000000"/>
                </a:solidFill>
                <a:latin typeface="Constantia"/>
              </a:rPr>
              <a:t> تحقيق رضاهم.</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مكانية الحصول على حصة سوقية أفضل وأكبر قياساً بالمنافسين إذا ماحققت الرضا والقبول المطلوب لدى المستهلكين وبما يتوافق مع أهدافها الاستراتيجية المخطط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زيادة الحصة السوقية واستمرار نجاح المنظمة ستنعكس على زيادة العوائد المالية المتحققة والأرباح الصافية. </a:t>
            </a:r>
            <a:endParaRPr b="0" lang="en-US" sz="2600" spc="-1" strike="noStrike">
              <a:solidFill>
                <a:srgbClr val="000000"/>
              </a:solidFill>
              <a:latin typeface="Constanti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graphicFrame>
        <p:nvGraphicFramePr>
          <p:cNvPr id="208" name=""/>
          <p:cNvGraphicFramePr/>
          <p:nvPr/>
        </p:nvGraphicFramePr>
        <p:xfrm>
          <a:off x="571680" y="1935000"/>
          <a:ext cx="8001000" cy="4494240"/>
        </p:xfrm>
        <a:graphic>
          <a:graphicData uri="http://schemas.openxmlformats.org/drawingml/2006/table">
            <a:tbl>
              <a:tblPr/>
              <a:tblGrid>
                <a:gridCol w="1692000"/>
                <a:gridCol w="4616640"/>
                <a:gridCol w="1692360"/>
              </a:tblGrid>
              <a:tr h="642600">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وجه أو التركيز</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عريف</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باحث</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2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أنشط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مجالات التي تتفوق بها المنظمة على منافسيها.</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ofer</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8172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كانة الذهني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أي شيء يميز المنظمة أو منتجاتها إيجاباً عن منافسيها من وجهة نظر الزبون النهائي.</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ahey</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9169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كلف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درة المنظمة على تقليص كلفها الكلية وتحقيق عوائد أعلى من خلال السعر مقارنة بالمنافسين وتحقيق قيمة أكبر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oppaport</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41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يمة ا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قابلية على تقديم قيمة متفوقة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vans</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8143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نافس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وسيلة التي تمكن المنظمة من تحقيق التفوق في ميدان منافستها مع الآخري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acmalland &amp; Tampo</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fontScale="79000"/>
          </a:bodyPr>
          <a:p>
            <a:pPr marL="215280" indent="-2152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تعاريف السابقة نستنتج:</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ختلاف وجهات النظر يعكس صعوبتها ودرجة تعقدها واختلافها من منظمة إلى أخرى ي كيفية استخدامها أو التعامل معها.</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ترتبط أساساً بالأداء المتحقق من المنظمة والعاملين فيها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ا يمكن أن تبني أو تمتلك أية منظمة ميزة تنافسية دون أن ترتقي بأدائها إلى المستوى الذي تتفوق به على المنافسين الآخرين ولمدى زمني مناسب، وقد يطول أو يقصر حسب قدرتها في الحفاظ وإدامة ميزتها التنافسية.</a:t>
            </a:r>
            <a:endParaRPr b="0" lang="en-US" sz="2600" spc="-1" strike="noStrike">
              <a:solidFill>
                <a:srgbClr val="000000"/>
              </a:solidFill>
              <a:latin typeface="Constanti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عملية بناء الميزة التنافسية تحتاج إلى فحص دقيق لكل الإمكانات والمصادر المتاحة في بناءها، والتي قد تستغرق فترة زمنية طويلة (الشركات الصناعية و ذات الإنتاج الواسع والمتعددة الأسواق). </a:t>
            </a:r>
            <a:endParaRPr b="0" lang="en-US" sz="2600" spc="-1" strike="noStrike">
              <a:solidFill>
                <a:srgbClr val="000000"/>
              </a:solidFill>
              <a:latin typeface="Constantia"/>
            </a:endParaRPr>
          </a:p>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فترة البناء: </a:t>
            </a:r>
            <a:endParaRPr b="0" lang="en-US" sz="26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صيرة / طويلة (حسب خصوصية المنظمة أو المنتجات، طبيعة السوق، حجم المنافسة السائد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طول فترة البناء </a:t>
            </a:r>
            <a:r>
              <a:rPr b="1" lang="ar-SA" sz="2400" spc="-1" strike="noStrike">
                <a:solidFill>
                  <a:srgbClr val="000000"/>
                </a:solidFill>
                <a:latin typeface="Wingdings"/>
                <a:ea typeface="Wingdings"/>
              </a:rPr>
              <a:t></a:t>
            </a:r>
            <a:r>
              <a:rPr b="1" lang="ar-SA" sz="2400" spc="-1" strike="noStrike">
                <a:solidFill>
                  <a:srgbClr val="000000"/>
                </a:solidFill>
                <a:latin typeface="Constantia"/>
              </a:rPr>
              <a:t> </a:t>
            </a:r>
            <a:r>
              <a:rPr b="0" lang="ar-SA" sz="2400" spc="-1" strike="noStrike">
                <a:solidFill>
                  <a:srgbClr val="000000"/>
                </a:solidFill>
                <a:latin typeface="Constantia"/>
              </a:rPr>
              <a:t>المزيد من الاستثمارات واستخدام تكنولوجيا متطور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وافق كبير مع المزيج التسويقي (التوزيع ودعم الوسطاء والموزعين، الترويج وفاعليته وتأثيره، التخطيط للمنتج، سياسات التسعير) لأثره على زيادة حجم تأثير الميزة التنافسية، وارتفاع المنحنى بأقل فترة زمنية ممكنة.</a:t>
            </a:r>
            <a:endParaRPr b="0" lang="en-US" sz="2400" spc="-1" strike="noStrike">
              <a:solidFill>
                <a:srgbClr val="000000"/>
              </a:solidFill>
              <a:latin typeface="Constanti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6:41:07Z</dcterms:created>
  <dc:creator>Windows User</dc:creator>
  <dc:description/>
  <dc:language>en-US</dc:language>
  <cp:lastModifiedBy>Luna</cp:lastModifiedBy>
  <dcterms:modified xsi:type="dcterms:W3CDTF">2012-01-31T15:02:05Z</dcterms:modified>
  <cp:revision>52</cp:revision>
  <dc:subject/>
  <dc:title>الميزة التنافسية Competitive Advanta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