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6DA15-D78D-4129-9C49-FC0E98CE6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79B8-AEF9-4362-894E-9EF696853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30153-D440-404B-A91C-2E21F5D20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378DF-F21D-4F64-9C92-97E1E9D20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537FD-DC84-4434-A07F-04CF9E6E0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1D979-E100-48EF-96AA-2D7218F21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DA759-55BC-4316-ACA5-AAFF34CCC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60DC6-BF78-46BC-B1E8-674B3DA40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12E14-E1CE-4C63-A4CF-52F522CD9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C0891-37FF-4137-8791-D779DD68A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FD5F7-E682-4014-8BCF-2E11D10CD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B374C-1530-4504-9098-377B0B2A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4B83-7ACE-46E6-A309-63FBF8F8F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28704-6786-4192-9877-1D916712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23876-77F4-4760-ADD5-B9581A345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C210B-CE61-46F5-A36E-29CF5D1D1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A9C5D-C709-4128-809B-D08B3A267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6D138-8807-4B21-8E17-AAB0D5063C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29564-B435-42E7-8977-39DBB7314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8ADF6-9C22-4EA0-B7F7-7F5F7AA47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3CEBE-861D-4E1E-9FF3-4526C9386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D4F7A-B321-4BE0-A914-BA0C30DC9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5CC9C-E41F-409B-9018-71D6F306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4556F-2DBC-46CD-A4CE-828FA191D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63BE7-8526-44CD-B46F-1DCBA4A03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41436-E448-4C44-A107-9D3C57D41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FF43C-BDBD-4D28-966B-68B31197F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59090-E740-4B2B-B436-E0371D4AA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789FF-817D-4069-8217-F65EF4ED32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225B56-6111-4341-AAF1-862C2381C3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54B2E-51BB-4413-BDE9-785CA0911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269C7-3C11-460D-8D1F-03C3B2E62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BA9C9-30F0-489F-92BD-98A2069A4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9FB4-292F-4A4C-B64E-252F83B6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FC391-644C-49DC-A6A4-37AE12F5C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72D56-3B7E-486B-B031-F26315462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0E699-D9DE-45CD-AD63-076AA134D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F68F5-0349-4AB3-9E8E-43B7CFE54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F7568-4FCD-4515-9322-9C3870F54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42A66-F4E6-43B7-B377-1A6B49A75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88C66-883F-47EC-A27D-CB90D228D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13FBB-CC8A-4E16-97CA-154C8FCDA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E2F1B-6218-480F-935F-582920BC7D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F1ABC5-7B33-4D2E-90C3-CAA16F0C07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9F3FC-384E-49BA-A562-FA0F5019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C40F5-4ABB-4477-B033-A8CF799D9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76495-1E40-4644-AF33-71249B9B4C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F8B1C3-B462-47BD-AA03-9B1DA30CC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A3CE0-7E5D-4A16-BB18-357F15505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DD131-AD66-4A40-9962-0327FFB27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FF6B4-D379-44B2-9F45-95FFD16E0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E431D-B06F-4FBF-A998-A8374F59B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3A1E4-1A61-41A6-85BB-7766D2366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31BFD-F466-4444-B7D6-AB5DBB346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0B6182-0273-42A2-813C-AB9B1A539A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2699-1A0F-4183-9436-659309A7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5C751-CC25-4199-853B-AFBB17331A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D1BB14-E3B6-4388-B362-4D1D85F7D5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52301-2340-481E-B88E-E8834BD23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4F36C-5FF8-44EF-BF8D-EF7781D81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DD2D2-AF79-40A1-B10A-FFC601DB85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526FE-E025-40B2-BB8E-C663D92E6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4FB0A-50DF-4EB5-92E9-923E359E2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89570-491A-4787-BFD5-E06EFE16F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CA53C-158C-4DC3-A29D-563CB809C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7CDC0-2020-4819-AF51-262D693A0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FDDD-150E-4945-809E-3A6FE503F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5069CA-878B-402A-8FCD-971DBDB8E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D57DB9-E84F-487A-B745-88F92EFB0C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5CEC7D-0DBA-490A-B0D7-8417DF793A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8D7372-EF50-429F-9282-0A08B1FC0C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50D12-2C9D-40C0-A4EC-44B95E527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B1FE8A-23C5-47E7-BC41-07C0E7728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339499-2EA8-487D-8429-3F0A78D4E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8B664-D27B-41E2-A796-530BDE185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0F270-9A0D-4035-9B57-E81D2966D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F79A2-3EF7-46D2-8BF2-555B0D5C9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6F7C-B0C5-427A-B90A-ACB45A885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2D09C-8DFF-4023-A3CB-4E4C44ECD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9E4AF-C1E5-49BA-BABE-3E41FF590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C2D0F-158F-4184-BBAF-BFBADBD499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55E50E-1003-484B-89E5-DE49D54B25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194D5E-6B39-4DB7-A510-32912E9BAF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6B4EB4-F4F2-408B-AC48-8B974B74A8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D78C3-0F12-4071-82ED-8B6C53A2E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AABDD-3C4D-4300-95EF-1C54B4619A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5E905-0772-4FAA-9B21-0717289277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53CA9F-9946-4BA6-949F-3FD18E2B03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3FC2-9133-4D8D-A6A0-286BC8464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0B6558-8FA7-44EE-9EE3-7422420605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55401-D1C1-4985-B1B8-2C9A1486E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EE02E-B24F-4AF5-889B-277411AF0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C2758-324C-42C1-A75D-2150617DF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AA8F1-E260-4BBB-BF1E-6099C02AE4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FC3671-7016-4A96-BCC6-608E4F3522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7C6EC3-287E-41E2-A838-E957668FD9F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04F4-687C-45C9-A5B9-8436EF8E3AE9}"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C11D-DDD3-486F-9E23-84FA04FDD18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D4B0-EBF5-4DC5-A6B4-33584C01F497}"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4DAE-5372-4CD1-B75A-E522DB446DF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C9E4-61F3-414D-A3CB-472B1DB12891}"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9F80-B139-4143-9F92-B376F37CFE11}"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D86E-7C9C-40DF-97F4-407365DF2554}"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4812-CDA6-4A93-ACAE-138D04847B57}"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C638-E7D5-4DC3-A4A4-EC9D9420132F}"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65DD-4CB8-4E26-8346-F823B3A345B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98D7-A63E-4FD8-873E-4DA93B5F952E}"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8284-E3C6-44E1-9CC8-5A22103BE43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CF36-3F72-44FE-8F82-74E4F2CB8DE2}" type="datetime">
              <a:rPr b="0" lang="ar-SA" sz="1400" spc="-1" strike="noStrike">
                <a:solidFill>
                  <a:srgbClr val="def5fa"/>
                </a:solidFill>
                <a:latin typeface="Gill Sans MT"/>
              </a:rPr>
              <a:t>١٤٤٨/٠٢/١٦</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1D7D-818A-4CE7-92BD-7FFC6983F41C}"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09BC-F68B-4DDC-AA31-753D4F5429F9}" type="datetime">
              <a:rPr b="0" lang="ar-SA" sz="1400" spc="-1" strike="noStrike">
                <a:solidFill>
                  <a:srgbClr val="464646"/>
                </a:solidFill>
                <a:latin typeface="Gill Sans MT"/>
              </a:rPr>
              <a:t>١٤٤٨/٠٢/١٦</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77FA-ED98-40D5-A6DC-B54632FB506E}"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98A9-6BF6-4B3F-B9DD-7580B3647E9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D306-4E3C-4C45-B8B3-A84C3646C5F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3BB5-B787-4DE8-BF94-A6A7F3C1F8A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593D-D442-47FC-88E2-59BFB3CEEFF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7374-F84D-4B9B-8706-D93CE0D4350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E70C-D53C-4DE1-9CF0-26D7D0D8FF5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34B8-BD02-4BC7-A2F9-498F3DE8BE8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72FF-511D-4A81-9147-2F056CC049A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076B-2B9A-41F6-8A4C-428AB124C8A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EE4E-26C4-45B9-B4A0-2A0F36FC9B2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36C2-2E3C-4485-BE38-14F57660262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AE3D-E8BD-466A-9C50-77C7E055881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FF1A-2CFB-43EA-861B-D7AC95EB9DC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ADF2-FD19-45A7-BB6F-917DB370861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3B73-1BC1-4A63-A91A-FEB617EEAE4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7196-B9BB-4CBE-A982-C6D0B345787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A62C-B95F-46FC-846A-3602FFA3AB42}"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1375-0D54-41C0-AB00-40DC33E7B6A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