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DEA1-2AF7-459B-8912-79255EF47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8435-BBF7-4225-A300-EDBF80F5A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222D-85FA-49FE-917E-123AF08C3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18F7-4919-4D5D-8BF6-A0C4497C6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32957-D7CB-4CDA-A46F-3547F462A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D1DF8-C55B-42F4-8B2E-4FEB2FB08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ADC21-F8E2-47B2-938E-36217F17A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D99F2-8D80-4F3B-9451-AAC867D3B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35C74-0431-49EE-B3BA-728866F38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2C598-BC41-4AC7-8A37-993569338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0E702-A179-43F6-AC55-8DBA8713F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59C3-58B2-4BDA-8584-25AC64AA4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BD4D6-8024-4E4F-B3C3-43E25F956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C294D-2985-4D2A-934C-255557A4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7A154-3B97-493D-8FAA-2A4037C58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C2957-E508-483B-80EB-5D01825CF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7FE0A-DD4B-4AD4-8AAD-3C9A019D3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0A95-E391-4258-A8C5-CFD6F4DBE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F2A5-4272-4C2C-989E-A471A4BE8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C54B-234C-4CE8-BA85-5699A36E9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5E8D-10CC-488D-A9E1-64E77AEB2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86FE-9D9D-48A7-B016-B2D7079C8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46EE-419C-494B-ACD5-6D370805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E783-A189-4E61-B4AA-8BC4E9B80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2E519-852E-4420-B29A-7E6335A50779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47974-DB57-435B-9547-0B665832DA5C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171360" y="1365120"/>
            <a:ext cx="8912160" cy="20545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جلسة العاشرة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قائد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تابعين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هدف مشترك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من هو القائد ؟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هو الشخص الي يقود مجموعة او فريقا من الناس و يمتلك مزايا خاصة , و ينشر افكارا قوية بين مسؤولية فيؤثر فيهم , و يوجه سلوكهم , و يرشدهم , و ينسق بينهم , ليقدم دورا ناجحاً , و فعالاًفي قيادة فريقة , كما انه يمتلك رؤية شاملة و نظرة ثاقبة بشأن المستقبل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قدرة على التخطيط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إجادة التعامل مع الآخرين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مهارة الحور و إدارة النقاش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قدرة على إدارة الوقت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تشكيل و إدارة الفريق الجماعي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إدارة الاجتماعات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حل المشكلات و اتخاذ القرارات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قدرة فائقة على قيادة من حولة في أي مكان يتواجد فيه , سواء في العمل او في النادي او المسجد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يقدم النصيحة لمن يحتاجونها و يتخذ القرار دون تردد عن دراسة و متقد الذهن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متنوع الاهتمامات و الهوايات و الميول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بادي النشاط و الحيوية و متحمس و عالي الهمة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ناجح في كل شيء يحترم نفسه و يحترم الاخرين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نزيه و مستقيم و لديه ولاء لعمله و لمن يعمل معه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7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يخلص النية لله و قوي الإرادة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8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يتبع مبدأ الشورى بين مؤوليه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9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لا يغتاب و لا ينم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10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ناضج في التفكير و التصرفات , حسن التصرف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11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حكيم في حكمة على الأمور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12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يعمل بروح الفريق , و يقدم يد المساعدة  للآخرين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13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يضبط نفسه عند الغضب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14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مؤول و يقدر المسؤولية , و واثق من نفسه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15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يشيد بجهود الآخرين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16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حسن الخلق و هادى الطبع و عادل و منصف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17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. أمين و أهل للثقة و يفي بالعهد و ينجز الوعد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18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صادق مع نفسه و مع الآخرين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19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يتمتع بخفة الظل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20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يتقبل النقد البناء بروح رياضية و يأخذه بعين الاعتبار و لا يأبه بالنقد الظالم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21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قوي الشخصية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22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مبادر فاعل : لديه روح المبادرة الخلاقة و الفاعلية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23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منظم و مرتب في عمله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24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مبدع و مبتكر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تعرف المشكلة بأنها : عقبة أمام تحقيق الأهداف , او فجوة بين الوضع الراهن و الوضع المأمول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الشعور بالمشكلة: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أن الشعور و الاحساس بالمشكلة من اهم خطوات حل المشكلات , فبدون الاحساس بان هناك مشكلة لن نقوم باي خطوات اخرى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98240" indent="-3740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2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تعريف و تحديد المشكلة :أن معظم الإفراد يندفعون بردود فعلهم تجاه المشكلة قبل معرفة و فهم طبيعتها و إبعادها , عليك تعريف المشكلة الحقيقية و ليس أعراضها , و جمع البيانات التي تحتاج إليها :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98240" indent="-37404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كالبيانات الخارجية مثل الحقائق و الأهداف و الوقت و التاريخ و النتائج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98240" indent="-37404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و البيانات الداخلية مثل : المشاعر , و لأراء , و الاتجاهات , و مدى الرضا, و تعارض الشخصيات , و طريقة تفكير الآخرين , و الضغوط النفسية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98240" indent="-3740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98240" indent="-3740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-360" y="16002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محور الأول : مفهوم القيادة من حيث ( التأثير - القدرة - الوظيفة 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محور الثاني : سمات القائد ( من هو القائد - سمات القائد الناجح )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محور الثالث : مهارات القيادة (مهارة حل المشكلات – مهارة اتخاذ القرار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81680" indent="-36144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ما الأسباب التي تعتقد أنها سبب المشكلة ؟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1680" indent="-36144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متى ؟ و أين ؟ و كيف ؟ و لماذا ؟ و مع من حدثت المشكلة ؟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1680" indent="-36144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هل المعلومات التي لدي موثوق فيها , و كافيه؟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1680" indent="-36144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هل تم تحديد المعلومات , التي احتاج إليها لتفهم المشكلة بشكل أفضل ؟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1680" indent="-36144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هل تم تحديد مصادر جمع هذه المعلومات ؟ و هل ستجمع من الكتب , ام من الإفراد ؟ و ما نوعية الكتب ؟ و من هم الإفراد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1680" indent="-36144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هل تم تحديد المحك او المعيار للحكم على مصداقية المعلومات ؟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1680" indent="-36144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ما دوري و دور الآخرين في إيجاد الحل , و تنفيذه ؟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Title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4396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68000" indent="-468000" algn="r" rtl="1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كتب المشكلة لتستطيع أن تراها أمامك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68000" indent="-468000" algn="r" rtl="1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إذا كانت المشكلة معقدة , فقم بتجزئتها إلى أجزاء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68000" indent="-468000" algn="r" rtl="1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إذا كانت المشكلة مرتبطة بمشكلات أخرى حدد أولويتك وإبداء بالمشكلة الأهم فالأقل أهمية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68000" indent="-468000" algn="r" rtl="1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تحليل المعلومات التي تم جمعها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68000" indent="-468000" algn="r" rtl="1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تحديد معلومات أخرى جديدة و مفيدة لحل المشكلة و حذف بعض مما يعتبر غير مهم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68000" indent="-468000" algn="r" rtl="1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طرح استراتيجيات مختلفة لحل المشكلة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68000" indent="-468000" algn="r" rtl="1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ختبار الاستراتيجيات المناسبة لحل المشكلة المطروحة للنقاش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68000" indent="-468000" algn="r" rtl="1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عمل على حل المشكلة في ضوء الاستراتيجيات التي تم اختيارها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68000" indent="-468000" algn="r" rtl="1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عمل على تقييم النتائج التي تم التوصل إليها لحل المشكلة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68000" indent="-468000" algn="r" rtl="1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تطبيق خطوات حل المشكلة بدقة عالية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إستراتيجية اتخاذ القرار هي : عملية تقوم بها حين تواجهك مشكلة او عائق , او موقف يتطلب منك اختيار البديل , او الحل الأفضل , او الأنسب من مجموعة  الحلول المحتملة , و هي محصلة مجموعة من الاراء و الافكار و الاتصالات و ذلك لتحقيق الهدف , او النتيجة المرجوة 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Title 1" descr=""/>
          <p:cNvPicPr/>
          <p:nvPr/>
        </p:nvPicPr>
        <p:blipFill>
          <a:blip r:embed="rId1"/>
          <a:stretch/>
        </p:blipFill>
        <p:spPr>
          <a:xfrm>
            <a:off x="285840" y="268200"/>
            <a:ext cx="8656560" cy="11588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قيم و المعتقدات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ميول و الطموحات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عوامل الجسمية و النفسية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تحديد أهمية اتخاذ القرار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تحديد الخيارات المتاحة لك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تحديد النتائج المرجحة لكل قرار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تحديد الخيار الأفضل في ضوء هذه النتائج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تحديد أهمية هذه النتائج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حدد هدفك و مشكلتك بدقة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3480" indent="-48348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جمع المعلومات الكافية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3480" indent="-48348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في صنع القرار , أتح فرصة المشاركة لكل من له علاقة به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3480" indent="-48348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طلب عدة خيارات و بدائل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3480" indent="-48348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وازن بين البدائل و حدد نقاط الضعف و القوة فيها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3480" indent="-48348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بالاشتراك مع زملائك حدد الخيار الأمثل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3480" indent="-48348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تصور مع زملائك جميع النتائج السلبية و الايجابية على هذا القرار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3480" indent="-48348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ختر الوقت المناسب لإصداره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3480" indent="-48348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9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حدد المسؤوليات في تنفيذه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10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أعط الدعم المادي و المعنوي لإنجاحه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11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تابع تنفيذه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12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ضع إجراءات مكتوبة في حال عدم تنفيذه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13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تنبيهات عند اتخاذ القرار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14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لا تلجأ لأول حل يخطر ببالك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15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يمكنك الاستفادة من تجارب الآخرين في مجال اتخاذ القرار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16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لا يكن قرارك بناء على ردة فعل غير مناسبة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قيادة جزأين 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جزاء منه فطري , و موهبة من الله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جزاء مكتسب من التعلم و الخبرة و التدريب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قيادة علم له أصول لأنه يخضع للدراسة و يدرس في الجامعات 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قيادة فن : لأنه يعتمد على ذكاء القائد و بصيرته في حسن التصرف في المواقف و الأزمات التي يتعرض لها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من حيث التأثير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من حيث القدرة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من حيث الوظيفة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31000" indent="-3985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تأثير في الأشخاص بدرجة تجعلهم يحققون أهداف الجماعة بحماس , و عن طيب خاطر , و تشجعهم على التطوير , ليس فقط الرغبة في العمل , و لكن للرغبة في العمل بحماس و ثقة 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تأثير شخصي متبادل , يظهر بوضوح في حالات معينة , و يوجه من خلال وسائل الاتصال الإنساني بين الرئيس و المرؤوس نحو تحقيق الأهداف المنشودة 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فن معاملة الطبيعة البشرية , او فن التأثير في السلوك البشري , لتوجيه جماعة من الناس , نحو هدف معين , بطريقة نضمن بها طاعتهم , و احترامهم و تعاونهم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قدرة على توحيد سلوك الجماعة في موقف محدد , لتحقيق هدف معين 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قدرة على تحريك الناس نحو هدف معين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قدرة على انجاز الإعمال الصحيحة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وظيفة التي يستخدم فيها الشخص ما يمكن من سمات و خصائص اكتسبها بالخبرة , و التعلم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عمل الدؤوب للقادة و المديرين , اذ يواجه المشكلات و يقوم المعوج من الأمور , و يحقق التعاون بين العاملين , و يدعم روح الفريق , و يحقق الكفاية المستمرة في مستوى الأداء , و يحقق الترابط و الانسجام , بين الأهداف الفردية و الأهداف الجماعية , و يكتل الجهود جميعا في اتجاه واحد نحو الهدف النهائي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فن التأثير في الأشخاص , و توجيه جهودهم بطريقة صحيحة نحو أهداف محددة , يتسنى معها كسب طاعاتهم , و احترامهم , و ولائهم , و تعاونهم , في سبيل تحقيق الأهداف المشتركة 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admin</dc:creator>
  <dc:description/>
  <dc:language>en-US</dc:language>
  <cp:lastModifiedBy>admin</cp:lastModifiedBy>
  <dcterms:modified xsi:type="dcterms:W3CDTF">2011-12-18T09:27:25Z</dcterms:modified>
  <cp:revision>31</cp:revision>
  <dc:subject/>
  <dc:title>مفهوم القيادة</dc:title>
</cp:coreProperties>
</file>