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58521-BF56-4F97-9FAB-5C750C866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321C9-C8EA-46A4-9A8B-EE82E7C18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7D88E-D215-4E80-9027-7B1F124A7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8D101-E6DC-412A-8500-C8BC9BFDA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3B5BF-BAB0-4A09-8F08-D86FCB0FB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669F2-37E7-40FE-9DB8-047E048B2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86DCF-1496-47BA-8FCD-31310472F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51CB6-DB1B-451E-8E28-DE704C645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D7BDA-4C81-42E9-ADA6-3C0EFAF9D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06A27-EF98-4F64-A6C5-E7A5FE28D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32907-0D21-4D04-8911-9F9060E06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37D85-E800-45A8-9E6A-5C4D7B7DC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1EA0E-14A4-4EBE-BB2F-D729D5565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8522A-148D-4A9B-80FD-845FE4AB9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BA759-F489-45FB-B0CB-921D1BA0C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E6314-06DB-4DE2-8854-E37D9C53B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43CE8-34A6-4666-B3B6-42EAA4885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B09A9-4641-4D3E-823E-93205FD15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CFD86-2966-48A8-8383-90E4D17AE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3A120-1261-4763-A459-AE555042A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9028B-E02F-4E3C-B6CF-04DE1930F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31059-D11C-447C-886D-BF5326D28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3CA14-5514-4FF9-B9FB-5473789A6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35DF9-28FB-4AC2-857E-9B6E3A675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46559-97AE-41AA-B3B0-A546F415EE33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5F077-1379-4044-B09D-7F6C8171FA17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Title 1" descr=""/>
          <p:cNvPicPr/>
          <p:nvPr/>
        </p:nvPicPr>
        <p:blipFill>
          <a:blip r:embed="rId1"/>
          <a:stretch/>
        </p:blipFill>
        <p:spPr>
          <a:xfrm>
            <a:off x="171360" y="1365120"/>
            <a:ext cx="8912160" cy="205452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371600" y="33321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cs typeface="Times New Roman"/>
              </a:rPr>
              <a:t>الجلسة العاشرة</a:t>
            </a:r>
            <a:r>
              <a:rPr b="0" lang="ar-SA" sz="28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r" rtl="1">
              <a:spcBef>
                <a:spcPts val="700"/>
              </a:spcBef>
              <a:buClr>
                <a:srgbClr val="f9f9f9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cs typeface="Times New Roman"/>
              </a:rPr>
              <a:t>القائد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14440" indent="-514440" algn="r" rtl="1">
              <a:spcBef>
                <a:spcPts val="700"/>
              </a:spcBef>
              <a:buClr>
                <a:srgbClr val="f9f9f9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cs typeface="Times New Roman"/>
              </a:rPr>
              <a:t>التابعين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14440" indent="-514440" algn="r" rtl="1">
              <a:spcBef>
                <a:spcPts val="700"/>
              </a:spcBef>
              <a:buClr>
                <a:srgbClr val="f9f9f9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cs typeface="Times New Roman"/>
              </a:rPr>
              <a:t>هدف مشترك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cs typeface="Times New Roman"/>
              </a:rPr>
              <a:t>من هو القائد ؟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cs typeface="Times New Roman"/>
              </a:rPr>
              <a:t>هو الشخص الي يقود مجموعة او فريقا من الناس و يمتلك مزايا خاصة , و ينشر افكارا قوية بين مسؤولية فيؤثر فيهم , و يوجه سلوكهم , و يرشدهم , و ينسق بينهم , ليقدم دورا ناجحاً , و فعالاًفي قيادة فريقة , كما انه يمتلك رؤية شاملة و نظرة ثاقبة بشأن المستقبل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r" rtl="1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cs typeface="Times New Roman"/>
              </a:rPr>
              <a:t>القدرة على التخطيط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 algn="r" rtl="1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cs typeface="Times New Roman"/>
              </a:rPr>
              <a:t>إجادة التعامل مع الآخرين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 algn="r" rtl="1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cs typeface="Times New Roman"/>
              </a:rPr>
              <a:t>مهارة الحور و إدارة النقاش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 algn="r" rtl="1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cs typeface="Times New Roman"/>
              </a:rPr>
              <a:t>القدرة على إدارة الوقت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 algn="r" rtl="1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cs typeface="Times New Roman"/>
              </a:rPr>
              <a:t>تشكيل و إدارة الفريق الجماعي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 algn="r" rtl="1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cs typeface="Times New Roman"/>
              </a:rPr>
              <a:t>إدارة الاجتماعات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 algn="r" rtl="1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cs typeface="Times New Roman"/>
              </a:rPr>
              <a:t>حل المشكلات و اتخاذ القرارات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r" rtl="1">
              <a:spcBef>
                <a:spcPts val="700"/>
              </a:spcBef>
              <a:buClr>
                <a:srgbClr val="f9f9f9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cs typeface="Times New Roman"/>
              </a:rPr>
              <a:t>قدرة فائقة على قيادة من حولة في أي مكان يتواجد فيه , سواء في العمل او في النادي او المسجد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14440" indent="-514440" algn="r" rtl="1">
              <a:spcBef>
                <a:spcPts val="700"/>
              </a:spcBef>
              <a:buClr>
                <a:srgbClr val="f9f9f9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cs typeface="Times New Roman"/>
              </a:rPr>
              <a:t>يقدم النصيحة لمن يحتاجونها و يتخذ القرار دون تردد عن دراسة و متقد الذهن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14440" indent="-514440" algn="r" rtl="1">
              <a:spcBef>
                <a:spcPts val="700"/>
              </a:spcBef>
              <a:buClr>
                <a:srgbClr val="f9f9f9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cs typeface="Times New Roman"/>
              </a:rPr>
              <a:t>متنوع الاهتمامات و الهوايات و الميول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14440" indent="-514440" algn="r" rtl="1">
              <a:spcBef>
                <a:spcPts val="700"/>
              </a:spcBef>
              <a:buClr>
                <a:srgbClr val="f9f9f9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cs typeface="Times New Roman"/>
              </a:rPr>
              <a:t>بادي النشاط و الحيوية و متحمس و عالي الهمة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14440" indent="-514440" algn="r" rtl="1">
              <a:spcBef>
                <a:spcPts val="700"/>
              </a:spcBef>
              <a:buClr>
                <a:srgbClr val="f9f9f9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cs typeface="Times New Roman"/>
              </a:rPr>
              <a:t>ناجح في كل شيء يحترم نفسه و يحترم الاخرين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14440" indent="-514440" algn="r" rtl="1">
              <a:spcBef>
                <a:spcPts val="700"/>
              </a:spcBef>
              <a:buClr>
                <a:srgbClr val="f9f9f9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cs typeface="Times New Roman"/>
              </a:rPr>
              <a:t>نزيه و مستقيم و لديه ولاء لعمله و لمن يعمل معه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7</a:t>
            </a:r>
            <a:r>
              <a:rPr b="0" lang="ar-SA" sz="28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. يخلص النية لله و قوي الإرادة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14440" indent="-51444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8</a:t>
            </a:r>
            <a:r>
              <a:rPr b="0" lang="ar-SA" sz="28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. يتبع مبدأ الشورى بين مؤوليه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14440" indent="-51444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9</a:t>
            </a:r>
            <a:r>
              <a:rPr b="0" lang="ar-SA" sz="28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. لا يغتاب و لا ينم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14440" indent="-51444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10</a:t>
            </a:r>
            <a:r>
              <a:rPr b="0" lang="ar-SA" sz="28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. ناضج في التفكير و التصرفات , حسن التصرف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14440" indent="-51444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11</a:t>
            </a:r>
            <a:r>
              <a:rPr b="0" lang="ar-SA" sz="28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.حكيم في حكمة على الأمور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14440" indent="-51444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12</a:t>
            </a:r>
            <a:r>
              <a:rPr b="0" lang="ar-SA" sz="28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. يعمل بروح الفريق , و يقدم يد المساعدة  للآخرين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14440" indent="-51444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13</a:t>
            </a:r>
            <a:r>
              <a:rPr b="0" lang="ar-SA" sz="28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. يضبط نفسه عند الغضب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14440" indent="-51444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14</a:t>
            </a:r>
            <a:r>
              <a:rPr b="0" lang="ar-SA" sz="28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.مؤول و يقدر المسؤولية , و واثق من نفسه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14440" indent="-51444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15</a:t>
            </a:r>
            <a:r>
              <a:rPr b="0" lang="ar-SA" sz="28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. يشيد بجهود الآخرين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16</a:t>
            </a:r>
            <a:r>
              <a:rPr b="0" lang="ar-SA" sz="28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. حسن الخلق و هادى الطبع و عادل و منصف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14440" indent="-51444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17</a:t>
            </a:r>
            <a:r>
              <a:rPr b="0" lang="ar-SA" sz="28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 . أمين و أهل للثقة و يفي بالعهد و ينجز الوعد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14440" indent="-51444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18</a:t>
            </a:r>
            <a:r>
              <a:rPr b="0" lang="ar-SA" sz="28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. صادق مع نفسه و مع الآخرين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14440" indent="-51444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19</a:t>
            </a:r>
            <a:r>
              <a:rPr b="0" lang="ar-SA" sz="28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. يتمتع بخفة الظل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14440" indent="-51444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20</a:t>
            </a:r>
            <a:r>
              <a:rPr b="0" lang="ar-SA" sz="28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. يتقبل النقد البناء بروح رياضية و يأخذه بعين الاعتبار و لا يأبه بالنقد الظالم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14440" indent="-51444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21</a:t>
            </a:r>
            <a:r>
              <a:rPr b="0" lang="ar-SA" sz="28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. قوي الشخصية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14440" indent="-51444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22</a:t>
            </a:r>
            <a:r>
              <a:rPr b="0" lang="ar-SA" sz="28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. مبادر فاعل : لديه روح المبادرة الخلاقة و الفاعلية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14440" indent="-51444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23</a:t>
            </a:r>
            <a:r>
              <a:rPr b="0" lang="ar-SA" sz="28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. منظم و مرتب في عمله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14440" indent="-51444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24</a:t>
            </a:r>
            <a:r>
              <a:rPr b="0" lang="ar-SA" sz="28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. مبدع و مبتكر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r" rtl="1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cs typeface="Times New Roman"/>
              </a:rPr>
              <a:t>تعرف المشكلة بأنها : عقبة أمام تحقيق الأهداف , او فجوة بين الوضع الراهن و الوضع المأمول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1</a:t>
            </a:r>
            <a:r>
              <a:rPr b="0" lang="ar-SA" sz="28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. الشعور بالمشكلة: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cs typeface="Times New Roman"/>
              </a:rPr>
              <a:t>أن الشعور و الاحساس بالمشكلة من اهم خطوات حل المشكلات , فبدون الاحساس بان هناك مشكلة لن نقوم باي خطوات اخرى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 algn="r" rtl="1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498240" indent="-37404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2</a:t>
            </a:r>
            <a:r>
              <a:rPr b="0" lang="ar-SA" sz="28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. تعريف و تحديد المشكلة :أن معظم الإفراد يندفعون بردود فعلهم تجاه المشكلة قبل معرفة و فهم طبيعتها و إبعادها , عليك تعريف المشكلة الحقيقية و ليس أعراضها , و جمع البيانات التي تحتاج إليها :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498240" indent="-374040" algn="r" rtl="1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cs typeface="Times New Roman"/>
              </a:rPr>
              <a:t>كالبيانات الخارجية مثل الحقائق و الأهداف و الوقت و التاريخ و النتائج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498240" indent="-374040" algn="r" rtl="1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cs typeface="Times New Roman"/>
              </a:rPr>
              <a:t>و البيانات الداخلية مثل : المشاعر , و لأراء , و الاتجاهات , و مدى الرضا, و تعارض الشخصيات , و طريقة تفكير الآخرين , و الضغوط النفسية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498240" indent="-37404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498240" indent="-37404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-360" y="1600200"/>
            <a:ext cx="8839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cs typeface="Times New Roman"/>
              </a:rPr>
              <a:t>المحور الأول : مفهوم القيادة من حيث ( التأثير - القدرة - الوظيفة )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cs typeface="Times New Roman"/>
              </a:rPr>
              <a:t>المحور الثاني : سمات القائد ( من هو القائد - سمات القائد الناجح )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cs typeface="Times New Roman"/>
              </a:rPr>
              <a:t>المحور الثالث : مهارات القيادة (مهارة حل المشكلات – مهارة اتخاذ القرار)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481680" indent="-361440" algn="r" rtl="1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cs typeface="Times New Roman"/>
              </a:rPr>
              <a:t>ما الأسباب التي تعتقد أنها سبب المشكلة ؟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481680" indent="-361440" algn="r" rtl="1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cs typeface="Times New Roman"/>
              </a:rPr>
              <a:t>متى ؟ و أين ؟ و كيف ؟ و لماذا ؟ و مع من حدثت المشكلة ؟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481680" indent="-361440" algn="r" rtl="1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cs typeface="Times New Roman"/>
              </a:rPr>
              <a:t>هل المعلومات التي لدي موثوق فيها , و كافيه؟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481680" indent="-361440" algn="r" rtl="1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cs typeface="Times New Roman"/>
              </a:rPr>
              <a:t>هل تم تحديد المعلومات , التي احتاج إليها لتفهم المشكلة بشكل أفضل ؟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481680" indent="-361440" algn="r" rtl="1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cs typeface="Times New Roman"/>
              </a:rPr>
              <a:t>هل تم تحديد مصادر جمع هذه المعلومات ؟ و هل ستجمع من الكتب , ام من الإفراد ؟ و ما نوعية الكتب ؟ و من هم الإفراد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481680" indent="-361440" algn="r" rtl="1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cs typeface="Times New Roman"/>
              </a:rPr>
              <a:t>هل تم تحديد المحك او المعيار للحكم على مصداقية المعلومات ؟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481680" indent="-361440" algn="r" rtl="1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cs typeface="Times New Roman"/>
              </a:rPr>
              <a:t>ما دوري و دور الآخرين في إيجاد الحل , و تنفيذه ؟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Title 1" descr=""/>
          <p:cNvPicPr/>
          <p:nvPr/>
        </p:nvPicPr>
        <p:blipFill>
          <a:blip r:embed="rId1"/>
          <a:stretch/>
        </p:blipFill>
        <p:spPr>
          <a:xfrm>
            <a:off x="450720" y="103320"/>
            <a:ext cx="8242560" cy="143964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468000" indent="-468000" algn="r" rtl="1">
              <a:lnSpc>
                <a:spcPct val="8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ffffff"/>
                </a:solidFill>
                <a:latin typeface="Book Antiqua"/>
                <a:cs typeface="Times New Roman"/>
              </a:rPr>
              <a:t>اكتب المشكلة لتستطيع أن تراها أمامك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468000" indent="-468000" algn="r" rtl="1">
              <a:lnSpc>
                <a:spcPct val="8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ffffff"/>
                </a:solidFill>
                <a:latin typeface="Book Antiqua"/>
                <a:cs typeface="Times New Roman"/>
              </a:rPr>
              <a:t>إذا كانت المشكلة معقدة , فقم بتجزئتها إلى أجزاء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468000" indent="-468000" algn="r" rtl="1">
              <a:lnSpc>
                <a:spcPct val="8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ffffff"/>
                </a:solidFill>
                <a:latin typeface="Book Antiqua"/>
                <a:cs typeface="Times New Roman"/>
              </a:rPr>
              <a:t>إذا كانت المشكلة مرتبطة بمشكلات أخرى حدد أولويتك وإبداء بالمشكلة الأهم فالأقل أهمية 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468000" indent="-468000" algn="r" rtl="1">
              <a:lnSpc>
                <a:spcPct val="8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ffffff"/>
                </a:solidFill>
                <a:latin typeface="Book Antiqua"/>
                <a:cs typeface="Times New Roman"/>
              </a:rPr>
              <a:t>تحليل المعلومات التي تم جمعها 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468000" indent="-468000" algn="r" rtl="1">
              <a:lnSpc>
                <a:spcPct val="8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ffffff"/>
                </a:solidFill>
                <a:latin typeface="Book Antiqua"/>
                <a:cs typeface="Times New Roman"/>
              </a:rPr>
              <a:t>تحديد معلومات أخرى جديدة و مفيدة لحل المشكلة و حذف بعض مما يعتبر غير مهم 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468000" indent="-468000" algn="r" rtl="1">
              <a:lnSpc>
                <a:spcPct val="8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ffffff"/>
                </a:solidFill>
                <a:latin typeface="Book Antiqua"/>
                <a:cs typeface="Times New Roman"/>
              </a:rPr>
              <a:t>طرح استراتيجيات مختلفة لحل المشكلة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468000" indent="-468000" algn="r" rtl="1">
              <a:lnSpc>
                <a:spcPct val="8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ffffff"/>
                </a:solidFill>
                <a:latin typeface="Book Antiqua"/>
                <a:cs typeface="Times New Roman"/>
              </a:rPr>
              <a:t>اختبار الاستراتيجيات المناسبة لحل المشكلة المطروحة للنقاش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468000" indent="-468000" algn="r" rtl="1">
              <a:lnSpc>
                <a:spcPct val="8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ffffff"/>
                </a:solidFill>
                <a:latin typeface="Book Antiqua"/>
                <a:cs typeface="Times New Roman"/>
              </a:rPr>
              <a:t>العمل على حل المشكلة في ضوء الاستراتيجيات التي تم اختيارها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468000" indent="-468000" algn="r" rtl="1">
              <a:lnSpc>
                <a:spcPct val="8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ffffff"/>
                </a:solidFill>
                <a:latin typeface="Book Antiqua"/>
                <a:cs typeface="Times New Roman"/>
              </a:rPr>
              <a:t>العمل على تقييم النتائج التي تم التوصل إليها لحل المشكلة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468000" indent="-468000" algn="r" rtl="1">
              <a:lnSpc>
                <a:spcPct val="8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ffffff"/>
                </a:solidFill>
                <a:latin typeface="Book Antiqua"/>
                <a:cs typeface="Times New Roman"/>
              </a:rPr>
              <a:t>تطبيق خطوات حل المشكلة بدقة عالية 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r" rtl="1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cs typeface="Times New Roman"/>
              </a:rPr>
              <a:t>إستراتيجية اتخاذ القرار هي : عملية تقوم بها حين تواجهك مشكلة او عائق , او موقف يتطلب منك اختيار البديل , او الحل الأفضل , او الأنسب من مجموعة  الحلول المحتملة , و هي محصلة مجموعة من الاراء و الافكار و الاتصالات و ذلك لتحقيق الهدف , او النتيجة المرجوة 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Title 1" descr=""/>
          <p:cNvPicPr/>
          <p:nvPr/>
        </p:nvPicPr>
        <p:blipFill>
          <a:blip r:embed="rId1"/>
          <a:stretch/>
        </p:blipFill>
        <p:spPr>
          <a:xfrm>
            <a:off x="285840" y="268200"/>
            <a:ext cx="8656560" cy="115884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r" rtl="1">
              <a:spcBef>
                <a:spcPts val="700"/>
              </a:spcBef>
              <a:buClr>
                <a:srgbClr val="f9f9f9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cs typeface="Times New Roman"/>
              </a:rPr>
              <a:t>القيم و المعتقدات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14440" indent="-514440" algn="r" rtl="1">
              <a:spcBef>
                <a:spcPts val="700"/>
              </a:spcBef>
              <a:buClr>
                <a:srgbClr val="f9f9f9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cs typeface="Times New Roman"/>
              </a:rPr>
              <a:t>الميول و الطموحات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14440" indent="-514440" algn="r" rtl="1">
              <a:spcBef>
                <a:spcPts val="700"/>
              </a:spcBef>
              <a:buClr>
                <a:srgbClr val="f9f9f9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cs typeface="Times New Roman"/>
              </a:rPr>
              <a:t>العوامل الجسمية و النفسية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r" rtl="1">
              <a:spcBef>
                <a:spcPts val="700"/>
              </a:spcBef>
              <a:buClr>
                <a:srgbClr val="f9f9f9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cs typeface="Times New Roman"/>
              </a:rPr>
              <a:t>تحديد أهمية اتخاذ القرار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14440" indent="-514440" algn="r" rtl="1">
              <a:spcBef>
                <a:spcPts val="700"/>
              </a:spcBef>
              <a:buClr>
                <a:srgbClr val="f9f9f9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cs typeface="Times New Roman"/>
              </a:rPr>
              <a:t>تحديد الخيارات المتاحة لك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14440" indent="-514440" algn="r" rtl="1">
              <a:spcBef>
                <a:spcPts val="700"/>
              </a:spcBef>
              <a:buClr>
                <a:srgbClr val="f9f9f9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cs typeface="Times New Roman"/>
              </a:rPr>
              <a:t>تحديد النتائج المرجحة لكل قرار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14440" indent="-514440" algn="r" rtl="1">
              <a:spcBef>
                <a:spcPts val="700"/>
              </a:spcBef>
              <a:buClr>
                <a:srgbClr val="f9f9f9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cs typeface="Times New Roman"/>
              </a:rPr>
              <a:t>تحديد الخيار الأفضل في ضوء هذه النتائج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14440" indent="-514440" algn="r" rtl="1">
              <a:spcBef>
                <a:spcPts val="700"/>
              </a:spcBef>
              <a:buClr>
                <a:srgbClr val="f9f9f9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cs typeface="Times New Roman"/>
              </a:rPr>
              <a:t>تحديد أهمية هذه النتائج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83480" indent="-483480" algn="r" rtl="1">
              <a:spcBef>
                <a:spcPts val="700"/>
              </a:spcBef>
              <a:buClr>
                <a:srgbClr val="f9f9f9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cs typeface="Times New Roman"/>
              </a:rPr>
              <a:t>حدد هدفك و مشكلتك بدقة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483480" indent="-483480" algn="r" rtl="1">
              <a:spcBef>
                <a:spcPts val="700"/>
              </a:spcBef>
              <a:buClr>
                <a:srgbClr val="f9f9f9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cs typeface="Times New Roman"/>
              </a:rPr>
              <a:t>اجمع المعلومات الكافية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483480" indent="-483480" algn="r" rtl="1">
              <a:spcBef>
                <a:spcPts val="700"/>
              </a:spcBef>
              <a:buClr>
                <a:srgbClr val="f9f9f9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cs typeface="Times New Roman"/>
              </a:rPr>
              <a:t>في صنع القرار , أتح فرصة المشاركة لكل من له علاقة به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483480" indent="-483480" algn="r" rtl="1">
              <a:spcBef>
                <a:spcPts val="700"/>
              </a:spcBef>
              <a:buClr>
                <a:srgbClr val="f9f9f9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cs typeface="Times New Roman"/>
              </a:rPr>
              <a:t>اطلب عدة خيارات و بدائل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483480" indent="-483480" algn="r" rtl="1">
              <a:spcBef>
                <a:spcPts val="700"/>
              </a:spcBef>
              <a:buClr>
                <a:srgbClr val="f9f9f9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cs typeface="Times New Roman"/>
              </a:rPr>
              <a:t>وازن بين البدائل و حدد نقاط الضعف و القوة فيها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483480" indent="-483480" algn="r" rtl="1">
              <a:spcBef>
                <a:spcPts val="700"/>
              </a:spcBef>
              <a:buClr>
                <a:srgbClr val="f9f9f9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cs typeface="Times New Roman"/>
              </a:rPr>
              <a:t>بالاشتراك مع زملائك حدد الخيار الأمثل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483480" indent="-483480" algn="r" rtl="1">
              <a:spcBef>
                <a:spcPts val="700"/>
              </a:spcBef>
              <a:buClr>
                <a:srgbClr val="f9f9f9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cs typeface="Times New Roman"/>
              </a:rPr>
              <a:t>تصور مع زملائك جميع النتائج السلبية و الايجابية على هذا القرار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483480" indent="-483480" algn="r" rtl="1">
              <a:spcBef>
                <a:spcPts val="700"/>
              </a:spcBef>
              <a:buClr>
                <a:srgbClr val="f9f9f9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cs typeface="Times New Roman"/>
              </a:rPr>
              <a:t>اختر الوقت المناسب لإصداره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483480" indent="-483480" algn="r" rtl="1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9</a:t>
            </a:r>
            <a:r>
              <a:rPr b="0" lang="ar-SA" sz="28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. حدد المسؤوليات في تنفيذه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14440" indent="-51444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10</a:t>
            </a:r>
            <a:r>
              <a:rPr b="0" lang="ar-SA" sz="28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. أعط الدعم المادي و المعنوي لإنجاحه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14440" indent="-51444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11</a:t>
            </a:r>
            <a:r>
              <a:rPr b="0" lang="ar-SA" sz="28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. تابع تنفيذه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14440" indent="-51444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12</a:t>
            </a:r>
            <a:r>
              <a:rPr b="0" lang="ar-SA" sz="28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. ضع إجراءات مكتوبة في حال عدم تنفيذه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14440" indent="-51444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13</a:t>
            </a:r>
            <a:r>
              <a:rPr b="0" lang="ar-SA" sz="28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. تنبيهات عند اتخاذ القرار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14440" indent="-51444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14</a:t>
            </a:r>
            <a:r>
              <a:rPr b="0" lang="ar-SA" sz="28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. لا تلجأ لأول حل يخطر ببالك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14440" indent="-51444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15</a:t>
            </a:r>
            <a:r>
              <a:rPr b="0" lang="ar-SA" sz="28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. يمكنك الاستفادة من تجارب الآخرين في مجال اتخاذ القرار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14440" indent="-51444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16</a:t>
            </a:r>
            <a:r>
              <a:rPr b="0" lang="ar-SA" sz="28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. لا يكن قرارك بناء على ردة فعل غير مناسبة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14440" indent="-514440" algn="r" rtl="1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r" rtl="1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cs typeface="Times New Roman"/>
              </a:rPr>
              <a:t>القيادة جزأين :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 algn="r" rtl="1">
              <a:spcBef>
                <a:spcPts val="700"/>
              </a:spcBef>
              <a:buClr>
                <a:srgbClr val="f9f9f9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cs typeface="Times New Roman"/>
              </a:rPr>
              <a:t>جزاء منه فطري , و موهبة من الله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 algn="r" rtl="1">
              <a:spcBef>
                <a:spcPts val="700"/>
              </a:spcBef>
              <a:buClr>
                <a:srgbClr val="f9f9f9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cs typeface="Times New Roman"/>
              </a:rPr>
              <a:t>جزاء مكتسب من التعلم و الخبرة و التدريب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 algn="r" rtl="1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r" rtl="1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cs typeface="Times New Roman"/>
              </a:rPr>
              <a:t>القيادة علم له أصول لأنه يخضع للدراسة و يدرس في الجامعات 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 algn="r" rtl="1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cs typeface="Times New Roman"/>
              </a:rPr>
              <a:t>القيادة فن : لأنه يعتمد على ذكاء القائد و بصيرته في حسن التصرف في المواقف و الأزمات التي يتعرض لها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r" rtl="1">
              <a:spcBef>
                <a:spcPts val="700"/>
              </a:spcBef>
              <a:buClr>
                <a:srgbClr val="f9f9f9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cs typeface="Times New Roman"/>
              </a:rPr>
              <a:t>من حيث التأثير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14440" indent="-514440" algn="r" rtl="1">
              <a:spcBef>
                <a:spcPts val="700"/>
              </a:spcBef>
              <a:buClr>
                <a:srgbClr val="f9f9f9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cs typeface="Times New Roman"/>
              </a:rPr>
              <a:t>من حيث القدرة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14440" indent="-514440" algn="r" rtl="1">
              <a:spcBef>
                <a:spcPts val="700"/>
              </a:spcBef>
              <a:buClr>
                <a:srgbClr val="f9f9f9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cs typeface="Times New Roman"/>
              </a:rPr>
              <a:t>من حيث الوظيفة 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31000" indent="-398520" algn="r" rtl="1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cs typeface="Times New Roman"/>
              </a:rPr>
              <a:t>التأثير في الأشخاص بدرجة تجعلهم يحققون أهداف الجماعة بحماس , و عن طيب خاطر , و تشجعهم على التطوير , ليس فقط الرغبة في العمل , و لكن للرغبة في العمل بحماس و ثقة 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31000" indent="-398520" algn="r" rtl="1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cs typeface="Times New Roman"/>
              </a:rPr>
              <a:t>تأثير شخصي متبادل , يظهر بوضوح في حالات معينة , و يوجه من خلال وسائل الاتصال الإنساني بين الرئيس و المرؤوس نحو تحقيق الأهداف المنشودة 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31000" indent="-398520" algn="r" rtl="1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cs typeface="Times New Roman"/>
              </a:rPr>
              <a:t>فن معاملة الطبيعة البشرية , او فن التأثير في السلوك البشري , لتوجيه جماعة من الناس , نحو هدف معين , بطريقة نضمن بها طاعتهم , و احترامهم و تعاونهم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r" rtl="1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cs typeface="Times New Roman"/>
              </a:rPr>
              <a:t>القدرة على توحيد سلوك الجماعة في موقف محدد , لتحقيق هدف معين 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 algn="r" rtl="1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cs typeface="Times New Roman"/>
              </a:rPr>
              <a:t>القدرة على تحريك الناس نحو هدف معين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 algn="r" rtl="1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cs typeface="Times New Roman"/>
              </a:rPr>
              <a:t>القدرة على انجاز الإعمال الصحيحة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 algn="r" rtl="1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r" rtl="1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cs typeface="Times New Roman"/>
              </a:rPr>
              <a:t>الوظيفة التي يستخدم فيها الشخص ما يمكن من سمات و خصائص اكتسبها بالخبرة , و التعلم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 algn="r" rtl="1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cs typeface="Times New Roman"/>
              </a:rPr>
              <a:t>العمل الدؤوب للقادة و المديرين , اذ يواجه المشكلات و يقوم المعوج من الأمور , و يحقق التعاون بين العاملين , و يدعم روح الفريق , و يحقق الكفاية المستمرة في مستوى الأداء , و يحقق الترابط و الانسجام , بين الأهداف الفردية و الأهداف الجماعية , و يكتل الجهود جميعا في اتجاه واحد نحو الهدف النهائي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r" rtl="1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cs typeface="Times New Roman"/>
              </a:rPr>
              <a:t>فن التأثير في الأشخاص , و توجيه جهودهم بطريقة صحيحة نحو أهداف محددة , يتسنى معها كسب طاعاتهم , و احترامهم , و ولائهم , و تعاونهم , في سبيل تحقيق الأهداف المشتركة 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admin</dc:creator>
  <dc:description/>
  <dc:language>en-US</dc:language>
  <cp:lastModifiedBy>admin</cp:lastModifiedBy>
  <dcterms:modified xsi:type="dcterms:W3CDTF">2011-12-18T09:27:25Z</dcterms:modified>
  <cp:revision>31</cp:revision>
  <dc:subject/>
  <dc:title>مفهوم القيادة</dc:title>
</cp:coreProperties>
</file>