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DC4-B848-43C7-B276-4BCBB790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B10-D35F-450E-AEE4-4D4BF2C5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4B4-E90D-47E5-A63B-A8BFA0E8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5A9-9EF6-457A-8107-CFE16985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69E-83AB-4736-ADEA-1C9628E9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989-3553-4866-A917-0568EE6E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626-4708-48F4-B8E1-5F7E711C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98C-B021-439B-9039-1C3F893A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42D-A18E-4838-8E97-D3F3797B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54A-CECE-4D45-899A-92E1263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DCD-26FF-49CC-94D5-FF23DD4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42E-B48A-49BC-97CB-CDF5B5E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68B-5DE0-4FA9-AE82-310857BD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منهج السلف في تلقي العقيدة والاستدلال عليها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24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ـ أول قاعدة في منهج السلف هي اقتصارهم في مصدر التلقي على الوحي: كتاب الله وسنة رسوله الله صلى الله عليه وسلم الصحيحة، وقد تمثلت هذه القاعدة في عدة ركائ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 ـ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قاد الجازم بأنَّه لا يتحقق رضا الله تبارك وتعالى والفوز بجنته والنجاة من عذابه إلاَّ بالإيمان بهما والعمل بما جاءا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 ـ أنَّ هذا الدين كام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 ـ وجوب تقديم الشرع على العقل عند توهم التعار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 ـ الأدب مع نصوص الكتاب والسن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ـ عدم الخوض في علم الكلام والفلسف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 ـ الحرص على العلم النافع مع العمل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ب ـ النهي عن البدع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ج ـ الرد على المنحرفين وأصحاب الأهواء بمنهج متمي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ـ حجية السنة في العقيدة ومن ذلك خبر الآحاد، وهذه من القواعد الكبرى في منهج السل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نَّ الصحابة أعلم الناس بعد الرسول صلى الله عليه وسل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 ـ أنَّهم شهدوا التنزيل، وعاشوا مع النبي ص وهو يتلقى هذا الوحي من رب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- أنَّ حواري الرسل وصحابتهم الذين اتبعوهم وآمنوا بهم هم أكثر الناس فهم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 ـ لم يكن بين الصحابة ن خلاف في العقيد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 ـ كان الصحابة يسألون عمّا يشكل عليه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 ومن منهج السلف: التسليم لما جاء به الوحي، مع إعطاء العقل دوره الحقيق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تلقي النصوص دون مقررات سابقة (عقلية أو عقدية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الرجوع إلى النصوص الواردة في مسألة معينة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التزام العدل والإنصاف مع أعدائه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4:40:06Z</dcterms:created>
  <dc:creator>user</dc:creator>
  <dc:description/>
  <dc:language>en-US</dc:language>
  <cp:lastModifiedBy>user</cp:lastModifiedBy>
  <dcterms:modified xsi:type="dcterms:W3CDTF">2005-06-17T07:53:10Z</dcterms:modified>
  <cp:revision>5</cp:revision>
  <dc:subject/>
  <dc:title>الشريحة 1</dc:title>
</cp:coreProperties>
</file>