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DAD4-0140-4642-90BC-56B0657AC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C225-C03A-4617-ABCA-4AE9C592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AF6F-03C6-4BF0-A94F-5D5A8D63D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326C-46FC-4D62-AC9D-53029EB42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DCDE-C4B1-4689-92E9-9DE98DCC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126D-87D0-46E5-8BEB-EE819006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7674-F352-473A-A1D2-F3FE83BD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483D-E2FE-4452-BACC-58E683B6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4191-3626-4EA7-BC2A-8F0F8201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CFC3-F4ED-4040-AD42-45D2E2A7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9B06-95AF-4D4E-8C2E-E5572676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CFE7-BA18-4753-95CC-5D53BD73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28E4-75D0-451E-A3FC-46237E15B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Arial"/>
                <a:cs typeface="Monotype Koufi"/>
              </a:rPr>
              <a:t>منهج السلف في تلقي العقيدة والاستدلال عليها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824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ـ أول قاعدة في منهج السلف هي اقتصارهم في مصدر التلقي على الوحي: كتاب الله وسنة رسوله الله صلى الله عليه وسلم الصحيحة، وقد تمثلت هذه القاعدة في عدة ركائ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 ـ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اعتقاد الجازم بأنَّه لا يتحقق رضا الله تبارك وتعالى والفوز بجنته والنجاة من عذابه إلاَّ بالإيمان بهما والعمل بما جاءا ب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 ـ أنَّ هذا الدين كام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ج ـ وجوب تقديم الشرع على العقل عند توهم التعار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د ـ الأدب مع نصوص الكتاب والسن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ـ عدم الخوض في علم الكلام والفلسفة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أ ـ الحرص على العلم النافع مع العمل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ب ـ النهي عن البدع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ج ـ الرد على المنحرفين وأصحاب الأهواء بمنهج متميز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 ـ حجية السنة في العقيدة ومن ذلك خبر الآحاد، وهذه من القواعد الكبرى في منهج السل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8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أنَّ الصحابة أعلم الناس بعد الرسول صلى الله عليه وسل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أ ـ أنَّهم شهدوا التنزيل، وعاشوا مع النبي ص وهو يتلقى هذا الوحي من رب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- أنَّ حواري الرسل وصحابتهم الذين اتبعوهم وآمنوا بهم هم أكثر الناس فهما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ج ـ لم يكن بين الصحابة ن خلاف في العقيد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د ـ كان الصحابة يسألون عمّا يشكل عليه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ـ ومن منهج السلف: التسليم لما جاء به الوحي، مع إعطاء العقل دوره الحقيقي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ـ تلقي النصوص دون مقررات سابقة (عقلية أو عقدية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ـ الرجوع إلى النصوص الواردة في مسألة معينة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ـ التزام العدل والإنصاف مع أعدائه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4:40:06Z</dcterms:created>
  <dc:creator>user</dc:creator>
  <dc:description/>
  <dc:language>en-US</dc:language>
  <cp:lastModifiedBy>user</cp:lastModifiedBy>
  <dcterms:modified xsi:type="dcterms:W3CDTF">2005-06-17T07:53:10Z</dcterms:modified>
  <cp:revision>5</cp:revision>
  <dc:subject/>
  <dc:title>الشريحة 1</dc:title>
</cp:coreProperties>
</file>