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788-B65F-4A77-B0FE-A4D5F077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4DC-6CB6-43A2-8064-CFD9C08C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449-3320-4033-8FB0-C9B80FAE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46F-364B-44A0-A5A8-96D3EB1D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105-07F2-4709-86EA-0B3F52FB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C1B-A05B-4577-BED5-64C93DAB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98B-E7BD-440A-AF4E-2445D8E8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3DB-7D62-4EE9-81E4-E7225C3F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33D-B0AA-4E72-8A51-29E7784C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DD4-13DE-485F-AD32-B9C0D85A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463-1D9C-4593-9D11-34D2ED18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85A-9301-4CF9-BD5A-FF77D707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A3E4-A1FC-4F8C-B8F8-0EB4FB48AA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00960" y="-237600"/>
            <a:ext cx="8547480" cy="7089840"/>
            <a:chOff x="300960" y="-237600"/>
            <a:chExt cx="8547480" cy="7089840"/>
          </a:xfrm>
        </p:grpSpPr>
        <p:sp>
          <p:nvSpPr>
            <p:cNvPr id="43" name="_s2067"/>
            <p:cNvSpPr/>
            <p:nvPr/>
          </p:nvSpPr>
          <p:spPr>
            <a:xfrm flipH="1" flipV="1">
              <a:off x="2515320" y="2420640"/>
              <a:ext cx="1032120" cy="446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6"/>
            <p:cNvSpPr/>
            <p:nvPr/>
          </p:nvSpPr>
          <p:spPr>
            <a:xfrm>
              <a:off x="300960" y="1093320"/>
              <a:ext cx="2375280" cy="17733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الإيمان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بالقدر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5"/>
            <p:cNvSpPr/>
            <p:nvPr/>
          </p:nvSpPr>
          <p:spPr>
            <a:xfrm flipH="1">
              <a:off x="2515680" y="3749760"/>
              <a:ext cx="1036080" cy="443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4"/>
            <p:cNvSpPr/>
            <p:nvPr/>
          </p:nvSpPr>
          <p:spPr>
            <a:xfrm>
              <a:off x="304920" y="3752640"/>
              <a:ext cx="2375280" cy="1773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4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الإيمان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4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باليوم الآخر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3"/>
            <p:cNvSpPr/>
            <p:nvPr/>
          </p:nvSpPr>
          <p:spPr>
            <a:xfrm>
              <a:off x="4572720" y="4188600"/>
              <a:ext cx="3960" cy="8906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62"/>
            <p:cNvSpPr/>
            <p:nvPr/>
          </p:nvSpPr>
          <p:spPr>
            <a:xfrm>
              <a:off x="3390480" y="5079240"/>
              <a:ext cx="2375280" cy="17730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الإيمان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بالرسل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61"/>
            <p:cNvSpPr/>
            <p:nvPr/>
          </p:nvSpPr>
          <p:spPr>
            <a:xfrm>
              <a:off x="5598000" y="3747240"/>
              <a:ext cx="1032120" cy="446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0"/>
            <p:cNvSpPr/>
            <p:nvPr/>
          </p:nvSpPr>
          <p:spPr>
            <a:xfrm>
              <a:off x="6473160" y="3749760"/>
              <a:ext cx="2375280" cy="17730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الإيمان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بالكتب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59"/>
            <p:cNvSpPr/>
            <p:nvPr/>
          </p:nvSpPr>
          <p:spPr>
            <a:xfrm flipV="1">
              <a:off x="5598000" y="2420640"/>
              <a:ext cx="1032120" cy="443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58"/>
            <p:cNvSpPr/>
            <p:nvPr/>
          </p:nvSpPr>
          <p:spPr>
            <a:xfrm>
              <a:off x="6473160" y="1091160"/>
              <a:ext cx="2375280" cy="17730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الإيمان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بالملائكة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57"/>
            <p:cNvSpPr/>
            <p:nvPr/>
          </p:nvSpPr>
          <p:spPr>
            <a:xfrm flipV="1">
              <a:off x="4572720" y="1532160"/>
              <a:ext cx="0" cy="8906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56"/>
            <p:cNvSpPr/>
            <p:nvPr/>
          </p:nvSpPr>
          <p:spPr>
            <a:xfrm>
              <a:off x="3387600" y="-237600"/>
              <a:ext cx="2375280" cy="17730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الإيمان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بالله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55"/>
            <p:cNvSpPr/>
            <p:nvPr/>
          </p:nvSpPr>
          <p:spPr>
            <a:xfrm>
              <a:off x="3387600" y="2423160"/>
              <a:ext cx="2375280" cy="17730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أركان العقيدة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الإسلام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39640" y="0"/>
            <a:ext cx="6732000" cy="6857640"/>
            <a:chOff x="539640" y="0"/>
            <a:chExt cx="6732000" cy="6857640"/>
          </a:xfrm>
        </p:grpSpPr>
        <p:cxnSp>
          <p:nvCxnSpPr>
            <p:cNvPr id="141" name="_s8209"/>
            <p:cNvCxnSpPr>
              <a:stCxn id="142" idx="3"/>
              <a:endCxn id="143" idx="2"/>
            </p:cNvCxnSpPr>
            <p:nvPr/>
          </p:nvCxnSpPr>
          <p:spPr>
            <a:xfrm flipV="1">
              <a:off x="4578840" y="806400"/>
              <a:ext cx="673920" cy="565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8207"/>
            <p:cNvCxnSpPr>
              <a:stCxn id="145" idx="3"/>
              <a:endCxn id="143" idx="2"/>
            </p:cNvCxnSpPr>
            <p:nvPr/>
          </p:nvCxnSpPr>
          <p:spPr>
            <a:xfrm flipV="1">
              <a:off x="4578840" y="806400"/>
              <a:ext cx="673920" cy="444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8205"/>
            <p:cNvCxnSpPr>
              <a:stCxn id="147" idx="3"/>
              <a:endCxn id="143" idx="2"/>
            </p:cNvCxnSpPr>
            <p:nvPr/>
          </p:nvCxnSpPr>
          <p:spPr>
            <a:xfrm flipV="1">
              <a:off x="4578840" y="806040"/>
              <a:ext cx="673920" cy="32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8204"/>
            <p:cNvCxnSpPr>
              <a:stCxn id="149" idx="3"/>
              <a:endCxn id="143" idx="2"/>
            </p:cNvCxnSpPr>
            <p:nvPr/>
          </p:nvCxnSpPr>
          <p:spPr>
            <a:xfrm flipV="1">
              <a:off x="4578840" y="806400"/>
              <a:ext cx="673920" cy="201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8203"/>
            <p:cNvCxnSpPr>
              <a:stCxn id="151" idx="3"/>
              <a:endCxn id="143" idx="2"/>
            </p:cNvCxnSpPr>
            <p:nvPr/>
          </p:nvCxnSpPr>
          <p:spPr>
            <a:xfrm flipV="1">
              <a:off x="4578840" y="806040"/>
              <a:ext cx="673920" cy="81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8199"/>
            <p:cNvSpPr/>
            <p:nvPr/>
          </p:nvSpPr>
          <p:spPr>
            <a:xfrm>
              <a:off x="3232440" y="0"/>
              <a:ext cx="4039200" cy="80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DecoType Naskh Variants"/>
                </a:rPr>
                <a:t>ثمرات الإيمان باليوم الآخ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8200"/>
            <p:cNvSpPr/>
            <p:nvPr/>
          </p:nvSpPr>
          <p:spPr>
            <a:xfrm>
              <a:off x="539640" y="1209960"/>
              <a:ext cx="4039200" cy="80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معرفة حقيقة الحياة الدني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8201"/>
            <p:cNvSpPr/>
            <p:nvPr/>
          </p:nvSpPr>
          <p:spPr>
            <a:xfrm>
              <a:off x="539640" y="2420280"/>
              <a:ext cx="4039200" cy="80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اجتهاد في أداء العمل الصال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8202"/>
            <p:cNvSpPr/>
            <p:nvPr/>
          </p:nvSpPr>
          <p:spPr>
            <a:xfrm>
              <a:off x="539640" y="3630240"/>
              <a:ext cx="4039200" cy="80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كثرة ذكر المو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8206"/>
            <p:cNvSpPr/>
            <p:nvPr/>
          </p:nvSpPr>
          <p:spPr>
            <a:xfrm>
              <a:off x="539640" y="4840560"/>
              <a:ext cx="4039200" cy="80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حذر من المعاصي والخطاي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8208"/>
            <p:cNvSpPr/>
            <p:nvPr/>
          </p:nvSpPr>
          <p:spPr>
            <a:xfrm>
              <a:off x="539640" y="6050880"/>
              <a:ext cx="4039200" cy="806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تسلية المؤمن عما يفوته من الدني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24000" y="189000"/>
            <a:ext cx="8134200" cy="6407640"/>
            <a:chOff x="324000" y="189000"/>
            <a:chExt cx="8134200" cy="6407640"/>
          </a:xfrm>
        </p:grpSpPr>
        <p:cxnSp>
          <p:nvCxnSpPr>
            <p:cNvPr id="154" name="_s9231"/>
            <p:cNvCxnSpPr>
              <a:stCxn id="155" idx="3"/>
              <a:endCxn id="156" idx="2"/>
            </p:cNvCxnSpPr>
            <p:nvPr/>
          </p:nvCxnSpPr>
          <p:spPr>
            <a:xfrm flipV="1">
              <a:off x="5204160" y="1103760"/>
              <a:ext cx="813960" cy="503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9229"/>
            <p:cNvCxnSpPr>
              <a:stCxn id="158" idx="3"/>
              <a:endCxn id="156" idx="2"/>
            </p:cNvCxnSpPr>
            <p:nvPr/>
          </p:nvCxnSpPr>
          <p:spPr>
            <a:xfrm flipV="1">
              <a:off x="5204160" y="1103760"/>
              <a:ext cx="813960" cy="366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9228"/>
            <p:cNvCxnSpPr>
              <a:stCxn id="160" idx="3"/>
              <a:endCxn id="156" idx="2"/>
            </p:cNvCxnSpPr>
            <p:nvPr/>
          </p:nvCxnSpPr>
          <p:spPr>
            <a:xfrm flipV="1">
              <a:off x="5204160" y="1103400"/>
              <a:ext cx="813960" cy="228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9227"/>
            <p:cNvCxnSpPr>
              <a:stCxn id="162" idx="3"/>
              <a:endCxn id="156" idx="2"/>
            </p:cNvCxnSpPr>
            <p:nvPr/>
          </p:nvCxnSpPr>
          <p:spPr>
            <a:xfrm flipV="1">
              <a:off x="5204160" y="1103400"/>
              <a:ext cx="813960" cy="9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6" name="_s9223"/>
            <p:cNvSpPr/>
            <p:nvPr/>
          </p:nvSpPr>
          <p:spPr>
            <a:xfrm>
              <a:off x="3577680" y="189000"/>
              <a:ext cx="4880520" cy="91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00000"/>
                  </a:solidFill>
                  <a:latin typeface="Arial"/>
                  <a:cs typeface="Kufi Outline Shaded"/>
                </a:rPr>
                <a:t>الإيمان </a:t>
              </a:r>
              <a:r>
                <a:rPr b="0" lang="ar-SA" sz="3600" spc="-1" strike="noStrike">
                  <a:solidFill>
                    <a:srgbClr val="000000"/>
                  </a:solidFill>
                  <a:latin typeface="Arial"/>
                  <a:cs typeface="Kufi Outline Shaded"/>
                </a:rPr>
                <a:t>باالقد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9224"/>
            <p:cNvSpPr/>
            <p:nvPr/>
          </p:nvSpPr>
          <p:spPr>
            <a:xfrm>
              <a:off x="324000" y="1562040"/>
              <a:ext cx="4880520" cy="91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علم الله الأزل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9225"/>
            <p:cNvSpPr/>
            <p:nvPr/>
          </p:nvSpPr>
          <p:spPr>
            <a:xfrm>
              <a:off x="324000" y="2935080"/>
              <a:ext cx="4880520" cy="91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كتابة الله كل مقادير الخل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في اللوح المحفو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9226"/>
            <p:cNvSpPr/>
            <p:nvPr/>
          </p:nvSpPr>
          <p:spPr>
            <a:xfrm>
              <a:off x="324000" y="4308480"/>
              <a:ext cx="4880520" cy="91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أن الله تعالى خالق كل شي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9230"/>
            <p:cNvSpPr/>
            <p:nvPr/>
          </p:nvSpPr>
          <p:spPr>
            <a:xfrm>
              <a:off x="324000" y="5681520"/>
              <a:ext cx="4880520" cy="91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عمومية مشيئة الله تعال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79280" y="0"/>
            <a:ext cx="8963280" cy="6857280"/>
            <a:chOff x="179280" y="0"/>
            <a:chExt cx="8963280" cy="6857280"/>
          </a:xfrm>
        </p:grpSpPr>
        <p:cxnSp>
          <p:nvCxnSpPr>
            <p:cNvPr id="165" name="_s10259"/>
            <p:cNvCxnSpPr>
              <a:stCxn id="166" idx="3"/>
              <a:endCxn id="167" idx="2"/>
            </p:cNvCxnSpPr>
            <p:nvPr/>
          </p:nvCxnSpPr>
          <p:spPr>
            <a:xfrm flipV="1">
              <a:off x="5556960" y="683280"/>
              <a:ext cx="896760" cy="583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10257"/>
            <p:cNvCxnSpPr>
              <a:stCxn id="169" idx="3"/>
              <a:endCxn id="167" idx="2"/>
            </p:cNvCxnSpPr>
            <p:nvPr/>
          </p:nvCxnSpPr>
          <p:spPr>
            <a:xfrm flipV="1">
              <a:off x="5556960" y="683280"/>
              <a:ext cx="896760" cy="480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10255"/>
            <p:cNvCxnSpPr>
              <a:stCxn id="171" idx="3"/>
              <a:endCxn id="167" idx="2"/>
            </p:cNvCxnSpPr>
            <p:nvPr/>
          </p:nvCxnSpPr>
          <p:spPr>
            <a:xfrm flipV="1">
              <a:off x="5556960" y="683280"/>
              <a:ext cx="896760" cy="377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253"/>
            <p:cNvCxnSpPr>
              <a:stCxn id="173" idx="3"/>
              <a:endCxn id="167" idx="2"/>
            </p:cNvCxnSpPr>
            <p:nvPr/>
          </p:nvCxnSpPr>
          <p:spPr>
            <a:xfrm flipV="1">
              <a:off x="5556960" y="682920"/>
              <a:ext cx="896760" cy="274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252"/>
            <p:cNvCxnSpPr>
              <a:stCxn id="175" idx="3"/>
              <a:endCxn id="167" idx="2"/>
            </p:cNvCxnSpPr>
            <p:nvPr/>
          </p:nvCxnSpPr>
          <p:spPr>
            <a:xfrm flipV="1">
              <a:off x="5556960" y="682920"/>
              <a:ext cx="896760" cy="1720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0251"/>
            <p:cNvCxnSpPr>
              <a:stCxn id="177" idx="3"/>
              <a:endCxn id="167" idx="2"/>
            </p:cNvCxnSpPr>
            <p:nvPr/>
          </p:nvCxnSpPr>
          <p:spPr>
            <a:xfrm flipV="1">
              <a:off x="5556960" y="682920"/>
              <a:ext cx="896760" cy="68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7" name="_s10247"/>
            <p:cNvSpPr/>
            <p:nvPr/>
          </p:nvSpPr>
          <p:spPr>
            <a:xfrm>
              <a:off x="3764520" y="0"/>
              <a:ext cx="537804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ثمرات الإيمان باالقد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248"/>
            <p:cNvSpPr/>
            <p:nvPr/>
          </p:nvSpPr>
          <p:spPr>
            <a:xfrm>
              <a:off x="179280" y="1028880"/>
              <a:ext cx="537804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اعتماد على الله تعال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249"/>
            <p:cNvSpPr/>
            <p:nvPr/>
          </p:nvSpPr>
          <p:spPr>
            <a:xfrm>
              <a:off x="179280" y="2057760"/>
              <a:ext cx="537804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بتعاد الانسان عن البطر والطغيان والحزن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250"/>
            <p:cNvSpPr/>
            <p:nvPr/>
          </p:nvSpPr>
          <p:spPr>
            <a:xfrm>
              <a:off x="179280" y="3086640"/>
              <a:ext cx="537804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قوة والثبات في الح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254"/>
            <p:cNvSpPr/>
            <p:nvPr/>
          </p:nvSpPr>
          <p:spPr>
            <a:xfrm>
              <a:off x="179280" y="4115880"/>
              <a:ext cx="537804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غرس القناعة لدى الفر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256"/>
            <p:cNvSpPr/>
            <p:nvPr/>
          </p:nvSpPr>
          <p:spPr>
            <a:xfrm>
              <a:off x="179280" y="5144760"/>
              <a:ext cx="537804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قضاء على الكثير من الأمراض الاجتماع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258"/>
            <p:cNvSpPr/>
            <p:nvPr/>
          </p:nvSpPr>
          <p:spPr>
            <a:xfrm>
              <a:off x="179280" y="6173640"/>
              <a:ext cx="5378040" cy="68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صبر على المصائ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224280" y="419400"/>
            <a:ext cx="8447400" cy="6087240"/>
            <a:chOff x="224280" y="419400"/>
            <a:chExt cx="8447400" cy="6087240"/>
          </a:xfrm>
        </p:grpSpPr>
        <p:sp>
          <p:nvSpPr>
            <p:cNvPr id="180" name="_s11378"/>
            <p:cNvSpPr/>
            <p:nvPr/>
          </p:nvSpPr>
          <p:spPr>
            <a:xfrm flipH="1" flipV="1">
              <a:off x="2952360" y="2385360"/>
              <a:ext cx="749880" cy="54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1377"/>
            <p:cNvSpPr/>
            <p:nvPr/>
          </p:nvSpPr>
          <p:spPr>
            <a:xfrm>
              <a:off x="1151280" y="1087560"/>
              <a:ext cx="2112480" cy="1522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Monotype Koufi"/>
                </a:rPr>
                <a:t>عقيدة ثابت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1376"/>
            <p:cNvSpPr/>
            <p:nvPr/>
          </p:nvSpPr>
          <p:spPr>
            <a:xfrm flipH="1">
              <a:off x="2333520" y="3462120"/>
              <a:ext cx="10609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1375"/>
            <p:cNvSpPr/>
            <p:nvPr/>
          </p:nvSpPr>
          <p:spPr>
            <a:xfrm>
              <a:off x="224280" y="2701800"/>
              <a:ext cx="2112480" cy="1522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مبرهن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1374"/>
            <p:cNvSpPr/>
            <p:nvPr/>
          </p:nvSpPr>
          <p:spPr>
            <a:xfrm flipH="1">
              <a:off x="2952360" y="3998160"/>
              <a:ext cx="749880" cy="54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1373"/>
            <p:cNvSpPr/>
            <p:nvPr/>
          </p:nvSpPr>
          <p:spPr>
            <a:xfrm>
              <a:off x="1151280" y="4316400"/>
              <a:ext cx="2112480" cy="1522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فطر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1372"/>
            <p:cNvSpPr/>
            <p:nvPr/>
          </p:nvSpPr>
          <p:spPr>
            <a:xfrm>
              <a:off x="4446720" y="4219920"/>
              <a:ext cx="0" cy="764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1371"/>
            <p:cNvSpPr/>
            <p:nvPr/>
          </p:nvSpPr>
          <p:spPr>
            <a:xfrm>
              <a:off x="3391560" y="4984560"/>
              <a:ext cx="2112480" cy="1522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واضح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1370"/>
            <p:cNvSpPr/>
            <p:nvPr/>
          </p:nvSpPr>
          <p:spPr>
            <a:xfrm>
              <a:off x="5190120" y="3998160"/>
              <a:ext cx="749880" cy="54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1369"/>
            <p:cNvSpPr/>
            <p:nvPr/>
          </p:nvSpPr>
          <p:spPr>
            <a:xfrm>
              <a:off x="5631840" y="4316400"/>
              <a:ext cx="2112480" cy="1522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شامل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1368"/>
            <p:cNvSpPr/>
            <p:nvPr/>
          </p:nvSpPr>
          <p:spPr>
            <a:xfrm>
              <a:off x="5497920" y="3462120"/>
              <a:ext cx="10609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1367"/>
            <p:cNvSpPr/>
            <p:nvPr/>
          </p:nvSpPr>
          <p:spPr>
            <a:xfrm>
              <a:off x="6559200" y="2701800"/>
              <a:ext cx="2112480" cy="1522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وسط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1366"/>
            <p:cNvSpPr/>
            <p:nvPr/>
          </p:nvSpPr>
          <p:spPr>
            <a:xfrm flipV="1">
              <a:off x="5190120" y="2385360"/>
              <a:ext cx="749880" cy="54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1365"/>
            <p:cNvSpPr/>
            <p:nvPr/>
          </p:nvSpPr>
          <p:spPr>
            <a:xfrm>
              <a:off x="5631840" y="1087560"/>
              <a:ext cx="2112480" cy="15220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إله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1364"/>
            <p:cNvSpPr/>
            <p:nvPr/>
          </p:nvSpPr>
          <p:spPr>
            <a:xfrm flipV="1">
              <a:off x="4446720" y="1939680"/>
              <a:ext cx="0" cy="76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1363"/>
            <p:cNvSpPr/>
            <p:nvPr/>
          </p:nvSpPr>
          <p:spPr>
            <a:xfrm>
              <a:off x="3391560" y="419400"/>
              <a:ext cx="2112480" cy="15220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عقيدة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توقيف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1362"/>
            <p:cNvSpPr/>
            <p:nvPr/>
          </p:nvSpPr>
          <p:spPr>
            <a:xfrm>
              <a:off x="3391560" y="2703960"/>
              <a:ext cx="2112480" cy="15228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خصائص العقيد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comic"/>
                  <a:cs typeface="Monotype Koufi"/>
                </a:rPr>
                <a:t>الإسلام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-201960" y="0"/>
            <a:ext cx="106992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Bold Italic Art"/>
              </a:rPr>
              <a:t>إذا عرفت أن العقيدة توقيفية يجب أتباع الامورالآت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الالتزام بألفاظ الكتاب والسنة المعبر بها عن الحقائق العق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تحديد مصادر العقبدة الإسلامية بالكتاب والسنة ومعقو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استعمال ألفاظ الكتاب والسنة فيما سيقت 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لا تحمل ألفاظ الكتاب والسنة مالا تحمله من المع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لا يستعمل في التعبير عن العقيدة غير الألفاظ المعبر بها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السكوت عما سكت عنه الكتاب وال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التزام ما جاء في الكتاب والسنة نفيه أو إثبات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لا نثبت ولا ننفي إلا ما ورد في الكتاب والسنة نفيه أو إثبات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تقديم دلالة الكتاب والسنة على ما سواه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0" y="1052640"/>
            <a:ext cx="8640000" cy="3743280"/>
            <a:chOff x="0" y="1052640"/>
            <a:chExt cx="8640000" cy="3743280"/>
          </a:xfrm>
        </p:grpSpPr>
        <p:cxnSp>
          <p:nvCxnSpPr>
            <p:cNvPr id="58" name="_s3085"/>
            <p:cNvCxnSpPr>
              <a:stCxn id="59" idx="0"/>
              <a:endCxn id="60" idx="2"/>
            </p:cNvCxnSpPr>
            <p:nvPr/>
          </p:nvCxnSpPr>
          <p:spPr>
            <a:xfrm flipV="1" rot="16200000">
              <a:off x="5478120" y="1411920"/>
              <a:ext cx="707760" cy="3024720"/>
            </a:xfrm>
            <a:prstGeom prst="bentConnector3">
              <a:avLst>
                <a:gd name="adj1" fmla="val 2208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1" name="_s3084"/>
            <p:cNvCxnSpPr>
              <a:stCxn id="62" idx="0"/>
              <a:endCxn id="60" idx="2"/>
            </p:cNvCxnSpPr>
            <p:nvPr/>
          </p:nvCxnSpPr>
          <p:spPr>
            <a:xfrm flipV="1">
              <a:off x="4319640" y="2570760"/>
              <a:ext cx="3240" cy="7077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3" name="_s3083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454120" y="1412280"/>
              <a:ext cx="707760" cy="3024720"/>
            </a:xfrm>
            <a:prstGeom prst="bentConnector3">
              <a:avLst>
                <a:gd name="adj1" fmla="val 22086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60" name="_s3079"/>
            <p:cNvSpPr/>
            <p:nvPr/>
          </p:nvSpPr>
          <p:spPr>
            <a:xfrm>
              <a:off x="3024000" y="1052640"/>
              <a:ext cx="2592000" cy="14972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الإيمان بالل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80"/>
            <p:cNvSpPr/>
            <p:nvPr/>
          </p:nvSpPr>
          <p:spPr>
            <a:xfrm>
              <a:off x="0" y="3298680"/>
              <a:ext cx="2592000" cy="1497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توحيد الأسماء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والصفا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081"/>
            <p:cNvSpPr/>
            <p:nvPr/>
          </p:nvSpPr>
          <p:spPr>
            <a:xfrm>
              <a:off x="3024000" y="3298680"/>
              <a:ext cx="2592000" cy="1497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توحيد الألوه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2"/>
            <p:cNvSpPr/>
            <p:nvPr/>
          </p:nvSpPr>
          <p:spPr>
            <a:xfrm>
              <a:off x="6048000" y="3298680"/>
              <a:ext cx="2592000" cy="1497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توحيد الربوبي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179280" y="0"/>
            <a:ext cx="9144360" cy="6668280"/>
            <a:chOff x="179280" y="0"/>
            <a:chExt cx="9144360" cy="6668280"/>
          </a:xfrm>
        </p:grpSpPr>
        <p:cxnSp>
          <p:nvCxnSpPr>
            <p:cNvPr id="67" name="_s4113"/>
            <p:cNvCxnSpPr>
              <a:stCxn id="68" idx="3"/>
              <a:endCxn id="69" idx="2"/>
            </p:cNvCxnSpPr>
            <p:nvPr/>
          </p:nvCxnSpPr>
          <p:spPr>
            <a:xfrm flipV="1">
              <a:off x="5666040" y="783720"/>
              <a:ext cx="915120" cy="549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111"/>
            <p:cNvCxnSpPr>
              <a:stCxn id="71" idx="3"/>
              <a:endCxn id="69" idx="2"/>
            </p:cNvCxnSpPr>
            <p:nvPr/>
          </p:nvCxnSpPr>
          <p:spPr>
            <a:xfrm flipV="1">
              <a:off x="5666040" y="784440"/>
              <a:ext cx="915120" cy="431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109"/>
            <p:cNvCxnSpPr>
              <a:stCxn id="73" idx="3"/>
              <a:endCxn id="69" idx="2"/>
            </p:cNvCxnSpPr>
            <p:nvPr/>
          </p:nvCxnSpPr>
          <p:spPr>
            <a:xfrm flipV="1">
              <a:off x="5666040" y="783720"/>
              <a:ext cx="915120" cy="314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108"/>
            <p:cNvCxnSpPr>
              <a:stCxn id="75" idx="3"/>
              <a:endCxn id="69" idx="2"/>
            </p:cNvCxnSpPr>
            <p:nvPr/>
          </p:nvCxnSpPr>
          <p:spPr>
            <a:xfrm flipV="1">
              <a:off x="5666040" y="784080"/>
              <a:ext cx="915120" cy="196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4107"/>
            <p:cNvCxnSpPr>
              <a:stCxn id="77" idx="3"/>
              <a:endCxn id="69" idx="2"/>
            </p:cNvCxnSpPr>
            <p:nvPr/>
          </p:nvCxnSpPr>
          <p:spPr>
            <a:xfrm flipV="1">
              <a:off x="5666040" y="783720"/>
              <a:ext cx="915120" cy="78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4103"/>
            <p:cNvSpPr/>
            <p:nvPr/>
          </p:nvSpPr>
          <p:spPr>
            <a:xfrm>
              <a:off x="3836880" y="0"/>
              <a:ext cx="5486760" cy="784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ثمرات الإيمان بالل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4104"/>
            <p:cNvSpPr/>
            <p:nvPr/>
          </p:nvSpPr>
          <p:spPr>
            <a:xfrm>
              <a:off x="179280" y="1176480"/>
              <a:ext cx="5486760" cy="784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Book Antiqua"/>
                </a:rPr>
                <a:t>تحقيق توحيد الله </a:t>
              </a:r>
              <a:r>
                <a:rPr b="0" lang="en-US" sz="8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105"/>
            <p:cNvSpPr/>
            <p:nvPr/>
          </p:nvSpPr>
          <p:spPr>
            <a:xfrm>
              <a:off x="179280" y="2353320"/>
              <a:ext cx="5486760" cy="784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تحقيق الأمن والهداية والعز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106"/>
            <p:cNvSpPr/>
            <p:nvPr/>
          </p:nvSpPr>
          <p:spPr>
            <a:xfrm>
              <a:off x="179280" y="3530160"/>
              <a:ext cx="5486760" cy="784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</a:rPr>
                <a:t>تحقيق طاعة الل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110"/>
            <p:cNvSpPr/>
            <p:nvPr/>
          </p:nvSpPr>
          <p:spPr>
            <a:xfrm>
              <a:off x="179280" y="4707000"/>
              <a:ext cx="5486760" cy="784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</a:rPr>
                <a:t>الإحسان إلى الخل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4112"/>
            <p:cNvSpPr/>
            <p:nvPr/>
          </p:nvSpPr>
          <p:spPr>
            <a:xfrm>
              <a:off x="179280" y="5883840"/>
              <a:ext cx="5486760" cy="784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</a:rPr>
                <a:t>حفظ الله تعالى للعبد المؤم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95280" y="0"/>
            <a:ext cx="8423280" cy="6523560"/>
            <a:chOff x="395280" y="0"/>
            <a:chExt cx="8423280" cy="6523560"/>
          </a:xfrm>
        </p:grpSpPr>
        <p:cxnSp>
          <p:nvCxnSpPr>
            <p:cNvPr id="80" name="_s15377"/>
            <p:cNvCxnSpPr>
              <a:stCxn id="81" idx="3"/>
              <a:endCxn id="82" idx="2"/>
            </p:cNvCxnSpPr>
            <p:nvPr/>
          </p:nvCxnSpPr>
          <p:spPr>
            <a:xfrm flipV="1">
              <a:off x="5448960" y="931320"/>
              <a:ext cx="842760" cy="93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5373"/>
            <p:cNvCxnSpPr>
              <a:stCxn id="84" idx="3"/>
              <a:endCxn id="82" idx="2"/>
            </p:cNvCxnSpPr>
            <p:nvPr/>
          </p:nvCxnSpPr>
          <p:spPr>
            <a:xfrm flipV="1">
              <a:off x="5448960" y="931320"/>
              <a:ext cx="842760" cy="512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5372"/>
            <p:cNvCxnSpPr>
              <a:stCxn id="86" idx="3"/>
              <a:endCxn id="82" idx="2"/>
            </p:cNvCxnSpPr>
            <p:nvPr/>
          </p:nvCxnSpPr>
          <p:spPr>
            <a:xfrm flipV="1">
              <a:off x="5448960" y="930960"/>
              <a:ext cx="842760" cy="372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5371"/>
            <p:cNvCxnSpPr>
              <a:stCxn id="88" idx="3"/>
              <a:endCxn id="82" idx="2"/>
            </p:cNvCxnSpPr>
            <p:nvPr/>
          </p:nvCxnSpPr>
          <p:spPr>
            <a:xfrm flipV="1">
              <a:off x="5448960" y="931680"/>
              <a:ext cx="842760" cy="233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2" name="_s15367"/>
            <p:cNvSpPr/>
            <p:nvPr/>
          </p:nvSpPr>
          <p:spPr>
            <a:xfrm>
              <a:off x="3764520" y="0"/>
              <a:ext cx="5054040" cy="931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ثمرات الإيمان بالملائك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5368"/>
            <p:cNvSpPr/>
            <p:nvPr/>
          </p:nvSpPr>
          <p:spPr>
            <a:xfrm>
              <a:off x="395280" y="2795760"/>
              <a:ext cx="5054040" cy="931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أن الله سبحانه وتعالى جنبنا بما أطلعنا من أمر الملائكة الوقو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ea typeface="Akhbar MT"/>
                </a:rPr>
                <a:t> في الخرافات والأوهام التي وقع فيها من لايؤمنون بالغي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5369"/>
            <p:cNvSpPr/>
            <p:nvPr/>
          </p:nvSpPr>
          <p:spPr>
            <a:xfrm>
              <a:off x="395280" y="4194000"/>
              <a:ext cx="5054040" cy="931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عدم اليأس والشعور بالأنس والطمأنينة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5370"/>
            <p:cNvSpPr/>
            <p:nvPr/>
          </p:nvSpPr>
          <p:spPr>
            <a:xfrm>
              <a:off x="395280" y="5591880"/>
              <a:ext cx="5054040" cy="931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شكر الله تعالى على عنايته بالعباد حيث 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وكل الملائكة بحفظهم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5376"/>
            <p:cNvSpPr/>
            <p:nvPr/>
          </p:nvSpPr>
          <p:spPr>
            <a:xfrm>
              <a:off x="395280" y="1397880"/>
              <a:ext cx="5054040" cy="931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4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استقامة على أمر الله عز وجل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457200" y="0"/>
            <a:ext cx="8228160" cy="6668280"/>
            <a:chOff x="457200" y="0"/>
            <a:chExt cx="8228160" cy="6668280"/>
          </a:xfrm>
        </p:grpSpPr>
        <p:cxnSp>
          <p:nvCxnSpPr>
            <p:cNvPr id="92" name="_s5137"/>
            <p:cNvCxnSpPr>
              <a:stCxn id="93" idx="3"/>
              <a:endCxn id="94" idx="2"/>
            </p:cNvCxnSpPr>
            <p:nvPr/>
          </p:nvCxnSpPr>
          <p:spPr>
            <a:xfrm flipV="1">
              <a:off x="5393880" y="952200"/>
              <a:ext cx="823320" cy="524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33"/>
            <p:cNvCxnSpPr>
              <a:stCxn id="96" idx="3"/>
              <a:endCxn id="94" idx="2"/>
            </p:cNvCxnSpPr>
            <p:nvPr/>
          </p:nvCxnSpPr>
          <p:spPr>
            <a:xfrm flipV="1">
              <a:off x="5393880" y="951840"/>
              <a:ext cx="823320" cy="381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32"/>
            <p:cNvCxnSpPr>
              <a:stCxn id="98" idx="3"/>
              <a:endCxn id="94" idx="2"/>
            </p:cNvCxnSpPr>
            <p:nvPr/>
          </p:nvCxnSpPr>
          <p:spPr>
            <a:xfrm flipV="1">
              <a:off x="5393880" y="951840"/>
              <a:ext cx="823320" cy="238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31"/>
            <p:cNvCxnSpPr>
              <a:stCxn id="100" idx="3"/>
              <a:endCxn id="94" idx="2"/>
            </p:cNvCxnSpPr>
            <p:nvPr/>
          </p:nvCxnSpPr>
          <p:spPr>
            <a:xfrm flipV="1">
              <a:off x="5393880" y="952200"/>
              <a:ext cx="823320" cy="95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4" name="_s5127"/>
            <p:cNvSpPr/>
            <p:nvPr/>
          </p:nvSpPr>
          <p:spPr>
            <a:xfrm>
              <a:off x="3748320" y="0"/>
              <a:ext cx="493704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الإيمان بالكت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28"/>
            <p:cNvSpPr/>
            <p:nvPr/>
          </p:nvSpPr>
          <p:spPr>
            <a:xfrm>
              <a:off x="457200" y="1428840"/>
              <a:ext cx="493704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</a:rPr>
                <a:t>الإيمان بها إجمالا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129"/>
            <p:cNvSpPr/>
            <p:nvPr/>
          </p:nvSpPr>
          <p:spPr>
            <a:xfrm>
              <a:off x="457200" y="2857680"/>
              <a:ext cx="493704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Arial"/>
                </a:rPr>
                <a:t>الإيمان بها سمي لنا منها على وجه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Arial"/>
                </a:rPr>
                <a:t>الخصو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30"/>
            <p:cNvSpPr/>
            <p:nvPr/>
          </p:nvSpPr>
          <p:spPr>
            <a:xfrm>
              <a:off x="457200" y="4286880"/>
              <a:ext cx="493704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</a:rPr>
                <a:t>الإيمان بما في هذه الكتب إجمالا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5136"/>
            <p:cNvSpPr/>
            <p:nvPr/>
          </p:nvSpPr>
          <p:spPr>
            <a:xfrm>
              <a:off x="457200" y="5715720"/>
              <a:ext cx="4937040" cy="95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</a:rPr>
                <a:t>الإيمان بالقران الكري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187280" y="2019240"/>
            <a:ext cx="6768360" cy="2736360"/>
            <a:chOff x="1187280" y="2019240"/>
            <a:chExt cx="6768360" cy="2736360"/>
          </a:xfrm>
        </p:grpSpPr>
        <p:cxnSp>
          <p:nvCxnSpPr>
            <p:cNvPr id="103" name="_s12300"/>
            <p:cNvCxnSpPr>
              <a:stCxn id="104" idx="3"/>
              <a:endCxn id="105" idx="2"/>
            </p:cNvCxnSpPr>
            <p:nvPr/>
          </p:nvCxnSpPr>
          <p:spPr>
            <a:xfrm flipV="1">
              <a:off x="5248440" y="2702520"/>
              <a:ext cx="677520" cy="171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2299"/>
            <p:cNvCxnSpPr>
              <a:stCxn id="107" idx="3"/>
              <a:endCxn id="105" idx="2"/>
            </p:cNvCxnSpPr>
            <p:nvPr/>
          </p:nvCxnSpPr>
          <p:spPr>
            <a:xfrm flipV="1">
              <a:off x="5248440" y="2702880"/>
              <a:ext cx="677520" cy="68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2295"/>
            <p:cNvSpPr/>
            <p:nvPr/>
          </p:nvSpPr>
          <p:spPr>
            <a:xfrm>
              <a:off x="3894480" y="2019240"/>
              <a:ext cx="4061160" cy="68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ثمرات الإيمان بالكت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2296"/>
            <p:cNvSpPr/>
            <p:nvPr/>
          </p:nvSpPr>
          <p:spPr>
            <a:xfrm>
              <a:off x="1187280" y="3045240"/>
              <a:ext cx="4061160" cy="68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ستشعار فضل الله تعالى على عباده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2297"/>
            <p:cNvSpPr/>
            <p:nvPr/>
          </p:nvSpPr>
          <p:spPr>
            <a:xfrm>
              <a:off x="1187280" y="4071600"/>
              <a:ext cx="4061160" cy="68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قبال على القران الكريم بلهف وشو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68360" y="0"/>
            <a:ext cx="6802920" cy="6857280"/>
            <a:chOff x="468360" y="0"/>
            <a:chExt cx="6802920" cy="6857280"/>
          </a:xfrm>
        </p:grpSpPr>
        <p:cxnSp>
          <p:nvCxnSpPr>
            <p:cNvPr id="110" name="_s7193"/>
            <p:cNvCxnSpPr>
              <a:stCxn id="111" idx="3"/>
              <a:endCxn id="112" idx="2"/>
            </p:cNvCxnSpPr>
            <p:nvPr/>
          </p:nvCxnSpPr>
          <p:spPr>
            <a:xfrm flipV="1">
              <a:off x="4549680" y="979200"/>
              <a:ext cx="680400" cy="53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7191"/>
            <p:cNvCxnSpPr>
              <a:stCxn id="114" idx="3"/>
              <a:endCxn id="112" idx="2"/>
            </p:cNvCxnSpPr>
            <p:nvPr/>
          </p:nvCxnSpPr>
          <p:spPr>
            <a:xfrm flipV="1">
              <a:off x="4549680" y="978840"/>
              <a:ext cx="680400" cy="391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7190"/>
            <p:cNvCxnSpPr>
              <a:stCxn id="116" idx="3"/>
              <a:endCxn id="112" idx="2"/>
            </p:cNvCxnSpPr>
            <p:nvPr/>
          </p:nvCxnSpPr>
          <p:spPr>
            <a:xfrm flipV="1">
              <a:off x="4549680" y="978840"/>
              <a:ext cx="680400" cy="244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7189"/>
            <p:cNvCxnSpPr>
              <a:stCxn id="118" idx="3"/>
              <a:endCxn id="112" idx="2"/>
            </p:cNvCxnSpPr>
            <p:nvPr/>
          </p:nvCxnSpPr>
          <p:spPr>
            <a:xfrm flipV="1">
              <a:off x="4549680" y="978840"/>
              <a:ext cx="680400" cy="98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2" name="_s7185"/>
            <p:cNvSpPr/>
            <p:nvPr/>
          </p:nvSpPr>
          <p:spPr>
            <a:xfrm>
              <a:off x="3189600" y="0"/>
              <a:ext cx="4081680" cy="979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الإيمان بالرس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7186"/>
            <p:cNvSpPr/>
            <p:nvPr/>
          </p:nvSpPr>
          <p:spPr>
            <a:xfrm>
              <a:off x="468360" y="1469160"/>
              <a:ext cx="4081680" cy="979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تصديق بأن الله أرسله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7187"/>
            <p:cNvSpPr/>
            <p:nvPr/>
          </p:nvSpPr>
          <p:spPr>
            <a:xfrm>
              <a:off x="468360" y="2938680"/>
              <a:ext cx="4081680" cy="979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إجمالاً وتفصيلاً بما جا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0000"/>
                  </a:solidFill>
                  <a:latin typeface="Arial"/>
                  <a:ea typeface="Akhbar MT"/>
                </a:rPr>
                <a:t> به محمد صلى الله عليه وسل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7188"/>
            <p:cNvSpPr/>
            <p:nvPr/>
          </p:nvSpPr>
          <p:spPr>
            <a:xfrm>
              <a:off x="468360" y="4408200"/>
              <a:ext cx="4081680" cy="979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من أعلمنا الله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بهم بـأسمائهم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7192"/>
            <p:cNvSpPr/>
            <p:nvPr/>
          </p:nvSpPr>
          <p:spPr>
            <a:xfrm>
              <a:off x="468360" y="5877720"/>
              <a:ext cx="4081680" cy="979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1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معجزات الرسل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1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وبيناتهم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250920" y="189000"/>
            <a:ext cx="9433080" cy="6263280"/>
            <a:chOff x="250920" y="189000"/>
            <a:chExt cx="9433080" cy="6263280"/>
          </a:xfrm>
        </p:grpSpPr>
        <p:cxnSp>
          <p:nvCxnSpPr>
            <p:cNvPr id="121" name="_s13325"/>
            <p:cNvCxnSpPr>
              <a:stCxn id="122" idx="3"/>
              <a:endCxn id="123" idx="2"/>
            </p:cNvCxnSpPr>
            <p:nvPr/>
          </p:nvCxnSpPr>
          <p:spPr>
            <a:xfrm flipV="1">
              <a:off x="5910840" y="1327320"/>
              <a:ext cx="943920" cy="4560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3324"/>
            <p:cNvCxnSpPr>
              <a:stCxn id="125" idx="3"/>
              <a:endCxn id="123" idx="2"/>
            </p:cNvCxnSpPr>
            <p:nvPr/>
          </p:nvCxnSpPr>
          <p:spPr>
            <a:xfrm flipV="1">
              <a:off x="5910840" y="1327320"/>
              <a:ext cx="943920" cy="284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3323"/>
            <p:cNvCxnSpPr>
              <a:stCxn id="127" idx="3"/>
              <a:endCxn id="123" idx="2"/>
            </p:cNvCxnSpPr>
            <p:nvPr/>
          </p:nvCxnSpPr>
          <p:spPr>
            <a:xfrm flipV="1">
              <a:off x="5910840" y="1326960"/>
              <a:ext cx="943920" cy="1139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13319"/>
            <p:cNvSpPr/>
            <p:nvPr/>
          </p:nvSpPr>
          <p:spPr>
            <a:xfrm>
              <a:off x="4024080" y="189000"/>
              <a:ext cx="5659920" cy="1138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ثمرات الإيمان بالرس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3320"/>
            <p:cNvSpPr/>
            <p:nvPr/>
          </p:nvSpPr>
          <p:spPr>
            <a:xfrm>
              <a:off x="250920" y="1897200"/>
              <a:ext cx="5659920" cy="1138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900" spc="-1" strike="noStrike">
                  <a:solidFill>
                    <a:srgbClr val="000000"/>
                  </a:solidFill>
                  <a:latin typeface="Arial"/>
                </a:rPr>
                <a:t>أن رسل الله هم بمثابة القدوة الحسنة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900" spc="-1" strike="noStrike">
                  <a:solidFill>
                    <a:srgbClr val="000000"/>
                  </a:solidFill>
                  <a:latin typeface="Arial"/>
                </a:rPr>
                <a:t>التي ينبغي أن يتطلع نحوها كل إنسان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3321"/>
            <p:cNvSpPr/>
            <p:nvPr/>
          </p:nvSpPr>
          <p:spPr>
            <a:xfrm>
              <a:off x="250920" y="3605400"/>
              <a:ext cx="5659920" cy="1138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900" spc="-1" strike="noStrike">
                  <a:solidFill>
                    <a:srgbClr val="000000"/>
                  </a:solidFill>
                  <a:latin typeface="Arial"/>
                </a:rPr>
                <a:t>اهتداء الإنسان إلي العلم الصحيح والفهم الدقيق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322"/>
            <p:cNvSpPr/>
            <p:nvPr/>
          </p:nvSpPr>
          <p:spPr>
            <a:xfrm>
              <a:off x="250920" y="5313600"/>
              <a:ext cx="5659920" cy="1138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900" spc="-1" strike="noStrike">
                  <a:solidFill>
                    <a:srgbClr val="000000"/>
                  </a:solidFill>
                  <a:latin typeface="Arial"/>
                </a:rPr>
                <a:t>تحمل مشاق ومصاعب الحياة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609480" y="-316080"/>
            <a:ext cx="97534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0" y="0"/>
            <a:ext cx="8963280" cy="6596640"/>
            <a:chOff x="0" y="0"/>
            <a:chExt cx="8963280" cy="6596640"/>
          </a:xfrm>
        </p:grpSpPr>
        <p:cxnSp>
          <p:nvCxnSpPr>
            <p:cNvPr id="130" name="_s14351"/>
            <p:cNvCxnSpPr>
              <a:stCxn id="131" idx="3"/>
              <a:endCxn id="132" idx="2"/>
            </p:cNvCxnSpPr>
            <p:nvPr/>
          </p:nvCxnSpPr>
          <p:spPr>
            <a:xfrm flipV="1">
              <a:off x="5377680" y="941760"/>
              <a:ext cx="896760" cy="5184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4349"/>
            <p:cNvCxnSpPr>
              <a:stCxn id="134" idx="3"/>
              <a:endCxn id="132" idx="2"/>
            </p:cNvCxnSpPr>
            <p:nvPr/>
          </p:nvCxnSpPr>
          <p:spPr>
            <a:xfrm flipV="1">
              <a:off x="5377680" y="941760"/>
              <a:ext cx="896760" cy="3774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4348"/>
            <p:cNvCxnSpPr>
              <a:stCxn id="136" idx="3"/>
              <a:endCxn id="132" idx="2"/>
            </p:cNvCxnSpPr>
            <p:nvPr/>
          </p:nvCxnSpPr>
          <p:spPr>
            <a:xfrm flipV="1">
              <a:off x="5377680" y="941760"/>
              <a:ext cx="896760" cy="235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4347"/>
            <p:cNvCxnSpPr>
              <a:stCxn id="138" idx="3"/>
              <a:endCxn id="132" idx="2"/>
            </p:cNvCxnSpPr>
            <p:nvPr/>
          </p:nvCxnSpPr>
          <p:spPr>
            <a:xfrm flipV="1">
              <a:off x="5377680" y="941760"/>
              <a:ext cx="896760" cy="94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4343"/>
            <p:cNvSpPr/>
            <p:nvPr/>
          </p:nvSpPr>
          <p:spPr>
            <a:xfrm>
              <a:off x="3585240" y="0"/>
              <a:ext cx="5378040" cy="94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اٌٌلإيمان باليوم الأخ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4344"/>
            <p:cNvSpPr/>
            <p:nvPr/>
          </p:nvSpPr>
          <p:spPr>
            <a:xfrm>
              <a:off x="0" y="1413360"/>
              <a:ext cx="5378040" cy="94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كل مايكون بعد الموت من فتنة القبر وعذابه ونعيم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4345"/>
            <p:cNvSpPr/>
            <p:nvPr/>
          </p:nvSpPr>
          <p:spPr>
            <a:xfrm>
              <a:off x="0" y="2827080"/>
              <a:ext cx="5378040" cy="94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البعث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khbar MT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4346"/>
            <p:cNvSpPr/>
            <p:nvPr/>
          </p:nvSpPr>
          <p:spPr>
            <a:xfrm>
              <a:off x="0" y="4240800"/>
              <a:ext cx="5378040" cy="94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الحساب والجزا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4350"/>
            <p:cNvSpPr/>
            <p:nvPr/>
          </p:nvSpPr>
          <p:spPr>
            <a:xfrm>
              <a:off x="0" y="5654520"/>
              <a:ext cx="5378040" cy="942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khbar MT"/>
                </a:rPr>
                <a:t>الإيمان بالجنة والنا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8:53:07Z</dcterms:created>
  <dc:creator>user</dc:creator>
  <dc:description/>
  <dc:language>en-US</dc:language>
  <cp:lastModifiedBy>Windows 7 Ultimate</cp:lastModifiedBy>
  <dcterms:modified xsi:type="dcterms:W3CDTF">2010-10-08T17:48:10Z</dcterms:modified>
  <cp:revision>7</cp:revision>
  <dc:subject/>
  <dc:title>الشريحة 1</dc:title>
</cp:coreProperties>
</file>