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F24-1C63-47E2-A306-F28F0CEF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6D6-AE95-4B6A-9918-098159C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FAD-6289-4FC0-A4AD-0A3F65B1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FA3-74AE-4F24-9EF2-A2AAB1EA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FA1C-DDE7-41B6-8D1D-3D95685C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067-E86A-4708-B0EE-A42FE66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9DF2-184E-490E-ACDC-EDED93B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B0D0-4642-4407-A693-605A9D4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FB6D-7223-49BB-BBBD-3EF3D5B5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08F5-49EE-40E2-BB65-0A739DFC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E6C-2281-4776-859C-A0DD19A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043-9B9C-4702-88AB-6D95A7D5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84A8-97BE-4F50-9088-C71CE76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6805-B4DD-44B7-88A9-46C835C3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BF3F-8B23-4075-ACE8-BE5AB787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946-03DD-44F7-9981-A246A918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884E-3E06-4627-AF36-2A03F2D8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D62-BC1E-4163-99CD-9E753F06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1DB-91F0-4C4C-B518-85C5812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620-791A-48E5-8DE4-B2A2A671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FA6-8907-4E0D-ABE3-816E640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CB3-DCBC-46B6-8CB0-B1462650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0A3-1C96-489B-B82E-DD59F63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D29-CD59-47AE-9C7A-DD1DE09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36D-0458-41C8-B3C5-83D53C9C9B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F4D1-C0FB-400C-A263-FCD6F342F4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84720" y="33336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المملكة العربية السعود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وزارة التعليم الع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جامعة الملك سع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كلية الترب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773360"/>
            <a:ext cx="61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cc"/>
                </a:solidFill>
                <a:latin typeface="Arial"/>
                <a:cs typeface="Arabic Transparent"/>
              </a:rPr>
              <a:t>المدخل إلى الثقافة الإسلامي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3213000"/>
            <a:ext cx="619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مز المقرر 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01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لم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23920" y="4508640"/>
            <a:ext cx="6193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د. محمد بن عبدالله السح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أستاذ العقيدة المشارك . كلية التر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قسم الدراسات الإسلام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1080" y="115920"/>
            <a:ext cx="8712000" cy="666900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مصادرالثقافـة الإسلام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تنقسم : إلى قسمين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</a:rPr>
              <a:t>أولاً: مصادر شرعية أصلية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: وهي الكتاب والسنة النبوية الصحيح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</a:rPr>
              <a:t>ثانيًا: مصـــادر فــــرعيـــــة: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وهــي الإجمـــاع والقيـــــاس وغيرهما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99"/>
                </a:solidFill>
                <a:latin typeface="Arial"/>
              </a:rPr>
              <a:t>المصدر الأول: القرآن الكريم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99"/>
                </a:solidFill>
                <a:latin typeface="Arial"/>
              </a:rPr>
              <a:t>من مزايا القرآن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 أن الله حفظه من التحريف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 أنّ القرآن جـــاء مؤيدًا ومصدقًـــا لكل الكتب الســــابقة ومهيمنًا عليها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احتوى القرآن على شريعة عامة للبشر فيها كل ما يسعدهم في الداري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جمع القـــرآن كلّ مــــا كان متفرقًا من العقائد وأصول العبادات ومكارم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  الأخـــلاق فــــي الكتب الســــابقــــ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1080" y="115920"/>
            <a:ext cx="8712000" cy="666900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Arial"/>
              </a:rPr>
              <a:t>المصدر الثاني: السنة النبو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Arial"/>
              </a:rPr>
              <a:t>في اللغة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طريقة والسيرة والأسلوب والنه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في الاصطلاح: هي كل ما صدر عن النبي ﷺ من ق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أو فعل أو تقر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أو صفة خَلْقية أو خُلُقية أو سير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8640720" cy="6264360"/>
          </a:xfrm>
          <a:prstGeom prst="rect">
            <a:avLst/>
          </a:prstGeom>
          <a:solidFill>
            <a:srgbClr val="80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سنة أنواع منها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نة القولية   ،     السنة العملية    ،     السنة التقر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كانة السنة مع القرآن تأتي على ثلاثة أحو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أن تكون موافقة 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تكون السنة بيانًا للقرآن وتفسيرًا 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تجيء السنة بزيادة حكم لم يرد في القرآ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نياً : المصادر الفر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إجماع .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قيا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تاريخ الإسلامي .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لغة العربي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تراث الإسلامي .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خبرات الإنسانية النافع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أولاً: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 مفهوم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أهداف دراسة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أهمية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 مصادر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التحديات التي تواجهها الثقافة الإسلامية 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وسبل مواجهتها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موقف المثقف المسلم من الثقافات الأخرى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الحوار بين الحضار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33360"/>
            <a:ext cx="8677440" cy="6264360"/>
          </a:xfrm>
          <a:prstGeom prst="rect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مفهوم الثقـافة الإسلا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أ- تعريف الثقافة في اللغة 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تعمل العرب مادة «ثَقَفَ» بمعان متعددة يرجع بعضها إلى أمور معنوي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كما يرجع بعضها إلى أمور ح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فمن الأمور المعنوية :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حذق  ،   الفطنة   ،   الذك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ومن المعاني الحس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يم المعوج ، التسوية 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غلبة ، الإصلاح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ب - تعريف الثقافة في الاصطلاح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«جملة العلوم والمعارف والفنون التي يُطْلَبُ العلم بها والحِذْقُ فيها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ولاً : العلاقة بين الثقافة والعلم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قوم العلاقة بينهما على التشابه والتكا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ما من ناحية الاختلاف فتتميز الثقافة بالتنوع والشم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والثقافة طابعها شخصي تختلف من ثقافة أمة لأخـر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ميدان الثقافة أوسع من ميدان العل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حضــارة تتنــاول جملة من مظــاهرالرقــي العلمـــ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الفنــي والأدبــي والاجتماع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فالثقافة تهتم بالجوانب المعنوية والحضارة ألصق بالماد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فالثقـــافة هي المظهر العقلي للحضارة، والحضــــا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ي المظهر المادي للثقاف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د- تعريف الثقافة الإسلامية اصطلاحًا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«معرفة مقومات الأمة الإسلاميـة العامة بتفاعلاتها في الماض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حاضر, من دين, ولغة, وتاريخ, وحضارة, وقيم، و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شتركة بصورة واعية هادفة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أهداف دراسة الثقافة الإسلامية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إمداد الدارس بحصيلة مناسبة من المعارف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المتعلقة بالإسلام عقيدة وشريعة ومنهج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حياة , وحضارة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نمية روح الولاء للإسلام وتقديمه على ماسواه من صور الانتماءات الأخرى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إبراز النظرة الشمولية للإسلام باعتباره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كلاً مترابطاً متكاملاً , لاينفصل فيه أصل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أو فرع عن آخر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حصين الدارس ضد الغزو الفكري بأساليبه ووسائله المختلفه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جلية موقف الإسلام من قضايا العصر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رجمة الأخلاق والتعاليم الإسلامية إلى واقع عملي وسلوكي ملموس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بيان خصائص الإسلام وسموه وإظهار قدرته على تحقيق السعادة في الدارين 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99"/>
                </a:solidFill>
                <a:latin typeface="Arial"/>
              </a:rPr>
              <a:t>أهداف دراسة الثقافة الإسلامية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تقديم التصور الصحيح الكامل والشامل للحياة والإنسان والكون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Arial"/>
              </a:rPr>
              <a:t>أنها تمثل الدرع الواقي والحصن المنيع في وجه التحديات المعاصرة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أنها توفر للمسلم حياة هادئة يتم فيها التوازن بين الروح والماد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99"/>
                </a:solidFill>
                <a:latin typeface="Arial"/>
              </a:rPr>
              <a:t>أثارها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فقد أثرت الثقافة الإسلامية على العقيدة الأوربية في مختل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الميادين ومنها ميدان العقيدة والدي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انتشار الإسلام وثقافته في الشرق الأقصى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كما انتشرت الثقافة عبر حركة الترجمة حيث ترجمت أمهات الكت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Arial"/>
              </a:rPr>
              <a:t>العربية والإسلامية إلى اللغات الأخرى في مختلف ميادين العلم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22:51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