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gif" ContentType="image/gif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8CDC-C608-462D-8D9A-FFD49FB35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A83A-BE39-4FBD-9AF5-0CA46313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0556-1F67-43CE-9F1C-7335B21C6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9FEA-B24C-4D41-88FD-307EEA4F2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C3E8-1242-4A55-9A2B-B7E26CB38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5A38-D8D8-4DCC-A2FC-128062BA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EBE44-618B-4CFB-8E0F-7184DE38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F464-B414-4F70-8889-5AF7C51F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AC0B-A178-46FE-97B5-2FD87B64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191C-95A3-4874-8C57-65297524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8F29-E72F-41B2-88F2-26209C4B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6AD3-0585-4BC2-8616-555D471B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5BD7-CA4B-4AD0-BD03-72F5BB10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0D4D7-7F5B-4BAB-AC56-C4208400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625D-014F-4B8E-8F7A-4C77C567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10A4-E829-4192-9125-281D03139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C5F4-A65D-49F1-B097-896D1E64A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FA14-BEEE-4522-BD90-D62EEB60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9015-7F89-46B9-9759-FCD271C2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1749-D399-45F2-B755-AED34DEA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E6B6-9831-4FA3-B50B-64C6AA41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FEC7-CF20-4B16-926D-22A1B0C6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5F82-2BCF-4443-AD7B-CC366BD1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9154-5B23-44EF-BCE1-9CC2CA86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AC6D-647F-4084-BA55-F04A35B1804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6ABE-F535-43D5-9355-DA29B5B149B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084720" y="333360"/>
            <a:ext cx="2808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3366"/>
                </a:solidFill>
                <a:latin typeface="Arial"/>
              </a:rPr>
              <a:t>المملكة العربية السعود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3366"/>
                </a:solidFill>
                <a:latin typeface="Arial"/>
              </a:rPr>
              <a:t>وزارة التعليم العال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3366"/>
                </a:solidFill>
                <a:latin typeface="Arial"/>
              </a:rPr>
              <a:t>جامعة الملك سعو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3366"/>
                </a:solidFill>
                <a:latin typeface="Arial"/>
              </a:rPr>
              <a:t>كلية التربية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47640" y="1773360"/>
            <a:ext cx="6193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3333cc"/>
                </a:solidFill>
                <a:latin typeface="Arial"/>
                <a:cs typeface="Arabic Transparent"/>
              </a:rPr>
              <a:t>المدخل إلى الثقافة الإسلامية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79640" y="3213000"/>
            <a:ext cx="6192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رمز المقرر /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101</a:t>
            </a: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سلم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23920" y="4508640"/>
            <a:ext cx="619308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Arial"/>
                <a:cs typeface="Arabic Transparent"/>
              </a:rPr>
              <a:t>د. محمد بن عبدالله السحي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Arial"/>
                <a:cs typeface="Arabic Transparent"/>
              </a:rPr>
              <a:t>أستاذ العقيدة المشارك . كلية التربي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Arial"/>
                <a:cs typeface="Arabic Transparent"/>
              </a:rPr>
              <a:t>قسم الدراسات الإسلامي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4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81080" y="115920"/>
            <a:ext cx="8712000" cy="6669000"/>
          </a:xfrm>
          <a:prstGeom prst="rect">
            <a:avLst/>
          </a:prstGeom>
          <a:solidFill>
            <a:srgbClr val="ffff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3000" spc="-1" strike="noStrike">
                <a:solidFill>
                  <a:srgbClr val="000000"/>
                </a:solidFill>
                <a:latin typeface="Arial"/>
              </a:rPr>
              <a:t>مصادرالثقافـة الإسلامية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Arial"/>
              </a:rPr>
              <a:t>تنقسم : إلى قسمين 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800000"/>
                </a:solidFill>
                <a:latin typeface="Arial"/>
              </a:rPr>
              <a:t>أولاً: مصادر شرعية أصلية</a:t>
            </a:r>
            <a:r>
              <a:rPr b="1" lang="ar-SA" sz="3000" spc="-1" strike="noStrike">
                <a:solidFill>
                  <a:srgbClr val="000000"/>
                </a:solidFill>
                <a:latin typeface="Arial"/>
              </a:rPr>
              <a:t>: وهي الكتاب والسنة النبوية الصحيحة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800000"/>
                </a:solidFill>
                <a:latin typeface="Arial"/>
              </a:rPr>
              <a:t>ثانيًا: مصـــادر فــــرعيـــــة:</a:t>
            </a:r>
            <a:r>
              <a:rPr b="1" lang="ar-SA" sz="3000" spc="-1" strike="noStrike">
                <a:solidFill>
                  <a:srgbClr val="000000"/>
                </a:solidFill>
                <a:latin typeface="Arial"/>
              </a:rPr>
              <a:t> وهــي الإجمـــاع والقيـــــاس وغيرهما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333399"/>
                </a:solidFill>
                <a:latin typeface="Arial"/>
              </a:rPr>
              <a:t>المصدر الأول: القرآن الكريم</a:t>
            </a:r>
            <a:r>
              <a:rPr b="1" lang="ar-SA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333399"/>
                </a:solidFill>
                <a:latin typeface="Arial"/>
              </a:rPr>
              <a:t>من مزايا القرآن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000" spc="-1" strike="noStrike">
                <a:solidFill>
                  <a:srgbClr val="000000"/>
                </a:solidFill>
                <a:latin typeface="Arial"/>
              </a:rPr>
              <a:t>/ أن الله حفظه من التحريف 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000" spc="-1" strike="noStrike">
                <a:solidFill>
                  <a:srgbClr val="000000"/>
                </a:solidFill>
                <a:latin typeface="Arial"/>
              </a:rPr>
              <a:t>/ أنّ القرآن جـــاء مؤيدًا ومصدقًـــا لكل الكتب الســــابقة ومهيمنًا عليها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000" spc="-1" strike="noStrike">
                <a:solidFill>
                  <a:srgbClr val="000000"/>
                </a:solidFill>
                <a:latin typeface="Arial"/>
              </a:rPr>
              <a:t>/احتوى القرآن على شريعة عامة للبشر فيها كل ما يسعدهم في الدارين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3000" spc="-1" strike="noStrike">
                <a:solidFill>
                  <a:srgbClr val="000000"/>
                </a:solidFill>
                <a:latin typeface="Arial"/>
              </a:rPr>
              <a:t>/جمع القـــرآن كلّ مــــا كان متفرقًا من العقائد وأصول العبادات ومكارم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Arial"/>
              </a:rPr>
              <a:t>   الأخـــلاق فــــي الكتب الســــابقــــة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77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6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81080" y="115920"/>
            <a:ext cx="8712000" cy="6669000"/>
          </a:xfrm>
          <a:prstGeom prst="rect">
            <a:avLst/>
          </a:prstGeom>
          <a:solidFill>
            <a:srgbClr val="ffff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00000"/>
                </a:solidFill>
                <a:latin typeface="Arial"/>
              </a:rPr>
              <a:t>المصدر الثاني: السنة النبوية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00000"/>
                </a:solidFill>
                <a:latin typeface="Arial"/>
              </a:rPr>
              <a:t>في اللغة: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الطريقة والسيرة والأسلوب والنهج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وفي الاصطلاح: هي كل ما صدر عن النبي ﷺ من قو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أو فعل أو تقري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أو صفة خَلْقية أو خُلُقية أو سيرة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77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4" dur="77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6" dur="77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8" dur="77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4000" y="404640"/>
            <a:ext cx="8640720" cy="6264360"/>
          </a:xfrm>
          <a:prstGeom prst="rect">
            <a:avLst/>
          </a:prstGeom>
          <a:solidFill>
            <a:srgbClr val="80000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السنة أنواع منها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سنة القولية   ،     السنة العملية    ،     السنة التقر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مكانة السنة مع القرآن تأتي على ثلاثة أحوال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أن تكون موافقة ل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ـ أن تكون السنة بيانًا للقرآن وتفسيرًا ل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ـ أن تجيء السنة بزيادة حكم لم يرد في القرآ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ثانياً : المصادر الفرعي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/ الإجماع .             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/ القياس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/ التاريخ الإسلامي .   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/ اللغة العربية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/ التراث الإسلامي .    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/ الخبرات الإنسانية النافعة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8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8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66"/>
                </a:solidFill>
                <a:latin typeface="Times New Roman"/>
              </a:rPr>
              <a:t>أولاً: الثقافة الإسلامية .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* مفهوم الثقافة الإسلامية .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*أهداف دراسة الثقافة الإسلامية .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*أهمية الثقافة الإسلامية .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* مصادر الثقافة الإسلامية .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*التحديات التي تواجهها الثقافة الإسلامية </a:t>
            </a:r>
            <a:br>
              <a:rPr sz="4000"/>
            </a:br>
            <a:r>
              <a:rPr b="0" lang="hi-IN" sz="4000" spc="-1" strike="noStrike">
                <a:solidFill>
                  <a:srgbClr val="000066"/>
                </a:solidFill>
                <a:latin typeface="Times New Roman"/>
              </a:rPr>
              <a:t>وسبل مواجهتها.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*موقف المثقف المسلم من الثقافات الأخرى .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*الحوار بين الحضارات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87280" y="333360"/>
            <a:ext cx="8677440" cy="6264360"/>
          </a:xfrm>
          <a:prstGeom prst="rect">
            <a:avLst/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ar-SA" sz="3200" spc="-1" strike="noStrike">
                <a:solidFill>
                  <a:srgbClr val="008000"/>
                </a:solidFill>
                <a:latin typeface="Arial"/>
              </a:rPr>
              <a:t>مفهوم الثقـافة الإسلا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Arial"/>
              </a:rPr>
              <a:t>أ- تعريف الثقافة في اللغة :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ستعمل العرب مادة «ثَقَفَ» بمعان متعددة يرجع بعضها إلى أمور معنوية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كما يرجع بعضها إلى أمور حس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3333cc"/>
                </a:solidFill>
                <a:latin typeface="Arial"/>
              </a:rPr>
              <a:t>فمن الأمور المعنوية :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حذق  ،   الفطنة   ،   الذكا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Arial"/>
              </a:rPr>
              <a:t>ومن المعاني الحسية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قويم المعوج ، التسوية 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غلبة ، الإصلاح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Arial"/>
              </a:rPr>
              <a:t>ب - تعريف الثقافة في الاصطلاح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«جملة العلوم والمعارف والفنون التي يُطْلَبُ العلم بها والحِذْقُ فيها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أولاً : العلاقة بين الثقافة والعلم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تقوم العلاقة بينهما على التشابه والتكامل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9640" y="260280"/>
            <a:ext cx="828036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أما من ناحية الاختلاف فتتميز الثقافة بالتنوع والشمو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والثقافة طابعها شخصي تختلف من ثقافة أمة لأخـر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ميدان الثقافة أوسع من ميدان العل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الحضــارة تتنــاول جملة من مظــاهرالرقــي العلمـــ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والفنــي والأدبــي والاجتماعي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فالثقافة تهتم بالجوانب المعنوية والحضارة ألصق بالمادي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فالثقـــافة هي المظهر العقلي للحضارة، والحضــــار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هي المظهر المادي للثقافة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39640" y="260280"/>
            <a:ext cx="828036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Arial"/>
              </a:rPr>
              <a:t>د- تعريف الثقافة الإسلامية اصطلاحًا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«معرفة مقومات الأمة الإسلاميـة العامة بتفاعلاتها في الماضي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الحاضر, من دين, ولغة, وتاريخ, وحضارة, وقيم، وأهدا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مشتركة بصورة واعية هادفة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cc00"/>
                </a:solidFill>
                <a:latin typeface="Arial"/>
              </a:rPr>
              <a:t>أهداف دراسة الثقافة الإسلامية.</a:t>
            </a:r>
            <a:br>
              <a:rPr sz="4400"/>
            </a:br>
            <a:r>
              <a:rPr b="0" lang="ar-SA" sz="4400" spc="-1" strike="noStrike">
                <a:solidFill>
                  <a:srgbClr val="ffcc00"/>
                </a:solidFill>
                <a:latin typeface="Arial"/>
              </a:rPr>
              <a:t>1</a:t>
            </a:r>
            <a:r>
              <a:rPr b="0" lang="ar-SA" sz="4400" spc="-1" strike="noStrike">
                <a:solidFill>
                  <a:srgbClr val="ffcc00"/>
                </a:solidFill>
                <a:latin typeface="Arial"/>
              </a:rPr>
              <a:t>- إمداد الدارس بحصيلة مناسبة من المعارف </a:t>
            </a:r>
            <a:br>
              <a:rPr sz="4400"/>
            </a:br>
            <a:r>
              <a:rPr b="0" lang="ar-SA" sz="4400" spc="-1" strike="noStrike">
                <a:solidFill>
                  <a:srgbClr val="ffcc00"/>
                </a:solidFill>
                <a:latin typeface="Arial"/>
              </a:rPr>
              <a:t>المتعلقة بالإسلام عقيدة وشريعة ومنهج </a:t>
            </a:r>
            <a:br>
              <a:rPr sz="4400"/>
            </a:br>
            <a:r>
              <a:rPr b="0" lang="ar-SA" sz="4400" spc="-1" strike="noStrike">
                <a:solidFill>
                  <a:srgbClr val="ffcc00"/>
                </a:solidFill>
                <a:latin typeface="Arial"/>
              </a:rPr>
              <a:t>حياة , وحضارة .</a:t>
            </a:r>
            <a:br>
              <a:rPr sz="4400"/>
            </a:br>
            <a:r>
              <a:rPr b="0" lang="ar-SA" sz="4400" spc="-1" strike="noStrike">
                <a:solidFill>
                  <a:srgbClr val="ffcc00"/>
                </a:solidFill>
                <a:latin typeface="Arial"/>
              </a:rPr>
              <a:t>2</a:t>
            </a:r>
            <a:r>
              <a:rPr b="0" lang="ar-SA" sz="4400" spc="-1" strike="noStrike">
                <a:solidFill>
                  <a:srgbClr val="ffcc00"/>
                </a:solidFill>
                <a:latin typeface="Arial"/>
              </a:rPr>
              <a:t>- تنمية روح الولاء للإسلام وتقديمه على ماسواه من صور الانتماءات الأخرى .</a:t>
            </a:r>
            <a:br>
              <a:rPr sz="4400"/>
            </a:br>
            <a:r>
              <a:rPr b="0" lang="ar-SA" sz="4400" spc="-1" strike="noStrike">
                <a:solidFill>
                  <a:srgbClr val="ffcc00"/>
                </a:solidFill>
                <a:latin typeface="Arial"/>
              </a:rPr>
              <a:t>3</a:t>
            </a:r>
            <a:r>
              <a:rPr b="0" lang="ar-SA" sz="4400" spc="-1" strike="noStrike">
                <a:solidFill>
                  <a:srgbClr val="ffcc00"/>
                </a:solidFill>
                <a:latin typeface="Arial"/>
              </a:rPr>
              <a:t>- إبراز النظرة الشمولية للإسلام باعتباره</a:t>
            </a:r>
            <a:br>
              <a:rPr sz="4400"/>
            </a:br>
            <a:r>
              <a:rPr b="0" lang="ar-SA" sz="4400" spc="-1" strike="noStrike">
                <a:solidFill>
                  <a:srgbClr val="ffcc00"/>
                </a:solidFill>
                <a:latin typeface="Arial"/>
              </a:rPr>
              <a:t>كلاً مترابطاً متكاملاً , لاينفصل فيه أصل </a:t>
            </a:r>
            <a:br>
              <a:rPr sz="4400"/>
            </a:br>
            <a:r>
              <a:rPr b="0" lang="ar-SA" sz="4400" spc="-1" strike="noStrike">
                <a:solidFill>
                  <a:srgbClr val="ffcc00"/>
                </a:solidFill>
                <a:latin typeface="Arial"/>
              </a:rPr>
              <a:t>أو فرع عن آخر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cc00"/>
                </a:solidFill>
                <a:latin typeface="Arial"/>
              </a:rPr>
              <a:t>4</a:t>
            </a:r>
            <a:r>
              <a:rPr b="0" lang="ar-SA" sz="4400" spc="-1" strike="noStrike">
                <a:solidFill>
                  <a:srgbClr val="ffcc00"/>
                </a:solidFill>
                <a:latin typeface="Arial"/>
              </a:rPr>
              <a:t>- تحصين الدارس ضد الغزو الفكري بأساليبه ووسائله المختلفه .</a:t>
            </a:r>
            <a:br>
              <a:rPr sz="4400"/>
            </a:br>
            <a:r>
              <a:rPr b="0" lang="ar-SA" sz="4400" spc="-1" strike="noStrike">
                <a:solidFill>
                  <a:srgbClr val="ffcc00"/>
                </a:solidFill>
                <a:latin typeface="Arial"/>
              </a:rPr>
              <a:t>5</a:t>
            </a:r>
            <a:r>
              <a:rPr b="0" lang="ar-SA" sz="4400" spc="-1" strike="noStrike">
                <a:solidFill>
                  <a:srgbClr val="ffcc00"/>
                </a:solidFill>
                <a:latin typeface="Arial"/>
              </a:rPr>
              <a:t>- تجلية موقف الإسلام من قضايا العصر .</a:t>
            </a:r>
            <a:br>
              <a:rPr sz="4400"/>
            </a:br>
            <a:r>
              <a:rPr b="0" lang="ar-SA" sz="4400" spc="-1" strike="noStrike">
                <a:solidFill>
                  <a:srgbClr val="ffcc00"/>
                </a:solidFill>
                <a:latin typeface="Arial"/>
              </a:rPr>
              <a:t>6</a:t>
            </a:r>
            <a:r>
              <a:rPr b="0" lang="ar-SA" sz="4400" spc="-1" strike="noStrike">
                <a:solidFill>
                  <a:srgbClr val="ffcc00"/>
                </a:solidFill>
                <a:latin typeface="Arial"/>
              </a:rPr>
              <a:t>- ترجمة الأخلاق والتعاليم الإسلامية إلى واقع عملي وسلوكي ملموس .</a:t>
            </a:r>
            <a:br>
              <a:rPr sz="4400"/>
            </a:br>
            <a:r>
              <a:rPr b="0" lang="ar-SA" sz="4400" spc="-1" strike="noStrike">
                <a:solidFill>
                  <a:srgbClr val="ffcc00"/>
                </a:solidFill>
                <a:latin typeface="Arial"/>
              </a:rPr>
              <a:t>7</a:t>
            </a:r>
            <a:r>
              <a:rPr b="0" lang="ar-SA" sz="4400" spc="-1" strike="noStrike">
                <a:solidFill>
                  <a:srgbClr val="ffcc00"/>
                </a:solidFill>
                <a:latin typeface="Arial"/>
              </a:rPr>
              <a:t>- بيان خصائص الإسلام وسموه وإظهار قدرته على تحقيق السعادة في الدارين 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24000" y="260280"/>
            <a:ext cx="849780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ffff99"/>
                </a:solidFill>
                <a:latin typeface="Arial"/>
              </a:rPr>
              <a:t>أهداف دراسة الثقافة الإسلامية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تقديم التصور الصحيح الكامل والشامل للحياة والإنسان والكون 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ffffff"/>
                </a:solidFill>
                <a:latin typeface="Arial"/>
              </a:rPr>
              <a:t>أنها تمثل الدرع الواقي والحصن المنيع في وجه التحديات المعاصرة 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أنها توفر للمسلم حياة هادئة يتم فيها التوازن بين الروح والمادة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24000" y="260280"/>
            <a:ext cx="849780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ffff99"/>
                </a:solidFill>
                <a:latin typeface="Arial"/>
              </a:rPr>
              <a:t>أثارها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- فقد أثرت الثقافة الإسلامية على العقيدة الأوربية في مختل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الميادين ومنها ميدان العقيدة والدين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- انتشار الإسلام وثقافته في الشرق الأقصى 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- كما انتشرت الثقافة عبر حركة الترجمة حيث ترجمت أمهات الكتب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ffffff"/>
                </a:solidFill>
                <a:latin typeface="Arial"/>
              </a:rPr>
              <a:t>العربية والإسلامية إلى اللغات الأخرى في مختلف ميادين العلم 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6-27T19:22:51Z</dcterms:modified>
  <cp:revision>4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