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416-7856-4F41-9E5F-393DF876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774-9C33-41C2-9A34-2A3E7488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5B4-4427-451E-94F5-FA33EB73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5B9-3D23-44B2-BE67-A2B0BC27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CFF3-8D3B-4DB4-9C11-FA38D4B1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9B18-E3A4-4565-BB74-1A55E17B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8675-01CA-49AF-B4BF-5EAA4867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30C8-4C95-4FED-951A-D7F8FE47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5CF2-7C93-4628-B850-190DB866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16AB-9325-4FE6-8A1F-19982612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1E03-FFDE-42C1-AC6D-6F7F309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6EB-89CE-4216-9947-2B22DB94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D232-DA9B-44AE-AADA-94080E50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B8BF-78D8-4FF2-843B-DB5FDD51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DA90-85FF-4D94-91AD-467FABD7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1E85-7FFC-4710-BEDA-B59BAA52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BD0D-66F9-4C2E-99A5-C45EA31A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29C-5406-4F55-9DCD-071A4481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C4C-F45B-458E-B8C1-0CE46D98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D8E-5D6C-46B9-8B6C-4E1D7B9B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73E-6074-4F85-AC2A-F02335E8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FF4-4D32-4A47-BCEB-A456DFDF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8E0-6BA0-4F30-A4DA-3FEAD05F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0AD-F66B-4981-B7CB-0647CA9A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C0EB-9123-49B1-81C1-C30AF0D7218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4325-A6EF-4E3B-962C-7F39F8B096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ريف العقيدة الإسلامية، وبيان أهـميته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قيدة في اللغة: مأخوذة من العقْد، وهو الربطُ والشدُّ بقو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99"/>
                </a:solidFill>
                <a:latin typeface="Arial"/>
              </a:rPr>
              <a:t>واصطلاحاً: لها تعريفان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99"/>
                </a:solidFill>
                <a:latin typeface="Arial"/>
              </a:rPr>
              <a:t>أولاً: التعريف الاصطلاحي العام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ا يعقد عليه الإنسان قلبه، عقداً جازماً ومحكماً لا يتطرق إليه شك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ثانياً : تعريف العقيدة الإسلام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ي: «الإيمان الجازم بالله، وما يجب له في ألوهيته وربوبيته وأسمائه وصفات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إيمان بملائكته وكتبه ورسله واليوم الآخــر، وبالقـــدر خيـــــره وشره، وبك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جـــاءت به النصوص الصحيحة من أصول الديــن وأمور الغيـــــب وأخباره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مرادفات لفظ العقيد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وحيد ,   السنة   ,   الايما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همية العقيدة الإسلامي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أن جميــع الرســــل أرســلوا بالدعـــــوة للعــقيـــــــدة الصحـــــــــــيح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تحقيق توحيد الألوهية وإفراد الله بالعبادة هو الغاية الأولى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خل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الإنس والج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قبــــول الأعمـــــال متــــوقف على تحــــــقق التوحيــــد من العبــــ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النجـــاة في الآخــــرة - ابتداءً  أو مآلاً - متوقفة على صحة العق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هـــــــذه العقيــــــدة تحــــــدد العــــــلاقة بيـــــن العبــــد وخــــــالق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 أن الســــعـــــادة فـــي الدنـــــيــا أســـــاســــها العـــلم بــــــالله تعـــالى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هــذه العقيدة تجيب عن جميــع التساؤل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ي ترد على ذهن العب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تركيز القرآن والسنة على موضوع العقيدة : بياناً وتقريراً , وتصحيحا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العقيــــدة الصحيحة سبب الظهور والنصـــر والفــــلاح في الداريْ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/ أن العقيدة الصحيحة هي ما يعصم المسل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التـــأثر بما يحيط به م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عقائد وأفكار فاسد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20:14:23Z</dcterms:modified>
  <cp:revision>3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