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9DF-F037-4741-AD4F-E9B36898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895-E530-411D-84BA-540BBECF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0E5-8B63-4732-8B6F-46B8201F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15B-2032-463E-A802-5804A804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094B-A7F7-48D4-BF88-BAE0A91B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7BF4-55FA-4ECE-967B-EF90EAFB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90C8-17FB-4D3E-B78D-93E6A4BD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6D2E-BB52-4A9A-A972-D2BDEE0C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3D8C-637E-4612-9F0C-056B974D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B4B2-340E-4D98-B447-DE5E4EBF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FE60-E512-4A05-A954-188B82A3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A07-C714-4F51-A42C-65C325E9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E78C-044F-4393-9814-EFCEF19D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FC00-EC04-4D15-BCFC-C0432FA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61F8-7069-42D2-BD66-A703854B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9306-CFDB-48D2-885B-F443C268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745C-0385-4214-9F0D-F48D30FC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EBC-2842-4D13-A53D-AFC08CE3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3A7-4485-4480-A176-8DFE0D7B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232-6268-4995-A3F0-67EE76C0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881-4C8A-4C34-AFB8-9326F59A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DDA-F3A1-462B-A574-6CCE0D7D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A30-6CD7-47BF-BF24-9F65107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B67-55FE-46F4-B8A0-5EAD665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EA7C-DD31-4018-87EE-CFCAABEA1C1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0F01-293A-4C93-9321-A7FC1DAD5B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ريف العقيدة الإسلامية، وبيان أهـميته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قيدة في اللغة: مأخوذة من العقْد، وهو الربطُ والشدُّ بقو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99"/>
                </a:solidFill>
                <a:latin typeface="Arial"/>
              </a:rPr>
              <a:t>واصطلاحاً: لها تعريفان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99"/>
                </a:solidFill>
                <a:latin typeface="Arial"/>
              </a:rPr>
              <a:t>أولاً: التعريف الاصطلاحي العام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ا يعقد عليه الإنسان قلبه، عقداً جازماً ومحكماً لا يتطرق إليه شك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ثانياً : تعريف العقيدة الإسلام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ي: «الإيمان الجازم بالله، وما يجب له في ألوهيته وربوبيته وأسمائه وصفات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إيمان بملائكته وكتبه ورسله واليوم الآخــر، وبالقـــدر خيـــــره وشره، وبك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جـــاءت به النصوص الصحيحة من أصول الديــن وأمور الغيـــــب وأخباره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مرادفات لفظ العقيد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وحيد ,   السنة   ,   الايما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همية العقيدة الإسلامي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أن جميــع الرســــل أرســلوا بالدعـــــوة للعــقيـــــــدة الصحـــــــــــيح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تحقيق توحيد الألوهية وإفراد الله بالعبادة هو الغاية الأولى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خل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الإنس والج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قبــــول الأعمـــــال متــــوقف على تحــــــقق التوحيــــد من العبــــ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النجـــاة في الآخــــرة - ابتداءً  أو مآلاً - متوقفة على صحة العق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هـــــــذه العقيــــــدة تحــــــدد العــــــلاقة بيـــــن العبــــد وخــــــالق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 أن الســــعـــــادة فـــي الدنـــــيــا أســـــاســــها العـــلم بــــــالله تعـــالى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هــذه العقيدة تجيب عن جميــع التساؤل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ي ترد على ذهن العب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تركيز القرآن والسنة على موضوع العقيدة : بياناً وتقريراً , وتصحيحا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العقيــــدة الصحيحة سبب الظهور والنصـــر والفــــلاح في الداريْ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العقيدة الصحيحة هي ما يعصم المسل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التـــأثر بما يحيط به م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عقائد وأفكار فاسد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20:14:23Z</dcterms:modified>
  <cp:revision>3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