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458-8F36-4B8B-A51E-D96591EF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D2E-54F3-4C03-BA25-4790D87B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3CB-884F-4081-BF9B-4894E55F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487-F9D2-4C8C-A8BB-3F314CE8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6FF-C55C-48E6-A5C3-ACC31A16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2F2-3516-43AE-9FA9-9039C2D3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346-BB45-4D1F-B0FC-D13D895E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909-BF0B-450C-9AC6-7FE99B1C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A50-5FB1-43C6-92C6-7922EA25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9CA-EDF9-4BB3-BD58-9C9EFFD9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38D-A817-47A9-AF7F-BFE729A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FA9-8AF8-4EB4-8B9B-EE3424D1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19AD-B39F-43FB-8918-68462E9C1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1640" y="2276640"/>
            <a:ext cx="338472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خصائص الثقافة الإسلا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1844640"/>
            <a:ext cx="48600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443700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299736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2997360"/>
            <a:ext cx="615960" cy="485640"/>
          </a:xfrm>
          <a:prstGeom prst="leftArrow">
            <a:avLst>
              <a:gd name="adj1" fmla="val 50000"/>
              <a:gd name="adj2" fmla="val 317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1844640"/>
            <a:ext cx="48564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443700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268280"/>
            <a:ext cx="9144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إله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97000"/>
            <a:ext cx="9144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ث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2924280"/>
            <a:ext cx="1224000" cy="57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شم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924280"/>
            <a:ext cx="12034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تواز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4797360"/>
            <a:ext cx="9144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واق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797360"/>
            <a:ext cx="9144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إيجا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900000" y="-45720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50920" y="115920"/>
            <a:ext cx="7776000" cy="4825440"/>
            <a:chOff x="250920" y="115920"/>
            <a:chExt cx="7776000" cy="4825440"/>
          </a:xfrm>
        </p:grpSpPr>
        <p:cxnSp>
          <p:nvCxnSpPr>
            <p:cNvPr id="57" name="_s6169"/>
            <p:cNvCxnSpPr>
              <a:stCxn id="58" idx="3"/>
              <a:endCxn id="59" idx="2"/>
            </p:cNvCxnSpPr>
            <p:nvPr/>
          </p:nvCxnSpPr>
          <p:spPr>
            <a:xfrm flipV="1">
              <a:off x="4916520" y="683280"/>
              <a:ext cx="778320" cy="39765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0" name="_s6167"/>
            <p:cNvCxnSpPr>
              <a:stCxn id="61" idx="3"/>
              <a:endCxn id="59" idx="2"/>
            </p:cNvCxnSpPr>
            <p:nvPr/>
          </p:nvCxnSpPr>
          <p:spPr>
            <a:xfrm flipV="1">
              <a:off x="4916520" y="683280"/>
              <a:ext cx="778320" cy="3124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2" name="_s6157"/>
            <p:cNvCxnSpPr>
              <a:stCxn id="63" idx="3"/>
              <a:endCxn id="59" idx="2"/>
            </p:cNvCxnSpPr>
            <p:nvPr/>
          </p:nvCxnSpPr>
          <p:spPr>
            <a:xfrm flipV="1">
              <a:off x="4916520" y="682920"/>
              <a:ext cx="778320" cy="2273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" name="_s6156"/>
            <p:cNvCxnSpPr>
              <a:stCxn id="65" idx="3"/>
              <a:endCxn id="59" idx="2"/>
            </p:cNvCxnSpPr>
            <p:nvPr/>
          </p:nvCxnSpPr>
          <p:spPr>
            <a:xfrm flipV="1">
              <a:off x="4916520" y="682920"/>
              <a:ext cx="778320" cy="14216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6" name="_s6155"/>
            <p:cNvCxnSpPr>
              <a:stCxn id="67" idx="3"/>
              <a:endCxn id="59" idx="2"/>
            </p:cNvCxnSpPr>
            <p:nvPr/>
          </p:nvCxnSpPr>
          <p:spPr>
            <a:xfrm flipV="1">
              <a:off x="4916520" y="682920"/>
              <a:ext cx="778320" cy="569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9" name="_s6151"/>
            <p:cNvSpPr/>
            <p:nvPr/>
          </p:nvSpPr>
          <p:spPr>
            <a:xfrm>
              <a:off x="3361320" y="115920"/>
              <a:ext cx="4665600" cy="567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  <a:cs typeface="DecoType Naskh Swashes"/>
                </a:rPr>
                <a:t>ثمرات إلهية الثقافة الإسلام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6152"/>
            <p:cNvSpPr/>
            <p:nvPr/>
          </p:nvSpPr>
          <p:spPr>
            <a:xfrm>
              <a:off x="250920" y="967320"/>
              <a:ext cx="4665600" cy="567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سمو مبادئها وعظمة قيمه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153"/>
            <p:cNvSpPr/>
            <p:nvPr/>
          </p:nvSpPr>
          <p:spPr>
            <a:xfrm>
              <a:off x="250920" y="1819080"/>
              <a:ext cx="4665600" cy="567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انسجامها مع الفطرة الإنسانية السليم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6154"/>
            <p:cNvSpPr/>
            <p:nvPr/>
          </p:nvSpPr>
          <p:spPr>
            <a:xfrm>
              <a:off x="250920" y="2670480"/>
              <a:ext cx="4665600" cy="567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توافقها مع العلم الصحي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166"/>
            <p:cNvSpPr/>
            <p:nvPr/>
          </p:nvSpPr>
          <p:spPr>
            <a:xfrm>
              <a:off x="250920" y="3522240"/>
              <a:ext cx="4665600" cy="567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خلوها من التناقض والتعار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68"/>
            <p:cNvSpPr/>
            <p:nvPr/>
          </p:nvSpPr>
          <p:spPr>
            <a:xfrm>
              <a:off x="250920" y="4373640"/>
              <a:ext cx="4665600" cy="567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يسرها ووضوحها.وسهولة استيعابه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08000" y="-110808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0" y="1125360"/>
            <a:ext cx="9143280" cy="2736000"/>
            <a:chOff x="0" y="1125360"/>
            <a:chExt cx="9143280" cy="2736000"/>
          </a:xfrm>
        </p:grpSpPr>
        <p:cxnSp>
          <p:nvCxnSpPr>
            <p:cNvPr id="70" name="_s5134"/>
            <p:cNvCxnSpPr>
              <a:stCxn id="71" idx="0"/>
              <a:endCxn id="72" idx="2"/>
            </p:cNvCxnSpPr>
            <p:nvPr/>
          </p:nvCxnSpPr>
          <p:spPr>
            <a:xfrm flipV="1" rot="16200000">
              <a:off x="5897520" y="892800"/>
              <a:ext cx="547920" cy="320076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3" name="_s5133"/>
            <p:cNvCxnSpPr>
              <a:stCxn id="74" idx="0"/>
              <a:endCxn id="72" idx="2"/>
            </p:cNvCxnSpPr>
            <p:nvPr/>
          </p:nvCxnSpPr>
          <p:spPr>
            <a:xfrm flipV="1">
              <a:off x="4571280" y="2219400"/>
              <a:ext cx="3240" cy="5479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5" name="_s5132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2697120" y="892800"/>
              <a:ext cx="547920" cy="320076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72" name="_s5128"/>
            <p:cNvSpPr/>
            <p:nvPr/>
          </p:nvSpPr>
          <p:spPr>
            <a:xfrm>
              <a:off x="3200040" y="1125360"/>
              <a:ext cx="2742840" cy="109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900" spc="-1" strike="noStrike">
                  <a:solidFill>
                    <a:srgbClr val="000000"/>
                  </a:solidFill>
                  <a:latin typeface="Arial"/>
                </a:rPr>
                <a:t>مجالات ثبوت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900" spc="-1" strike="noStrike">
                  <a:solidFill>
                    <a:srgbClr val="000000"/>
                  </a:solidFill>
                  <a:latin typeface="Arial"/>
                </a:rPr>
                <a:t>الثقافة الإسلامي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5129"/>
            <p:cNvSpPr/>
            <p:nvPr/>
          </p:nvSpPr>
          <p:spPr>
            <a:xfrm>
              <a:off x="0" y="2766960"/>
              <a:ext cx="2742840" cy="109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الثبات على القيم الدينية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والأخلاق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5130"/>
            <p:cNvSpPr/>
            <p:nvPr/>
          </p:nvSpPr>
          <p:spPr>
            <a:xfrm>
              <a:off x="3200040" y="2766960"/>
              <a:ext cx="2742840" cy="109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الثبات على الأهدا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والغاي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5131"/>
            <p:cNvSpPr/>
            <p:nvPr/>
          </p:nvSpPr>
          <p:spPr>
            <a:xfrm>
              <a:off x="6400440" y="2766960"/>
              <a:ext cx="2742840" cy="109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الثبات على الأصول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والكلي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1386000" y="189000"/>
            <a:ext cx="7217280" cy="5040000"/>
            <a:chOff x="1386000" y="189000"/>
            <a:chExt cx="7217280" cy="5040000"/>
          </a:xfrm>
        </p:grpSpPr>
        <p:cxnSp>
          <p:nvCxnSpPr>
            <p:cNvPr id="79" name="_s7185"/>
            <p:cNvCxnSpPr>
              <a:stCxn id="80" idx="3"/>
              <a:endCxn id="81" idx="2"/>
            </p:cNvCxnSpPr>
            <p:nvPr/>
          </p:nvCxnSpPr>
          <p:spPr>
            <a:xfrm flipV="1">
              <a:off x="5716440" y="781200"/>
              <a:ext cx="722160" cy="415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7183"/>
            <p:cNvCxnSpPr>
              <a:stCxn id="83" idx="3"/>
              <a:endCxn id="81" idx="2"/>
            </p:cNvCxnSpPr>
            <p:nvPr/>
          </p:nvCxnSpPr>
          <p:spPr>
            <a:xfrm flipV="1">
              <a:off x="5716440" y="781560"/>
              <a:ext cx="722160" cy="326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7181"/>
            <p:cNvCxnSpPr>
              <a:stCxn id="85" idx="3"/>
              <a:endCxn id="81" idx="2"/>
            </p:cNvCxnSpPr>
            <p:nvPr/>
          </p:nvCxnSpPr>
          <p:spPr>
            <a:xfrm flipV="1">
              <a:off x="5716440" y="781200"/>
              <a:ext cx="722160" cy="23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7180"/>
            <p:cNvCxnSpPr>
              <a:stCxn id="87" idx="3"/>
              <a:endCxn id="81" idx="2"/>
            </p:cNvCxnSpPr>
            <p:nvPr/>
          </p:nvCxnSpPr>
          <p:spPr>
            <a:xfrm flipV="1">
              <a:off x="5716440" y="781200"/>
              <a:ext cx="722160" cy="148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7179"/>
            <p:cNvCxnSpPr>
              <a:stCxn id="89" idx="3"/>
              <a:endCxn id="81" idx="2"/>
            </p:cNvCxnSpPr>
            <p:nvPr/>
          </p:nvCxnSpPr>
          <p:spPr>
            <a:xfrm flipV="1">
              <a:off x="5716440" y="781560"/>
              <a:ext cx="722160" cy="59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7175"/>
            <p:cNvSpPr/>
            <p:nvPr/>
          </p:nvSpPr>
          <p:spPr>
            <a:xfrm>
              <a:off x="4272840" y="18900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ثمرات ثبات الثقافة الإسلامية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7176"/>
            <p:cNvSpPr/>
            <p:nvPr/>
          </p:nvSpPr>
          <p:spPr>
            <a:xfrm>
              <a:off x="1386000" y="107820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ضبط حركة الإنسان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7177"/>
            <p:cNvSpPr/>
            <p:nvPr/>
          </p:nvSpPr>
          <p:spPr>
            <a:xfrm>
              <a:off x="1386000" y="196776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ضبط الفكر الإنساني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7178"/>
            <p:cNvSpPr/>
            <p:nvPr/>
          </p:nvSpPr>
          <p:spPr>
            <a:xfrm>
              <a:off x="1386000" y="285732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تحصين المجتمع الإسلامي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7182"/>
            <p:cNvSpPr/>
            <p:nvPr/>
          </p:nvSpPr>
          <p:spPr>
            <a:xfrm>
              <a:off x="1386000" y="374652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الثبات في الموازين والمعايير التي توزن بها أعمال النا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7184"/>
            <p:cNvSpPr/>
            <p:nvPr/>
          </p:nvSpPr>
          <p:spPr>
            <a:xfrm>
              <a:off x="1386000" y="463608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حفظ الأمة المسلمة لهويتها وشخصيتها ووجوده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900000" y="1320840"/>
            <a:ext cx="7055280" cy="2736360"/>
            <a:chOff x="900000" y="1320840"/>
            <a:chExt cx="7055280" cy="2736360"/>
          </a:xfrm>
        </p:grpSpPr>
        <p:cxnSp>
          <p:nvCxnSpPr>
            <p:cNvPr id="92" name="_s8204"/>
            <p:cNvCxnSpPr>
              <a:stCxn id="93" idx="3"/>
              <a:endCxn id="94" idx="2"/>
            </p:cNvCxnSpPr>
            <p:nvPr/>
          </p:nvCxnSpPr>
          <p:spPr>
            <a:xfrm flipV="1">
              <a:off x="5132880" y="2004480"/>
              <a:ext cx="705960" cy="1710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5" name="_s8203"/>
            <p:cNvCxnSpPr>
              <a:stCxn id="96" idx="3"/>
              <a:endCxn id="94" idx="2"/>
            </p:cNvCxnSpPr>
            <p:nvPr/>
          </p:nvCxnSpPr>
          <p:spPr>
            <a:xfrm flipV="1">
              <a:off x="5132880" y="2004480"/>
              <a:ext cx="705960" cy="686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4" name="_s8199"/>
            <p:cNvSpPr/>
            <p:nvPr/>
          </p:nvSpPr>
          <p:spPr>
            <a:xfrm>
              <a:off x="3722040" y="1320840"/>
              <a:ext cx="4233240" cy="684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ثمرات الشمولية الثقافة الإسلام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0"/>
            <p:cNvSpPr/>
            <p:nvPr/>
          </p:nvSpPr>
          <p:spPr>
            <a:xfrm>
              <a:off x="900000" y="2346840"/>
              <a:ext cx="4233240" cy="684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إعطاء تفسير للقضايا الكبرى التي شغلت الفكر الإنسان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1"/>
            <p:cNvSpPr/>
            <p:nvPr/>
          </p:nvSpPr>
          <p:spPr>
            <a:xfrm>
              <a:off x="900000" y="3373200"/>
              <a:ext cx="4233240" cy="684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صيانة الإنسان من الاعتماد على التشريعات 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والأنظمة غير  الإسلام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757080" y="-457200"/>
            <a:ext cx="990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68360" y="692280"/>
            <a:ext cx="5974200" cy="3888720"/>
            <a:chOff x="468360" y="692280"/>
            <a:chExt cx="5974200" cy="3888720"/>
          </a:xfrm>
        </p:grpSpPr>
        <p:cxnSp>
          <p:nvCxnSpPr>
            <p:cNvPr id="99" name="_s9233"/>
            <p:cNvCxnSpPr>
              <a:stCxn id="100" idx="3"/>
              <a:endCxn id="101" idx="2"/>
            </p:cNvCxnSpPr>
            <p:nvPr/>
          </p:nvCxnSpPr>
          <p:spPr>
            <a:xfrm flipV="1">
              <a:off x="4068720" y="1169280"/>
              <a:ext cx="582120" cy="318420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2" name="_s9231"/>
            <p:cNvCxnSpPr>
              <a:stCxn id="103" idx="3"/>
              <a:endCxn id="101" idx="2"/>
            </p:cNvCxnSpPr>
            <p:nvPr/>
          </p:nvCxnSpPr>
          <p:spPr>
            <a:xfrm flipV="1">
              <a:off x="4068720" y="1169280"/>
              <a:ext cx="582120" cy="249804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4" name="_s9229"/>
            <p:cNvCxnSpPr>
              <a:stCxn id="105" idx="3"/>
              <a:endCxn id="101" idx="2"/>
            </p:cNvCxnSpPr>
            <p:nvPr/>
          </p:nvCxnSpPr>
          <p:spPr>
            <a:xfrm flipV="1">
              <a:off x="4068720" y="1169640"/>
              <a:ext cx="582120" cy="181152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6" name="_s9228"/>
            <p:cNvCxnSpPr>
              <a:stCxn id="107" idx="3"/>
              <a:endCxn id="101" idx="2"/>
            </p:cNvCxnSpPr>
            <p:nvPr/>
          </p:nvCxnSpPr>
          <p:spPr>
            <a:xfrm flipV="1">
              <a:off x="4068720" y="1169640"/>
              <a:ext cx="582120" cy="112392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8" name="_s9227"/>
            <p:cNvCxnSpPr>
              <a:stCxn id="109" idx="3"/>
              <a:endCxn id="101" idx="2"/>
            </p:cNvCxnSpPr>
            <p:nvPr/>
          </p:nvCxnSpPr>
          <p:spPr>
            <a:xfrm flipV="1">
              <a:off x="4068720" y="1169280"/>
              <a:ext cx="582120" cy="43884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sp>
          <p:nvSpPr>
            <p:cNvPr id="101" name="_s9223"/>
            <p:cNvSpPr/>
            <p:nvPr/>
          </p:nvSpPr>
          <p:spPr>
            <a:xfrm>
              <a:off x="2858040" y="69228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ffffff"/>
                  </a:solidFill>
                  <a:latin typeface="Arial"/>
                  <a:cs typeface="DecoType Thuluth"/>
                </a:rPr>
                <a:t>ثمرات إيجابية الثقافة الإسلام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9224"/>
            <p:cNvSpPr/>
            <p:nvPr/>
          </p:nvSpPr>
          <p:spPr>
            <a:xfrm>
              <a:off x="468360" y="137844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ffffff"/>
                  </a:solidFill>
                  <a:latin typeface="Arial"/>
                  <a:cs typeface="DecoType Naskh Variants"/>
                </a:rPr>
                <a:t>إشعار الفرد المسلم بأنة مكل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9225"/>
            <p:cNvSpPr/>
            <p:nvPr/>
          </p:nvSpPr>
          <p:spPr>
            <a:xfrm>
              <a:off x="468360" y="206460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ffffff"/>
                  </a:solidFill>
                  <a:latin typeface="Arial"/>
                  <a:cs typeface="DecoType Thuluth"/>
                </a:rPr>
                <a:t>إشعار الفرد المسلم بضخامة مسؤوليت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9226"/>
            <p:cNvSpPr/>
            <p:nvPr/>
          </p:nvSpPr>
          <p:spPr>
            <a:xfrm>
              <a:off x="468360" y="275112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ffffff"/>
                  </a:solidFill>
                  <a:latin typeface="Arial"/>
                  <a:cs typeface="DecoType Thuluth"/>
                </a:rPr>
                <a:t>إعلاء شأن الفرد المسلم ورفع قيمت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9230"/>
            <p:cNvSpPr/>
            <p:nvPr/>
          </p:nvSpPr>
          <p:spPr>
            <a:xfrm>
              <a:off x="468360" y="343728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ffffff"/>
                  </a:solidFill>
                  <a:latin typeface="Arial"/>
                  <a:cs typeface="DecoType Thuluth"/>
                </a:rPr>
                <a:t>الإيجابية الاجتماعية للمسل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9232"/>
            <p:cNvSpPr/>
            <p:nvPr/>
          </p:nvSpPr>
          <p:spPr>
            <a:xfrm>
              <a:off x="468360" y="412380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ffffff"/>
                  </a:solidFill>
                  <a:latin typeface="Arial"/>
                  <a:cs typeface="DecoType Thuluth"/>
                </a:rPr>
                <a:t>إيقاف كيد ومكر الأعد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386000" y="549360"/>
            <a:ext cx="7288560" cy="3507840"/>
            <a:chOff x="1386000" y="549360"/>
            <a:chExt cx="7288560" cy="3507840"/>
          </a:xfrm>
        </p:grpSpPr>
        <p:cxnSp>
          <p:nvCxnSpPr>
            <p:cNvPr id="112" name="_s11295"/>
            <p:cNvCxnSpPr>
              <a:stCxn id="113" idx="3"/>
              <a:endCxn id="114" idx="2"/>
            </p:cNvCxnSpPr>
            <p:nvPr/>
          </p:nvCxnSpPr>
          <p:spPr>
            <a:xfrm flipV="1">
              <a:off x="5759280" y="1050480"/>
              <a:ext cx="729360" cy="2756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5" name="_s11292"/>
            <p:cNvCxnSpPr>
              <a:stCxn id="116" idx="3"/>
              <a:endCxn id="114" idx="2"/>
            </p:cNvCxnSpPr>
            <p:nvPr/>
          </p:nvCxnSpPr>
          <p:spPr>
            <a:xfrm flipV="1">
              <a:off x="5759280" y="1050120"/>
              <a:ext cx="729360" cy="2006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7" name="_s11291"/>
            <p:cNvCxnSpPr>
              <a:stCxn id="118" idx="3"/>
              <a:endCxn id="114" idx="2"/>
            </p:cNvCxnSpPr>
            <p:nvPr/>
          </p:nvCxnSpPr>
          <p:spPr>
            <a:xfrm flipV="1">
              <a:off x="5759280" y="1050120"/>
              <a:ext cx="729360" cy="1253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9" name="_s11290"/>
            <p:cNvCxnSpPr>
              <a:stCxn id="120" idx="3"/>
              <a:endCxn id="114" idx="2"/>
            </p:cNvCxnSpPr>
            <p:nvPr/>
          </p:nvCxnSpPr>
          <p:spPr>
            <a:xfrm flipV="1">
              <a:off x="5759280" y="1050120"/>
              <a:ext cx="729360" cy="5032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14" name="_s11286"/>
            <p:cNvSpPr/>
            <p:nvPr/>
          </p:nvSpPr>
          <p:spPr>
            <a:xfrm>
              <a:off x="4301280" y="549360"/>
              <a:ext cx="4373280" cy="50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ثمرات واقعيه الثقافة الإسلام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1287"/>
            <p:cNvSpPr/>
            <p:nvPr/>
          </p:nvSpPr>
          <p:spPr>
            <a:xfrm>
              <a:off x="1386000" y="1301040"/>
              <a:ext cx="4373280" cy="50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تفاعل المسلم مع التكاليف الشرع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1288"/>
            <p:cNvSpPr/>
            <p:nvPr/>
          </p:nvSpPr>
          <p:spPr>
            <a:xfrm>
              <a:off x="1386000" y="2052720"/>
              <a:ext cx="4373280" cy="50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رتقاء المسلم إلي آفاق عالية سام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1289"/>
            <p:cNvSpPr/>
            <p:nvPr/>
          </p:nvSpPr>
          <p:spPr>
            <a:xfrm>
              <a:off x="1386000" y="2804400"/>
              <a:ext cx="4373280" cy="50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اعتراف بالضعف البشر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1294"/>
            <p:cNvSpPr/>
            <p:nvPr/>
          </p:nvSpPr>
          <p:spPr>
            <a:xfrm>
              <a:off x="1386000" y="3556080"/>
              <a:ext cx="4373280" cy="50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اقتداء بالنماذج العميلة الناجح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476360" y="0"/>
            <a:ext cx="1062036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1386000" y="1320840"/>
            <a:ext cx="5471280" cy="2736720"/>
            <a:chOff x="1386000" y="1320840"/>
            <a:chExt cx="5471280" cy="2736720"/>
          </a:xfrm>
        </p:grpSpPr>
        <p:cxnSp>
          <p:nvCxnSpPr>
            <p:cNvPr id="123" name="_s12303"/>
            <p:cNvCxnSpPr>
              <a:stCxn id="124" idx="4"/>
              <a:endCxn id="125" idx="3"/>
            </p:cNvCxnSpPr>
            <p:nvPr/>
          </p:nvCxnSpPr>
          <p:spPr>
            <a:xfrm flipV="1">
              <a:off x="4626360" y="1711080"/>
              <a:ext cx="570960" cy="21711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26" name="_s12301"/>
            <p:cNvCxnSpPr>
              <a:stCxn id="127" idx="4"/>
              <a:endCxn id="125" idx="3"/>
            </p:cNvCxnSpPr>
            <p:nvPr/>
          </p:nvCxnSpPr>
          <p:spPr>
            <a:xfrm flipV="1">
              <a:off x="4626360" y="1711080"/>
              <a:ext cx="570960" cy="1585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28" name="_s12300"/>
            <p:cNvCxnSpPr>
              <a:stCxn id="129" idx="4"/>
              <a:endCxn id="125" idx="3"/>
            </p:cNvCxnSpPr>
            <p:nvPr/>
          </p:nvCxnSpPr>
          <p:spPr>
            <a:xfrm flipV="1">
              <a:off x="4626360" y="1711080"/>
              <a:ext cx="570960" cy="9982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0" name="_s12299"/>
            <p:cNvCxnSpPr>
              <a:stCxn id="131" idx="4"/>
              <a:endCxn id="125" idx="3"/>
            </p:cNvCxnSpPr>
            <p:nvPr/>
          </p:nvCxnSpPr>
          <p:spPr>
            <a:xfrm flipV="1">
              <a:off x="4626360" y="1711080"/>
              <a:ext cx="570960" cy="412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25" name="_s12295"/>
            <p:cNvSpPr/>
            <p:nvPr/>
          </p:nvSpPr>
          <p:spPr>
            <a:xfrm>
              <a:off x="3574440" y="1320840"/>
              <a:ext cx="3282840" cy="390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ثمرات توازن الثقافة الإسلام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2296"/>
            <p:cNvSpPr/>
            <p:nvPr/>
          </p:nvSpPr>
          <p:spPr>
            <a:xfrm>
              <a:off x="1386000" y="1907280"/>
              <a:ext cx="3282840" cy="390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Farsi Simple Bold"/>
                </a:rPr>
                <a:t>التوازن بين عالم الغيب وعالم الشهاد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297"/>
            <p:cNvSpPr/>
            <p:nvPr/>
          </p:nvSpPr>
          <p:spPr>
            <a:xfrm>
              <a:off x="1386000" y="2493720"/>
              <a:ext cx="3282840" cy="390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Farsi Simple Bold"/>
                </a:rPr>
                <a:t>التوازن بين فاعلية الإنسان في الكون .وصلة الكون بالإنس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2298"/>
            <p:cNvSpPr/>
            <p:nvPr/>
          </p:nvSpPr>
          <p:spPr>
            <a:xfrm>
              <a:off x="1386000" y="3080160"/>
              <a:ext cx="3282840" cy="390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Farsi Simple Bold"/>
                </a:rPr>
                <a:t>التوازن بين العبادة والعم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2302"/>
            <p:cNvSpPr/>
            <p:nvPr/>
          </p:nvSpPr>
          <p:spPr>
            <a:xfrm>
              <a:off x="1386000" y="3666600"/>
              <a:ext cx="3282840" cy="390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Farsi Simple Bold"/>
                </a:rPr>
                <a:t>التوازن بين الفرد والجماع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386000" y="1320840"/>
            <a:ext cx="5471280" cy="2736720"/>
            <a:chOff x="1386000" y="1320840"/>
            <a:chExt cx="5471280" cy="2736720"/>
          </a:xfrm>
        </p:grpSpPr>
        <p:cxnSp>
          <p:nvCxnSpPr>
            <p:cNvPr id="134" name="_s13327"/>
            <p:cNvCxnSpPr>
              <a:stCxn id="135" idx="3"/>
              <a:endCxn id="136" idx="2"/>
            </p:cNvCxnSpPr>
            <p:nvPr/>
          </p:nvCxnSpPr>
          <p:spPr>
            <a:xfrm flipV="1">
              <a:off x="4668480" y="1711080"/>
              <a:ext cx="547560" cy="21510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37" name="_s13325"/>
            <p:cNvCxnSpPr>
              <a:stCxn id="138" idx="3"/>
              <a:endCxn id="136" idx="2"/>
            </p:cNvCxnSpPr>
            <p:nvPr/>
          </p:nvCxnSpPr>
          <p:spPr>
            <a:xfrm flipV="1">
              <a:off x="4668480" y="1711080"/>
              <a:ext cx="547560" cy="1565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39" name="_s13324"/>
            <p:cNvCxnSpPr>
              <a:stCxn id="140" idx="3"/>
              <a:endCxn id="136" idx="2"/>
            </p:cNvCxnSpPr>
            <p:nvPr/>
          </p:nvCxnSpPr>
          <p:spPr>
            <a:xfrm flipV="1">
              <a:off x="4668480" y="1711080"/>
              <a:ext cx="547560" cy="9781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41" name="_s13323"/>
            <p:cNvCxnSpPr>
              <a:stCxn id="142" idx="3"/>
              <a:endCxn id="136" idx="2"/>
            </p:cNvCxnSpPr>
            <p:nvPr/>
          </p:nvCxnSpPr>
          <p:spPr>
            <a:xfrm flipV="1">
              <a:off x="4668480" y="1711080"/>
              <a:ext cx="547560" cy="392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36" name="_s13319"/>
            <p:cNvSpPr/>
            <p:nvPr/>
          </p:nvSpPr>
          <p:spPr>
            <a:xfrm>
              <a:off x="3574440" y="1320840"/>
              <a:ext cx="3282840" cy="39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Diwani Bent"/>
                </a:rPr>
                <a:t>دور الثقافة في بناء الفرد والمجتم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3320"/>
            <p:cNvSpPr/>
            <p:nvPr/>
          </p:nvSpPr>
          <p:spPr>
            <a:xfrm>
              <a:off x="1386000" y="1907280"/>
              <a:ext cx="3282840" cy="39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ثقافة الإسلامية وحدها هي التي تحر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بشر من عبودية البش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3321"/>
            <p:cNvSpPr/>
            <p:nvPr/>
          </p:nvSpPr>
          <p:spPr>
            <a:xfrm>
              <a:off x="1386000" y="2493720"/>
              <a:ext cx="3282840" cy="39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ثقافة الإسلامية يمكن أن تقوم بدور تطوي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Led Italic Font"/>
                </a:rPr>
                <a:t> الأساليب والوسائل لتطبيق الأحكام الشرع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3322"/>
            <p:cNvSpPr/>
            <p:nvPr/>
          </p:nvSpPr>
          <p:spPr>
            <a:xfrm>
              <a:off x="1386000" y="3080160"/>
              <a:ext cx="3282840" cy="39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ثقافة الإسلامية تقوم بواج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بناء الإنسان المسل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3326"/>
            <p:cNvSpPr/>
            <p:nvPr/>
          </p:nvSpPr>
          <p:spPr>
            <a:xfrm>
              <a:off x="1386000" y="3666600"/>
              <a:ext cx="3282840" cy="39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ثقافة الإسلامية زاد ضروري لكل مسل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يريد أن يعيش حياة إسلام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7:42:25Z</dcterms:created>
  <dc:creator>user</dc:creator>
  <dc:description/>
  <dc:language>en-US</dc:language>
  <cp:lastModifiedBy>user</cp:lastModifiedBy>
  <dcterms:modified xsi:type="dcterms:W3CDTF">2008-03-08T19:56:11Z</dcterms:modified>
  <cp:revision>4</cp:revision>
  <dc:subject/>
  <dc:title>الشريحة 1</dc:title>
</cp:coreProperties>
</file>