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F8AD-9B90-442E-B1B2-9802B786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73F6-370A-4BB9-A541-D086DC4C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DBA3-7C1A-4F1A-84D6-018377D3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E04E-CB42-46C2-86C8-44627B8A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AF01-16E8-46E6-BE0B-CAEF6FD2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3C90-9B34-45BB-A82A-A619C64E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3640-CEC6-4BB7-B4D8-8023650F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88FA-70B3-4C36-A935-8C2A2E05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DAEA-9D69-46F2-B0D2-2D65BD3B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A658-D12F-4F1B-96B7-823156E1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CC96-8178-434A-88BF-884F0FB5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F128-3A5C-4D8F-B4D4-1AF0A307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84F1-D7B9-43E9-88BD-EC9F3254EF0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85840"/>
            <a:ext cx="792972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المخزون السلع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480" y="785520"/>
            <a:ext cx="86439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إليك بعض البيانات التالية الخاصة بشركة البدر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1397160"/>
          <a:ext cx="6096240" cy="3292200"/>
        </p:xfrm>
        <a:graphic>
          <a:graphicData uri="http://schemas.openxmlformats.org/drawingml/2006/table">
            <a:tbl>
              <a:tblPr/>
              <a:tblGrid>
                <a:gridCol w="1524240"/>
                <a:gridCol w="1339560"/>
                <a:gridCol w="992520"/>
                <a:gridCol w="2239920"/>
              </a:tblGrid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كلفة بالريا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سعر الوحد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عدد الوحد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بي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7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ــــــــ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خزون في بداية السن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شتريات شهر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شتريات شهر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شتريات شهر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شتريات شهر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4" name="Rectangle 1"/>
          <p:cNvSpPr/>
          <p:nvPr/>
        </p:nvSpPr>
        <p:spPr>
          <a:xfrm>
            <a:off x="468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abic Transparent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مستطيل 1"/>
          <p:cNvSpPr/>
          <p:nvPr/>
        </p:nvSpPr>
        <p:spPr>
          <a:xfrm>
            <a:off x="928800" y="428760"/>
            <a:ext cx="7358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cs typeface="Times New Roman"/>
              </a:rPr>
              <a:t>إذا علمت أن بضاعة آخر المدة ( المخزون ) 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ea typeface="Times New Roman"/>
              </a:rPr>
              <a:t>1500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ea typeface="Times New Roman"/>
              </a:rPr>
              <a:t> وحد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Arabic Transparent"/>
                <a:cs typeface="Times New Roman"/>
              </a:rPr>
              <a:t>المطلوب: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ea typeface="Times New Roman"/>
              </a:rPr>
              <a:t>- تحديد كمية البضاعة المباع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ea typeface="Times New Roman"/>
              </a:rPr>
              <a:t>- تحديد كل من تكلفة البضاعة المباعة و تكلفة البضاع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المتبقية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المخزون آخر المدة) 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ea typeface="Times New Roman"/>
              </a:rPr>
              <a:t> حسب  الطر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cs typeface="Times New Roman"/>
              </a:rPr>
              <a:t>أ- طريقة الوارد أخيرا خارج أولا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IFO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cs typeface="Times New Roman"/>
              </a:rPr>
              <a:t>ب- طريقة الوارد أولاً خارج أولا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IFO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cs typeface="Times New Roman"/>
              </a:rPr>
              <a:t>ج- طريقة المتوس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928880" y="1000080"/>
          <a:ext cx="5572080" cy="2857680"/>
        </p:xfrm>
        <a:graphic>
          <a:graphicData uri="http://schemas.openxmlformats.org/drawingml/2006/table">
            <a:tbl>
              <a:tblPr/>
              <a:tblGrid>
                <a:gridCol w="1326960"/>
                <a:gridCol w="1325520"/>
                <a:gridCol w="1524240"/>
                <a:gridCol w="1395360"/>
              </a:tblGrid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قيم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سع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اري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5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/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7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/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/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0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/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7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مجمو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Rectangle 2"/>
          <p:cNvSpPr/>
          <p:nvPr/>
        </p:nvSpPr>
        <p:spPr>
          <a:xfrm>
            <a:off x="1283040" y="-43560"/>
            <a:ext cx="640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Calibri"/>
              </a:rPr>
              <a:t>حساب  كمية وتكلفة البضاعة المتوفرة للبي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21:29:34Z</dcterms:created>
  <dc:creator>user</dc:creator>
  <dc:description/>
  <dc:language>en-US</dc:language>
  <cp:lastModifiedBy>user</cp:lastModifiedBy>
  <dcterms:modified xsi:type="dcterms:W3CDTF">2010-10-31T21:52:32Z</dcterms:modified>
  <cp:revision>3</cp:revision>
  <dc:subject/>
  <dc:title>المخزون السلعي</dc:title>
</cp:coreProperties>
</file>