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55E6-3B79-4725-A02A-04753E278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3B5D-231D-4126-9E66-9E950F2E1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C9A6-B885-4671-9077-4C3D2A58E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2F1C-188A-4C96-8F1E-3D6239B98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53DE-B07B-469C-9950-7D53D428E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15D1-6B8D-4220-A363-19F14DC48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A170-A678-4F6D-BBE1-ABE373FAE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6FBE-5569-4B92-9E42-57F9448CF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E472-EB44-4B30-8EBA-26E1516EE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C36A-AAF4-458B-BC83-BBBB6FF9F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1033-2D45-4385-BB8A-A7C81B00C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22CA-E243-4A54-8416-FE40151D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182E5-D307-4328-A472-92119CB52A8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600" y="285840"/>
            <a:ext cx="7929720" cy="42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</a:rPr>
              <a:t>المخزون السلعي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85480" y="785520"/>
            <a:ext cx="864396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إليك بعض البيانات التالية الخاصة بشركة البدر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523880" y="1397160"/>
          <a:ext cx="6096240" cy="3292200"/>
        </p:xfrm>
        <a:graphic>
          <a:graphicData uri="http://schemas.openxmlformats.org/drawingml/2006/table">
            <a:tbl>
              <a:tblPr/>
              <a:tblGrid>
                <a:gridCol w="1524240"/>
                <a:gridCol w="1339560"/>
                <a:gridCol w="992520"/>
                <a:gridCol w="2239920"/>
              </a:tblGrid>
              <a:tr h="86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تكلفة بالريا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سعر الوحد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عدد الوحد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بيا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7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ــــــــ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مخزون في بداية السن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7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مشتريات شهر 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7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مشتريات شهر 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7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مشتريات شهر 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7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مشتريات شهر 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44" name="Rectangle 1"/>
          <p:cNvSpPr/>
          <p:nvPr/>
        </p:nvSpPr>
        <p:spPr>
          <a:xfrm>
            <a:off x="4680" y="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abic Transparent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مستطيل 1"/>
          <p:cNvSpPr/>
          <p:nvPr/>
        </p:nvSpPr>
        <p:spPr>
          <a:xfrm>
            <a:off x="928800" y="428760"/>
            <a:ext cx="73580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abic Transparent"/>
                <a:cs typeface="Times New Roman"/>
              </a:rPr>
              <a:t>إذا علمت أن بضاعة آخر المدة ( المخزون ) </a:t>
            </a:r>
            <a:r>
              <a:rPr b="1" lang="ar-SA" sz="2400" spc="-1" strike="noStrike">
                <a:solidFill>
                  <a:srgbClr val="000000"/>
                </a:solidFill>
                <a:latin typeface="Arabic Transparent"/>
                <a:ea typeface="Times New Roman"/>
              </a:rPr>
              <a:t>1500</a:t>
            </a:r>
            <a:r>
              <a:rPr b="1" lang="ar-SA" sz="2400" spc="-1" strike="noStrike">
                <a:solidFill>
                  <a:srgbClr val="000000"/>
                </a:solidFill>
                <a:latin typeface="Arabic Transparent"/>
                <a:ea typeface="Times New Roman"/>
              </a:rPr>
              <a:t> وحد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Arabic Transparent"/>
                <a:cs typeface="Times New Roman"/>
              </a:rPr>
              <a:t>المطلوب:</a:t>
            </a:r>
            <a:r>
              <a:rPr b="1" lang="ar-SA" sz="2400" spc="-1" strike="noStrike">
                <a:solidFill>
                  <a:srgbClr val="000000"/>
                </a:solidFill>
                <a:latin typeface="Arabic Transparent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abic Transparent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abic Transparent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000000"/>
                </a:solidFill>
                <a:latin typeface="Arabic Transparent"/>
                <a:ea typeface="Times New Roman"/>
              </a:rPr>
              <a:t>- تحديد كمية البضاعة المباع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abic Transparent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Arabic Transparent"/>
                <a:ea typeface="Times New Roman"/>
              </a:rPr>
              <a:t>- تحديد كل من تكلفة البضاعة المباعة و تكلفة البضاعة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المتبقية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المخزون آخر المدة) </a:t>
            </a:r>
            <a:r>
              <a:rPr b="1" lang="ar-SA" sz="2400" spc="-1" strike="noStrike">
                <a:solidFill>
                  <a:srgbClr val="000000"/>
                </a:solidFill>
                <a:latin typeface="Arabic Transparent"/>
                <a:ea typeface="Times New Roman"/>
              </a:rPr>
              <a:t> حسب  الطر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abic Transparent"/>
                <a:cs typeface="Times New Roman"/>
              </a:rPr>
              <a:t>أ- طريقة الوارد أخيرا خارج أولا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L</a:t>
            </a:r>
            <a:r>
              <a:rPr b="1" lang="fr-FR" sz="2400" spc="-1" strike="noStrike">
                <a:solidFill>
                  <a:srgbClr val="000000"/>
                </a:solidFill>
                <a:latin typeface="Tahoma"/>
                <a:ea typeface="Tahoma"/>
              </a:rPr>
              <a:t>IFO</a:t>
            </a:r>
            <a:r>
              <a:rPr b="1" lang="fr-FR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abic Transparent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abic Transparent"/>
                <a:cs typeface="Times New Roman"/>
              </a:rPr>
              <a:t>ب- طريقة الوارد أولاً خارج أولا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F</a:t>
            </a:r>
            <a:r>
              <a:rPr b="1" lang="fr-FR" sz="2400" spc="-1" strike="noStrike">
                <a:solidFill>
                  <a:srgbClr val="000000"/>
                </a:solidFill>
                <a:latin typeface="Tahoma"/>
                <a:ea typeface="Tahoma"/>
              </a:rPr>
              <a:t>IFO</a:t>
            </a:r>
            <a:r>
              <a:rPr b="1" lang="fr-FR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abic Transparent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abic Transparent"/>
                <a:cs typeface="Times New Roman"/>
              </a:rPr>
              <a:t>ج- طريقة المتوس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928880" y="1000080"/>
          <a:ext cx="5572080" cy="2857680"/>
        </p:xfrm>
        <a:graphic>
          <a:graphicData uri="http://schemas.openxmlformats.org/drawingml/2006/table">
            <a:tbl>
              <a:tblPr/>
              <a:tblGrid>
                <a:gridCol w="1326960"/>
                <a:gridCol w="1325520"/>
                <a:gridCol w="1524240"/>
                <a:gridCol w="1395360"/>
              </a:tblGrid>
              <a:tr h="47628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قيم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سعر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كم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تاري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5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/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7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/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3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/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0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/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73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مجمو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Rectangle 2"/>
          <p:cNvSpPr/>
          <p:nvPr/>
        </p:nvSpPr>
        <p:spPr>
          <a:xfrm>
            <a:off x="1283040" y="-43560"/>
            <a:ext cx="640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Calibri"/>
              </a:rPr>
              <a:t>حساب  كمية وتكلفة البضاعة المتوفرة للبي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31T21:29:34Z</dcterms:created>
  <dc:creator>user</dc:creator>
  <dc:description/>
  <dc:language>en-US</dc:language>
  <cp:lastModifiedBy>user</cp:lastModifiedBy>
  <dcterms:modified xsi:type="dcterms:W3CDTF">2010-10-31T21:52:32Z</dcterms:modified>
  <cp:revision>3</cp:revision>
  <dc:subject/>
  <dc:title>المخزون السلعي</dc:title>
</cp:coreProperties>
</file>