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96879-6982-4EBD-BBF2-28A1C6E3A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C713-D7D9-4DC6-8EA3-3BB1C9F9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30D39-3220-49B3-A2CD-05D4DA1F4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B3E06-E5CE-4DD8-A124-8AB0946EE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0E474-3FCC-40A6-BDA0-8E3E22A97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C074-381B-4A03-B397-BD23C375E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FBF53-AA6E-413B-B0B1-3A909D0B5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67E0F-8ADD-43F9-BCDD-184BD9BAD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A8A54-C5BD-4B06-AA4B-A474A0A40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9B3EB-54EB-4B4D-8D85-E84C2568E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A9DF-4076-4D5C-9856-8B13489D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2B826-1118-41A6-96D6-461E816A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786E5-D2AD-47FC-AD3C-080BDA0D2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2AE7B-2D50-4DBD-B3D7-5D53F0657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F39F8-DA6A-4783-A761-704299EA6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01C2B-FA60-4634-88C5-6071C0B63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98B04-6380-4FAB-A2D2-72899DB9C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CB82-9195-4432-8554-55594595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DC1EE-C861-43C4-84F8-3DB0ED87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2B1BC-BBB3-4109-90B1-CBCB5A6F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D3026-B623-46B1-9E42-D57B39BC9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79EF-3DA3-42B5-AA1F-D1E9AA57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1D3A-2B4D-4E93-A3B8-C93A2348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4EF9-CDDD-4673-A03C-D077FDD1B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EBFF-1D85-4CE6-972A-F974B8D12B8A}"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48EB-0D69-492D-9994-18F82C994876}"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google.com.sa/imgres?imgurl=http://globalvoicesonline.org/wp-content/uploads/2012/03/domestic-worker-313x300.jpg&amp;imgrefurl=http://ar.globalvoicesonline.org/2012/03/20/19912/&amp;usg=__rQix1f_loiGfPTBDtgSK-sff4ug=&amp;h=300&amp;w=313&amp;sz=15&amp;hl=ar&amp;start=44&amp;zoom=1&amp;tbnid=qoKaZsWwp9lTjM:&amp;tbnh=112&amp;tbnw=117&amp;ei=lZJwUMjeHOnI0AXEvYDIDw&amp;prev=/search%3Fq%3D%25D8%25AE%25D8%25A7%25D8%25AF%25D9%2585%25D8%25A9%2B%25D9%2585%25D9%2586%25D8%25B2%25D9%2584%25D9%258A%25D8%25A9%26start%3D40%26hl%3Dar%26safe%3Dactive%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google.com.sa/imgres?imgurl=http://globalvoicesonline.org/wp-content/uploads/2012/03/domestic-worker-313x300.jpg&amp;imgrefurl=http://ar.globalvoicesonline.org/2012/03/20/19912/&amp;usg=__rQix1f_loiGfPTBDtgSK-sff4ug=&amp;h=300&amp;w=313&amp;sz=15&amp;hl=ar&amp;start=44&amp;zoom=1&amp;tbnid=qoKaZsWwp9lTjM:&amp;tbnh=112&amp;tbnw=117&amp;ei=lZJwUMjeHOnI0AXEvYDIDw&amp;prev=/search%3Fq%3D%25D8%25AE%25D8%25A7%25D8%25AF%25D9%2585%25D8%25A9%2B%25D9%2585%25D9%2586%25D8%25B2%25D9%2584%25D9%258A%25D8%25A9%26start%3D40%26hl%3Dar%26safe%3Dactive%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oogle.com.sa/imgres?imgurl=http://sphotos-b.xx.fbcdn.net/hphotos-snc6/c67.0.403.403/p403x403/255543_367142030027323_1130977490_n.jpg&amp;imgrefurl=http://www.facebook.com/fath.news/timeline&amp;usg=__-OuUT1sDPvP_YSfkO1exLnl__Gc=&amp;h=403&amp;w=403&amp;sz=9&amp;hl=ar&amp;start=31&amp;zoom=1&amp;tbnid=_4EonpYR7E2sQM:&amp;tbnh=124&amp;tbnw=124&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2" Type="http://schemas.openxmlformats.org/officeDocument/2006/relationships/image" Target="../media/image9.jpeg"/><Relationship Id="rId3" Type="http://schemas.openxmlformats.org/officeDocument/2006/relationships/hyperlink" Target="http://www.google.com.sa/imgres?imgurl=http://www.alealamy.net/photo/12-05-06-1985566585.jpg&amp;imgrefurl=http://www.alealamy.net/news-52657.htm&amp;usg=__j_FN4uIfJntK-pf-GnLuRxcQqa4=&amp;h=400&amp;w=357&amp;sz=22&amp;hl=ar&amp;start=38&amp;zoom=1&amp;tbnid=UVK5NctFEWwzTM:&amp;tbnh=124&amp;tbnw=111&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google.com.sa/imgres?imgurl=http://s.alriyadh.com/2009/09/04/img/750703135546.jpg&amp;imgrefurl=http://www.alriyadh.com/2009/09/04/article457087.html&amp;usg=__zldlAn7PdGifVSTWTLKKBzRUPS4=&amp;h=472&amp;w=580&amp;sz=41&amp;hl=ar&amp;start=24&amp;zoom=1&amp;tbnid=LyHA2A0Gi99oIM:&amp;tbnh=109&amp;tbnw=134&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شكلات الأسرة في المجتمع السعودي</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p:cNvPicPr/>
          <p:nvPr/>
        </p:nvPicPr>
        <p:blipFill>
          <a:blip r:embed="rId1"/>
          <a:stretch/>
        </p:blipFill>
        <p:spPr>
          <a:xfrm>
            <a:off x="1403280" y="2637000"/>
            <a:ext cx="3313080" cy="33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p:nvPr>
        </p:nvSpPr>
        <p:spPr>
          <a:xfrm>
            <a:off x="395280" y="549000"/>
            <a:ext cx="8229600" cy="4530600"/>
          </a:xfrm>
          <a:prstGeom prst="rect">
            <a:avLst/>
          </a:prstGeom>
          <a:noFill/>
          <a:ln w="0">
            <a:noFill/>
          </a:ln>
        </p:spPr>
        <p:txBody>
          <a:bodyPr lIns="90000" rIns="90000" tIns="46800" bIns="46800" anchor="t">
            <a:normAutofit fontScale="89000"/>
          </a:bodyPr>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96600"/>
                </a:solidFill>
                <a:latin typeface="Arial"/>
              </a:rPr>
              <a:t>العنف ظاهرة قديمة قدم المجتمعات منذ أن قتل قابيل لأخيه هابيل, وفي الجاهلية كان يمارس على المرأة أشكال العنف الأسري, وجاء الإسلام وحرم ذلك, ومع تقدم المجتمعات بدأت تظهر أشكال عنف أسري حديثة وتنوعت أشكالها كالعنف ضد المرأة والأطفال والخدم والمسنين.</a:t>
            </a:r>
            <a:endParaRPr b="0" lang="en-US" sz="3000" spc="-1" strike="noStrike">
              <a:solidFill>
                <a:srgbClr val="000000"/>
              </a:solidFill>
              <a:latin typeface="Arial"/>
            </a:endParaRPr>
          </a:p>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3300"/>
                </a:solidFill>
                <a:latin typeface="Arial"/>
              </a:rPr>
              <a:t>ويرتبط العنف بالعديد من المشكلات كالحرمان العاطفي والهروب من المنزل والانتحار والتزعزع في الشخصيات وظهور الانحراف والجريمة.</a:t>
            </a:r>
            <a:endParaRPr b="0" lang="en-US" sz="3000" spc="-1" strike="noStrike">
              <a:solidFill>
                <a:srgbClr val="000000"/>
              </a:solidFill>
              <a:latin typeface="Arial"/>
            </a:endParaRPr>
          </a:p>
        </p:txBody>
      </p:sp>
      <p:pic>
        <p:nvPicPr>
          <p:cNvPr id="132" name="" descr=""/>
          <p:cNvPicPr/>
          <p:nvPr/>
        </p:nvPicPr>
        <p:blipFill>
          <a:blip r:embed="rId1"/>
          <a:stretch/>
        </p:blipFill>
        <p:spPr>
          <a:xfrm>
            <a:off x="250920" y="4005360"/>
            <a:ext cx="4033800" cy="28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fontScale="87000"/>
          </a:bodyPr>
          <a:p>
            <a:pPr marL="298440" indent="-2984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في دراسة حديثة وجد أن </a:t>
            </a:r>
            <a:r>
              <a:rPr b="1" lang="en-US" sz="3000" spc="-1" strike="noStrike">
                <a:solidFill>
                  <a:srgbClr val="660066"/>
                </a:solidFill>
                <a:latin typeface="Arial"/>
              </a:rPr>
              <a:t>45</a:t>
            </a:r>
            <a:r>
              <a:rPr b="1" lang="en-US" sz="3000" spc="-1" strike="noStrike">
                <a:solidFill>
                  <a:srgbClr val="660066"/>
                </a:solidFill>
                <a:latin typeface="Arial"/>
              </a:rPr>
              <a:t>% من الأطفال السعوديين يتعرضون للإيذاء في حياتهم اليومية</a:t>
            </a:r>
            <a:endParaRPr b="0" lang="en-US" sz="3000" spc="-1" strike="noStrike">
              <a:solidFill>
                <a:srgbClr val="000000"/>
              </a:solidFill>
              <a:latin typeface="Arial"/>
            </a:endParaRPr>
          </a:p>
          <a:p>
            <a:pPr marL="2984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2984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3300"/>
                </a:solidFill>
                <a:latin typeface="Arial"/>
              </a:rPr>
              <a:t>وفي دراسة عن النساء والأطفال المعنفات واللاتي تم إيوائهن في دور الحماية أن المرأة تلجأ للبلاغ من خلال الشرطة وهيئة الأمر بالمعروف والنهي عن المنكر,</a:t>
            </a:r>
            <a:r>
              <a:rPr b="1" lang="en-US" sz="3000" spc="-1" strike="noStrike">
                <a:solidFill>
                  <a:srgbClr val="000000"/>
                </a:solidFill>
                <a:latin typeface="Arial"/>
              </a:rPr>
              <a:t> </a:t>
            </a:r>
            <a:r>
              <a:rPr b="1" lang="hi-IN" sz="3000" spc="-1" strike="noStrike">
                <a:solidFill>
                  <a:srgbClr val="009900"/>
                </a:solidFill>
                <a:latin typeface="Arial"/>
              </a:rPr>
              <a:t>وأن المرأة لا تلجأ للبلاغ إلا بعدما يتم ممارسة العنف عليها أكثر من أربع مرات(</a:t>
            </a:r>
            <a:r>
              <a:rPr b="1" lang="en-US" sz="3000" spc="-1" strike="noStrike">
                <a:solidFill>
                  <a:srgbClr val="009900"/>
                </a:solidFill>
                <a:latin typeface="Arial"/>
              </a:rPr>
              <a:t>88,9</a:t>
            </a:r>
            <a:r>
              <a:rPr b="1" lang="en-US" sz="3000" spc="-1" strike="noStrike">
                <a:solidFill>
                  <a:srgbClr val="009900"/>
                </a:solidFill>
                <a:latin typeface="Arial"/>
              </a:rPr>
              <a:t>%), ولا تلجأ لطلب الحماية إلا بعدما يتم عليها ممارسة العنف اللفظي الجسدي وأن نصف النزيلات هن فتيات لم يسبق لهن الزواج  بنسبة (</a:t>
            </a:r>
            <a:r>
              <a:rPr b="1" lang="en-US" sz="3000" spc="-1" strike="noStrike">
                <a:solidFill>
                  <a:srgbClr val="009900"/>
                </a:solidFill>
                <a:latin typeface="Arial"/>
              </a:rPr>
              <a:t>50,0</a:t>
            </a:r>
            <a:r>
              <a:rPr b="1" lang="en-US" sz="3000" spc="-1" strike="noStrike">
                <a:solidFill>
                  <a:srgbClr val="009900"/>
                </a:solidFill>
                <a:latin typeface="Arial"/>
              </a:rPr>
              <a:t>%)</a:t>
            </a:r>
            <a:r>
              <a:rPr b="1" lang="en-US" sz="3000" spc="-1" strike="noStrike">
                <a:solidFill>
                  <a:srgbClr val="000000"/>
                </a:solidFill>
                <a:latin typeface="Arial"/>
              </a:rPr>
              <a:t> </a:t>
            </a:r>
            <a:r>
              <a:rPr b="1" lang="hi-IN" sz="3000" spc="-1" strike="noStrike">
                <a:solidFill>
                  <a:srgbClr val="cc0000"/>
                </a:solidFill>
                <a:latin typeface="Arial"/>
              </a:rPr>
              <a:t>والمتزوجات (</a:t>
            </a:r>
            <a:r>
              <a:rPr b="1" lang="en-US" sz="3000" spc="-1" strike="noStrike">
                <a:solidFill>
                  <a:srgbClr val="cc0000"/>
                </a:solidFill>
                <a:latin typeface="Arial"/>
              </a:rPr>
              <a:t>11,1</a:t>
            </a:r>
            <a:r>
              <a:rPr b="1" lang="en-US" sz="3000" spc="-1" strike="noStrike">
                <a:solidFill>
                  <a:srgbClr val="cc0000"/>
                </a:solidFill>
                <a:latin typeface="Arial"/>
              </a:rPr>
              <a:t>%) السبب في ذلك أن الفتيات لا يجدن الأسباب الكافية للبقاء والعيش مع زوج معنف في حين تكون المتزوجة أكثر تردداً خوفاً على حياتها وحياة أبناء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وفي دراسة أخرى أتضح أن </a:t>
            </a:r>
            <a:r>
              <a:rPr b="1" lang="ar-SA" sz="3000" spc="-1" strike="noStrike">
                <a:solidFill>
                  <a:srgbClr val="660066"/>
                </a:solidFill>
                <a:latin typeface="Arial"/>
              </a:rPr>
              <a:t>80</a:t>
            </a:r>
            <a:r>
              <a:rPr b="1" lang="ar-SA" sz="3000" spc="-1" strike="noStrike">
                <a:solidFill>
                  <a:srgbClr val="660066"/>
                </a:solidFill>
                <a:latin typeface="Arial"/>
              </a:rPr>
              <a:t> % من متعاطي الكحول والمخدرات تعرضوا للإعتداء في طفولتهم, وأن </a:t>
            </a:r>
            <a:r>
              <a:rPr b="1" lang="ar-SA" sz="3000" spc="-1" strike="noStrike">
                <a:solidFill>
                  <a:srgbClr val="660066"/>
                </a:solidFill>
                <a:latin typeface="Arial"/>
              </a:rPr>
              <a:t>80</a:t>
            </a:r>
            <a:r>
              <a:rPr b="1" lang="ar-SA" sz="3000" spc="-1" strike="noStrike">
                <a:solidFill>
                  <a:srgbClr val="660066"/>
                </a:solidFill>
                <a:latin typeface="Arial"/>
              </a:rPr>
              <a:t>% من الهاربين من منازلهم يؤكدون على أن سبب هروبهم هو الإعتداء, </a:t>
            </a:r>
            <a:r>
              <a:rPr b="1" lang="ar-SA" sz="3000" spc="-1" strike="noStrike">
                <a:solidFill>
                  <a:srgbClr val="660066"/>
                </a:solidFill>
                <a:latin typeface="Arial"/>
              </a:rPr>
              <a:t>78</a:t>
            </a:r>
            <a:r>
              <a:rPr b="1" lang="ar-SA" sz="3000" spc="-1" strike="noStrike">
                <a:solidFill>
                  <a:srgbClr val="660066"/>
                </a:solidFill>
                <a:latin typeface="Arial"/>
              </a:rPr>
              <a:t>% من السجناء تعرضوا للإعتداء في طفولتهم.</a:t>
            </a:r>
            <a:endParaRPr b="0" lang="en-US" sz="3000" spc="-1" strike="noStrike">
              <a:solidFill>
                <a:srgbClr val="000000"/>
              </a:solidFill>
              <a:latin typeface="Arial"/>
            </a:endParaRPr>
          </a:p>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afbf39"/>
                </a:solidFill>
                <a:latin typeface="Arial"/>
              </a:rPr>
              <a:t>وبذلك نجد أن الضحية للعنف هي المرأة كزوجة وكفتاة ثم الأبناء لذا على المجتمع أن يحفظ حقوقها ويوفر لها البدائل الواضحه لإيقاف العنف والأنظمة والتشريعات التي تكفل حقها عند حدوث العنف ضدها.</a:t>
            </a:r>
            <a:endParaRPr b="0" lang="en-US" sz="3000" spc="-1" strike="noStrike">
              <a:solidFill>
                <a:srgbClr val="000000"/>
              </a:solidFill>
              <a:latin typeface="Arial"/>
            </a:endParaRPr>
          </a:p>
          <a:p>
            <a:pPr marL="3052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7" name="" descr=""/>
          <p:cNvPicPr/>
          <p:nvPr/>
        </p:nvPicPr>
        <p:blipFill>
          <a:blip r:embed="rId1"/>
          <a:stretch/>
        </p:blipFill>
        <p:spPr>
          <a:xfrm>
            <a:off x="395280" y="5013360"/>
            <a:ext cx="2232000" cy="16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920049"/>
                </a:solidFill>
                <a:latin typeface="Garamond"/>
              </a:rPr>
              <a:t>رابعاً: قلة فرص العمل وارتفاع البطالة</a:t>
            </a:r>
            <a:endParaRPr b="0" lang="en-US" sz="4200" spc="-1" strike="noStrike">
              <a:solidFill>
                <a:srgbClr val="006633"/>
              </a:solidFill>
              <a:latin typeface="Garamond"/>
            </a:endParaRPr>
          </a:p>
        </p:txBody>
      </p:sp>
      <p:sp>
        <p:nvSpPr>
          <p:cNvPr id="139"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fontScale="84000"/>
          </a:bodyPr>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afbf39"/>
                </a:solidFill>
                <a:latin typeface="Arial"/>
              </a:rPr>
              <a:t>إن عدم توفر فرص عمل مع ارتفاع المستوى المعيشي ووجود ثقافة الاستهلاك تؤدي لمشاكل وتنمي الجريمة, فهي مشكلة تتصل بالفرد والأسرة والمجتمع.</a:t>
            </a:r>
            <a:endParaRPr b="0" lang="en-US" sz="3000" spc="-1" strike="noStrike">
              <a:solidFill>
                <a:srgbClr val="000000"/>
              </a:solidFill>
              <a:latin typeface="Arial"/>
            </a:endParaRPr>
          </a:p>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cc0000"/>
                </a:solidFill>
                <a:latin typeface="Arial"/>
              </a:rPr>
              <a:t>ففي دراسة لمركز أبحاث الجريمة بوزارة الداخلية عن البطالة وأثرها على الجريمة أشارت إلى الانعكاسات الاجتماعية الخطيرة خاصة مع غياب رب الأسرة وتفكك الأسرة  يؤدي لعدم التزام أفرادها بقيم المجتمع وانحراف الأبناء الفكري والوقوع في المسكرات والاتجاه للسرقة والاحتيال.</a:t>
            </a:r>
            <a:endParaRPr b="0" lang="en-US" sz="3000" spc="-1" strike="noStrike">
              <a:solidFill>
                <a:srgbClr val="000000"/>
              </a:solidFill>
              <a:latin typeface="Arial"/>
            </a:endParaRPr>
          </a:p>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afbf39"/>
                </a:solidFill>
                <a:latin typeface="Arial"/>
              </a:rPr>
              <a:t>وفي دراسة حول جرائم العاطلين السعوديين أتضح أن غالبية مرتكبي الجرائم العاطلين تتمركز أعمارهم بين </a:t>
            </a:r>
            <a:r>
              <a:rPr b="1" lang="en-US" sz="3000" spc="-1" strike="noStrike">
                <a:solidFill>
                  <a:srgbClr val="afbf39"/>
                </a:solidFill>
                <a:latin typeface="Arial"/>
              </a:rPr>
              <a:t>20</a:t>
            </a:r>
            <a:r>
              <a:rPr b="1" lang="en-US" sz="3000" spc="-1" strike="noStrike">
                <a:solidFill>
                  <a:srgbClr val="afbf39"/>
                </a:solidFill>
                <a:latin typeface="Arial"/>
              </a:rPr>
              <a:t> إلى أقل من </a:t>
            </a:r>
            <a:r>
              <a:rPr b="1" lang="en-US" sz="3000" spc="-1" strike="noStrike">
                <a:solidFill>
                  <a:srgbClr val="afbf39"/>
                </a:solidFill>
                <a:latin typeface="Arial"/>
              </a:rPr>
              <a:t>30</a:t>
            </a:r>
            <a:r>
              <a:rPr b="1" lang="en-US" sz="3000" spc="-1" strike="noStrike">
                <a:solidFill>
                  <a:srgbClr val="afbf39"/>
                </a:solidFill>
                <a:latin typeface="Arial"/>
              </a:rPr>
              <a:t> وهذه المرحلة تتميز بالاندفاع والبعد عن الرؤي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لذا فالحوار الفاعل بين أفراد الأسرة وزرع حب العمل والكسب الحلال وتحمل المسؤولية واستثمار الفرص, </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وعلى رجال الأعمال إحتواء الشباب وفتح المجالات له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خامساً: العمالة المنزلية </a:t>
            </a:r>
            <a:endParaRPr b="0" lang="en-US" sz="4200" spc="-1" strike="noStrike">
              <a:solidFill>
                <a:srgbClr val="006633"/>
              </a:solidFill>
              <a:latin typeface="Garamond"/>
            </a:endParaRPr>
          </a:p>
        </p:txBody>
      </p:sp>
      <p:sp>
        <p:nvSpPr>
          <p:cNvPr id="143"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2000"/>
          </a:bodyPr>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شهدت نهاية السبعينيات مرحلة وفرة مالية في حياة الأسرة السعودية, وتغيرت النظرة نحو مكونات المنزل وحجمة وتوافق ذلك مع اتساع مشاركة المرأة في العمل الوطني ونشأ بذلك حاجة ملحة لوجود خادمة تقوم بأعباء المنزل.</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afbf39"/>
                </a:solidFill>
                <a:latin typeface="Arial"/>
              </a:rPr>
              <a:t>وتطورت مفاهيم النظافة والجمال والزينة والذوق العام, وانفتح الباب واسعاً أمام استقدام العمالة المنزلية من الخدم والسائقين والمربيات, فصار مفهوم خادمة لكل سيدة أمر محتوم</a:t>
            </a:r>
            <a:endParaRPr b="0" lang="en-US" sz="3000" spc="-1" strike="noStrike">
              <a:solidFill>
                <a:srgbClr val="000000"/>
              </a:solidFill>
              <a:latin typeface="Arial"/>
            </a:endParaRPr>
          </a:p>
        </p:txBody>
      </p:sp>
      <p:pic>
        <p:nvPicPr>
          <p:cNvPr id="144" name="" descr="">
            <a:hlinkClick r:id="rId1"/>
          </p:cNvPr>
          <p:cNvPicPr/>
          <p:nvPr/>
        </p:nvPicPr>
        <p:blipFill>
          <a:blip r:embed="rId2"/>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3b812f"/>
                </a:solidFill>
                <a:latin typeface="Arial"/>
              </a:rPr>
              <a:t>ومن أسباب تفشي هذه الظاهرة:</a:t>
            </a:r>
            <a:endParaRPr b="0" lang="en-US" sz="3000" spc="-1" strike="noStrike">
              <a:solidFill>
                <a:srgbClr val="000000"/>
              </a:solidFill>
              <a:latin typeface="Arial"/>
            </a:endParaRPr>
          </a:p>
          <a:p>
            <a:pPr marL="339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كثرة الأعباء المنزلية, خروج المرأة للعمل, العامل الاقتصادي, غياب الوعي بمخاطر الظاهرة, زيادة الاهتمام بالمناسبات والزيارات والمغالاة بمطالب الحياة اليومية.</a:t>
            </a:r>
            <a:endParaRPr b="0" lang="en-US" sz="3000" spc="-1" strike="noStrike">
              <a:solidFill>
                <a:srgbClr val="000000"/>
              </a:solidFill>
              <a:latin typeface="Arial"/>
            </a:endParaRPr>
          </a:p>
          <a:p>
            <a:pPr marL="339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3b812f"/>
                </a:solidFill>
                <a:latin typeface="Arial"/>
              </a:rPr>
              <a:t>وفي الأصل أن الخادمة تحقق فائدة بينما الواقع أن لها سلبيات تبعاً لنوع الخادمة وصفاتها وبيئتها وثقافتها وظروفها الخاصة وطبيعة التعاقد وشروطه.</a:t>
            </a:r>
            <a:endParaRPr b="0" lang="en-US" sz="3000" spc="-1" strike="noStrike">
              <a:solidFill>
                <a:srgbClr val="000000"/>
              </a:solidFill>
              <a:latin typeface="Arial"/>
            </a:endParaRPr>
          </a:p>
        </p:txBody>
      </p:sp>
      <p:pic>
        <p:nvPicPr>
          <p:cNvPr id="147" name="" descr="">
            <a:hlinkClick r:id="rId1"/>
          </p:cNvPr>
          <p:cNvPicPr/>
          <p:nvPr/>
        </p:nvPicPr>
        <p:blipFill>
          <a:blip r:embed="rId2"/>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6633"/>
                </a:solidFill>
                <a:latin typeface="Garamond"/>
              </a:rPr>
              <a:t>أوضحت دراسات في منطقة الخليج على أن للخادمة آثار سلبية على الطفل والأسرة</a:t>
            </a:r>
            <a:endParaRPr b="0" lang="en-US" sz="3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قيم الدينية والثقافية.</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نمو اللغوي والاجتماعي.</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أنماط السلوكية.</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روابط والعلاقات الزوجية والأسرية.</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0" name="" descr=""/>
          <p:cNvPicPr/>
          <p:nvPr/>
        </p:nvPicPr>
        <p:blipFill>
          <a:blip r:embed="rId1"/>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ترى باحثة بأن وجود خادمة في المنزل أسهم في كثير من المشاكل وأزمات أسرية أثناء هروبها أو إضرابها, ومشكلات بين الخادمة وأفراد الأسرة واهتزاز العلاقة وفقد الحوار سواء بين الزوجين أو بين الأبناء والوالدين, وانتشار مفاهيم غير موجودة في الأسرة, وترك الأبناء للخادمة أوجد مشكلات نفسية لدى الأبناء وانعدام الحوار بينهم.</a:t>
            </a:r>
            <a:endParaRPr b="0" lang="en-US" sz="3000" spc="-1" strike="noStrike">
              <a:solidFill>
                <a:srgbClr val="000000"/>
              </a:solidFill>
              <a:latin typeface="Arial"/>
            </a:endParaRPr>
          </a:p>
        </p:txBody>
      </p:sp>
      <p:pic>
        <p:nvPicPr>
          <p:cNvPr id="153" name="" descr=""/>
          <p:cNvPicPr/>
          <p:nvPr/>
        </p:nvPicPr>
        <p:blipFill>
          <a:blip r:embed="rId1"/>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cc0000"/>
                </a:solidFill>
                <a:latin typeface="Garamond"/>
              </a:rPr>
              <a:t>سادساً: ثقافة الاستهلاك</a:t>
            </a:r>
            <a:endParaRPr b="0" lang="en-US" sz="4200" spc="-1" strike="noStrike">
              <a:solidFill>
                <a:srgbClr val="006633"/>
              </a:solidFill>
              <a:latin typeface="Garamond"/>
            </a:endParaRPr>
          </a:p>
        </p:txBody>
      </p:sp>
      <p:sp>
        <p:nvSpPr>
          <p:cNvPr id="1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1000"/>
          </a:bodyPr>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هي من السلوكيات الاقتصادية التي بدأت في الظهور, من أجل عادات وتقاليد ومباهاة ليس لها مبرر.</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ولجأت كثير من الأسر إلى التقسيط بكل شركاته من أجل تلبية الاحتياج المؤدي إلى الترف والتفاخر, وأصبحت الأسرة تبحث عن الكسب المادي لتسديد الأقساط.</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للأسف الأسرة السعودية هي أسرة مستهلكة أكثر من كونها منتجه, وقليل منهم تعمل بنظام ترشيد الميزانية.</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ويرتبط بذلك غلاء الخدمات الضرورية والترفيهيه وارتباط الأسرة بالترف حتى وإن كانت غنية أو فقيرة وغياب وعي الإدخار, وأحياناً تكون الميزانية غالبيتها لتسديد الفواتير</a:t>
            </a:r>
            <a:endParaRPr b="0" lang="en-US" sz="3000" spc="-1" strike="noStrike">
              <a:solidFill>
                <a:srgbClr val="000000"/>
              </a:solidFill>
              <a:latin typeface="Arial"/>
            </a:endParaRPr>
          </a:p>
        </p:txBody>
      </p:sp>
      <p:pic>
        <p:nvPicPr>
          <p:cNvPr id="156" name="" descr=""/>
          <p:cNvPicPr/>
          <p:nvPr/>
        </p:nvPicPr>
        <p:blipFill>
          <a:blip r:embed="rId1"/>
          <a:stretch/>
        </p:blipFill>
        <p:spPr>
          <a:xfrm>
            <a:off x="324000" y="0"/>
            <a:ext cx="396072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أسرة مؤسسة مهمة في تحقيق أمن المجتمع, وبقوة علاقاتها يمكنها أن تُشكل وتصيغ قيم وإتجاهات الفرد, والنشيء وما يحمله من قيم وتوجهات هي نتاج التنشئة الأسرية فإذا كان هناك خلل في الأسرة انعكس ذلك الخلل على الشباب واحترامهم للقيم والنظم والانتماء الوطن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6633"/>
                </a:solidFill>
                <a:latin typeface="Arial"/>
              </a:rPr>
              <a:t>فعشوائية الصرف يضيع الأموال, وبالتالي يلجأ الفرد للتدين والاقساط , لذلك نحتاج لفتح الحوار الأسري حول ضرورة التوفير وحفظ الميزانية وتقنينها ولابد من إكساب الأبناء حقائق وقيم الاتجاه نحو الترشيد وأن يكون الأبوان قدوة حسنة في ذلك.</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سابعاً: صراع الأدوار</a:t>
            </a:r>
            <a:endParaRPr b="0" lang="en-US" sz="4200" spc="-1" strike="noStrike">
              <a:solidFill>
                <a:srgbClr val="006633"/>
              </a:solidFill>
              <a:latin typeface="Garamond"/>
            </a:endParaRPr>
          </a:p>
        </p:txBody>
      </p:sp>
      <p:sp>
        <p:nvSpPr>
          <p:cNvPr id="160"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fontScale="92000"/>
          </a:bodyPr>
          <a:p>
            <a:pPr marL="315360" indent="-31536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صراع الأدوار ينبع من عمل الرجل الذي يتعارض مع واجباته تجاه أهل بيته والأمر نفسه بالنسبة للزوجة, وربما يكون أشد تأثيراً لأنها الأكثر ارتباطاً بالأبناء, ونتيجة لذلك يحدث خلل في الممارسة الفعلية لدور التربية في الأسرة.</a:t>
            </a:r>
            <a:endParaRPr b="0" lang="en-US" sz="3000" spc="-1" strike="noStrike">
              <a:solidFill>
                <a:srgbClr val="000000"/>
              </a:solidFill>
              <a:latin typeface="Arial"/>
            </a:endParaRPr>
          </a:p>
          <a:p>
            <a:pPr marL="315360" indent="-31536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في كثير من الحالات أصبحت الزوجة إضافة إلى عملها خارج المنزل تقوم بدور زوجها في تلبية احتياجات المنزل ومتابعة شئونه الخارجية, والزوج نتيجة لعمله أصبح يتطلع إلى وقت يقضيه مع زملائه.</a:t>
            </a:r>
            <a:endParaRPr b="0" lang="en-US" sz="3000" spc="-1" strike="noStrike">
              <a:solidFill>
                <a:srgbClr val="000000"/>
              </a:solidFill>
              <a:latin typeface="Arial"/>
            </a:endParaRPr>
          </a:p>
        </p:txBody>
      </p:sp>
      <p:pic>
        <p:nvPicPr>
          <p:cNvPr id="161" name="" descr="">
            <a:hlinkClick r:id="rId1"/>
          </p:cNvPr>
          <p:cNvPicPr/>
          <p:nvPr/>
        </p:nvPicPr>
        <p:blipFill>
          <a:blip r:embed="rId2"/>
          <a:stretch/>
        </p:blipFill>
        <p:spPr>
          <a:xfrm>
            <a:off x="971640" y="5300640"/>
            <a:ext cx="1181160" cy="1181160"/>
          </a:xfrm>
          <a:prstGeom prst="rect">
            <a:avLst/>
          </a:prstGeom>
          <a:ln w="0">
            <a:noFill/>
          </a:ln>
        </p:spPr>
      </p:pic>
      <p:pic>
        <p:nvPicPr>
          <p:cNvPr id="162" name="" descr="">
            <a:hlinkClick r:id="rId3"/>
          </p:cNvPr>
          <p:cNvPicPr/>
          <p:nvPr/>
        </p:nvPicPr>
        <p:blipFill>
          <a:blip r:embed="rId4"/>
          <a:stretch/>
        </p:blipFill>
        <p:spPr>
          <a:xfrm>
            <a:off x="324000" y="260280"/>
            <a:ext cx="33112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ثامناً: اتخاذ القرارات المصيرية :</a:t>
            </a:r>
            <a:endParaRPr b="0" lang="en-US" sz="4200" spc="-1" strike="noStrike">
              <a:solidFill>
                <a:srgbClr val="006633"/>
              </a:solidFill>
              <a:latin typeface="Garamond"/>
            </a:endParaRPr>
          </a:p>
        </p:txBody>
      </p:sp>
      <p:sp>
        <p:nvSpPr>
          <p:cNvPr id="164" name="PlaceHolder 2"/>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لا شك أنه نتيجة للتنشئة الاجتماعية السابقه لكلا الزوجين فقد ينفرد الزوج أو الزوجة باتخاذ القرار منفرداً فيما يتعلق بالقرارات المصيرية (كشراء منزل, أو زواج أحد الأبناء أو دخول كليه معينة) وذلك قد يصيب الأسرة بشرخ كبير من الداخل ويزداد الصمت والعزلة بين أفرادها.</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كما أن التذبذب في اتخاذ القرارات الأسرية يقود لمشكلة عائلية وذلك راجع لفقد الحوار داخل الأسرة.</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 descr=""/>
          <p:cNvPicPr/>
          <p:nvPr/>
        </p:nvPicPr>
        <p:blipFill>
          <a:blip r:embed="rId1"/>
          <a:stretch/>
        </p:blipFill>
        <p:spPr>
          <a:xfrm>
            <a:off x="179280" y="4005360"/>
            <a:ext cx="3384720" cy="2852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الأساليب المثلى في اتخاذ القرارات</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أسلوب التكافؤ: وجود اتساق في أسلوب تفاعل وعلاقة الوالدين مع الأبناء ويشترك كل من الزوجين في اتخاذ القرارات وقد يحدث تعارض أحياناً في الآراء لكن لا يهدد العلاقة بينهما ويتم حلها بمرونه.</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الأسلوب التكاملي: تتوزع الأدوار بالتساوي بين الوالدين, كل منهم يمارس سلطته في بعض نواحي الأسرة وتتسم القرارات بالموضوعية.</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طرح المشكلة أو القرار على كافة أفراد الأسرة ويتم اتخاذ القرار بإسلوب منطقي بتحكيم العقل أكثر من العاطف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920049"/>
                </a:solidFill>
                <a:latin typeface="Garamond"/>
              </a:rPr>
              <a:t>ومن أخطاء إتخاذ القرار</a:t>
            </a:r>
            <a:endParaRPr b="0" lang="en-US" sz="4200" spc="-1" strike="noStrike">
              <a:solidFill>
                <a:srgbClr val="006633"/>
              </a:solidFill>
              <a:latin typeface="Garamond"/>
            </a:endParaRPr>
          </a:p>
        </p:txBody>
      </p:sp>
      <p:sp>
        <p:nvSpPr>
          <p:cNvPr id="169" name="PlaceHolder 2"/>
          <p:cNvSpPr>
            <a:spLocks noGrp="1"/>
          </p:cNvSpPr>
          <p:nvPr>
            <p:ph/>
          </p:nvPr>
        </p:nvSpPr>
        <p:spPr>
          <a:xfrm>
            <a:off x="468360" y="155700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اسلوب الاحتكاري باسلوب النواهي والأوامر وغالباً ما يمثلها الأب, واستسلام الأم.</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قرار العقابي والتشدد في المعاملة وأن يكون هذا الفرد يحاسب على كل كبيرة وصغيرة</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قرار الذي يتأثر بالآخرين.</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تردد في اتخاذ القرار نتيجة لعدم الثقة في الأفراد داخل الأسرة, أو التسرع في اتخاذ القرار دون دراسة ودق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تاسعاً: الأمراض ووهن الصحة النفسية</a:t>
            </a:r>
            <a:endParaRPr b="0" lang="en-US" sz="4200" spc="-1" strike="noStrike">
              <a:solidFill>
                <a:srgbClr val="006633"/>
              </a:solidFill>
              <a:latin typeface="Garamond"/>
            </a:endParaRPr>
          </a:p>
        </p:txBody>
      </p:sp>
      <p:sp>
        <p:nvSpPr>
          <p:cNvPr id="17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20049"/>
                </a:solidFill>
                <a:latin typeface="Arial"/>
              </a:rPr>
              <a:t>تعرض الفرد للعديد من المشكلات المتعاقبة تؤثر عليه نفسياً وانفعالياً, ويتحكم في ردة فعله تجاه المشاكل على حساب أعصابه مما يؤدي به للكثير من الأمراض الجسدية والنفسية.</a:t>
            </a:r>
            <a:endParaRPr b="0" lang="en-US" sz="3000" spc="-1" strike="noStrike">
              <a:solidFill>
                <a:srgbClr val="000000"/>
              </a:solidFill>
              <a:latin typeface="Arial"/>
            </a:endParaRPr>
          </a:p>
          <a:p>
            <a:pPr marL="343080" indent="-34308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20049"/>
                </a:solidFill>
                <a:latin typeface="Arial"/>
              </a:rPr>
              <a:t>وهذه الأمراض النفسية قد تفرز لنا عديد من المشكلات الأسرية كجرائم العنف, لذا لا بد من إحتواء الأبناء والسعي لتوفير الصحة النفسية لهم</a:t>
            </a:r>
            <a:endParaRPr b="0" lang="en-US" sz="3000" spc="-1" strike="noStrike">
              <a:solidFill>
                <a:srgbClr val="000000"/>
              </a:solidFill>
              <a:latin typeface="Arial"/>
            </a:endParaRPr>
          </a:p>
        </p:txBody>
      </p:sp>
      <p:pic>
        <p:nvPicPr>
          <p:cNvPr id="172" name="" descr=""/>
          <p:cNvPicPr/>
          <p:nvPr/>
        </p:nvPicPr>
        <p:blipFill>
          <a:blip r:embed="rId1"/>
          <a:stretch/>
        </p:blipFill>
        <p:spPr>
          <a:xfrm>
            <a:off x="0" y="3860640"/>
            <a:ext cx="5796000" cy="299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من المشكلات التي تواجه الأسرة من الأبناء:</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0049"/>
                </a:solidFill>
                <a:latin typeface="Arial"/>
              </a:rPr>
              <a:t>(رفض الكبار, المبالغة في الاستقلالية, الغضب والغيرة, المبالغة في الشكل والهندام, التقلب والمزاجية, الحساسية للنقد, سرعة التقليد, ضعف الطموح, زيادة الطموح وهبوط الانتاجية)</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قد تكون مشكلات أشد كالهروب من المنزل والانطواء والشذوذ والعناد والتعص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الله وحده أعل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00"/>
                </a:solidFill>
                <a:latin typeface="Arial"/>
              </a:rPr>
              <a:t>مشكلات عوامل خارجية:</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تقدم العلوم والتقنية</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النمو السكاني السريع</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تقلص دور الأسرة في تربية الأبناء نتيجة مؤثرات التقدم وخروج المرأه</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3"/>
          <p:cNvSpPr>
            <a:spLocks noGrp="1"/>
          </p:cNvSpPr>
          <p:nvPr>
            <p:ph/>
          </p:nvPr>
        </p:nvSpPr>
        <p:spPr>
          <a:xfrm>
            <a:off x="4500720" y="1599840"/>
            <a:ext cx="4643280" cy="4924440"/>
          </a:xfrm>
          <a:prstGeom prst="rect">
            <a:avLst/>
          </a:prstGeom>
          <a:noFill/>
          <a:ln w="0">
            <a:noFill/>
          </a:ln>
        </p:spPr>
        <p:txBody>
          <a:bodyPr lIns="90000" rIns="90000" tIns="46800" bIns="46800" anchor="t">
            <a:normAutofit fontScale="92000"/>
          </a:bodyPr>
          <a:p>
            <a:pPr marL="315360" indent="-31536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7774"/>
                </a:solidFill>
                <a:latin typeface="Arial"/>
              </a:rPr>
              <a:t>مشكلات عوامل داخلية:</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تعارض الانماط السلوكية بين الزوجين حول تنشئة الأبناء</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عدم تماثل القيم والتقاليد الاجتماعية ونشوء الصراع</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خفاض مشاعر الحب والتعاون</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عدم انجاب الأبناء أو كثرتهم</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عدام التفاهم </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دفاع المرأة لحقوقها</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تدخل الأقارب وعدم الوفاء والإخلاص في المعاملة بين الزوجين</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قلة وسائل الترويح وتعدد الزوجات</a:t>
            </a:r>
            <a:endParaRPr b="0" lang="en-US" sz="2200" spc="-1" strike="noStrike">
              <a:solidFill>
                <a:srgbClr val="000000"/>
              </a:solidFill>
              <a:latin typeface="Arial"/>
            </a:endParaRPr>
          </a:p>
          <a:p>
            <a:pPr marL="315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شكلات الأسرة</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9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6633"/>
                </a:solidFill>
                <a:latin typeface="Garamond"/>
              </a:rPr>
              <a:t>أولاً: ارتفاع نسبة الطلاق في المجتمع السعودي </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لطلاق آثار ضاره تتجاوز المرأة إلى الأطفال الذين قد يشكلون خطر على المجتمع بسبب المعاناة التي تواجهه في مسيرة حياتهم.</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قال صلى الله عليه وسلم (ما خلق الله شيئاً أبغض إليه من الطلاق), وقد وضع الإسلام قواعد ثابته للزواج بهدف الحد من حدوث الخلاف بين الزوجين وتجنب الطلاق.</a:t>
            </a:r>
            <a:endParaRPr b="0" lang="en-US" sz="3000" spc="-1" strike="noStrike">
              <a:solidFill>
                <a:srgbClr val="000000"/>
              </a:solidFill>
              <a:latin typeface="Arial"/>
            </a:endParaRPr>
          </a:p>
        </p:txBody>
      </p:sp>
      <p:pic>
        <p:nvPicPr>
          <p:cNvPr id="98" name="" descr="">
            <a:hlinkClick r:id="rId1"/>
          </p:cNvPr>
          <p:cNvPicPr/>
          <p:nvPr/>
        </p:nvPicPr>
        <p:blipFill>
          <a:blip r:embed="rId2"/>
          <a:stretch/>
        </p:blipFill>
        <p:spPr>
          <a:xfrm>
            <a:off x="611280" y="4653000"/>
            <a:ext cx="3240000" cy="151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692280"/>
            <a:ext cx="8229600" cy="5976720"/>
          </a:xfrm>
          <a:prstGeom prst="rect">
            <a:avLst/>
          </a:prstGeom>
          <a:noFill/>
          <a:ln w="0">
            <a:noFill/>
          </a:ln>
        </p:spPr>
        <p:txBody>
          <a:bodyPr lIns="90000" rIns="90000" tIns="46800" bIns="46800" anchor="t">
            <a:normAutofit fontScale="96000"/>
          </a:bodyPr>
          <a:p>
            <a:pPr marL="329040" indent="-3290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ينت الدراسات أن من الأسباب المؤدية للطلاق هي :</a:t>
            </a:r>
            <a:endParaRPr b="0" lang="en-US" sz="3000" spc="-1" strike="noStrike">
              <a:solidFill>
                <a:srgbClr val="000000"/>
              </a:solidFill>
              <a:latin typeface="Arial"/>
            </a:endParaRPr>
          </a:p>
          <a:p>
            <a:pPr marL="3290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أشارت دراسة للدكتور عبدالله الفوزان إلى أن عام </a:t>
            </a:r>
            <a:r>
              <a:rPr b="0" lang="ar-SA" sz="3000" spc="-1" strike="noStrike">
                <a:solidFill>
                  <a:srgbClr val="000000"/>
                </a:solidFill>
                <a:latin typeface="Arial"/>
              </a:rPr>
              <a:t>2006</a:t>
            </a:r>
            <a:r>
              <a:rPr b="0" lang="ar-SA" sz="3000" spc="-1" strike="noStrike">
                <a:solidFill>
                  <a:srgbClr val="000000"/>
                </a:solidFill>
                <a:latin typeface="Arial"/>
              </a:rPr>
              <a:t> شهد حدوث نحو </a:t>
            </a:r>
            <a:r>
              <a:rPr b="0" lang="ar-SA" sz="3000" spc="-1" strike="noStrike">
                <a:solidFill>
                  <a:srgbClr val="000000"/>
                </a:solidFill>
                <a:latin typeface="Arial"/>
              </a:rPr>
              <a:t>18</a:t>
            </a:r>
            <a:r>
              <a:rPr b="0" lang="ar-SA" sz="3000" spc="-1" strike="noStrike">
                <a:solidFill>
                  <a:srgbClr val="000000"/>
                </a:solidFill>
                <a:latin typeface="Arial"/>
              </a:rPr>
              <a:t> الف حالة طلاق مقابل </a:t>
            </a:r>
            <a:r>
              <a:rPr b="0" lang="ar-SA" sz="3000" spc="-1" strike="noStrike">
                <a:solidFill>
                  <a:srgbClr val="000000"/>
                </a:solidFill>
                <a:latin typeface="Arial"/>
              </a:rPr>
              <a:t>60</a:t>
            </a:r>
            <a:r>
              <a:rPr b="0" lang="ar-SA" sz="3000" spc="-1" strike="noStrike">
                <a:solidFill>
                  <a:srgbClr val="000000"/>
                </a:solidFill>
                <a:latin typeface="Arial"/>
              </a:rPr>
              <a:t> الف عقد زواج, وهنا تأتي أهمية الحوار الأسري وعقد الدورات التأهيلية لكيفية ممارسة الحوار الأسري في الحياة ومواجهة المشكلات وعلاج الخلافات النابعة من طباع الزوجين والضغوط الاقتصادية والمالية.</a:t>
            </a:r>
            <a:endParaRPr b="0" lang="en-US" sz="3000" spc="-1" strike="noStrike">
              <a:solidFill>
                <a:srgbClr val="000000"/>
              </a:solidFill>
              <a:latin typeface="Arial"/>
            </a:endParaRPr>
          </a:p>
        </p:txBody>
      </p:sp>
      <p:sp>
        <p:nvSpPr>
          <p:cNvPr id="101" name=""/>
          <p:cNvSpPr/>
          <p:nvPr/>
        </p:nvSpPr>
        <p:spPr>
          <a:xfrm>
            <a:off x="730872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شكلات الاتصال</a:t>
            </a:r>
            <a:endParaRPr b="0" lang="en-US" sz="1800" spc="-1" strike="noStrike">
              <a:solidFill>
                <a:srgbClr val="000000"/>
              </a:solidFill>
              <a:latin typeface="Arial"/>
            </a:endParaRPr>
          </a:p>
        </p:txBody>
      </p:sp>
      <p:sp>
        <p:nvSpPr>
          <p:cNvPr id="102" name=""/>
          <p:cNvSpPr/>
          <p:nvPr/>
        </p:nvSpPr>
        <p:spPr>
          <a:xfrm>
            <a:off x="586728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إساءة المعاملة</a:t>
            </a:r>
            <a:endParaRPr b="0" lang="en-US" sz="1800" spc="-1" strike="noStrike">
              <a:solidFill>
                <a:srgbClr val="000000"/>
              </a:solidFill>
              <a:latin typeface="Arial"/>
            </a:endParaRPr>
          </a:p>
        </p:txBody>
      </p:sp>
      <p:sp>
        <p:nvSpPr>
          <p:cNvPr id="103" name=""/>
          <p:cNvSpPr/>
          <p:nvPr/>
        </p:nvSpPr>
        <p:spPr>
          <a:xfrm>
            <a:off x="435600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تدخل الأهل,</a:t>
            </a:r>
            <a:endParaRPr b="0" lang="en-US" sz="1800" spc="-1" strike="noStrike">
              <a:solidFill>
                <a:srgbClr val="000000"/>
              </a:solidFill>
              <a:latin typeface="Arial"/>
            </a:endParaRPr>
          </a:p>
        </p:txBody>
      </p:sp>
      <p:sp>
        <p:nvSpPr>
          <p:cNvPr id="104" name=""/>
          <p:cNvSpPr/>
          <p:nvPr/>
        </p:nvSpPr>
        <p:spPr>
          <a:xfrm>
            <a:off x="2916360" y="2637000"/>
            <a:ext cx="113004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فض الحوا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والنقاش</a:t>
            </a:r>
            <a:endParaRPr b="0" lang="en-US" sz="1800" spc="-1" strike="noStrike">
              <a:solidFill>
                <a:srgbClr val="000000"/>
              </a:solidFill>
              <a:latin typeface="Arial"/>
            </a:endParaRPr>
          </a:p>
        </p:txBody>
      </p:sp>
      <p:sp>
        <p:nvSpPr>
          <p:cNvPr id="105" name=""/>
          <p:cNvSpPr/>
          <p:nvPr/>
        </p:nvSpPr>
        <p:spPr>
          <a:xfrm>
            <a:off x="147636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عدم استماع أح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طراف للآخر</a:t>
            </a:r>
            <a:endParaRPr b="0" lang="en-US" sz="1800" spc="-1" strike="noStrike">
              <a:solidFill>
                <a:srgbClr val="000000"/>
              </a:solidFill>
              <a:latin typeface="Arial"/>
            </a:endParaRPr>
          </a:p>
        </p:txBody>
      </p:sp>
      <p:sp>
        <p:nvSpPr>
          <p:cNvPr id="106" name=""/>
          <p:cNvSpPr/>
          <p:nvPr/>
        </p:nvSpPr>
        <p:spPr>
          <a:xfrm>
            <a:off x="17928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كثرة اللوم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النقد.</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427640" y="1413000"/>
            <a:ext cx="30970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427640" y="1413000"/>
            <a:ext cx="1800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427640" y="1413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3634920" y="1413000"/>
            <a:ext cx="792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2195640" y="1413000"/>
            <a:ext cx="2232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971280" y="1413000"/>
            <a:ext cx="3384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8360" y="259920"/>
            <a:ext cx="8229600" cy="5853240"/>
          </a:xfrm>
          <a:prstGeom prst="rect">
            <a:avLst/>
          </a:prstGeom>
          <a:ln w="0">
            <a:noFill/>
          </a:ln>
        </p:spPr>
      </p:pic>
      <p:sp>
        <p:nvSpPr>
          <p:cNvPr id="114" name="PlaceHolder 1"/>
          <p:cNvSpPr>
            <a:spLocks noGrp="1"/>
          </p:cNvSpPr>
          <p:nvPr>
            <p:ph type="title"/>
          </p:nvPr>
        </p:nvSpPr>
        <p:spPr>
          <a:xfrm>
            <a:off x="0" y="26028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6633"/>
                </a:solidFill>
                <a:latin typeface="Garamond"/>
              </a:rPr>
              <a:t>ثانياً: العنوسه مشكلة اجتماعية تهدد المجتمع السعودي</a:t>
            </a:r>
            <a:endParaRPr b="0" lang="en-US" sz="3800" spc="-1" strike="noStrike">
              <a:solidFill>
                <a:srgbClr val="006633"/>
              </a:solidFill>
              <a:latin typeface="Garamond"/>
            </a:endParaRPr>
          </a:p>
        </p:txBody>
      </p:sp>
      <p:sp>
        <p:nvSpPr>
          <p:cNvPr id="115" name="PlaceHolder 2"/>
          <p:cNvSpPr>
            <a:spLocks noGrp="1"/>
          </p:cNvSpPr>
          <p:nvPr>
            <p:ph/>
          </p:nvPr>
        </p:nvSpPr>
        <p:spPr>
          <a:xfrm>
            <a:off x="0" y="907920"/>
            <a:ext cx="8229600" cy="4502160"/>
          </a:xfrm>
          <a:prstGeom prst="rect">
            <a:avLst/>
          </a:prstGeom>
          <a:noFill/>
          <a:ln w="0">
            <a:noFill/>
          </a:ln>
        </p:spPr>
        <p:txBody>
          <a:bodyPr lIns="90000" rIns="90000" tIns="46800" bIns="46800" anchor="t">
            <a:normAutofit fontScale="92000"/>
          </a:bodyPr>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6600"/>
                </a:solidFill>
                <a:latin typeface="Arial"/>
              </a:rPr>
              <a:t>العنوسه ظاهرة خطيرة تهدد المجتمع, وقد أشارت دراسة لوزارة التخطيط أن عدد الفتيات اللواتي لم يتزوجن سيرتفع من مليون ونصف عانس إلى أربعة ملايين خلال السنوات القادمة وهذا عدد كبير جداً ووجد أن مكة المكرمة تحتل النسبه الأعلى ثم منطقة الرياض ثم الشرقية ثم عسير تليها المدينة المنورة وجازان.</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b812f"/>
                </a:solidFill>
                <a:latin typeface="Arial"/>
              </a:rPr>
              <a:t>كما أن زيادة المشكلات والضغوط الاقتصادية التي تواجه المتزوجين أضعفت النظرة للزواج, ولا بد من توعية الأسرة بهذه المشكلة وحلها من خلال :</a:t>
            </a:r>
            <a:endParaRPr b="0" lang="en-US" sz="3000" spc="-1" strike="noStrike">
              <a:solidFill>
                <a:srgbClr val="000000"/>
              </a:solidFill>
              <a:latin typeface="Arial"/>
            </a:endParaRPr>
          </a:p>
          <a:p>
            <a:pPr marL="31536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16" name=""/>
          <p:cNvGrpSpPr/>
          <p:nvPr/>
        </p:nvGrpSpPr>
        <p:grpSpPr>
          <a:xfrm>
            <a:off x="1258920" y="4724280"/>
            <a:ext cx="6629400" cy="2133360"/>
            <a:chOff x="1258920" y="4724280"/>
            <a:chExt cx="6629400" cy="2133360"/>
          </a:xfrm>
        </p:grpSpPr>
        <p:sp>
          <p:nvSpPr>
            <p:cNvPr id="117" name="Pyr1"/>
            <p:cNvSpPr/>
            <p:nvPr/>
          </p:nvSpPr>
          <p:spPr>
            <a:xfrm>
              <a:off x="3838680" y="4724280"/>
              <a:ext cx="1486080" cy="47268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yr2"/>
            <p:cNvSpPr/>
            <p:nvPr/>
          </p:nvSpPr>
          <p:spPr>
            <a:xfrm>
              <a:off x="2978280" y="5196960"/>
              <a:ext cx="3198960" cy="5547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yr3"/>
            <p:cNvSpPr/>
            <p:nvPr/>
          </p:nvSpPr>
          <p:spPr>
            <a:xfrm>
              <a:off x="2127240" y="5752080"/>
              <a:ext cx="4900680" cy="5540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yr4"/>
            <p:cNvSpPr/>
            <p:nvPr/>
          </p:nvSpPr>
          <p:spPr>
            <a:xfrm>
              <a:off x="1258920" y="6303240"/>
              <a:ext cx="6629400" cy="55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
          <p:cNvSpPr/>
          <p:nvPr/>
        </p:nvSpPr>
        <p:spPr>
          <a:xfrm>
            <a:off x="3847680" y="6491160"/>
            <a:ext cx="152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مكة المكرمة</a:t>
            </a:r>
            <a:endParaRPr b="0" lang="en-US" sz="1800" spc="-1" strike="noStrike">
              <a:solidFill>
                <a:srgbClr val="000000"/>
              </a:solidFill>
              <a:latin typeface="Arial"/>
            </a:endParaRPr>
          </a:p>
        </p:txBody>
      </p:sp>
      <p:sp>
        <p:nvSpPr>
          <p:cNvPr id="122" name=""/>
          <p:cNvSpPr/>
          <p:nvPr/>
        </p:nvSpPr>
        <p:spPr>
          <a:xfrm>
            <a:off x="4030560" y="5877000"/>
            <a:ext cx="964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الرياض</a:t>
            </a:r>
            <a:endParaRPr b="0" lang="en-US" sz="1800" spc="-1" strike="noStrike">
              <a:solidFill>
                <a:srgbClr val="000000"/>
              </a:solidFill>
              <a:latin typeface="Arial"/>
            </a:endParaRPr>
          </a:p>
        </p:txBody>
      </p:sp>
      <p:sp>
        <p:nvSpPr>
          <p:cNvPr id="123" name=""/>
          <p:cNvSpPr/>
          <p:nvPr/>
        </p:nvSpPr>
        <p:spPr>
          <a:xfrm>
            <a:off x="4111200" y="5300640"/>
            <a:ext cx="1099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الشرقية</a:t>
            </a:r>
            <a:endParaRPr b="0" lang="en-US" sz="1800" spc="-1" strike="noStrike">
              <a:solidFill>
                <a:srgbClr val="000000"/>
              </a:solidFill>
              <a:latin typeface="Arial"/>
            </a:endParaRPr>
          </a:p>
        </p:txBody>
      </p:sp>
      <p:sp>
        <p:nvSpPr>
          <p:cNvPr id="124" name=""/>
          <p:cNvSpPr/>
          <p:nvPr/>
        </p:nvSpPr>
        <p:spPr>
          <a:xfrm>
            <a:off x="4186800" y="4797360"/>
            <a:ext cx="80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عس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علاج المشكلة من خلال :</a:t>
            </a:r>
            <a:endParaRPr b="0" lang="en-US" sz="4200" spc="-1" strike="noStrike">
              <a:solidFill>
                <a:srgbClr val="006633"/>
              </a:solidFill>
              <a:latin typeface="Garamond"/>
            </a:endParaRPr>
          </a:p>
        </p:txBody>
      </p:sp>
      <p:sp>
        <p:nvSpPr>
          <p:cNvPr id="126" name="PlaceHolder 2"/>
          <p:cNvSpPr>
            <a:spLocks noGrp="1"/>
          </p:cNvSpPr>
          <p:nvPr>
            <p:ph/>
          </p:nvPr>
        </p:nvSpPr>
        <p:spPr>
          <a:xfrm>
            <a:off x="456840" y="1197000"/>
            <a:ext cx="8435880" cy="5400720"/>
          </a:xfrm>
          <a:prstGeom prst="rect">
            <a:avLst/>
          </a:prstGeom>
          <a:noFill/>
          <a:ln w="0">
            <a:noFill/>
          </a:ln>
        </p:spPr>
        <p:txBody>
          <a:bodyPr lIns="90000" rIns="90000" tIns="46800" bIns="46800" anchor="t">
            <a:normAutofit fontScale="87000"/>
          </a:bodyPr>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اقتداء بالرسول صلى الله عليه وسلم حيث قال (إذا خطب إليكم من ترضون دينه وخلقه فزوجوه إلا تفعلوا تكن فتنه في الأرض وفساد عريض).</a:t>
            </a:r>
            <a:endParaRPr b="0" lang="en-US" sz="3000" spc="-1" strike="noStrike">
              <a:solidFill>
                <a:srgbClr val="000000"/>
              </a:solidFill>
              <a:latin typeface="Arial"/>
            </a:endParaRPr>
          </a:p>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إعداد الأبناء للحياة الأسرية وتنمية المسؤولية لديهم.</a:t>
            </a:r>
            <a:endParaRPr b="0" lang="en-US" sz="3000" spc="-1" strike="noStrike">
              <a:solidFill>
                <a:srgbClr val="000000"/>
              </a:solidFill>
              <a:latin typeface="Arial"/>
            </a:endParaRPr>
          </a:p>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تسهيل أمور الزواج والبعد عن التكاليف الباهضه وإعانة الأبناء لتوفير المال وتشجيع الشباب على الزواج.</a:t>
            </a:r>
            <a:endParaRPr b="0" lang="en-US" sz="3000" spc="-1" strike="noStrike">
              <a:solidFill>
                <a:srgbClr val="000000"/>
              </a:solidFill>
              <a:latin typeface="Arial"/>
            </a:endParaRPr>
          </a:p>
          <a:p>
            <a:pPr marL="5299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في شهر يناير </a:t>
            </a:r>
            <a:r>
              <a:rPr b="1" lang="ar-SA" sz="3000" spc="-1" strike="noStrike">
                <a:solidFill>
                  <a:srgbClr val="000000"/>
                </a:solidFill>
                <a:latin typeface="Arial"/>
              </a:rPr>
              <a:t>2007</a:t>
            </a:r>
            <a:r>
              <a:rPr b="1" lang="ar-SA" sz="3000" spc="-1" strike="noStrike">
                <a:solidFill>
                  <a:srgbClr val="000000"/>
                </a:solidFill>
                <a:latin typeface="Arial"/>
              </a:rPr>
              <a:t> جمع مجلس الشورى أكثر من </a:t>
            </a:r>
            <a:r>
              <a:rPr b="1" lang="ar-SA" sz="3000" spc="-1" strike="noStrike">
                <a:solidFill>
                  <a:srgbClr val="000000"/>
                </a:solidFill>
                <a:latin typeface="Arial"/>
              </a:rPr>
              <a:t>50</a:t>
            </a:r>
            <a:r>
              <a:rPr b="1" lang="ar-SA" sz="3000" spc="-1" strike="noStrike">
                <a:solidFill>
                  <a:srgbClr val="000000"/>
                </a:solidFill>
                <a:latin typeface="Arial"/>
              </a:rPr>
              <a:t> إمراءه مثقفة للإدلاء بأرائهن حول مشكلة العنوسة وإقناع الأسرة بتخفيف أباء الزواج الذي تمثل فيه الاناث </a:t>
            </a:r>
            <a:r>
              <a:rPr b="1" lang="ar-SA" sz="3000" spc="-1" strike="noStrike">
                <a:solidFill>
                  <a:srgbClr val="000000"/>
                </a:solidFill>
                <a:latin typeface="Arial"/>
              </a:rPr>
              <a:t>49,9</a:t>
            </a:r>
            <a:r>
              <a:rPr b="1" lang="ar-SA"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3300"/>
                </a:solidFill>
                <a:latin typeface="Garamond"/>
              </a:rPr>
              <a:t>ثالثاً: مشكلة العنف الأسري </a:t>
            </a:r>
            <a:endParaRPr b="0" lang="en-US" sz="4200" spc="-1" strike="noStrike">
              <a:solidFill>
                <a:srgbClr val="006633"/>
              </a:solidFill>
              <a:latin typeface="Garamond"/>
            </a:endParaRPr>
          </a:p>
        </p:txBody>
      </p:sp>
      <p:sp>
        <p:nvSpPr>
          <p:cNvPr id="128" name="PlaceHolder 2"/>
          <p:cNvSpPr>
            <a:spLocks noGrp="1"/>
          </p:cNvSpPr>
          <p:nvPr>
            <p:ph/>
          </p:nvPr>
        </p:nvSpPr>
        <p:spPr>
          <a:xfrm>
            <a:off x="468000" y="907920"/>
            <a:ext cx="8435880" cy="5400720"/>
          </a:xfrm>
          <a:prstGeom prst="rect">
            <a:avLst/>
          </a:prstGeom>
          <a:noFill/>
          <a:ln w="0">
            <a:noFill/>
          </a:ln>
        </p:spPr>
        <p:txBody>
          <a:bodyPr lIns="90000" rIns="90000" tIns="46800" bIns="46800" anchor="t">
            <a:normAutofit fontScale="99000"/>
          </a:bodyPr>
          <a:p>
            <a:pPr marL="339480" indent="-3394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b812f"/>
                </a:solidFill>
                <a:latin typeface="Arial"/>
              </a:rPr>
              <a:t>بالرغم من أن العنف الأسري يبدو أقل حده من غيرة من أشكال العنف إلا أنه أكثر خطورة على الفرد والمجتمع لأن نتائجة غير مباشرة, وتحدث خلل في النسق القيمي للمجتمع واهتزاز في نمط الشخصية خاصة عند الأطفال مما يؤدي لخلق أشكال مشوهه من السلوك وأنماط الشخصية مهتزة نفسيا وعصبيا</a:t>
            </a:r>
            <a:endParaRPr b="0" lang="en-US" sz="2600" spc="-1" strike="noStrike">
              <a:solidFill>
                <a:srgbClr val="000000"/>
              </a:solidFill>
              <a:latin typeface="Arial"/>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6600"/>
                </a:solidFill>
                <a:latin typeface="Arial"/>
              </a:rPr>
              <a:t>فالعنف العائلي يعتبر مسألة اجتماعية مقلقة كون الأسرة هي البيئة الأولى للإنسان التي تمده بالحوافز ليكون شخصية ناجحة أو تكون سبب في معوقات نجاح الفرد وتكيفه من خلال العنف والقسوة</a:t>
            </a:r>
            <a:endParaRPr b="0" lang="en-US" sz="2600" spc="-1" strike="noStrike">
              <a:solidFill>
                <a:srgbClr val="000000"/>
              </a:solidFill>
              <a:latin typeface="Arial"/>
            </a:endParaRPr>
          </a:p>
        </p:txBody>
      </p:sp>
      <p:pic>
        <p:nvPicPr>
          <p:cNvPr id="129" name="" descr=""/>
          <p:cNvPicPr/>
          <p:nvPr/>
        </p:nvPicPr>
        <p:blipFill>
          <a:blip r:embed="rId1"/>
          <a:stretch/>
        </p:blipFill>
        <p:spPr>
          <a:xfrm>
            <a:off x="0" y="4365720"/>
            <a:ext cx="2987640" cy="24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20:38:26Z</dcterms:created>
  <dc:creator>hp</dc:creator>
  <dc:description/>
  <dc:language>en-US</dc:language>
  <cp:lastModifiedBy>hp</cp:lastModifiedBy>
  <dcterms:modified xsi:type="dcterms:W3CDTF">2006-04-27T07:57:25Z</dcterms:modified>
  <cp:revision>31</cp:revision>
  <dc:subject/>
  <dc:title>مشكلات الأسرة في المجتمع السعودي</dc:title>
</cp:coreProperties>
</file>