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3EB7B-668C-4BF1-A630-1E6C97A70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0E16A-4D80-490B-8925-518F23477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13725-3B0A-427E-B79C-10AB5023C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58789-51F6-44AD-920A-1F111E740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E885-8B4E-4186-B486-23D611662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22B97-42D9-40EE-AF5B-122FEAA0A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4A58D-CF73-45CD-80CF-C9DC1E764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FD8B7-F253-4A62-8178-3AD5F8C12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B63FD-07B8-4181-BAFF-7A18A3D4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8ED5-14F8-4038-BC40-2F623F0ED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02AAE-5F11-4371-949F-2B4E6AADC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70D6F-E137-446B-853A-D4C97C792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9BBA-BE47-49C9-B112-8F721B15C119}"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148120"/>
            <a:ext cx="7886880" cy="1434600"/>
            <a:chOff x="628560" y="2148120"/>
            <a:chExt cx="7886880" cy="1434600"/>
          </a:xfrm>
        </p:grpSpPr>
        <p:pic>
          <p:nvPicPr>
            <p:cNvPr id="42" name="عنوان 1" descr=""/>
            <p:cNvPicPr/>
            <p:nvPr/>
          </p:nvPicPr>
          <p:blipFill>
            <a:blip r:embed="rId1"/>
            <a:stretch/>
          </p:blipFill>
          <p:spPr>
            <a:xfrm>
              <a:off x="628560" y="2322360"/>
              <a:ext cx="7886880" cy="100656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ndalus"/>
                  <a:cs typeface="Andalus"/>
                </a:rPr>
                <a:t>أسس السياسة الشرعية الاستنباطية</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إعداد: 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عنوان 1"/>
          <p:cNvGrpSpPr/>
          <p:nvPr/>
        </p:nvGrpSpPr>
        <p:grpSpPr>
          <a:xfrm>
            <a:off x="396720" y="128880"/>
            <a:ext cx="8345520" cy="1434600"/>
            <a:chOff x="396720" y="128880"/>
            <a:chExt cx="8345520" cy="1434600"/>
          </a:xfrm>
        </p:grpSpPr>
        <p:pic>
          <p:nvPicPr>
            <p:cNvPr id="48" name="عنوان 1" descr=""/>
            <p:cNvPicPr/>
            <p:nvPr/>
          </p:nvPicPr>
          <p:blipFill>
            <a:blip r:embed="rId1"/>
            <a:stretch/>
          </p:blipFill>
          <p:spPr>
            <a:xfrm>
              <a:off x="396720" y="304920"/>
              <a:ext cx="8345520" cy="1006200"/>
            </a:xfrm>
            <a:prstGeom prst="rect">
              <a:avLst/>
            </a:prstGeom>
            <a:ln w="0">
              <a:noFill/>
            </a:ln>
          </p:spPr>
        </p:pic>
        <p:sp>
          <p:nvSpPr>
            <p:cNvPr id="49"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Sakkal Majalla"/>
                  <a:cs typeface="Sakkal Majalla"/>
                </a:rPr>
                <a:t>أسس السياسة الشرعية الاستنباطية</a:t>
              </a:r>
              <a:endParaRPr b="0" lang="en-US" sz="4400" spc="-1" strike="noStrike">
                <a:solidFill>
                  <a:srgbClr val="000000"/>
                </a:solidFill>
                <a:latin typeface="Calibri"/>
              </a:endParaRPr>
            </a:p>
          </p:txBody>
        </p:sp>
      </p:grpSp>
      <p:pic>
        <p:nvPicPr>
          <p:cNvPr id="50" name="صورة 3" descr="$0$.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4480"/>
            <a:ext cx="8229600" cy="1920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أمَّا الأدلة التفصيلية الدالّة  على الاستناد إلى الاستدلال  في الاستنباط؛  فهي أدلةُ  طرقِ الاستدلال، ومستندات  كلٍّ منها، وهي التي قُصِدَ   إجمالُها تحت مُسَمَّى  الاستدلال ذلك أنَّ الاستدلال  يندرج تحته عدد من  طرق  الاستنباط والمستندات الكلِّيَّة  للأحكام.</a:t>
            </a:r>
            <a:endParaRPr b="0" lang="en-US" sz="2400" spc="-1" strike="noStrike">
              <a:solidFill>
                <a:srgbClr val="000000"/>
              </a:solidFill>
              <a:latin typeface="Calibri"/>
            </a:endParaRPr>
          </a:p>
        </p:txBody>
      </p:sp>
      <p:pic>
        <p:nvPicPr>
          <p:cNvPr id="52"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عنوان 1"/>
          <p:cNvGrpSpPr/>
          <p:nvPr/>
        </p:nvGrpSpPr>
        <p:grpSpPr>
          <a:xfrm>
            <a:off x="396720" y="128880"/>
            <a:ext cx="8345520" cy="1434600"/>
            <a:chOff x="396720" y="128880"/>
            <a:chExt cx="8345520" cy="1434600"/>
          </a:xfrm>
        </p:grpSpPr>
        <p:pic>
          <p:nvPicPr>
            <p:cNvPr id="54" name="عنوان 1" descr=""/>
            <p:cNvPicPr/>
            <p:nvPr/>
          </p:nvPicPr>
          <p:blipFill>
            <a:blip r:embed="rId1"/>
            <a:stretch/>
          </p:blipFill>
          <p:spPr>
            <a:xfrm>
              <a:off x="396720" y="304920"/>
              <a:ext cx="8345520" cy="1006200"/>
            </a:xfrm>
            <a:prstGeom prst="rect">
              <a:avLst/>
            </a:prstGeom>
            <a:ln w="0">
              <a:noFill/>
            </a:ln>
          </p:spPr>
        </p:pic>
        <p:sp>
          <p:nvSpPr>
            <p:cNvPr id="55"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Diwani Letter"/>
                </a:rPr>
                <a:t>الطريق  الأولى:  المصالح  المرسلة:</a:t>
              </a:r>
              <a:endParaRPr b="0" lang="en-US" sz="4400" spc="-1" strike="noStrike">
                <a:solidFill>
                  <a:srgbClr val="000000"/>
                </a:solidFill>
                <a:latin typeface="Calibri"/>
              </a:endParaRPr>
            </a:p>
          </p:txBody>
        </p:sp>
      </p:grpSp>
      <p:sp>
        <p:nvSpPr>
          <p:cNvPr id="56" name="PlaceHolder 1"/>
          <p:cNvSpPr>
            <a:spLocks noGrp="1"/>
          </p:cNvSpPr>
          <p:nvPr>
            <p:ph/>
          </p:nvPr>
        </p:nvSpPr>
        <p:spPr>
          <a:xfrm>
            <a:off x="457200" y="1865160"/>
            <a:ext cx="8229600" cy="727020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مصالح جمع  مصلحة، ضد  المفسدة، وهي: جلب  المنفعة أو دفع  المضرّة.</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والمصالح من  جهة اعتبار  الشرع لها  وعدمه، لا  تخلو عن  ثلاث حالات:</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حال الأولى: أن يدل دليل خاص من الشرع على اعتبار تلك  المصلحة، وعدم إهدارها؛ فهذه لا إشكال في صحتها، ولا خلاف في  إعمالها. ولهذا تسمى المصلحة المعتبرة. ويصح مثالاً لها كلّ منفعة  مادية أو معنوية دنيوية أو أخروية، يجنيها المكلف من عمله بما هو  واجب أو مندوب أو مباح، أو يدرؤها بالامتناع عن العمل بما هو  محرم أو مكروه. كمصلحة حفظ مال الصغير بمشروعية الولاية على  ماله. ومصلحة حفظ العقل بتحريم كل مسكر.</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لحال الثانية: أن يدل دليل خاص من  الشرع على إهدارها وعدم اعتبارها؛  وهذه مردودة برد الشرع لها لا سبيل  إلى قبولها و إعمالها، وما رَّده الشرع  فهو مردود باتفاق المسلمين؛ ولهذا  تسمى المصلحة الملغا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anchor="t">
            <a:normAutofit fontScale="87000"/>
          </a:bodyPr>
          <a:p>
            <a:pPr lvl="2" marL="994320" indent="-198720" algn="r" rtl="1">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akkal Majalla"/>
                <a:cs typeface="Sakkal Majalla"/>
              </a:rPr>
              <a:t>ومن أمثلته العصرية: كل ما  يستند إليه دعاة الفكر المنحرف  من تعليلات ينسبونها للمصالح  مع أنها تتناقض مع أحكام  الشريعة وقواعدها الكلية،  علموا ذلك أو لم يعلموا؛  كالترويج للفكر المنابذ للدين  تحت اسم الحرية الفكرية، و  تسويغ الربا بحجة الضرورة،  والمطالبة بالاختلاط بين  الجنسين في التعليم، بدعوى  انتفاء المفاسد بالاعتياد،</a:t>
            </a:r>
            <a:endParaRPr b="0" lang="en-US" sz="2200" spc="-1" strike="noStrike">
              <a:solidFill>
                <a:srgbClr val="000000"/>
              </a:solidFill>
              <a:latin typeface="Calibri"/>
            </a:endParaRPr>
          </a:p>
          <a:p>
            <a:pPr lvl="1" marL="646200" indent="-248400" algn="r" rtl="1">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akkal Majalla"/>
                <a:cs typeface="Sakkal Majalla"/>
              </a:rPr>
              <a:t>الحال الثالثة: أن لا يدل دليل خاص  على اعتبار مناسبة ذلك الوصف ولا  على إلغائها وإهدارها. ويُعَبَّر عنها  بالمصلحة المسكوت عنها، أي: التي  سكت عنها الشارع فلم يشهد لها منه  دليل معين ولا إجماع، لا بالإلغاء ولا  بالاعتبار..</a:t>
            </a:r>
            <a:endParaRPr b="0" lang="en-US" sz="2200" spc="-1" strike="noStrike">
              <a:solidFill>
                <a:srgbClr val="000000"/>
              </a:solidFill>
              <a:latin typeface="Calibri"/>
            </a:endParaRPr>
          </a:p>
          <a:p>
            <a:pPr lvl="2" marL="994320" indent="-198720" algn="r" rtl="1">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akkal Majalla"/>
                <a:cs typeface="Sakkal Majalla"/>
              </a:rPr>
              <a:t>ومثاله: أن تثبت لهذه المصلحة  علاقة اعتبار شرعية، بشهادة  أصل كُلِّيٍّ؛ بأن يكون الوصف  المَصْلَحيُّ داخلاً ضمن معنى  وأصلٍ قامت على صحته الأدلَّة  الشرعية، دون أن يرِدَ بشأنه في  ذاته حكم معين.</a:t>
            </a:r>
            <a:endParaRPr b="0" lang="en-US" sz="2200" spc="-1" strike="noStrike">
              <a:solidFill>
                <a:srgbClr val="000000"/>
              </a:solidFill>
              <a:latin typeface="Calibri"/>
            </a:endParaRPr>
          </a:p>
          <a:p>
            <a:pPr lvl="2" marL="994320" indent="-198720" algn="r" rtl="1">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akkal Majalla"/>
                <a:cs typeface="Sakkal Majalla"/>
              </a:rPr>
              <a:t>وهذا النوع هو المعبّر عنه عند  التحقيق، بـ"المصلحة المرسلة"؛  وهي الطريق المراد بيانها هنا.</a:t>
            </a:r>
            <a:endParaRPr b="0" lang="en-US" sz="2200" spc="-1" strike="noStrike">
              <a:solidFill>
                <a:srgbClr val="000000"/>
              </a:solidFill>
              <a:latin typeface="Calibri"/>
            </a:endParaRPr>
          </a:p>
          <a:p>
            <a:pPr marL="29844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nvGrpSpPr>
          <p:cNvPr id="58" name="عنوان 1"/>
          <p:cNvGrpSpPr/>
          <p:nvPr/>
        </p:nvGrpSpPr>
        <p:grpSpPr>
          <a:xfrm>
            <a:off x="396720" y="128880"/>
            <a:ext cx="8345520" cy="1434600"/>
            <a:chOff x="396720" y="128880"/>
            <a:chExt cx="8345520" cy="1434600"/>
          </a:xfrm>
        </p:grpSpPr>
        <p:pic>
          <p:nvPicPr>
            <p:cNvPr id="59" name="عنوان 1" descr=""/>
            <p:cNvPicPr/>
            <p:nvPr/>
          </p:nvPicPr>
          <p:blipFill>
            <a:blip r:embed="rId1"/>
            <a:stretch/>
          </p:blipFill>
          <p:spPr>
            <a:xfrm>
              <a:off x="396720" y="304920"/>
              <a:ext cx="8345520" cy="1006200"/>
            </a:xfrm>
            <a:prstGeom prst="rect">
              <a:avLst/>
            </a:prstGeom>
            <a:ln w="0">
              <a:noFill/>
            </a:ln>
          </p:spPr>
        </p:pic>
        <p:sp>
          <p:nvSpPr>
            <p:cNvPr id="60"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Diwani Letter"/>
                </a:rPr>
                <a:t>الطريق  الأولى:  المصالح  المرسلة:</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عنوان 1"/>
          <p:cNvGrpSpPr/>
          <p:nvPr/>
        </p:nvGrpSpPr>
        <p:grpSpPr>
          <a:xfrm>
            <a:off x="396720" y="311040"/>
            <a:ext cx="8345520" cy="993960"/>
            <a:chOff x="396720" y="311040"/>
            <a:chExt cx="8345520" cy="993960"/>
          </a:xfrm>
        </p:grpSpPr>
        <p:pic>
          <p:nvPicPr>
            <p:cNvPr id="62" name="عنوان 1" descr=""/>
            <p:cNvPicPr/>
            <p:nvPr/>
          </p:nvPicPr>
          <p:blipFill>
            <a:blip r:embed="rId1"/>
            <a:stretch/>
          </p:blipFill>
          <p:spPr>
            <a:xfrm>
              <a:off x="396720" y="311040"/>
              <a:ext cx="8345520" cy="993960"/>
            </a:xfrm>
            <a:prstGeom prst="rect">
              <a:avLst/>
            </a:prstGeom>
            <a:ln w="0">
              <a:noFill/>
            </a:ln>
          </p:spPr>
        </p:pic>
        <p:sp>
          <p:nvSpPr>
            <p:cNvPr id="63"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Sakkal Majalla"/>
                  <a:cs typeface="Sakkal Majalla"/>
                </a:rPr>
                <a:t>الاستدلال</a:t>
              </a:r>
              <a:endParaRPr b="0" lang="en-US" sz="4400" spc="-1" strike="noStrike">
                <a:solidFill>
                  <a:srgbClr val="000000"/>
                </a:solidFill>
                <a:latin typeface="Calibri"/>
              </a:endParaRPr>
            </a:p>
          </p:txBody>
        </p:sp>
      </p:grpSp>
      <p:pic>
        <p:nvPicPr>
          <p:cNvPr id="64"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09680"/>
            <a:ext cx="8229600" cy="277308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cs typeface="Sakkal Majalla"/>
              </a:rPr>
              <a:t>يراد بالاستدلال: ما كان  مستنداً للحكم غير النص  والإجماع والقياس، مما  هو عائد إليها.</a:t>
            </a:r>
            <a:endParaRPr b="0" lang="en-US" sz="4400" spc="-1" strike="noStrike">
              <a:solidFill>
                <a:srgbClr val="000000"/>
              </a:solidFill>
              <a:latin typeface="Calibri"/>
            </a:endParaRPr>
          </a:p>
        </p:txBody>
      </p:sp>
      <p:sp>
        <p:nvSpPr>
          <p:cNvPr id="66" name="PlaceHolder 2"/>
          <p:cNvSpPr>
            <a:spLocks noGrp="1"/>
          </p:cNvSpPr>
          <p:nvPr>
            <p:ph/>
          </p:nvPr>
        </p:nvSpPr>
        <p:spPr>
          <a:xfrm>
            <a:off x="457200" y="2335320"/>
            <a:ext cx="8229600" cy="516924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Sakkal Majalla"/>
                <a:cs typeface="Sakkal Majalla"/>
              </a:rPr>
              <a:t>أو هو: محاولة الدليل الشرعي من جهة القواعد، لا من جهة  الأدلة المعلومة</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Sakkal Majalla"/>
                <a:cs typeface="Sakkal Majalla"/>
              </a:rPr>
              <a:t>وحقيقته: الاجتهاد الشرعي في استنباط حكم لم ينص عليه بعينه.</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Sakkal Majalla"/>
                <a:cs typeface="Sakkal Majalla"/>
              </a:rPr>
              <a:t>ومنه تتجلَّى النَّاحية التنظيريَّة للمستجدات في السياسة  الشرعية، كغيرها من المجالات الفقهية. إذ إنَّ جلّ الأحكام  السياسية يرجع في الأصل إلى صورة الاجتهاد فيما لم يتعيّن  له أصل معيّن، وصاحب الأمر يفعله بحكم الولاية العامة له أو  لمن ولَّا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عنوان 1"/>
          <p:cNvGrpSpPr/>
          <p:nvPr/>
        </p:nvGrpSpPr>
        <p:grpSpPr>
          <a:xfrm>
            <a:off x="396720" y="128880"/>
            <a:ext cx="8345520" cy="1434600"/>
            <a:chOff x="396720" y="128880"/>
            <a:chExt cx="8345520" cy="1434600"/>
          </a:xfrm>
        </p:grpSpPr>
        <p:pic>
          <p:nvPicPr>
            <p:cNvPr id="68" name="عنوان 1" descr=""/>
            <p:cNvPicPr/>
            <p:nvPr/>
          </p:nvPicPr>
          <p:blipFill>
            <a:blip r:embed="rId1"/>
            <a:stretch/>
          </p:blipFill>
          <p:spPr>
            <a:xfrm>
              <a:off x="396720" y="304920"/>
              <a:ext cx="8345520" cy="1006200"/>
            </a:xfrm>
            <a:prstGeom prst="rect">
              <a:avLst/>
            </a:prstGeom>
            <a:ln w="0">
              <a:noFill/>
            </a:ln>
          </p:spPr>
        </p:pic>
        <p:sp>
          <p:nvSpPr>
            <p:cNvPr id="69"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Sakkal Majalla"/>
                  <a:cs typeface="Sakkal Majalla"/>
                </a:rPr>
                <a:t>وأدلة الاستناد إلى "الاستدلال" كثيرة.</a:t>
              </a:r>
              <a:endParaRPr b="0" lang="en-US" sz="4400" spc="-1" strike="noStrike">
                <a:solidFill>
                  <a:srgbClr val="000000"/>
                </a:solidFill>
                <a:latin typeface="Calibri"/>
              </a:endParaRPr>
            </a:p>
          </p:txBody>
        </p:sp>
      </p:grpSp>
      <p:pic>
        <p:nvPicPr>
          <p:cNvPr id="70" name="صورة 3" descr="$2$.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9T14:50:28Z</dcterms:created>
  <dc:creator>وفاء بنت محمد العيسى</dc:creator>
  <dc:description/>
  <dc:language>en-US</dc:language>
  <cp:lastModifiedBy>ساره</cp:lastModifiedBy>
  <dcterms:modified xsi:type="dcterms:W3CDTF">2013-03-08T16:38:06Z</dcterms:modified>
  <cp:revision>2</cp:revision>
  <dc:subject/>
  <dc:title>أسس السياسة الشرعية الاستنباطية</dc:title>
</cp:coreProperties>
</file>