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F92-754A-42ED-B6BF-3ABD7C34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822-38EB-4A0B-96BA-ACBC34F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C6C-F56E-4E41-9176-BCC35786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D8F-E162-4A91-B960-499AF1CA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6C97-E9E8-4275-BCF2-889A34D3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D9EA-E0D6-4450-BE3F-DC3460E7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1093-30B1-4A32-82C2-FAA94991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FA5E-C931-4ED4-82ED-1E71ADCE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FE6B-9042-4C38-8BA8-9504DC0D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0030-4F4A-476B-BE0A-E0ED4626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45DF-C568-47CC-86E6-9C446BFF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FF5-D7B5-43C5-BC12-B8CC74B5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6A10-204E-430F-BB10-FB8C933C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01D1-F474-4293-A52D-9D5DDF5E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CB16-12B0-4508-AB05-8CAB98FE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1F4D-7641-4E4F-9542-AA7E6787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4CBC-CB8F-4D6B-AA67-346A93CE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FF8A-7163-4CF1-AEF2-2B5DC0F8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35C-D907-4E09-91C9-B10D9CE7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97D-1F0A-470B-96CF-3E6F195F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4A3-CAF1-447B-82F8-39A3B8C9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3A0-66F7-4042-80B1-AA89A7F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537-6181-432C-9441-6D96C174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984C-DD04-4DB2-AAE9-92F0A5A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B47E-61B2-46D3-A8DA-87849FAAE5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F689-70E1-4143-A49A-A9B7764484E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ecff"/>
                </a:solidFill>
                <a:latin typeface="Arial"/>
                <a:cs typeface="PT Bold Stars"/>
              </a:rPr>
              <a:t>الأهمية التغذوية للأغذية النباتية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نباتات هي الأغذية الرئيس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ple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للغالبية العظمى من سكان العال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نقصها بعض العناصر الغذائية الأساسية ( يقود ذلك لسوء التغذية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سين محتوى بروتينات البقول من الأحماض الأمينية المحتوية على الكبر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قود نقص التغذية إلى انخفاض المناعة عوضاً عن ظهور أعراض سوء التغذية وهذا يجعل من الصعوبة بمكان تحديد عدد الذين يعانون من سوء التغذ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ث السلطات الصحية في الدول المتقدمة على استهلاك الكثير من الأغذية النباتية في الوجبة اليومية ( أخذها لأغذية الشرق الأوسط في الوجبة اليومية كمثال للأغذية الصحية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دراسات الوبائية للعلاقة بين استهلاك الخضار والفواكه والأمراض العص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ا طبيعة المركبات الموجودة في الخضار والفواكه التي قادت إلى هذه الملاحظات؟ ( هل هي العناصر الغذائية أم المركبات النباتية الكيميائ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tochemical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ecff"/>
                </a:solidFill>
                <a:latin typeface="Arial"/>
                <a:cs typeface="PT Bold Broken"/>
              </a:rPr>
              <a:t>تعزيز القيمة التغذوية للأغذية النباتية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اذا نحسن القيمة التغذوية للأغذية النباتية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هل هناك دلائل على وجود مشكلة في هذه الأغذية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الصعوبة الإجابة على هذين السؤال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ـــ ليس هناك علامات صريحة وواضحة لسوء التغذية في الدول المتطورة حتى في النباتيين المتزمتين ( التدعيم 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ـــ تناول النباتيين للفيتامينات كمواد مدعمة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lement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عتقاد بأن تناول المدعمات الفيتامينية مفيد للصحة ( ؟؟؟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* القضية الأهم تحديد المتناول المطلوب للحفاظ على الصحة المناسب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ecff"/>
                </a:solidFill>
                <a:latin typeface="Arial"/>
                <a:cs typeface="PT Bold Heading"/>
              </a:rPr>
              <a:t>كفاية الوجبة النباتية في إعطاء الفائدة الصحية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ذلك على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كمية المتناولة من العنص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وافر الحيوي للعنص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-- مشكلة المكونات المجودة في الجدار الخلوي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* زيادة التوافرالحيو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availabilit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تساعد على التغلب على هذه المشكل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ecff"/>
                </a:solidFill>
                <a:latin typeface="Arial"/>
                <a:cs typeface="PT Simple Bold Ruled"/>
              </a:rPr>
              <a:t>استراتيجيات التحسين التغذوي للنباتا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رق التربي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eding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تقليدية ( زيادة المكون الحيو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ac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فض محتوى النباتات من العوامل المضادة للتغذية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nutritional factor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ستخدام التحوير الجين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chnolog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لإعطاء النبات ميزات جدي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حسين في تقنيات تداول وتخزين وتصنيع الأغذ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comic"/>
                <a:cs typeface="PT Bold Dusky"/>
              </a:rPr>
              <a:t>تطبيق طرق التربية التقليد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ختلافات طبيعية كبيرة في النظم الوراثية للمحاصيل النبات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عطي النباتات كميات متفاوتة م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otenoi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يعتمد ذلك على لونه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ين مورث لل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copen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ي الطماط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_ ادخال جينات تزيد من الليكوبين و/أو حذف الجينات التي تقلل من محتوى هذا المركب في الطماط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_ اختيار الأصول أو برامج الخلط الرجعي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cros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_ أنتجت هذه التقنيات هجين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حتوت على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إلى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أضعاف زيادة في الليكوبي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  <a:cs typeface="PT Simple Bold Ruled"/>
              </a:rPr>
              <a:t>خفض العوامل المضادة للتغذ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ركزت على الأعلاف لتحسين قيمتها التغذو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ضع جين يحمل إنزي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tas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راتيجيات الأخرى المتعلقة بتغذية الإنسان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-- ادخال مورث للـ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oredox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- منشط للإنبات في البذور ( تسهيل تحلل البروتينات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     - خفض التحسس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enicit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( تكسير روابط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ulphide bond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  <a:cs typeface="PT Bold Stars"/>
              </a:rPr>
              <a:t>استخدام التحوير الجين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خدمت الهندسة الوراثية لتعزيز مستويات المركبات الوظيفي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al compound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طريقة الوحيدة الممكنة خاصة في المناطق التي تسود فيها أمراض سوء التغذ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راتيجيات تعزيز منتجات أيض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te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قد تهدف إلى ما يلي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انتاج إنزيمات تسيطر على الخطوات النهائية في تصنيع المنتج الأي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الإنزيمات المحددة للمستوي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-limiting enzy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-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بطال مفعول المورثات التي يؤدي وجودها لتحطم المنتج الأي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انتاج الجينات التي لا تؤدي إلى الضبط الإسترجاعي للمنتج الأيضي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feedback contro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عدد البلاستيدات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tid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في الن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زيادة تدف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x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نتج الأيضي في المسار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hway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المرغو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-- وضع الجين ( المورث ) في الأعضاء المخزن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age organ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استخدام المحفزات الخاصة الموضعية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- specific promoters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9:12:50Z</dcterms:created>
  <dc:creator>user</dc:creator>
  <dc:description/>
  <dc:language>en-US</dc:language>
  <cp:lastModifiedBy>User</cp:lastModifiedBy>
  <dcterms:modified xsi:type="dcterms:W3CDTF">2010-10-07T15:48:32Z</dcterms:modified>
  <cp:revision>6</cp:revision>
  <dc:subject/>
  <dc:title>مقدمة المقرر 610 غذت</dc:title>
</cp:coreProperties>
</file>