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1AB-A123-4767-AC32-5ECCE64D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198-3D21-406C-89B3-2F8B1946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8E1-C308-4FA9-AF39-4A7EC7C5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CC0-EC64-4244-8208-264E4BB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77A3-4891-4B8B-9C27-62F3BBE6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7918-FC83-4914-97D0-3F1E8FF4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F625-F452-4434-9B72-5C531438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BB7-C168-4BB7-8067-F5CCD18C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61A-64BD-4449-B297-50E399C2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2BC8-895A-4CCD-9667-8BA74DA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AE45-86E0-446A-9D4D-1715621B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17F-5B0F-495F-A7E1-EF00331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1C6-DF50-499C-8D5F-7887E8D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F9E7-3A3B-4E06-BB62-6E66F83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5DC9-823E-4334-893D-1E30285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004-A07D-4588-85EF-6E241BB7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7040-4057-431F-A300-2BCF8961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6D2-38E2-4970-8022-A14E81D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08E-F3D5-4226-8CC5-56E1FFF3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DFF-E591-4580-AD43-60E8049A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EA2-E977-4BEB-A6CF-8EDB6169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A58-A54E-4DD3-9FCC-EFD482F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0C0-7BED-4F54-8B60-3F44274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A98-ED09-4ABE-93F2-40B2FE3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002B-5E8C-4867-AE3C-1B6ED66BD0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C716-5968-4A30-B844-341313A0861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ecff"/>
                </a:solidFill>
                <a:latin typeface="Arial"/>
                <a:cs typeface="PT Bold Stars"/>
              </a:rPr>
              <a:t>الأهمية التغذوية للأغذية النباتية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نباتات هي الأغذية الرئيس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l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للغالبية العظمى من سكان العال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نقصها بعض العناصر الغذائية الأساسية ( يقود ذلك لسوء التغذية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سين محتوى بروتينات البقول من الأحماض الأمينية المحتوية على الكبر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قود نقص التغذية إلى انخفاض المناعة عوضاً عن ظهور أعراض سوء التغذية وهذا يجعل من الصعوبة بمكان تحديد عدد الذين يعانون من سوء التغذ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ث السلطات الصحية في الدول المتقدمة على استهلاك الكثير من الأغذية النباتية في الوجبة اليومية ( أخذها لأغذية الشرق الأوسط في الوجبة اليومية كمثال للأغذية الصحية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دراسات الوبائية للعلاقة بين استهلاك الخضار والفواكه والأمراض العص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ا طبيعة المركبات الموجودة في الخضار والفواكه التي قادت إلى هذه الملاحظات؟ ( هل هي العناصر الغذائية أم المركبات النباتية الكيميا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tochemical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ecff"/>
                </a:solidFill>
                <a:latin typeface="Arial"/>
                <a:cs typeface="PT Bold Broken"/>
              </a:rPr>
              <a:t>تعزيز القيمة التغذوية للأغذية النباتية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نحسن القيمة التغذوية للأغذية النباتية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ل هناك دلائل على وجود مشكلة في هذه الأغذية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الصعوبة الإجابة على هذين السؤال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ـــ ليس هناك علامات صريحة وواضحة لسوء التغذية في الدول المتطورة حتى في النباتيين المتزمتين ( التدعيم 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ـــ تناول النباتيين للفيتامينات كمواد مدعم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lement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عتقاد بأن تناول المدعمات الفيتامينية مفيد للصحة ( ؟؟؟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* القضية الأهم تحديد المتناول المطلوب للحفاظ على الصحة المناس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ecff"/>
                </a:solidFill>
                <a:latin typeface="Arial"/>
                <a:cs typeface="PT Bold Heading"/>
              </a:rPr>
              <a:t>كفاية الوجبة النباتية في إعطاء الفائدة الصحية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ذلك على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كمية المتناولة من العنص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وافر الحيوي للعنص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- مشكلة المكونات المجودة في الجدار الخلو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زيادة التوافرالحيو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availabilit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ساعد على التغلب على هذه المشك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ecff"/>
                </a:solidFill>
                <a:latin typeface="Arial"/>
                <a:cs typeface="PT Simple Bold Ruled"/>
              </a:rPr>
              <a:t>استراتيجيات التحسين التغذوي للنباتا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رق التربي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eding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قليدية ( زيادة المكون الحيو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ac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فض محتوى النباتات من العوامل المضادة للتغذي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nutritional factor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ستخدام التحوير الجين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chnolog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إعطاء النبات ميزات جدي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حسين في تقنيات تداول وتخزين وتصنيع الأغذ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comic"/>
                <a:cs typeface="PT Bold Dusky"/>
              </a:rPr>
              <a:t>تطبيق طرق التربية التقليد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ختلافات طبيعية كبيرة في النظم الوراثية للمحاصيل النبات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عطي النباتات كميات متفاوتة م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tenoi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عتمد ذلك على لون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ين مورث لل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copen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طماط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_ ادخال جينات تزيد من الليكوبين و/أو حذف الجينات التي تقلل من محتوى هذا المركب في الطماط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_ اختيار الأصول أو برامج الخلط الرجع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cros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_ أنتجت هذه التقنيات هجين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حتوت على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أضعاف زيادة في الليكوب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  <a:cs typeface="PT Simple Bold Ruled"/>
              </a:rPr>
              <a:t>خفض العوامل المضادة للتغذ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ركزت على الأعلاف لتحسين قيمتها التغذو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ضع جين يحمل إنزي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tas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راتيجيات الأخرى المتعلقة بتغذية الإنسان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-- ادخال مورث لل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oredox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- منشط للإنبات في البذور ( تسهيل تحلل البروتينات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- خفض التحسس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 تكسير روابط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ulphide bo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  <a:cs typeface="PT Bold Stars"/>
              </a:rPr>
              <a:t>استخدام التحوير الجين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خدمت الهندسة الوراثية لتعزيز مستويات المركبات الوظيفي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compound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طريقة الوحيدة الممكنة خاصة في المناطق التي تسود فيها أمراض سوء التغذ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راتيجيات تعزيز منتجات أيض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t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قد تهدف إلى ما يلي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انتاج إنزيمات تسيطر على الخطوات النهائية في تصنيع المنتج الأي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الإنزيمات المحددة للمستوي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-limiting enzy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-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بطال مفعول المورثات التي يؤدي وجودها لتحطم المنتج الأي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انتاج الجينات التي لا تؤدي إلى الضبط الإسترجاعي للمنتج الأيض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feedback contro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عدد البلاستيد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d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الن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تدف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x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نتج الأيضي في المسا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way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رغو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وضع الجين ( المورث ) في الأعضاء المخزن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age organ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استخدام المحفزات الخاصة الموضع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- specific promoter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9:12:50Z</dcterms:created>
  <dc:creator>user</dc:creator>
  <dc:description/>
  <dc:language>en-US</dc:language>
  <cp:lastModifiedBy>User</cp:lastModifiedBy>
  <dcterms:modified xsi:type="dcterms:W3CDTF">2010-10-07T15:48:32Z</dcterms:modified>
  <cp:revision>6</cp:revision>
  <dc:subject/>
  <dc:title>مقدمة المقرر 610 غذت</dc:title>
</cp:coreProperties>
</file>