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4F2E-BEA8-451A-8934-54146F07F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B2F8-57F3-41CE-80E8-EA13EDBF2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674B-0E2E-4EFC-ABB7-048743C2E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9230-3B53-4236-9A6B-50E7CB2DF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30D4D-6166-4FAE-AE69-CCB1B087B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7C067-276A-4FF0-9695-E0761BE19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92BF9-67DC-4E6B-99BC-586B9A289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CACAA-0CF4-4A17-90D2-39F5E4A3E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D3EE2-DC36-48B5-89CD-9EE772095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388A5-7427-4BD0-AE34-E8B6F076B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156DF-A934-4915-B88E-2CF29C06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2DAB-9749-42A3-AAA4-E3D23A6F3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5B8F9-2D45-4359-837D-310D999A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B5DE4-BFF0-41E1-A22D-03AA2817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33172-EC2F-4FCA-94D9-1D5145A25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0F73C-5BFC-4C9F-B02F-D57370B47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9CE6C-D7E4-4CCC-8AC3-9D29901A6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C0795-3B42-429A-B110-8A67D23FE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C4E51-6A97-4BCA-AF75-36133B181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F0793-D5FB-4B23-934A-C15938B64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3626D-DF02-457B-A1F1-3D216DEC5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E900B-7347-4147-9D15-B06E53E53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65F0-36EB-42AB-978B-2950B7486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BE932-0438-436A-8BD6-82313127D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20A31-1800-4AE6-ABD4-88E215B8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3B15A-29B6-44C2-A594-3BDB52D4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6C94E-6C6D-4B60-A44A-C6BEC1F4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200B2-F542-48E2-AFCC-2BD50B025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D106A-C99B-44BA-98E4-7C770CC8D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9E054-26EC-47C9-813D-8EBB2AC03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90A38-12D1-45FD-877F-41FE6B17C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8A788-A383-46C1-A8FB-80ABD5AA2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87C90-974E-4DF6-B4EA-82571839C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8A06-D6CB-4206-83DC-22E84B18A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5BA88-B22F-4DF6-8949-79FC3AD46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CEA1A-94DA-4CD4-9AB8-0DC20FF11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B68DE-6638-46E0-B397-65B91A36D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AE500-49D7-481D-9836-CB02CBE3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8A0DF-97F0-49A5-8E0E-E909062A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BA1BA-3D30-4024-9BF4-E8517D39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20550-7717-46A3-A159-96FE65520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1BD44-21B2-4F70-93F7-ECCD83F1A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36B32-3CD9-4660-8FBA-505C8C423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8B267-BCC2-4F81-8278-4AFBBAC8C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9558-D36B-430E-97D2-4DB1707BC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A69C1-124C-4E82-A075-3E3A6D0C7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3BAF9-3A64-4008-9531-0DA960D0D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E3551-4DD3-4429-B61B-63B6ED2F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937FC-AF02-41A9-935F-14914A12B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E52F2-2044-49CF-8188-125AC1012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E83B0-7100-4631-802E-6B44E7EC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23241-2435-4E41-BE58-EDFEE650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B17D3-66AE-44FB-AB34-F4D05E33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FDA67-424E-4ED7-AA9A-CFD792A96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4545A-3FFC-4AAF-BE38-BAD5847EC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CD91-408E-4C1A-8EE1-1C2134457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67340-F485-4140-B17A-A80E96974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1199-718F-4A18-87F2-9F7923BA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D801-CD34-4969-A6B6-D7E24BD0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B28D-BCB9-4302-ADA4-672FB31F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9"/>
          <p:cNvSpPr/>
          <p:nvPr/>
        </p:nvSpPr>
        <p:spPr>
          <a:xfrm>
            <a:off x="149400" y="136440"/>
            <a:ext cx="8869320" cy="6585120"/>
          </a:xfrm>
          <a:prstGeom prst="rect">
            <a:avLst/>
          </a:prstGeom>
          <a:noFill/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 algn="r" rtl="1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 algn="r" rtl="1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6118B-FC76-4AA2-9809-9148DEC1B3D9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7"/>
          <p:cNvGrpSpPr/>
          <p:nvPr/>
        </p:nvGrpSpPr>
        <p:grpSpPr>
          <a:xfrm>
            <a:off x="-720" y="-30240"/>
            <a:ext cx="9068040" cy="6890040"/>
            <a:chOff x="-720" y="-30240"/>
            <a:chExt cx="9068040" cy="6890040"/>
          </a:xfrm>
        </p:grpSpPr>
        <p:sp>
          <p:nvSpPr>
            <p:cNvPr id="43" name="Straight Connector 8"/>
            <p:cNvSpPr/>
            <p:nvPr/>
          </p:nvSpPr>
          <p:spPr>
            <a:xfrm>
              <a:off x="19040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Straight Connector 9"/>
            <p:cNvSpPr/>
            <p:nvPr/>
          </p:nvSpPr>
          <p:spPr>
            <a:xfrm>
              <a:off x="16002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Straight Connector 10"/>
            <p:cNvSpPr/>
            <p:nvPr/>
          </p:nvSpPr>
          <p:spPr>
            <a:xfrm flipH="1">
              <a:off x="175248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Straight Connector 11"/>
            <p:cNvSpPr/>
            <p:nvPr/>
          </p:nvSpPr>
          <p:spPr>
            <a:xfrm flipH="1">
              <a:off x="75600" y="0"/>
              <a:ext cx="2286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Straight Connector 12"/>
            <p:cNvSpPr/>
            <p:nvPr/>
          </p:nvSpPr>
          <p:spPr>
            <a:xfrm>
              <a:off x="-72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Straight Connector 13"/>
            <p:cNvSpPr/>
            <p:nvPr/>
          </p:nvSpPr>
          <p:spPr>
            <a:xfrm>
              <a:off x="1600200" y="0"/>
              <a:ext cx="9144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Straight Connector 14"/>
            <p:cNvSpPr/>
            <p:nvPr/>
          </p:nvSpPr>
          <p:spPr>
            <a:xfrm>
              <a:off x="380880" y="0"/>
              <a:ext cx="457200" cy="685800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Straight Connector 15"/>
            <p:cNvSpPr/>
            <p:nvPr/>
          </p:nvSpPr>
          <p:spPr>
            <a:xfrm flipH="1">
              <a:off x="533160" y="0"/>
              <a:ext cx="38088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Straight Connector 16"/>
            <p:cNvSpPr/>
            <p:nvPr/>
          </p:nvSpPr>
          <p:spPr>
            <a:xfrm>
              <a:off x="106668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Straight Connector 17"/>
            <p:cNvSpPr/>
            <p:nvPr/>
          </p:nvSpPr>
          <p:spPr>
            <a:xfrm>
              <a:off x="15228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Straight Connector 18"/>
            <p:cNvSpPr/>
            <p:nvPr/>
          </p:nvSpPr>
          <p:spPr>
            <a:xfrm>
              <a:off x="15231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Straight Connector 19"/>
            <p:cNvSpPr/>
            <p:nvPr/>
          </p:nvSpPr>
          <p:spPr>
            <a:xfrm>
              <a:off x="5324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Straight Connector 20"/>
            <p:cNvSpPr/>
            <p:nvPr/>
          </p:nvSpPr>
          <p:spPr>
            <a:xfrm>
              <a:off x="685080" y="0"/>
              <a:ext cx="6094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Straight Connector 21"/>
            <p:cNvSpPr/>
            <p:nvPr/>
          </p:nvSpPr>
          <p:spPr>
            <a:xfrm flipH="1">
              <a:off x="990360" y="0"/>
              <a:ext cx="1412640" cy="685800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Straight Connector 22"/>
            <p:cNvSpPr/>
            <p:nvPr/>
          </p:nvSpPr>
          <p:spPr>
            <a:xfrm flipH="1">
              <a:off x="2135160" y="0"/>
              <a:ext cx="303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Straight Connector 23"/>
            <p:cNvSpPr/>
            <p:nvPr/>
          </p:nvSpPr>
          <p:spPr>
            <a:xfrm flipH="1">
              <a:off x="236196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Straight Connector 24"/>
            <p:cNvSpPr/>
            <p:nvPr/>
          </p:nvSpPr>
          <p:spPr>
            <a:xfrm flipH="1">
              <a:off x="1371600" y="0"/>
              <a:ext cx="40320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Straight Connector 25"/>
            <p:cNvSpPr/>
            <p:nvPr/>
          </p:nvSpPr>
          <p:spPr>
            <a:xfrm>
              <a:off x="609480" y="0"/>
              <a:ext cx="3520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Straight Connector 26"/>
            <p:cNvSpPr/>
            <p:nvPr/>
          </p:nvSpPr>
          <p:spPr>
            <a:xfrm>
              <a:off x="1370880" y="0"/>
              <a:ext cx="2062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Straight Connector 27"/>
            <p:cNvSpPr/>
            <p:nvPr/>
          </p:nvSpPr>
          <p:spPr>
            <a:xfrm>
              <a:off x="9896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Straight Connector 28"/>
            <p:cNvSpPr/>
            <p:nvPr/>
          </p:nvSpPr>
          <p:spPr>
            <a:xfrm>
              <a:off x="12182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Straight Connector 29"/>
            <p:cNvSpPr/>
            <p:nvPr/>
          </p:nvSpPr>
          <p:spPr>
            <a:xfrm>
              <a:off x="44186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Straight Connector 30"/>
            <p:cNvSpPr/>
            <p:nvPr/>
          </p:nvSpPr>
          <p:spPr>
            <a:xfrm>
              <a:off x="41148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Straight Connector 31"/>
            <p:cNvSpPr/>
            <p:nvPr/>
          </p:nvSpPr>
          <p:spPr>
            <a:xfrm flipH="1">
              <a:off x="4267080" y="0"/>
              <a:ext cx="38088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Straight Connector 32"/>
            <p:cNvSpPr/>
            <p:nvPr/>
          </p:nvSpPr>
          <p:spPr>
            <a:xfrm flipH="1">
              <a:off x="2590200" y="0"/>
              <a:ext cx="2286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Straight Connector 33"/>
            <p:cNvSpPr/>
            <p:nvPr/>
          </p:nvSpPr>
          <p:spPr>
            <a:xfrm>
              <a:off x="251388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Straight Connector 34"/>
            <p:cNvSpPr/>
            <p:nvPr/>
          </p:nvSpPr>
          <p:spPr>
            <a:xfrm flipH="1">
              <a:off x="3274920" y="1440"/>
              <a:ext cx="288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Straight Connector 35"/>
            <p:cNvSpPr/>
            <p:nvPr/>
          </p:nvSpPr>
          <p:spPr>
            <a:xfrm>
              <a:off x="2895480" y="0"/>
              <a:ext cx="45720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Straight Connector 36"/>
            <p:cNvSpPr/>
            <p:nvPr/>
          </p:nvSpPr>
          <p:spPr>
            <a:xfrm flipH="1">
              <a:off x="3047760" y="0"/>
              <a:ext cx="3808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Straight Connector 37"/>
            <p:cNvSpPr/>
            <p:nvPr/>
          </p:nvSpPr>
          <p:spPr>
            <a:xfrm>
              <a:off x="358128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Straight Connector 38"/>
            <p:cNvSpPr/>
            <p:nvPr/>
          </p:nvSpPr>
          <p:spPr>
            <a:xfrm>
              <a:off x="266688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Straight Connector 39"/>
            <p:cNvSpPr/>
            <p:nvPr/>
          </p:nvSpPr>
          <p:spPr>
            <a:xfrm>
              <a:off x="4037760" y="0"/>
              <a:ext cx="1522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Straight Connector 40"/>
            <p:cNvSpPr/>
            <p:nvPr/>
          </p:nvSpPr>
          <p:spPr>
            <a:xfrm>
              <a:off x="30470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Straight Connector 41"/>
            <p:cNvSpPr/>
            <p:nvPr/>
          </p:nvSpPr>
          <p:spPr>
            <a:xfrm flipH="1">
              <a:off x="2285640" y="0"/>
              <a:ext cx="22860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Straight Connector 42"/>
            <p:cNvSpPr/>
            <p:nvPr/>
          </p:nvSpPr>
          <p:spPr>
            <a:xfrm flipH="1">
              <a:off x="3504960" y="0"/>
              <a:ext cx="1412640" cy="685800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Straight Connector 43"/>
            <p:cNvSpPr/>
            <p:nvPr/>
          </p:nvSpPr>
          <p:spPr>
            <a:xfrm flipH="1">
              <a:off x="4649760" y="0"/>
              <a:ext cx="303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Straight Connector 44"/>
            <p:cNvSpPr/>
            <p:nvPr/>
          </p:nvSpPr>
          <p:spPr>
            <a:xfrm flipH="1">
              <a:off x="495252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Straight Connector 45"/>
            <p:cNvSpPr/>
            <p:nvPr/>
          </p:nvSpPr>
          <p:spPr>
            <a:xfrm flipH="1">
              <a:off x="3886200" y="0"/>
              <a:ext cx="40320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Straight Connector 46"/>
            <p:cNvSpPr/>
            <p:nvPr/>
          </p:nvSpPr>
          <p:spPr>
            <a:xfrm>
              <a:off x="3124080" y="0"/>
              <a:ext cx="3520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Straight Connector 47"/>
            <p:cNvSpPr/>
            <p:nvPr/>
          </p:nvSpPr>
          <p:spPr>
            <a:xfrm>
              <a:off x="388548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Straight Connector 48"/>
            <p:cNvSpPr/>
            <p:nvPr/>
          </p:nvSpPr>
          <p:spPr>
            <a:xfrm>
              <a:off x="35042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Straight Connector 49"/>
            <p:cNvSpPr/>
            <p:nvPr/>
          </p:nvSpPr>
          <p:spPr>
            <a:xfrm>
              <a:off x="37328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Straight Connector 50"/>
            <p:cNvSpPr/>
            <p:nvPr/>
          </p:nvSpPr>
          <p:spPr>
            <a:xfrm>
              <a:off x="6095160" y="0"/>
              <a:ext cx="1522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Straight Connector 51"/>
            <p:cNvSpPr/>
            <p:nvPr/>
          </p:nvSpPr>
          <p:spPr>
            <a:xfrm>
              <a:off x="533412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Straight Connector 52"/>
            <p:cNvSpPr/>
            <p:nvPr/>
          </p:nvSpPr>
          <p:spPr>
            <a:xfrm flipH="1">
              <a:off x="59436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Straight Connector 53"/>
            <p:cNvSpPr/>
            <p:nvPr/>
          </p:nvSpPr>
          <p:spPr>
            <a:xfrm flipH="1">
              <a:off x="5105520" y="0"/>
              <a:ext cx="30456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Straight Connector 54"/>
            <p:cNvSpPr/>
            <p:nvPr/>
          </p:nvSpPr>
          <p:spPr>
            <a:xfrm>
              <a:off x="426708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Straight Connector 55"/>
            <p:cNvSpPr/>
            <p:nvPr/>
          </p:nvSpPr>
          <p:spPr>
            <a:xfrm>
              <a:off x="571428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Straight Connector 56"/>
            <p:cNvSpPr/>
            <p:nvPr/>
          </p:nvSpPr>
          <p:spPr>
            <a:xfrm flipH="1">
              <a:off x="5369040" y="0"/>
              <a:ext cx="1412640" cy="685800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Straight Connector 57"/>
            <p:cNvSpPr/>
            <p:nvPr/>
          </p:nvSpPr>
          <p:spPr>
            <a:xfrm flipH="1">
              <a:off x="6326280" y="0"/>
              <a:ext cx="303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Straight Connector 58"/>
            <p:cNvSpPr/>
            <p:nvPr/>
          </p:nvSpPr>
          <p:spPr>
            <a:xfrm flipH="1">
              <a:off x="617220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Straight Connector 59"/>
            <p:cNvSpPr/>
            <p:nvPr/>
          </p:nvSpPr>
          <p:spPr>
            <a:xfrm flipH="1">
              <a:off x="5616720" y="0"/>
              <a:ext cx="40320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Straight Connector 60"/>
            <p:cNvSpPr/>
            <p:nvPr/>
          </p:nvSpPr>
          <p:spPr>
            <a:xfrm>
              <a:off x="556200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Straight Connector 61"/>
            <p:cNvSpPr/>
            <p:nvPr/>
          </p:nvSpPr>
          <p:spPr>
            <a:xfrm>
              <a:off x="510480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Straight Connector 62"/>
            <p:cNvSpPr/>
            <p:nvPr/>
          </p:nvSpPr>
          <p:spPr>
            <a:xfrm>
              <a:off x="533340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Straight Connector 63"/>
            <p:cNvSpPr/>
            <p:nvPr/>
          </p:nvSpPr>
          <p:spPr>
            <a:xfrm flipH="1">
              <a:off x="6781320" y="0"/>
              <a:ext cx="2286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Straight Connector 64"/>
            <p:cNvSpPr/>
            <p:nvPr/>
          </p:nvSpPr>
          <p:spPr>
            <a:xfrm>
              <a:off x="678096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Straight Connector 65"/>
            <p:cNvSpPr/>
            <p:nvPr/>
          </p:nvSpPr>
          <p:spPr>
            <a:xfrm flipH="1">
              <a:off x="7466040" y="1440"/>
              <a:ext cx="288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Straight Connector 66"/>
            <p:cNvSpPr/>
            <p:nvPr/>
          </p:nvSpPr>
          <p:spPr>
            <a:xfrm>
              <a:off x="7086600" y="0"/>
              <a:ext cx="457200" cy="685800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Straight Connector 67"/>
            <p:cNvSpPr/>
            <p:nvPr/>
          </p:nvSpPr>
          <p:spPr>
            <a:xfrm flipH="1">
              <a:off x="7238880" y="0"/>
              <a:ext cx="38088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Straight Connector 68"/>
            <p:cNvSpPr/>
            <p:nvPr/>
          </p:nvSpPr>
          <p:spPr>
            <a:xfrm>
              <a:off x="777240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Straight Connector 69"/>
            <p:cNvSpPr/>
            <p:nvPr/>
          </p:nvSpPr>
          <p:spPr>
            <a:xfrm>
              <a:off x="708588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Straight Connector 70"/>
            <p:cNvSpPr/>
            <p:nvPr/>
          </p:nvSpPr>
          <p:spPr>
            <a:xfrm flipH="1">
              <a:off x="6933960" y="0"/>
              <a:ext cx="22860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Straight Connector 71"/>
            <p:cNvSpPr/>
            <p:nvPr/>
          </p:nvSpPr>
          <p:spPr>
            <a:xfrm>
              <a:off x="7467480" y="0"/>
              <a:ext cx="352080" cy="685800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Straight Connector 72"/>
            <p:cNvSpPr/>
            <p:nvPr/>
          </p:nvSpPr>
          <p:spPr>
            <a:xfrm>
              <a:off x="807660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Straight Connector 73"/>
            <p:cNvSpPr/>
            <p:nvPr/>
          </p:nvSpPr>
          <p:spPr>
            <a:xfrm>
              <a:off x="76953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Straight Connector 74"/>
            <p:cNvSpPr/>
            <p:nvPr/>
          </p:nvSpPr>
          <p:spPr>
            <a:xfrm>
              <a:off x="79239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Straight Connector 75"/>
            <p:cNvSpPr/>
            <p:nvPr/>
          </p:nvSpPr>
          <p:spPr>
            <a:xfrm>
              <a:off x="86097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Straight Connector 76"/>
            <p:cNvSpPr/>
            <p:nvPr/>
          </p:nvSpPr>
          <p:spPr>
            <a:xfrm>
              <a:off x="830592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Straight Connector 77"/>
            <p:cNvSpPr/>
            <p:nvPr/>
          </p:nvSpPr>
          <p:spPr>
            <a:xfrm flipH="1">
              <a:off x="8458200" y="0"/>
              <a:ext cx="3808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Straight Connector 78"/>
            <p:cNvSpPr/>
            <p:nvPr/>
          </p:nvSpPr>
          <p:spPr>
            <a:xfrm>
              <a:off x="822888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Straight Connector 79"/>
            <p:cNvSpPr/>
            <p:nvPr/>
          </p:nvSpPr>
          <p:spPr>
            <a:xfrm flipH="1">
              <a:off x="8876880" y="-30240"/>
              <a:ext cx="190440" cy="688824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Straight Connector 80"/>
            <p:cNvSpPr/>
            <p:nvPr/>
          </p:nvSpPr>
          <p:spPr>
            <a:xfrm flipH="1">
              <a:off x="8077320" y="0"/>
              <a:ext cx="40320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Straight Connector 81"/>
            <p:cNvSpPr/>
            <p:nvPr/>
          </p:nvSpPr>
          <p:spPr>
            <a:xfrm>
              <a:off x="807660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Straight Connector 82"/>
            <p:cNvSpPr/>
            <p:nvPr/>
          </p:nvSpPr>
          <p:spPr>
            <a:xfrm flipH="1">
              <a:off x="8989920" y="1440"/>
              <a:ext cx="28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Straight Connector 83"/>
            <p:cNvSpPr/>
            <p:nvPr/>
          </p:nvSpPr>
          <p:spPr>
            <a:xfrm flipH="1">
              <a:off x="5943240" y="0"/>
              <a:ext cx="7596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Straight Connector 84"/>
            <p:cNvSpPr/>
            <p:nvPr/>
          </p:nvSpPr>
          <p:spPr>
            <a:xfrm>
              <a:off x="6400080" y="0"/>
              <a:ext cx="15228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Straight Connector 85"/>
            <p:cNvSpPr/>
            <p:nvPr/>
          </p:nvSpPr>
          <p:spPr>
            <a:xfrm>
              <a:off x="6477120" y="0"/>
              <a:ext cx="380880" cy="685800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Straight Connector 86"/>
            <p:cNvSpPr/>
            <p:nvPr/>
          </p:nvSpPr>
          <p:spPr>
            <a:xfrm flipH="1">
              <a:off x="5410080" y="0"/>
              <a:ext cx="30456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Straight Connector 87"/>
            <p:cNvSpPr/>
            <p:nvPr/>
          </p:nvSpPr>
          <p:spPr>
            <a:xfrm>
              <a:off x="6400800" y="0"/>
              <a:ext cx="352080" cy="685800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Straight Connector 88"/>
            <p:cNvSpPr/>
            <p:nvPr/>
          </p:nvSpPr>
          <p:spPr>
            <a:xfrm flipH="1">
              <a:off x="701028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Straight Connector 89"/>
            <p:cNvSpPr/>
            <p:nvPr/>
          </p:nvSpPr>
          <p:spPr>
            <a:xfrm flipH="1">
              <a:off x="7162560" y="0"/>
              <a:ext cx="99036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Straight Connector 90"/>
            <p:cNvSpPr/>
            <p:nvPr/>
          </p:nvSpPr>
          <p:spPr>
            <a:xfrm>
              <a:off x="4572000" y="0"/>
              <a:ext cx="457200" cy="68598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Rectangle 91"/>
          <p:cNvSpPr/>
          <p:nvPr/>
        </p:nvSpPr>
        <p:spPr>
          <a:xfrm>
            <a:off x="0" y="1905120"/>
            <a:ext cx="4952880" cy="3124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Group 92"/>
          <p:cNvGrpSpPr/>
          <p:nvPr/>
        </p:nvGrpSpPr>
        <p:grpSpPr>
          <a:xfrm>
            <a:off x="0" y="2057400"/>
            <a:ext cx="4802040" cy="2820960"/>
            <a:chOff x="0" y="2057400"/>
            <a:chExt cx="4802040" cy="2820960"/>
          </a:xfrm>
        </p:grpSpPr>
        <p:sp>
          <p:nvSpPr>
            <p:cNvPr id="128" name="Straight Connector 93"/>
            <p:cNvSpPr/>
            <p:nvPr/>
          </p:nvSpPr>
          <p:spPr>
            <a:xfrm>
              <a:off x="0" y="2057400"/>
              <a:ext cx="480060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Straight Connector 94"/>
            <p:cNvSpPr/>
            <p:nvPr/>
          </p:nvSpPr>
          <p:spPr>
            <a:xfrm>
              <a:off x="0" y="4876920"/>
              <a:ext cx="480060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Straight Connector 95"/>
            <p:cNvSpPr/>
            <p:nvPr/>
          </p:nvSpPr>
          <p:spPr>
            <a:xfrm flipH="1">
              <a:off x="4800600" y="2058840"/>
              <a:ext cx="1440" cy="281808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 algn="r" rtl="1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 algn="r" rtl="1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4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5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6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B25F7-C39D-4DC1-949F-1D1F640E1EEA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92"/>
          <p:cNvGrpSpPr/>
          <p:nvPr/>
        </p:nvGrpSpPr>
        <p:grpSpPr>
          <a:xfrm>
            <a:off x="-720" y="-30240"/>
            <a:ext cx="9068040" cy="4847040"/>
            <a:chOff x="-720" y="-30240"/>
            <a:chExt cx="9068040" cy="4847040"/>
          </a:xfrm>
        </p:grpSpPr>
        <p:sp>
          <p:nvSpPr>
            <p:cNvPr id="173" name="Straight Connector 8"/>
            <p:cNvSpPr/>
            <p:nvPr/>
          </p:nvSpPr>
          <p:spPr>
            <a:xfrm>
              <a:off x="19040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Straight Connector 9"/>
            <p:cNvSpPr/>
            <p:nvPr/>
          </p:nvSpPr>
          <p:spPr>
            <a:xfrm>
              <a:off x="16002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Straight Connector 10"/>
            <p:cNvSpPr/>
            <p:nvPr/>
          </p:nvSpPr>
          <p:spPr>
            <a:xfrm flipH="1">
              <a:off x="175248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Straight Connector 11"/>
            <p:cNvSpPr/>
            <p:nvPr/>
          </p:nvSpPr>
          <p:spPr>
            <a:xfrm flipH="1">
              <a:off x="75600" y="-792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Straight Connector 12"/>
            <p:cNvSpPr/>
            <p:nvPr/>
          </p:nvSpPr>
          <p:spPr>
            <a:xfrm>
              <a:off x="-720" y="-792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Straight Connector 13"/>
            <p:cNvSpPr/>
            <p:nvPr/>
          </p:nvSpPr>
          <p:spPr>
            <a:xfrm>
              <a:off x="1600200" y="-7920"/>
              <a:ext cx="9144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Straight Connector 14"/>
            <p:cNvSpPr/>
            <p:nvPr/>
          </p:nvSpPr>
          <p:spPr>
            <a:xfrm>
              <a:off x="380880" y="-792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Straight Connector 15"/>
            <p:cNvSpPr/>
            <p:nvPr/>
          </p:nvSpPr>
          <p:spPr>
            <a:xfrm flipH="1">
              <a:off x="533160" y="-792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Straight Connector 16"/>
            <p:cNvSpPr/>
            <p:nvPr/>
          </p:nvSpPr>
          <p:spPr>
            <a:xfrm>
              <a:off x="106668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Straight Connector 17"/>
            <p:cNvSpPr/>
            <p:nvPr/>
          </p:nvSpPr>
          <p:spPr>
            <a:xfrm>
              <a:off x="15228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Straight Connector 18"/>
            <p:cNvSpPr/>
            <p:nvPr/>
          </p:nvSpPr>
          <p:spPr>
            <a:xfrm>
              <a:off x="1523160" y="-792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Straight Connector 19"/>
            <p:cNvSpPr/>
            <p:nvPr/>
          </p:nvSpPr>
          <p:spPr>
            <a:xfrm>
              <a:off x="5324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Straight Connector 20"/>
            <p:cNvSpPr/>
            <p:nvPr/>
          </p:nvSpPr>
          <p:spPr>
            <a:xfrm>
              <a:off x="228600" y="2880"/>
              <a:ext cx="457200" cy="481356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Straight Connector 21"/>
            <p:cNvSpPr/>
            <p:nvPr/>
          </p:nvSpPr>
          <p:spPr>
            <a:xfrm flipH="1">
              <a:off x="990360" y="-7920"/>
              <a:ext cx="141264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Straight Connector 22"/>
            <p:cNvSpPr/>
            <p:nvPr/>
          </p:nvSpPr>
          <p:spPr>
            <a:xfrm flipH="1">
              <a:off x="2135160" y="-7920"/>
              <a:ext cx="30312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Straight Connector 23"/>
            <p:cNvSpPr/>
            <p:nvPr/>
          </p:nvSpPr>
          <p:spPr>
            <a:xfrm flipH="1">
              <a:off x="236196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Straight Connector 24"/>
            <p:cNvSpPr/>
            <p:nvPr/>
          </p:nvSpPr>
          <p:spPr>
            <a:xfrm flipH="1">
              <a:off x="1371600" y="-7920"/>
              <a:ext cx="40320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Straight Connector 25"/>
            <p:cNvSpPr/>
            <p:nvPr/>
          </p:nvSpPr>
          <p:spPr>
            <a:xfrm>
              <a:off x="609480" y="-792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Straight Connector 26"/>
            <p:cNvSpPr/>
            <p:nvPr/>
          </p:nvSpPr>
          <p:spPr>
            <a:xfrm>
              <a:off x="137088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Straight Connector 27"/>
            <p:cNvSpPr/>
            <p:nvPr/>
          </p:nvSpPr>
          <p:spPr>
            <a:xfrm>
              <a:off x="9896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Straight Connector 28"/>
            <p:cNvSpPr/>
            <p:nvPr/>
          </p:nvSpPr>
          <p:spPr>
            <a:xfrm>
              <a:off x="12182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Straight Connector 29"/>
            <p:cNvSpPr/>
            <p:nvPr/>
          </p:nvSpPr>
          <p:spPr>
            <a:xfrm>
              <a:off x="44186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Straight Connector 30"/>
            <p:cNvSpPr/>
            <p:nvPr/>
          </p:nvSpPr>
          <p:spPr>
            <a:xfrm>
              <a:off x="41148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Straight Connector 31"/>
            <p:cNvSpPr/>
            <p:nvPr/>
          </p:nvSpPr>
          <p:spPr>
            <a:xfrm flipH="1">
              <a:off x="4267080" y="-7920"/>
              <a:ext cx="3808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Straight Connector 32"/>
            <p:cNvSpPr/>
            <p:nvPr/>
          </p:nvSpPr>
          <p:spPr>
            <a:xfrm flipH="1">
              <a:off x="2590200" y="-792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Straight Connector 33"/>
            <p:cNvSpPr/>
            <p:nvPr/>
          </p:nvSpPr>
          <p:spPr>
            <a:xfrm>
              <a:off x="2513880" y="-792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Straight Connector 34"/>
            <p:cNvSpPr/>
            <p:nvPr/>
          </p:nvSpPr>
          <p:spPr>
            <a:xfrm flipH="1">
              <a:off x="327636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Straight Connector 35"/>
            <p:cNvSpPr/>
            <p:nvPr/>
          </p:nvSpPr>
          <p:spPr>
            <a:xfrm>
              <a:off x="2895480" y="-7920"/>
              <a:ext cx="45720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Straight Connector 36"/>
            <p:cNvSpPr/>
            <p:nvPr/>
          </p:nvSpPr>
          <p:spPr>
            <a:xfrm flipH="1">
              <a:off x="3047760" y="-792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Straight Connector 37"/>
            <p:cNvSpPr/>
            <p:nvPr/>
          </p:nvSpPr>
          <p:spPr>
            <a:xfrm>
              <a:off x="358128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Straight Connector 38"/>
            <p:cNvSpPr/>
            <p:nvPr/>
          </p:nvSpPr>
          <p:spPr>
            <a:xfrm>
              <a:off x="266688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Straight Connector 39"/>
            <p:cNvSpPr/>
            <p:nvPr/>
          </p:nvSpPr>
          <p:spPr>
            <a:xfrm>
              <a:off x="40377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Straight Connector 40"/>
            <p:cNvSpPr/>
            <p:nvPr/>
          </p:nvSpPr>
          <p:spPr>
            <a:xfrm>
              <a:off x="30470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Straight Connector 41"/>
            <p:cNvSpPr/>
            <p:nvPr/>
          </p:nvSpPr>
          <p:spPr>
            <a:xfrm flipH="1">
              <a:off x="2285640" y="-792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Straight Connector 42"/>
            <p:cNvSpPr/>
            <p:nvPr/>
          </p:nvSpPr>
          <p:spPr>
            <a:xfrm flipH="1">
              <a:off x="3504960" y="-7920"/>
              <a:ext cx="141264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Straight Connector 43"/>
            <p:cNvSpPr/>
            <p:nvPr/>
          </p:nvSpPr>
          <p:spPr>
            <a:xfrm flipH="1">
              <a:off x="4649760" y="-7920"/>
              <a:ext cx="30312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Straight Connector 44"/>
            <p:cNvSpPr/>
            <p:nvPr/>
          </p:nvSpPr>
          <p:spPr>
            <a:xfrm flipH="1">
              <a:off x="495252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Straight Connector 45"/>
            <p:cNvSpPr/>
            <p:nvPr/>
          </p:nvSpPr>
          <p:spPr>
            <a:xfrm flipH="1">
              <a:off x="3886200" y="-7920"/>
              <a:ext cx="40320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Straight Connector 46"/>
            <p:cNvSpPr/>
            <p:nvPr/>
          </p:nvSpPr>
          <p:spPr>
            <a:xfrm>
              <a:off x="3124080" y="-792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Straight Connector 47"/>
            <p:cNvSpPr/>
            <p:nvPr/>
          </p:nvSpPr>
          <p:spPr>
            <a:xfrm>
              <a:off x="388548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Straight Connector 48"/>
            <p:cNvSpPr/>
            <p:nvPr/>
          </p:nvSpPr>
          <p:spPr>
            <a:xfrm>
              <a:off x="35042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Straight Connector 49"/>
            <p:cNvSpPr/>
            <p:nvPr/>
          </p:nvSpPr>
          <p:spPr>
            <a:xfrm>
              <a:off x="37328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Straight Connector 50"/>
            <p:cNvSpPr/>
            <p:nvPr/>
          </p:nvSpPr>
          <p:spPr>
            <a:xfrm>
              <a:off x="6095160" y="-792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Straight Connector 51"/>
            <p:cNvSpPr/>
            <p:nvPr/>
          </p:nvSpPr>
          <p:spPr>
            <a:xfrm>
              <a:off x="533412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Straight Connector 52"/>
            <p:cNvSpPr/>
            <p:nvPr/>
          </p:nvSpPr>
          <p:spPr>
            <a:xfrm flipH="1">
              <a:off x="59436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Straight Connector 53"/>
            <p:cNvSpPr/>
            <p:nvPr/>
          </p:nvSpPr>
          <p:spPr>
            <a:xfrm flipH="1">
              <a:off x="5105520" y="-7920"/>
              <a:ext cx="3045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Straight Connector 54"/>
            <p:cNvSpPr/>
            <p:nvPr/>
          </p:nvSpPr>
          <p:spPr>
            <a:xfrm>
              <a:off x="426708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Straight Connector 55"/>
            <p:cNvSpPr/>
            <p:nvPr/>
          </p:nvSpPr>
          <p:spPr>
            <a:xfrm>
              <a:off x="57142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Straight Connector 56"/>
            <p:cNvSpPr/>
            <p:nvPr/>
          </p:nvSpPr>
          <p:spPr>
            <a:xfrm flipH="1">
              <a:off x="5369040" y="-7920"/>
              <a:ext cx="1412640" cy="482472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Straight Connector 57"/>
            <p:cNvSpPr/>
            <p:nvPr/>
          </p:nvSpPr>
          <p:spPr>
            <a:xfrm flipH="1">
              <a:off x="6326280" y="-7920"/>
              <a:ext cx="30312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Straight Connector 58"/>
            <p:cNvSpPr/>
            <p:nvPr/>
          </p:nvSpPr>
          <p:spPr>
            <a:xfrm flipH="1">
              <a:off x="617220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Straight Connector 59"/>
            <p:cNvSpPr/>
            <p:nvPr/>
          </p:nvSpPr>
          <p:spPr>
            <a:xfrm flipH="1">
              <a:off x="5616720" y="-7920"/>
              <a:ext cx="40320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Straight Connector 60"/>
            <p:cNvSpPr/>
            <p:nvPr/>
          </p:nvSpPr>
          <p:spPr>
            <a:xfrm>
              <a:off x="556200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Straight Connector 61"/>
            <p:cNvSpPr/>
            <p:nvPr/>
          </p:nvSpPr>
          <p:spPr>
            <a:xfrm>
              <a:off x="5104800" y="-792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Straight Connector 62"/>
            <p:cNvSpPr/>
            <p:nvPr/>
          </p:nvSpPr>
          <p:spPr>
            <a:xfrm>
              <a:off x="52570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Straight Connector 63"/>
            <p:cNvSpPr/>
            <p:nvPr/>
          </p:nvSpPr>
          <p:spPr>
            <a:xfrm flipH="1">
              <a:off x="6781320" y="-792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Straight Connector 64"/>
            <p:cNvSpPr/>
            <p:nvPr/>
          </p:nvSpPr>
          <p:spPr>
            <a:xfrm>
              <a:off x="6780960" y="-792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Straight Connector 65"/>
            <p:cNvSpPr/>
            <p:nvPr/>
          </p:nvSpPr>
          <p:spPr>
            <a:xfrm flipH="1">
              <a:off x="746748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Straight Connector 66"/>
            <p:cNvSpPr/>
            <p:nvPr/>
          </p:nvSpPr>
          <p:spPr>
            <a:xfrm>
              <a:off x="7086600" y="-792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Straight Connector 67"/>
            <p:cNvSpPr/>
            <p:nvPr/>
          </p:nvSpPr>
          <p:spPr>
            <a:xfrm flipH="1">
              <a:off x="7238880" y="-792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Straight Connector 68"/>
            <p:cNvSpPr/>
            <p:nvPr/>
          </p:nvSpPr>
          <p:spPr>
            <a:xfrm>
              <a:off x="777240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Straight Connector 69"/>
            <p:cNvSpPr/>
            <p:nvPr/>
          </p:nvSpPr>
          <p:spPr>
            <a:xfrm>
              <a:off x="70858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Straight Connector 70"/>
            <p:cNvSpPr/>
            <p:nvPr/>
          </p:nvSpPr>
          <p:spPr>
            <a:xfrm flipH="1">
              <a:off x="6933960" y="-792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Straight Connector 71"/>
            <p:cNvSpPr/>
            <p:nvPr/>
          </p:nvSpPr>
          <p:spPr>
            <a:xfrm>
              <a:off x="7467480" y="-792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Straight Connector 72"/>
            <p:cNvSpPr/>
            <p:nvPr/>
          </p:nvSpPr>
          <p:spPr>
            <a:xfrm>
              <a:off x="807660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Straight Connector 73"/>
            <p:cNvSpPr/>
            <p:nvPr/>
          </p:nvSpPr>
          <p:spPr>
            <a:xfrm>
              <a:off x="76953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Straight Connector 74"/>
            <p:cNvSpPr/>
            <p:nvPr/>
          </p:nvSpPr>
          <p:spPr>
            <a:xfrm>
              <a:off x="79239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Straight Connector 75"/>
            <p:cNvSpPr/>
            <p:nvPr/>
          </p:nvSpPr>
          <p:spPr>
            <a:xfrm>
              <a:off x="86097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Straight Connector 76"/>
            <p:cNvSpPr/>
            <p:nvPr/>
          </p:nvSpPr>
          <p:spPr>
            <a:xfrm>
              <a:off x="830592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Straight Connector 77"/>
            <p:cNvSpPr/>
            <p:nvPr/>
          </p:nvSpPr>
          <p:spPr>
            <a:xfrm flipH="1">
              <a:off x="84582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Straight Connector 78"/>
            <p:cNvSpPr/>
            <p:nvPr/>
          </p:nvSpPr>
          <p:spPr>
            <a:xfrm>
              <a:off x="82288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Straight Connector 79"/>
            <p:cNvSpPr/>
            <p:nvPr/>
          </p:nvSpPr>
          <p:spPr>
            <a:xfrm flipH="1">
              <a:off x="8876880" y="-30240"/>
              <a:ext cx="190440" cy="484668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Straight Connector 80"/>
            <p:cNvSpPr/>
            <p:nvPr/>
          </p:nvSpPr>
          <p:spPr>
            <a:xfrm flipH="1">
              <a:off x="8077320" y="-7920"/>
              <a:ext cx="40320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Straight Connector 81"/>
            <p:cNvSpPr/>
            <p:nvPr/>
          </p:nvSpPr>
          <p:spPr>
            <a:xfrm>
              <a:off x="807660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Straight Connector 82"/>
            <p:cNvSpPr/>
            <p:nvPr/>
          </p:nvSpPr>
          <p:spPr>
            <a:xfrm flipH="1">
              <a:off x="8989920" y="-7920"/>
              <a:ext cx="28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Straight Connector 83"/>
            <p:cNvSpPr/>
            <p:nvPr/>
          </p:nvSpPr>
          <p:spPr>
            <a:xfrm flipH="1">
              <a:off x="5943240" y="-7920"/>
              <a:ext cx="7596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Straight Connector 84"/>
            <p:cNvSpPr/>
            <p:nvPr/>
          </p:nvSpPr>
          <p:spPr>
            <a:xfrm>
              <a:off x="6400080" y="-7920"/>
              <a:ext cx="1522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Straight Connector 85"/>
            <p:cNvSpPr/>
            <p:nvPr/>
          </p:nvSpPr>
          <p:spPr>
            <a:xfrm>
              <a:off x="6477120" y="-7920"/>
              <a:ext cx="380880" cy="482472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Straight Connector 86"/>
            <p:cNvSpPr/>
            <p:nvPr/>
          </p:nvSpPr>
          <p:spPr>
            <a:xfrm flipH="1">
              <a:off x="5410080" y="-7920"/>
              <a:ext cx="30456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Straight Connector 87"/>
            <p:cNvSpPr/>
            <p:nvPr/>
          </p:nvSpPr>
          <p:spPr>
            <a:xfrm>
              <a:off x="6400800" y="-792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Straight Connector 88"/>
            <p:cNvSpPr/>
            <p:nvPr/>
          </p:nvSpPr>
          <p:spPr>
            <a:xfrm flipH="1">
              <a:off x="701028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Straight Connector 89"/>
            <p:cNvSpPr/>
            <p:nvPr/>
          </p:nvSpPr>
          <p:spPr>
            <a:xfrm flipH="1">
              <a:off x="7162560" y="-7920"/>
              <a:ext cx="9903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Straight Connector 90"/>
            <p:cNvSpPr/>
            <p:nvPr/>
          </p:nvSpPr>
          <p:spPr>
            <a:xfrm>
              <a:off x="457200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6" name="Rectangle 91"/>
          <p:cNvSpPr/>
          <p:nvPr/>
        </p:nvSpPr>
        <p:spPr>
          <a:xfrm>
            <a:off x="0" y="4311720"/>
            <a:ext cx="9144000" cy="190476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Straight Connector 92"/>
          <p:cNvSpPr/>
          <p:nvPr/>
        </p:nvSpPr>
        <p:spPr>
          <a:xfrm>
            <a:off x="0" y="438768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Straight Connector 93"/>
          <p:cNvSpPr/>
          <p:nvPr/>
        </p:nvSpPr>
        <p:spPr>
          <a:xfrm>
            <a:off x="0" y="613872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1" marL="547560" indent="-18252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3" marL="1187280" indent="-228600" algn="r" rtl="1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4" marL="1461960" indent="-228600" algn="r" rtl="1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5" marL="146196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6" marL="146196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7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8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9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d364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ED02B-EB94-4DFB-8D32-8B8899E5AAD6}" type="slidenum">
              <a:rPr b="0" lang="en-US" sz="1200" spc="-1" strike="noStrike">
                <a:solidFill>
                  <a:srgbClr val="1d364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Straight Connector 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Straight Connector 9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Straight Connector 10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 algn="r" rtl="1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 algn="r" rtl="1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0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1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4D05B-B440-4729-9CFD-3B3794EF1F24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Straight Connector 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Straight Connector 9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Straight Connector 10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 algn="r" rtl="1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 algn="r" rtl="1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3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4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9A292-9C96-418A-B91E-C81E8C28C233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Rectangle 2" descr=""/>
          <p:cNvPicPr/>
          <p:nvPr/>
        </p:nvPicPr>
        <p:blipFill>
          <a:blip r:embed="rId1"/>
          <a:stretch/>
        </p:blipFill>
        <p:spPr>
          <a:xfrm>
            <a:off x="-304920" y="2127240"/>
            <a:ext cx="4956120" cy="201780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228240" y="373356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الجزء الثالث: الاتصال و التنمية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     التنمية هي الإنتاج                    تعبئة الموارد البشرية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1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24" name="Picture 2" descr=""/>
          <p:cNvPicPr/>
          <p:nvPr/>
        </p:nvPicPr>
        <p:blipFill>
          <a:blip r:embed="rId1"/>
          <a:stretch/>
        </p:blipFill>
        <p:spPr>
          <a:xfrm>
            <a:off x="4016520" y="3144960"/>
            <a:ext cx="1622160" cy="969840"/>
          </a:xfrm>
          <a:prstGeom prst="rect">
            <a:avLst/>
          </a:prstGeom>
          <a:ln w="0">
            <a:noFill/>
          </a:ln>
        </p:spPr>
      </p:pic>
      <p:sp>
        <p:nvSpPr>
          <p:cNvPr id="425" name="TextBox 4"/>
          <p:cNvSpPr/>
          <p:nvPr/>
        </p:nvSpPr>
        <p:spPr>
          <a:xfrm>
            <a:off x="4343400" y="25909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دور الإعلا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533520" y="15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أولاً: 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961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      قام اليونسكو بعمل دراسة بين العلاقة الارتباطية بين متغيرات التنمية و وسائل الاتصال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ثانياً: 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962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     قام الأمم المتحدة بعمل تقرير عن التنمية والإعلام، وضعت فيه معيار لوسائل الاتصال  في الدول النامية، وهو :  لكل 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00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 فرد :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0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 صحف ، 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5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 أجهزة راديو ، تلفزيونين، و مقعدين في السينما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ثالثاً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964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: قام شرام بتأليف كتاب (وسائل الاتصال والتنمية القومية) وركز فيه على الاتصال في القرية، ووضع الاتصال في الدول النامية، ومهام الاتصال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رابعاً :تتالت المؤلفات و من أهمها : دراسة ليرنر وباي ، الذي أشار إلى : تحول المجتمعات التقليدية، نظم الاتصال ،التقمص الوجداني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Title 1" descr=""/>
          <p:cNvPicPr/>
          <p:nvPr/>
        </p:nvPicPr>
        <p:blipFill>
          <a:blip r:embed="rId1"/>
          <a:stretch/>
        </p:blipFill>
        <p:spPr>
          <a:xfrm>
            <a:off x="536400" y="122400"/>
            <a:ext cx="8474400" cy="184608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</a:t>
            </a: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إن الأفكار التي سادت كانت متأثرة بنظريات التنمية الاقتصادية التي سادت .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2</a:t>
            </a: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ان المفهوم استهدف الحفاظ على العلاقات الدولية لصالح البلدان الأقوى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3</a:t>
            </a: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أن تشجيع الدوافع و الرغبات المادية نتج عنها ثورة الآمال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4</a:t>
            </a: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إهمال الباحثين للوسائل التقليدية قلص الجمهور.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5</a:t>
            </a: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تدني ثقة الجماهير في وسائل الاتصال الجماهيرية.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6</a:t>
            </a: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وجود نظامين للاتصال داخل المجتمع  مما قسم المجتمع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7</a:t>
            </a: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التركيز على وسائل الإعلام أدى إلى إهمال الجمهور و القائم بالاتصال ، مما أدى إلى أن الاتصال يسير في اتجاه واحد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8</a:t>
            </a: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تم تجاهل النظام الاجتماعي و البيئة الاتصالية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9</a:t>
            </a: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الاستخدام الخاطئ لوسائل الاتصال قلل من إمكانياتها :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  أ.افتقاد الصلة بين المضمون و التنمية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  ب.افتقاد الصلة بين التراث والثقافة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00000"/>
              </a:lnSpc>
              <a:spcBef>
                <a:spcPts val="11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3</a:t>
            </a: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مرحلة التوازن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السبعينات                    حتى الآن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34" name="Right Arrow 2"/>
          <p:cNvSpPr/>
          <p:nvPr/>
        </p:nvSpPr>
        <p:spPr>
          <a:xfrm rot="10800000">
            <a:off x="5333760" y="3352320"/>
            <a:ext cx="1447560" cy="6858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759aa5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المحور الذي تم التوازن في النظر إليه :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buClr>
                <a:srgbClr val="acc2c9"/>
              </a:buClr>
              <a:buFont typeface="Arabic Typesetti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التوازن بين وسائل الإعلام الجماهيرية و وسائل الاتصال التقليدية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buClr>
                <a:srgbClr val="acc2c9"/>
              </a:buClr>
              <a:buFont typeface="Arabic Typesetti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دور وسائل الإعلام و ظروف تأثيره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buClr>
                <a:srgbClr val="acc2c9"/>
              </a:buClr>
              <a:buFont typeface="Arabic Typesetti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وظائف وطبيعة وسائل الإعلام بين المجتمعات النامية و المجتمعات المتقدمة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ما هي الاختلافات بين وسائل الإعلام في المجتمعات النامية و المجتمعات المتقدمة؟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</a:t>
            </a: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محدودية الجمهور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2</a:t>
            </a: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الاختلاف في معدل الإقبال بين الحضر والريف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3</a:t>
            </a: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الاعتماد على وسائل الاتصال الإلكترونية بشكل أكبر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4</a:t>
            </a: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اختلاف جاذبية المضمون المناسب للريف والحضر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00000"/>
              </a:lnSpc>
              <a:spcBef>
                <a:spcPts val="11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الاتصال الشخصي وأثره في التنمية: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100000"/>
              </a:lnSpc>
              <a:spcBef>
                <a:spcPts val="11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100000"/>
              </a:lnSpc>
              <a:spcBef>
                <a:spcPts val="11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41" name="Picture 2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لماذا يعد الإتصال الشخصي مهماً في عملية التنمية؟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شرام: التغيير لا يتم إلا بالإقناع والمناقشة والمشاركة في اتخاذ القرار عبر رسالة يمكن قراءة رجع الصدى فيها .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2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دور قادة الرأي في عملية تبني الآراء والأفكار.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3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قدرة وسائل الإعلام هي تغيير المفاهيم ، وقدرة وسائل الاتصال الشخصي هي في تغيير السلوك.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أجريت العديد من الدراسات التي أظهرت مميزات للاتصال الشخصي هي: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</a:t>
            </a: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تصاغ الإتجاهات على الأغلب عبر الاتصال الشخصي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2</a:t>
            </a: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جماعات الاتصال الشخصي هي التي تقوم بتصفية المضمون و تعديل الرسالة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3</a:t>
            </a: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أكثر مرونة في تعديل الرسالة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4</a:t>
            </a: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أكثر استمرارية و تكراراً دون الالتزام بوقت محدد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5</a:t>
            </a: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 يتيح الاتصال الشخصي متابعة أثر الرسالة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dfe6d0"/>
                </a:solidFill>
                <a:latin typeface="Tw Cen MT"/>
                <a:cs typeface="AL-Mohanad Bold"/>
              </a:rPr>
              <a:t>ما هو الاتصال؟</a:t>
            </a:r>
            <a:endParaRPr b="0" lang="en-US" sz="4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Tw Cen MT"/>
                <a:cs typeface="AL-Mohanad Bold"/>
              </a:rPr>
              <a:t>هو عملية تبادل الأفكار و المعلومات، التي تتضمن 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Tw Cen MT"/>
                <a:cs typeface="AL-Mohanad Bold"/>
              </a:rPr>
              <a:t>الكلمات و الصور و الرموز المختلفة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dfe6d0"/>
                </a:solidFill>
                <a:uFillTx/>
                <a:latin typeface="Tw Cen MT"/>
                <a:cs typeface="AL-Mohanad Bold"/>
              </a:rPr>
              <a:t>عناصر الاتصال: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dfe6d0"/>
                </a:solidFill>
                <a:uFillTx/>
                <a:latin typeface="Tw Cen MT"/>
                <a:cs typeface="AL-Mohanad Bold"/>
              </a:rPr>
              <a:t>مرسل،مستقبل ، رسالة ، وسيلة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394" name="Picture 4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2886120" cy="28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6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الإتصال الشخصي التلقائي هو الأكثر انتشاراً من حيث شموله لجميع أفراد المجتمع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53440" indent="-25344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7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إن الإنسان أكثر تمحيصاً للرسائل من السلطة،و أكثر استجابة للاتصال الشخصي لمشاركته فيه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53440" indent="-25344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8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في الاتصال الشخصي هناك تبادل للأدوار بين المستقبل والمرسل مما يجعل العملية الاتصالية أكثر تأثيراً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53440" indent="-25344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9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الدعوات الكبرى بدأت بالاتصال الشخصي ثم استخدمت وسائل الاتصال الجماهيري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53440" indent="-25344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396" name="TextBox 4"/>
          <p:cNvSpPr/>
          <p:nvPr/>
        </p:nvSpPr>
        <p:spPr>
          <a:xfrm>
            <a:off x="6461280" y="24541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Box 3"/>
          <p:cNvSpPr/>
          <p:nvPr/>
        </p:nvSpPr>
        <p:spPr>
          <a:xfrm>
            <a:off x="6705720" y="2822400"/>
            <a:ext cx="1828800" cy="368280"/>
          </a:xfrm>
          <a:prstGeom prst="rect">
            <a:avLst/>
          </a:prstGeom>
          <a:solidFill>
            <a:srgbClr val="b7d3df"/>
          </a:solidFill>
          <a:ln cap="rnd" w="648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مرس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Box 5"/>
          <p:cNvSpPr/>
          <p:nvPr/>
        </p:nvSpPr>
        <p:spPr>
          <a:xfrm>
            <a:off x="1371600" y="2781360"/>
            <a:ext cx="1676520" cy="368280"/>
          </a:xfrm>
          <a:prstGeom prst="rect">
            <a:avLst/>
          </a:prstGeom>
          <a:solidFill>
            <a:srgbClr val="b7d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مستقب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Box 6"/>
          <p:cNvSpPr/>
          <p:nvPr/>
        </p:nvSpPr>
        <p:spPr>
          <a:xfrm>
            <a:off x="3962520" y="2851200"/>
            <a:ext cx="1828800" cy="368280"/>
          </a:xfrm>
          <a:prstGeom prst="rect">
            <a:avLst/>
          </a:prstGeom>
          <a:solidFill>
            <a:srgbClr val="b7d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رسال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Box 7"/>
          <p:cNvSpPr/>
          <p:nvPr/>
        </p:nvSpPr>
        <p:spPr>
          <a:xfrm>
            <a:off x="3733920" y="4146480"/>
            <a:ext cx="2286000" cy="520200"/>
          </a:xfrm>
          <a:prstGeom prst="ellipse">
            <a:avLst/>
          </a:prstGeom>
          <a:solidFill>
            <a:srgbClr val="b7d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وسيل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01" name="Curved Connector 14"/>
          <p:cNvCxnSpPr/>
          <p:nvPr/>
        </p:nvCxnSpPr>
        <p:spPr>
          <a:xfrm flipV="1">
            <a:off x="2117880" y="2086920"/>
            <a:ext cx="1235520" cy="464040"/>
          </a:xfrm>
          <a:prstGeom prst="curvedConnector5">
            <a:avLst>
              <a:gd name="adj1" fmla="val 49985"/>
              <a:gd name="adj2" fmla="val 50000"/>
              <a:gd name="adj3" fmla="val 49985"/>
            </a:avLst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402" name="TextBox 27"/>
          <p:cNvSpPr/>
          <p:nvPr/>
        </p:nvSpPr>
        <p:spPr>
          <a:xfrm>
            <a:off x="3848040" y="1728720"/>
            <a:ext cx="2057400" cy="735840"/>
          </a:xfrm>
          <a:prstGeom prst="rightArrow">
            <a:avLst>
              <a:gd name="adj1" fmla="val 50000"/>
              <a:gd name="adj2" fmla="val 49939"/>
            </a:avLst>
          </a:prstGeom>
          <a:solidFill>
            <a:srgbClr val="b7d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رجع الصد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03" name="Curved Connector 29"/>
          <p:cNvCxnSpPr/>
          <p:nvPr/>
        </p:nvCxnSpPr>
        <p:spPr>
          <a:xfrm>
            <a:off x="6460920" y="2087640"/>
            <a:ext cx="1159560" cy="367200"/>
          </a:xfrm>
          <a:prstGeom prst="curvedConnector5">
            <a:avLst>
              <a:gd name="adj1" fmla="val 68416"/>
              <a:gd name="adj2" fmla="val 49950"/>
              <a:gd name="adj3" fmla="val 68416"/>
            </a:avLst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404" name="Straight Arrow Connector 33"/>
          <p:cNvCxnSpPr/>
          <p:nvPr/>
        </p:nvCxnSpPr>
        <p:spPr>
          <a:xfrm>
            <a:off x="4876560" y="3330360"/>
            <a:ext cx="1080" cy="533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cs typeface="Arabic Typesetting"/>
              </a:rPr>
              <a:t>مستويات الاتصال: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buClr>
                <a:srgbClr val="acc2c9"/>
              </a:buClr>
              <a:buFont typeface="Arabic Typesetti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cs typeface="Arabic Typesetting"/>
              </a:rPr>
              <a:t>الاتصال الذاتي: هو الاتصال الذي يحدث بين الفرد و نفسه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2</a:t>
            </a: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.الإتصال بين الأشخاص: هو الاتصال الذي يحدث بين شخصين فأكثر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3</a:t>
            </a: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.الإتصال الجماهيري : هو الاتصال الذي يحدث بين مرسل ومستقبل عبر وسيلة جماهيرية (وسائل الإعلام)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dfe6d0"/>
                </a:solidFill>
                <a:uFillTx/>
                <a:latin typeface="Arabic Typesetting"/>
                <a:cs typeface="Arabic Typesetting"/>
              </a:rPr>
              <a:t>أنواع وسائل الاتصال الجماهيرية: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61720" indent="-26172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1</a:t>
            </a:r>
            <a:r>
              <a:rPr b="0" lang="ar-SA" sz="32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.الوسائل المقروءة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61720" indent="-26172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61720" indent="-26172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2</a:t>
            </a:r>
            <a:r>
              <a:rPr b="0" lang="ar-SA" sz="32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.الوسائل المسموعة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61720" indent="-26172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61720" indent="-26172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3</a:t>
            </a:r>
            <a:r>
              <a:rPr b="0" lang="ar-SA" sz="32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.الوسائل المرئية /المسموعة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61720" indent="-26172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61720" indent="-26172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4</a:t>
            </a:r>
            <a:r>
              <a:rPr b="0" lang="ar-SA" sz="32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.الوسائل التفاعلية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609480" y="2994120"/>
            <a:ext cx="40132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00000"/>
              </a:lnSpc>
              <a:spcBef>
                <a:spcPts val="9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cs typeface="Arabic Typesetting"/>
              </a:rPr>
              <a:t>أنواع الاتصال: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100000"/>
              </a:lnSpc>
              <a:spcBef>
                <a:spcPts val="9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1</a:t>
            </a: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.اتصال لفظي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100000"/>
              </a:lnSpc>
              <a:spcBef>
                <a:spcPts val="9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100000"/>
              </a:lnSpc>
              <a:spcBef>
                <a:spcPts val="9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2</a:t>
            </a: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.اتصال غير لفظي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12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4694400" cy="28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 أهمية الاتصال و الإعلام في العملية التنموية :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</a:t>
            </a: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تعبئة الجماهير وتغييرهم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2</a:t>
            </a: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تعريف الجماهير بالخطط التنموية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15" name="Picture 2" descr="C:\Users\LoLo\Downloads\index.jpg"/>
          <p:cNvPicPr/>
          <p:nvPr/>
        </p:nvPicPr>
        <p:blipFill>
          <a:blip r:embed="rId1"/>
          <a:stretch/>
        </p:blipFill>
        <p:spPr>
          <a:xfrm>
            <a:off x="762120" y="2743200"/>
            <a:ext cx="35449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Rectangle 2" descr=""/>
          <p:cNvPicPr/>
          <p:nvPr/>
        </p:nvPicPr>
        <p:blipFill>
          <a:blip r:embed="rId1"/>
          <a:stretch/>
        </p:blipFill>
        <p:spPr>
          <a:xfrm>
            <a:off x="536400" y="274680"/>
            <a:ext cx="8442360" cy="140184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</a:t>
            </a: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مرحلة الاهتمام: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ما بعد الحرب العالمية الثانية                الخمسينيات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18" name="Right Arrow 3"/>
          <p:cNvSpPr/>
          <p:nvPr/>
        </p:nvSpPr>
        <p:spPr>
          <a:xfrm rot="10800000">
            <a:off x="3809880" y="3200040"/>
            <a:ext cx="1371600" cy="685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59aa5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2</a:t>
            </a: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مرحلة المبالغة: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أوائل الستينيات                      السبعينيات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 (</a:t>
            </a: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961</a:t>
            </a: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) 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21" name="Right Arrow 2"/>
          <p:cNvSpPr/>
          <p:nvPr/>
        </p:nvSpPr>
        <p:spPr>
          <a:xfrm rot="10800000">
            <a:off x="4647960" y="3200400"/>
            <a:ext cx="1600200" cy="83808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759aa5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9T20:48:48Z</dcterms:created>
  <dc:creator>Eyad</dc:creator>
  <dc:description/>
  <dc:language>en-US</dc:language>
  <cp:lastModifiedBy>LoLo</cp:lastModifiedBy>
  <dcterms:modified xsi:type="dcterms:W3CDTF">2012-02-27T10:30:56Z</dcterms:modified>
  <cp:revision>32</cp:revision>
  <dc:subject/>
  <dc:title>Slide 1</dc:title>
</cp:coreProperties>
</file>