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7FB8-2B74-46C3-858B-174570B2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B25B-A557-4CF0-ADD8-B46151268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2AE0-3E56-4465-B4C0-99B46E26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4334-125B-4F8A-BF50-9FF29EDB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A32F-A271-4521-858B-BBEDE488C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C8A9-DE76-42E7-A36E-183CD2D19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ECA1-8FD5-4B54-9CEA-CE53EA45F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4BB8-B1D5-4F68-81C1-7D1BFE838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C32AF-1A65-46E9-9222-B3F219DD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1F6A-2661-48DD-B296-BFBE4E01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F718-703A-4293-BB12-C28CC15D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692-4049-4411-8DAE-4681FC56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4AF7B-AA87-458B-A781-02253ABE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9EB8-644C-4AD4-A3F1-5A1D50CE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FC88-56BC-4797-A67B-A9B53E1D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4C24-4FBF-4989-94D1-96FEEEAB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D5C8-870E-4E83-A74C-92488B76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7E91F-BC48-4787-89F1-7E077E753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A174E-0CBD-4AF5-8FD1-791D4E82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C92FA-A87E-4790-B9A1-C1515050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1835F-D126-4EF0-839F-36D9889D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64AD6-2DE9-47C8-863C-8266DD8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F835-1320-4819-9502-1E6AE9F05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379C-762B-4AC1-9E29-0A5BA68DE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8EA18-9946-4321-BC02-7A18B713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16084-9BCA-4E69-86F3-12B573A4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7420F-82FA-4CF4-ACA3-111D7D6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66D6-E475-4112-8DA9-AEA437A4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893D2-D2E3-401E-8D69-3283982AD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02BAC-37A2-497B-9DE5-A5A8F44DB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A8BB7-F4E8-4C29-8312-CE775F0D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E866C-8DFD-4B88-B944-7473C897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C23F4-CF75-44E1-ABFF-B208D787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A7E-C05F-4A49-B367-82B9E60E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EE7B-CCE5-4282-8574-32D370D66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BAD21-5F26-41BE-AC3B-E92EE110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94A26-6450-4059-A28E-8CC57409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A852F-4CAB-45AB-948C-EDA3EA45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DABB-240A-4FED-9F4D-6F84B48E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8000-98BC-4B0B-AC7C-2BD022E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1A05B-EB6E-43DE-808F-1461F041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FB982-E9D5-4D42-9FED-4BE1A83B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5E7A5-B3C6-4680-8506-C10273CDA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E0952-FD36-4209-8A5B-CF54C04E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93A-CA0D-44E7-A49B-D0651D805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4AD89-DD25-452B-A0B5-93222246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0FED4-866B-4B3B-A742-A271ECF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7AB75-96DB-4C51-B3AA-C19EB82A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0674-BDCA-4F50-B9BD-338DEE00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13492-966A-4A7B-8006-4BDDE6B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8B6F1-1F45-475B-9E8D-67E64435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7E8D5-60EC-4A6F-A56B-AFBF536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BA200-7A09-49E9-A7CC-7E439E5A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2AA95-82BF-47EE-A4CA-FA70F382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96028-2695-49E4-8C36-8CFFAAFD7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AD4B-BEED-498D-86BC-41B5BDE12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47A76-7442-4C66-AA5B-E15DB9AE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A852-8207-4F27-9901-CB08D89D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AEE0-947E-486D-814E-E7D1950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6D5-EA31-4074-B77E-3E8CF4C4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260F-DDB5-4CC2-9AA9-A9DC4D60BD36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040" cy="6890040"/>
            <a:chOff x="-720" y="-30240"/>
            <a:chExt cx="9068040" cy="689004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6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6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492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620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9040" y="0"/>
              <a:ext cx="1412640" cy="685800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312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6720" y="0"/>
              <a:ext cx="40320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040" y="1440"/>
              <a:ext cx="288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00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00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00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440" cy="688824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7320" y="0"/>
              <a:ext cx="40320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62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89920" y="1440"/>
              <a:ext cx="2880" cy="685800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0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00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00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00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00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00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980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060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0600" y="2058840"/>
              <a:ext cx="1440" cy="281808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A796-514C-439E-B7FE-D82C7EF616E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040" cy="4847040"/>
            <a:chOff x="-720" y="-30240"/>
            <a:chExt cx="906804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792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880"/>
              <a:ext cx="457200" cy="481356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6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792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63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792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620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792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792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9040" y="-7920"/>
              <a:ext cx="141264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7920"/>
              <a:ext cx="30312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792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6720" y="-7920"/>
              <a:ext cx="40320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792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792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792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748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792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792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792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792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440" cy="484668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7320" y="-7920"/>
              <a:ext cx="403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7920"/>
              <a:ext cx="206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89920" y="-7920"/>
              <a:ext cx="28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792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792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792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792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792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792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792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792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9FE4-0EF0-48F4-9DA7-598BC21FE749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68E2-0473-434C-B92F-4A35F8AED852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 algn="r" rtl="1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 algn="r" rtl="1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 algn="r" rtl="1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 algn="r" rtl="1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 algn="r" rtl="1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4BE-12B1-46C8-89DE-AC2BC4609551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Rectangle 2" descr=""/>
          <p:cNvPicPr/>
          <p:nvPr/>
        </p:nvPicPr>
        <p:blipFill>
          <a:blip r:embed="rId1"/>
          <a:stretch/>
        </p:blipFill>
        <p:spPr>
          <a:xfrm>
            <a:off x="-304920" y="2127240"/>
            <a:ext cx="4956120" cy="20178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abic Typesetting"/>
                <a:cs typeface="Arabic Typesetting"/>
              </a:rPr>
              <a:t>الجزء الثالث: الاتصال و التنم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التنمية هي الإنتاج                    تعبئة الموارد البشر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4016520" y="3144960"/>
            <a:ext cx="162216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TextBox 4"/>
          <p:cNvSpPr/>
          <p:nvPr/>
        </p:nvSpPr>
        <p:spPr>
          <a:xfrm>
            <a:off x="4343400" y="25909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دور الإعلا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5335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ل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 قام اليونسكو بعمل دراسة بين العلاقة الارتباطية بين متغيرات التنمية و وسائل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نياً: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   قام الأمم المتحدة بعمل تقرير عن التنمية والإعلام، وضعت فيه معيار لوسائل الاتصال  في الدول النامية، وهو :  لكل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فرد 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0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صحف ، 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جهزة راديو ، تلفزيونين، و مقعدين في السينما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ثالثاً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4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: قام شرام بتأليف كتاب (وسائل الاتصال والتنمية القومية) وركز فيه على الاتصال في القرية، ووضع الاتصال في الدول النامية، ومهام الاتصال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رابعاً :تتالت المؤلفات و من أهمها : دراسة ليرنر وباي ، الذي أشار إلى : تحول المجتمعات التقليدية، نظم الاتصال ،التقمص الوجدان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536400" y="122400"/>
            <a:ext cx="8474400" cy="184608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أفكار التي سادت كانت متأثرة بنظريات التنمية الاقتصادية التي سادت 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ن المفهوم استهدف الحفاظ على العلاقات الدولية لصالح البلدان الأقوى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ن تشجيع الدوافع و الرغبات المادية نتج عنها ثورة الآمال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همال الباحثين للوسائل التقليدية قلص الجمهور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دني ثقة الجماهير في وسائل الاتصال الجماهيرية.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وجود نظامين للاتصال داخل المجتمع  مما قسم المجتمع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تركيز على وسائل الإعلام أدى إلى إهمال الجمهور و القائم بالاتصال ، مما أدى إلى أن الاتصال يسير في اتجاه واحد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م تجاهل النظام الاجتماعي و البيئة الاتصال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ستخدام الخاطئ لوسائل الاتصال قلل من إمكانياتها :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أ.افتقاد الصلة بين المضمون و التنمي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 ب.افتقاد الصلة بين التراث والثقافة</a:t>
            </a:r>
            <a:endParaRPr b="0" lang="en-US" sz="40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تواز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سبعينات                    حتى الآن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34" name="Right Arrow 2"/>
          <p:cNvSpPr/>
          <p:nvPr/>
        </p:nvSpPr>
        <p:spPr>
          <a:xfrm rot="10800000">
            <a:off x="5333760" y="3352320"/>
            <a:ext cx="1447560" cy="6858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محور الذي تم التوازن في النظر إليه 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توازن بين وسائل الإعلام الجماهيرية و وسائل الاتصال التقليدي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دور وسائل الإعلام و ظروف تأثير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وظائف وطبيعة وسائل الإعلام بين المجتمعات النامية و المجتمعات المتقدم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هي الاختلافات بين وسائل الإعلام في المجتمعات النامية و المجتمعات المتقدمة؟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حدودية الجمهو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ختلاف في معدل الإقبال بين الحضر والريف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اعتماد على وسائل الاتصال الإلكترونية بشكل أكب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ختلاف جاذبية المضمون المناسب للريف والحض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الاتصال الشخصي وأثره في التنمي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لماذا يعد الإتصال الشخصي مهماً في عملية التنمية؟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شرام: التغيير لا يتم إلا بالإقناع والمناقشة والمشاركة في اتخاذ القرار عبر رسالة يمكن قراءة رجع الصدى فيها 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دور قادة الرأي في عملية تبني الآراء والأفكار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قدرة وسائل الإعلام هي تغيير المفاهيم ، وقدرة وسائل الاتصال الشخصي هي في تغيير السلوك.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جريت العديد من الدراسات التي أظهرت مميزات للاتصال الشخصي هي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صاغ الإتجاهات على الأغلب عبر الاتصال الشخص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جماعات الاتصال الشخصي هي التي تقوم بتصفية المضمون و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3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مرونة في تعديل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4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أكثر استمرارية و تكراراً دون الالتزام بوقت محدد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5</a:t>
            </a:r>
            <a:r>
              <a:rPr b="0" lang="ar-SA" sz="36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 يتيح الاتصال الشخصي متابعة أثر الرسالة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dfe6d0"/>
                </a:solidFill>
                <a:latin typeface="Tw Cen MT"/>
                <a:cs typeface="AL-Mohanad Bold"/>
              </a:rPr>
              <a:t>ما هو الاتصال؟</a:t>
            </a:r>
            <a:endParaRPr b="0" lang="en-US" sz="48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هو عملية تبادل الأفكار و المعلومات، التي تتضمن 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Tw Cen MT"/>
                <a:cs typeface="AL-Mohanad Bold"/>
              </a:rPr>
              <a:t>الكلمات و الصور و الرموز المختلف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عناصر الاتصال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Tw Cen MT"/>
                <a:cs typeface="AL-Mohanad Bold"/>
              </a:rPr>
              <a:t>مرسل،مستقبل ، رسالة ، وسيل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4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886120" cy="28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6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إتصال الشخصي التلقائي هو الأكثر انتشاراً من حيث شموله لجميع أفراد المجتمع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7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إن الإنسان أكثر تمحيصاً للرسائل من السلطة،و أكثر استجابة للاتصال الشخصي لمشاركته فيه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8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في الاتصال الشخصي هناك تبادل للأدوار بين المستقبل والمرسل مما يجعل العملية الاتصالية أكثر تأثيراً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9</a:t>
            </a:r>
            <a:r>
              <a:rPr b="0" lang="ar-SA" sz="32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الدعوات الكبرى بدأت بالاتصال الشخصي ثم استخدمت وسائل الاتصال الجماهيري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53440" indent="-25344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396" name="TextBox 4"/>
          <p:cNvSpPr/>
          <p:nvPr/>
        </p:nvSpPr>
        <p:spPr>
          <a:xfrm>
            <a:off x="6461280" y="24541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Box 3"/>
          <p:cNvSpPr/>
          <p:nvPr/>
        </p:nvSpPr>
        <p:spPr>
          <a:xfrm>
            <a:off x="6705720" y="2822400"/>
            <a:ext cx="1828800" cy="368280"/>
          </a:xfrm>
          <a:prstGeom prst="rect">
            <a:avLst/>
          </a:prstGeom>
          <a:solidFill>
            <a:srgbClr val="b7d3df"/>
          </a:solidFill>
          <a:ln cap="rnd" w="64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رس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5"/>
          <p:cNvSpPr/>
          <p:nvPr/>
        </p:nvSpPr>
        <p:spPr>
          <a:xfrm>
            <a:off x="1371600" y="2781360"/>
            <a:ext cx="167652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مستقب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6"/>
          <p:cNvSpPr/>
          <p:nvPr/>
        </p:nvSpPr>
        <p:spPr>
          <a:xfrm>
            <a:off x="3962520" y="2851200"/>
            <a:ext cx="1828800" cy="368280"/>
          </a:xfrm>
          <a:prstGeom prst="rect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رسا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"/>
          <p:cNvSpPr/>
          <p:nvPr/>
        </p:nvSpPr>
        <p:spPr>
          <a:xfrm>
            <a:off x="3733920" y="4146480"/>
            <a:ext cx="2286000" cy="520200"/>
          </a:xfrm>
          <a:prstGeom prst="ellipse">
            <a:avLst/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وسيل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1" name="Curved Connector 14"/>
          <p:cNvCxnSpPr/>
          <p:nvPr/>
        </p:nvCxnSpPr>
        <p:spPr>
          <a:xfrm flipV="1">
            <a:off x="2117880" y="2086920"/>
            <a:ext cx="1235520" cy="464040"/>
          </a:xfrm>
          <a:prstGeom prst="curvedConnector5">
            <a:avLst>
              <a:gd name="adj1" fmla="val 49985"/>
              <a:gd name="adj2" fmla="val 50000"/>
              <a:gd name="adj3" fmla="val 49985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02" name="TextBox 27"/>
          <p:cNvSpPr/>
          <p:nvPr/>
        </p:nvSpPr>
        <p:spPr>
          <a:xfrm>
            <a:off x="3848040" y="1728720"/>
            <a:ext cx="2057400" cy="735840"/>
          </a:xfrm>
          <a:prstGeom prst="rightArrow">
            <a:avLst>
              <a:gd name="adj1" fmla="val 50000"/>
              <a:gd name="adj2" fmla="val 49939"/>
            </a:avLst>
          </a:prstGeom>
          <a:solidFill>
            <a:srgbClr val="b7d3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رجع الصد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03" name="Curved Connector 29"/>
          <p:cNvCxnSpPr/>
          <p:nvPr/>
        </p:nvCxnSpPr>
        <p:spPr>
          <a:xfrm>
            <a:off x="6460920" y="2087640"/>
            <a:ext cx="1159560" cy="367200"/>
          </a:xfrm>
          <a:prstGeom prst="curvedConnector5">
            <a:avLst>
              <a:gd name="adj1" fmla="val 68416"/>
              <a:gd name="adj2" fmla="val 49950"/>
              <a:gd name="adj3" fmla="val 68416"/>
            </a:avLst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404" name="Straight Arrow Connector 33"/>
          <p:cNvCxnSpPr/>
          <p:nvPr/>
        </p:nvCxnSpPr>
        <p:spPr>
          <a:xfrm>
            <a:off x="4876560" y="3330360"/>
            <a:ext cx="10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مستويات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abic Typeset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الاتصال الذاتي: هو الاتصال الذي يحدث بين الفرد و نفسه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بين الأشخاص: هو الاتصال الذي يحدث بين شخصين فأكثر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إتصال الجماهيري : هو الاتصال الذي يحدث بين مرسل ومستقبل عبر وسيلة جماهيرية (وسائل الإعلام)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وسائل الاتصال الجماهيرية: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قروء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3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مرئية /المسموع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  <a:p>
            <a:pPr marL="261720" indent="-261720" algn="r" rtl="1">
              <a:lnSpc>
                <a:spcPct val="100000"/>
              </a:lnSpc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4</a:t>
            </a:r>
            <a:r>
              <a:rPr b="0" lang="ar-SA" sz="32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لوسائل التفاعلية</a:t>
            </a:r>
            <a:endParaRPr b="0" lang="en-US" sz="32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609480" y="2994120"/>
            <a:ext cx="40132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cs typeface="Arabic Typesetting"/>
              </a:rPr>
              <a:t>أنواع الاتصال: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1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2</a:t>
            </a:r>
            <a:r>
              <a:rPr b="0" lang="ar-SA" sz="3600" spc="-1" strike="noStrike" u="sng">
                <a:solidFill>
                  <a:srgbClr val="dfe6d0"/>
                </a:solidFill>
                <a:uFillTx/>
                <a:latin typeface="Arabic Typesetting"/>
                <a:ea typeface="Arabic Typesetting"/>
              </a:rPr>
              <a:t>.اتصال غير لفظي</a:t>
            </a:r>
            <a:endParaRPr b="0" lang="en-US" sz="36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4694400" cy="28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أهمية الاتصال و الإعلام في العملية التنموية 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بئة الجماهير وتغييرهم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تعريف الجماهير بالخطط التنموية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15" name="Picture 2" descr="C:\Users\LoLo\Downloads\index.jpg"/>
          <p:cNvPicPr/>
          <p:nvPr/>
        </p:nvPicPr>
        <p:blipFill>
          <a:blip r:embed="rId1"/>
          <a:stretch/>
        </p:blipFill>
        <p:spPr>
          <a:xfrm>
            <a:off x="762120" y="2743200"/>
            <a:ext cx="35449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Rectangle 2" descr=""/>
          <p:cNvPicPr/>
          <p:nvPr/>
        </p:nvPicPr>
        <p:blipFill>
          <a:blip r:embed="rId1"/>
          <a:stretch/>
        </p:blipFill>
        <p:spPr>
          <a:xfrm>
            <a:off x="536400" y="274680"/>
            <a:ext cx="8442360" cy="14018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اهتمام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marL="272880" indent="-272880"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ما بعد الحرب العالمية الثانية                الخمس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8" name="Right Arrow 3"/>
          <p:cNvSpPr/>
          <p:nvPr/>
        </p:nvSpPr>
        <p:spPr>
          <a:xfrm rot="10800000">
            <a:off x="3809880" y="3200040"/>
            <a:ext cx="1371600" cy="685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ar-SA" sz="3600" spc="-1" strike="noStrike">
              <a:solidFill>
                <a:srgbClr val="fefefe"/>
              </a:solidFill>
              <a:latin typeface="Tw Cen MT"/>
              <a:ea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2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.مرحلة المبالغة: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cs typeface="Arabic Typesetting"/>
              </a:rPr>
              <a:t>أوائل الستينيات                      السبعينيات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  <a:p>
            <a:pPr algn="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 (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1961</a:t>
            </a:r>
            <a:r>
              <a:rPr b="0" lang="ar-SA" sz="4400" spc="-1" strike="noStrike">
                <a:solidFill>
                  <a:srgbClr val="dfe6d0"/>
                </a:solidFill>
                <a:latin typeface="Arabic Typesetting"/>
                <a:ea typeface="Arabic Typesetting"/>
              </a:rPr>
              <a:t>) </a:t>
            </a:r>
            <a:endParaRPr b="0" lang="en-US" sz="4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21" name="Right Arrow 2"/>
          <p:cNvSpPr/>
          <p:nvPr/>
        </p:nvSpPr>
        <p:spPr>
          <a:xfrm rot="10800000">
            <a:off x="4647960" y="3200400"/>
            <a:ext cx="1600200" cy="8380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759aa5"/>
          </a:solidFill>
          <a:ln w="15840">
            <a:solidFill>
              <a:srgbClr val="5470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20:48:48Z</dcterms:created>
  <dc:creator>Eyad</dc:creator>
  <dc:description/>
  <dc:language>en-US</dc:language>
  <cp:lastModifiedBy>LoLo</cp:lastModifiedBy>
  <dcterms:modified xsi:type="dcterms:W3CDTF">2012-02-27T10:30:56Z</dcterms:modified>
  <cp:revision>32</cp:revision>
  <dc:subject/>
  <dc:title>Slide 1</dc:title>
</cp:coreProperties>
</file>