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BFF-EB03-4B08-85C7-ECCB87D0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449F-62B4-410E-B68D-47BEB034A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71B4-BB6D-458F-B6B7-B3B0085C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0D25-B4DC-4D01-8366-F8F658B3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1467-E773-4401-A5B9-B25BE618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EE50-395B-47FE-874A-16384B72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37AB-5E3E-4130-8008-88E24D6D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5F53-E6AD-49D4-A904-F540AECB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C44F-3151-498E-9D3F-BB35DA7F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C806-385F-4133-962E-4B1F25BD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025C-A451-419E-977A-B204724B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5694-96A1-4FC3-B1FA-370C55BE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49D0-084A-4663-BD8E-651BD434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5723-B46C-44A5-B887-E2BB3C8E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984D-4A15-4748-9427-46F643FC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228F-F708-4B16-87BC-11F603A2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AC6D-E30E-4CD2-907B-065FF57E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4024C-6A03-45B1-9A1E-1990EDB8E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2FDCC-C4DD-4D32-B5D8-5BD141F0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BF567-8329-4CE1-9749-F8297FD0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8576B-53A1-4817-81BD-537F1E62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FC27F-2E88-435E-A03A-3E33FD4E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FE6D-A994-4C3D-8919-C49EE2D8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FB0CC-FC9D-4599-A0DB-97E0E583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745DD-73AB-4222-9B63-CC2D1499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67547-B3BD-427A-976F-7EA50450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6CF84-3B59-4FE7-8950-B113D556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00C75-8429-4DA3-8A92-3DD5C63C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2ED73-636A-4204-960F-7E2FC3F0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5FD0C-E11D-4C79-B201-333E65FD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E3DE4-4E11-426B-9CDE-91BDD3F69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B06B4-90C7-405C-893C-8ED9995C5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F0CD2-18C6-4656-A448-52A5F4E9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54B5-F2C8-4293-BF8C-7B5E9430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61546-0A87-4E1D-8C64-49D466CA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4F99F-7963-4763-9045-A440048F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B8785-E254-4DEA-8552-395F098C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91AAE-C8C5-423F-B8FF-EDD4C480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FB97A-E7D1-43A3-B254-DA64204C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A10E9-96E0-4C19-98D0-CD32B11F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31B45-7980-413C-AC37-424749FE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6A55B-2750-453A-B853-A0899F95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56719-5E8B-4F9D-89D0-ED7C3F5B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9E979-3DE7-4366-9592-EFC75EDFE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C22-969E-46D5-88AE-44C9A7AB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22688-CAA3-4AC9-910B-88A00B72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81209-21A7-483C-B30E-98DAE9AA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20C95-FBBC-4ACE-8271-DFA07821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73731-7A87-4031-96E0-4C3CD5A0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CD889-FBF7-4770-BD4A-1DEE7BA9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F8ABB3-F2A6-4F9F-8628-18C95452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4ED9A-62F9-4D11-AFEE-6A5AA66B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31E17-455E-4CFC-991B-8D110BBD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89A07-B109-4484-8525-EE12A16F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D75BF-9BD4-43A1-9AA0-B2193DE4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F1F3-BE92-4703-B8CF-D3045DEF8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48088-102C-47A3-9446-B0E4CBA5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1C5-94AF-4E9E-846A-EBC6FD60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B55B-27E9-45C8-96EE-F8136CFF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032E-F2E3-4F6A-A5C9-58D65F0E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18CA-8A24-4FB2-890F-3A39D5D4274D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05D0-4E5D-4673-B908-B836F80B82BE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4726-646A-489D-BA20-67D221702106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CFD0-7F3A-4C0A-BF17-1C3181396A0B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EF49-D5F0-4BE5-9F0F-B52B70C0B68A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-304920" y="2127240"/>
            <a:ext cx="4956120" cy="20178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جزء الثالث: الاتصال و التنمي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التنمية هي الإنتاج                    تعبئة الموارد البشرية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4016520" y="3144960"/>
            <a:ext cx="1622160" cy="9698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4343400" y="2590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دور الإعلا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3352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ولاً: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1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 قام اليونسكو بعمل دراسة بين العلاقة الارتباطية بين متغيرات التنمية و وسائل الاتصال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ثانياً: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2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قام الأمم المتحدة بعمل تقرير عن التنمية والإعلام، وضعت فيه معيار لوسائل الاتصال  في الدول النامية، وهو :  لكل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00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فرد 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0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صحف ،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أجهزة راديو ، تلفزيونين، و مقعدين في السينما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ثالثاً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4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: قام شرام بتأليف كتاب (وسائل الاتصال والتنمية القومية) وركز فيه على الاتصال في القرية، ووضع الاتصال في الدول النامية، ومهام الاتصال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رابعاً :تتالت المؤلفات و من أهمها : دراسة ليرنر وباي ، الذي أشار إلى : تحول المجتمعات التقليدية، نظم الاتصال ،التقمص الوجداني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536400" y="122400"/>
            <a:ext cx="8474400" cy="1846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ن الأفكار التي سادت كانت متأثرة بنظريات التنمية الاقتصادية التي سادت 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ن المفهوم استهدف الحفاظ على العلاقات الدولية لصالح البلدان الأقوى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ن تشجيع الدوافع و الرغبات المادية نتج عنها ثورة الآمال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همال الباحثين للوسائل التقليدية قلص الجمهور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دني ثقة الجماهير في وسائل الاتصال الجماهيرية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6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وجود نظامين للاتصال داخل المجتمع  مما قسم المجتمع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7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تركيز على وسائل الإعلام أدى إلى إهمال الجمهور و القائم بالاتصال ، مما أدى إلى أن الاتصال يسير في اتجاه واحد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8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م تجاهل النظام الاجتماعي و البيئة الاتصالي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9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ستخدام الخاطئ لوسائل الاتصال قلل من إمكانياتها :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أ.افتقاد الصلة بين المضمون و التنمي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ب.افتقاد الصلة بين التراث والثقاف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توازن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سبعينات                    حتى الآن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4" name="Right Arrow 2"/>
          <p:cNvSpPr/>
          <p:nvPr/>
        </p:nvSpPr>
        <p:spPr>
          <a:xfrm rot="10800000">
            <a:off x="5333760" y="3352320"/>
            <a:ext cx="1447560" cy="685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محور الذي تم التوازن في النظر إليه 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توازن بين وسائل الإعلام الجماهيرية و وسائل الاتصال التقليدي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دور وسائل الإعلام و ظروف تأثيره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وظائف وطبيعة وسائل الإعلام بين المجتمعات النامية و المجتمعات المتقدم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ما هي الاختلافات بين وسائل الإعلام في المجتمعات النامية و المجتمعات المتقدمة؟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حدودية الجمهو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ختلاف في معدل الإقبال بين الحضر والريف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عتماد على وسائل الاتصال الإلكترونية بشكل أكب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ختلاف جاذبية المضمون المناسب للريف والحض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اتصال الشخصي وأثره في التنمية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لماذا يعد الإتصال الشخصي مهماً في عملية التنمية؟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شرام: التغيير لا يتم إلا بالإقناع والمناقشة والمشاركة في اتخاذ القرار عبر رسالة يمكن قراءة رجع الصدى فيها 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دور قادة الرأي في عملية تبني الآراء والأفكار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قدرة وسائل الإعلام هي تغيير المفاهيم ، وقدرة وسائل الاتصال الشخصي هي في تغيير السلوك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جريت العديد من الدراسات التي أظهرت مميزات للاتصال الشخصي هي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صاغ الإتجاهات على الأغلب عبر الاتصال الشخص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جماعات الاتصال الشخصي هي التي تقوم بتصفية المضمون و تعديل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كثر مرونة في تعديل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كثر استمرارية و تكراراً دون الالتزام بوقت محدد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 يتيح الاتصال الشخصي متابعة أثر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dfe6d0"/>
                </a:solidFill>
                <a:latin typeface="Tw Cen MT"/>
                <a:cs typeface="AL-Mohanad Bold"/>
              </a:rPr>
              <a:t>ما هو الاتصال؟</a:t>
            </a:r>
            <a:endParaRPr b="0" lang="en-US" sz="4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L-Mohanad Bold"/>
              </a:rPr>
              <a:t>هو عملية تبادل الأفكار و المعلومات، التي تتضمن 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L-Mohanad Bold"/>
              </a:rPr>
              <a:t>الكلمات و الصور و الرموز المختلف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fe6d0"/>
                </a:solidFill>
                <a:uFillTx/>
                <a:latin typeface="Tw Cen MT"/>
                <a:cs typeface="AL-Mohanad Bold"/>
              </a:rPr>
              <a:t>عناصر الاتصال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Tw Cen MT"/>
                <a:cs typeface="AL-Mohanad Bold"/>
              </a:rPr>
              <a:t>مرسل،مستقبل ، رسالة ، وسيل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88612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6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إتصال الشخصي التلقائي هو الأكثر انتشاراً من حيث شموله لجميع أفراد المجتمع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7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ن الإنسان أكثر تمحيصاً للرسائل من السلطة،و أكثر استجابة للاتصال الشخصي لمشاركته فيه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8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في الاتصال الشخصي هناك تبادل للأدوار بين المستقبل والمرسل مما يجعل العملية الاتصالية أكثر تأثيراً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9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دعوات الكبرى بدأت بالاتصال الشخصي ثم استخدمت وسائل الاتصال الجماهيري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6461280" y="245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3"/>
          <p:cNvSpPr/>
          <p:nvPr/>
        </p:nvSpPr>
        <p:spPr>
          <a:xfrm>
            <a:off x="6705720" y="2822400"/>
            <a:ext cx="1828800" cy="368280"/>
          </a:xfrm>
          <a:prstGeom prst="rect">
            <a:avLst/>
          </a:prstGeom>
          <a:solidFill>
            <a:srgbClr val="b7d3df"/>
          </a:solidFill>
          <a:ln cap="rnd"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رس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1371600" y="2781360"/>
            <a:ext cx="1676520" cy="368280"/>
          </a:xfrm>
          <a:prstGeom prst="rect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ستقب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3962520" y="2851200"/>
            <a:ext cx="1828800" cy="368280"/>
          </a:xfrm>
          <a:prstGeom prst="rect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رسا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"/>
          <p:cNvSpPr/>
          <p:nvPr/>
        </p:nvSpPr>
        <p:spPr>
          <a:xfrm>
            <a:off x="3733920" y="4146480"/>
            <a:ext cx="2286000" cy="520200"/>
          </a:xfrm>
          <a:prstGeom prst="ellipse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وس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1" name="Curved Connector 14"/>
          <p:cNvCxnSpPr/>
          <p:nvPr/>
        </p:nvCxnSpPr>
        <p:spPr>
          <a:xfrm flipV="1">
            <a:off x="2117880" y="2086920"/>
            <a:ext cx="1235520" cy="46404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02" name="TextBox 27"/>
          <p:cNvSpPr/>
          <p:nvPr/>
        </p:nvSpPr>
        <p:spPr>
          <a:xfrm>
            <a:off x="3848040" y="1728720"/>
            <a:ext cx="2057400" cy="73584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جع الصد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3" name="Curved Connector 29"/>
          <p:cNvCxnSpPr/>
          <p:nvPr/>
        </p:nvCxnSpPr>
        <p:spPr>
          <a:xfrm>
            <a:off x="6460920" y="2087640"/>
            <a:ext cx="1159560" cy="367200"/>
          </a:xfrm>
          <a:prstGeom prst="curvedConnector5">
            <a:avLst>
              <a:gd name="adj1" fmla="val 68416"/>
              <a:gd name="adj2" fmla="val 49950"/>
              <a:gd name="adj3" fmla="val 68416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04" name="Straight Arrow Connector 33"/>
          <p:cNvCxnSpPr/>
          <p:nvPr/>
        </p:nvCxnSpPr>
        <p:spPr>
          <a:xfrm>
            <a:off x="4876560" y="333036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مستويات الاتصال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الاتصال الذاتي: هو الاتصال الذي يحدث بين الفرد و نفسه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إتصال بين الأشخاص: هو الاتصال الذي يحدث بين شخصين فأكث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3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إتصال الجماهيري : هو الاتصال الذي يحدث بين مرسل ومستقبل عبر وسيلة جماهيرية (وسائل الإعلام)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أنواع وسائل الاتصال الجماهيرية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1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قروء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سموع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3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رئية /المسموع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4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تفاعلي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609480" y="2994120"/>
            <a:ext cx="4013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أنواع الاتصال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1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تصال لفظ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تصال غير لفظ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46944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أهمية الاتصال و الإعلام في العملية التنموية 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عبئة الجماهير وتغييرهم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عريف الجماهير بالخطط التنموية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5" name="Picture 2" descr="C:\Users\LoLo\Downloads\index.jpg"/>
          <p:cNvPicPr/>
          <p:nvPr/>
        </p:nvPicPr>
        <p:blipFill>
          <a:blip r:embed="rId1"/>
          <a:stretch/>
        </p:blipFill>
        <p:spPr>
          <a:xfrm>
            <a:off x="762120" y="2743200"/>
            <a:ext cx="3544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536400" y="274680"/>
            <a:ext cx="8442360" cy="14018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اهتمام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ما بعد الحرب العالمية الثانية                الخمسينيات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8" name="Right Arrow 3"/>
          <p:cNvSpPr/>
          <p:nvPr/>
        </p:nvSpPr>
        <p:spPr>
          <a:xfrm rot="10800000">
            <a:off x="3809880" y="320004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مبالغة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وائل الستينيات                      السبعينيات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(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) 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1" name="Right Arrow 2"/>
          <p:cNvSpPr/>
          <p:nvPr/>
        </p:nvSpPr>
        <p:spPr>
          <a:xfrm rot="10800000">
            <a:off x="4647960" y="3200400"/>
            <a:ext cx="1600200" cy="8380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0:48:48Z</dcterms:created>
  <dc:creator>Eyad</dc:creator>
  <dc:description/>
  <dc:language>en-US</dc:language>
  <cp:lastModifiedBy>LoLo</cp:lastModifiedBy>
  <dcterms:modified xsi:type="dcterms:W3CDTF">2012-02-27T10:30:56Z</dcterms:modified>
  <cp:revision>32</cp:revision>
  <dc:subject/>
  <dc:title>Slide 1</dc:title>
</cp:coreProperties>
</file>