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E68-B6E1-4AE1-87DE-93369B62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C9C-1ACB-40EA-9EFA-E41769B4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8E2-AB02-4DB0-A52D-1E8C3B9A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ADE-1EED-4A0B-9121-8DAC8E41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4579-6864-42D7-A4DA-DB530F3C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EF52-AF5F-4E11-90AF-C3FFE4C0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E8AB-00A7-41F4-BFA0-EC389CE1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51A3-C512-4BA0-BB90-4D7B1AE2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E0EA-91AB-47A7-A416-D48A7FFE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142D-B33D-4B24-85AC-C2121A8A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DE97-71DB-452A-9E71-7425716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CFE-EF95-43D5-8A32-0E693A0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DC35-DC1D-484F-8F92-66C67010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1DD-F10D-42C7-96B8-45E568D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77EE-C6DA-41FB-BE33-6922786A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24E6-479B-491D-8560-F7309D99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37B-E43E-4B10-941B-7EF5F0B8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EB9-4ED7-4C3D-8852-F07FD40F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400-B86F-473C-9BD1-E2741DFF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A18-58C9-4376-A957-8C5E0227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04B-02C2-4CE6-AE6B-9B994D96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B2F-74F3-4D67-9C66-B19AE3A6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228-49CB-4CB8-84F6-00EC341C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DBE-0E0C-412A-80DE-680F9AE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8FFB-10F0-43C0-A61E-6F0DAB8D0A6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7A31-208F-4CE4-8C0C-F5CBEE9AEFF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6400-5517-486B-943C-3639D39ABA1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زهرة 4"/>
          <p:cNvPicPr/>
          <p:nvPr/>
        </p:nvPicPr>
        <p:blipFill>
          <a:blip r:embed="rId1"/>
          <a:stretch/>
        </p:blipFill>
        <p:spPr>
          <a:xfrm>
            <a:off x="914400" y="2743200"/>
            <a:ext cx="670572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1066680" y="190512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ام عليكن ورحمة الله و برك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عنصر نائب للتذييل 8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BF09-4DAB-4950-996B-85C1EB94D20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انواع خرائط التدفق المرتبطة بالتوثي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خرائط تدفق المستندات ####التعريف فقط بدون خطوات التصميم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    ”    ”       النظام     #####التعريف فقط بدون خطوات التصميم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”         ”        البيانات     #### التعريف و الانواع فقط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”        ”         </a:t>
            </a:r>
            <a:r>
              <a:rPr b="0" lang="ar-SA" sz="2800" spc="-1" strike="noStrike">
                <a:solidFill>
                  <a:srgbClr val="669999"/>
                </a:solidFill>
                <a:latin typeface="Arial"/>
              </a:rPr>
              <a:t>البرام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”       ”     </a:t>
            </a:r>
            <a:r>
              <a:rPr b="0" lang="ar-SA" sz="2800" spc="-1" strike="noStrike">
                <a:solidFill>
                  <a:srgbClr val="669999"/>
                </a:solidFill>
                <a:latin typeface="Arial"/>
              </a:rPr>
              <a:t>جدول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AE32-1B1E-4DCC-928A-C32F7601C37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نظام الترميز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يقصد بالترميز ؟ ما اهميته ص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ستخداماته   ؟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 نظام المجموع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رموز الشائعة الاستخدام ؟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6F3E-B4DD-4679-9C87-3237717B6FB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وصلنا الي نهاية المحاضرة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976320" y="3143160"/>
            <a:ext cx="71913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مع تمنياتي لكي بالنجاح و التوفيق طالبتي العزيزة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عنصر نائب للتذييل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2491-E125-41CF-8745-9F186A65B90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خير او ليس اخر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371600" y="1600200"/>
            <a:ext cx="6858000" cy="380988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125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شكرا  و الي لقاء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عنصر نائب للتذييل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5E2B-644A-431E-B028-06113715B29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رحبا : مع الفصل الثالث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طيط و تحليل و تطوير و توثيق نظم المعلومات المحاس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323040" y="-3492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لتذييل 7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5903-B247-40C7-8CF3-2A822270858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المقدم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بد ان يشارك المحاسبون مشاركة فعالة في مساعدة المنشات في مواجهة المشكلات المرتبطة بنظم المعلومات المحا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الضروري ان يكون المحاسب علي دارية بكيفية دراسة النظم بمراحل   التخطيط- التحليل –التصميم - مرحلة التنفيذ و متابعة التنفي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irewall"/>
          <p:cNvSpPr/>
          <p:nvPr/>
        </p:nvSpPr>
        <p:spPr>
          <a:xfrm>
            <a:off x="685800" y="4495680"/>
            <a:ext cx="4572000" cy="1524240"/>
          </a:xfrm>
          <a:custGeom>
            <a:avLst/>
            <a:gdLst>
              <a:gd name="textAreaLeft" fmla="*/ 160920 w 4572000"/>
              <a:gd name="textAreaRight" fmla="*/ 4459680 w 4572000"/>
              <a:gd name="textAreaTop" fmla="*/ 1584720 h 1524240"/>
              <a:gd name="textAreaBottom" fmla="*/ 2278440 h 15242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عنصر نائب للتذييل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88F-C016-4A82-AC1E-4827F461F3E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رحلة التخطيط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مية التخطيط  الاستراتيجي مواجهة المشاك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لازمة للتخطيط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جب محلل النظم : الدراية الكافية بجوانب المشكلة الحقيقية كيف ؟ ا – 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طرق التخطيط ( من الاعلي الي الادني – من الادني الي الاعل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تيجة : الابقاء او التغيير او التعد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12A3-8248-4A51-8152-6B0577C9E10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رحلة التحلي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حليل هو (تفهم اهداف النظام ، فحص النظام ، اقتراح الحلول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هدف عملية التحليل الي ص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 القوة  الضعف ، الفرص و التحديا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ستويات اهداف التحليل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(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مستويات )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اجراءات تحليل النظم ص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114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فحص النظام بغرض تجميع البيانات . ما طرق جمع البيانات . ما طرق التحليل ص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115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النتيجة إعداد تقرير تحليل النظام . ما اهم النقاط به ص 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115</a:t>
            </a:r>
            <a:r>
              <a:rPr b="0" lang="ar-SA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4BE2-8C22-4EAC-AAFB-BED53035CDA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 مرحلة التطوير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اسباب تطوير النظم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ا ) – (ب)  -(ج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مداخل التطوير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داخل ص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خطوات التطوير  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 خطوات من ص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117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ي ص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120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 ص  وضح بالرسم ثم الشرح المفي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الاعتبارات الواجب مراعاتها عند تطوير النظام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الاعتبارات العا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عتبارات الخاصة ( مخرجات – مدخلات – قاعدة البيانا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2452-3A46-45C1-88DA-5AE37E3D19E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رحلة التصمي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 algn="r" rtl="1"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ا اهداف التصميم ؟ توفير- توفير – تحسين – توفير ص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ما خصائص التصميم ؟ الفعالية ، الكفاءة ، الاقتصا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يجب عند توثيق التصميم إعداد تقرير التصميم يحتوي  اخر ص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3E48-53A8-4054-8B7D-DD860E5788A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 مرحلة التنفيذ و المتابعة و التقييم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عداد البرامج اللازمة ( يؤجل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0B16-D69E-40CC-9713-DB7D898201A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رحلة التوثيق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معني التوثيق ؟ إعداد مستندات و صفية للنظام ككل يشمل 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همية التوثيق ؟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قاط   ص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عنصر نائب للتذييل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8:03:24Z</dcterms:created>
  <dc:creator>HOME</dc:creator>
  <dc:description/>
  <dc:language>en-US</dc:language>
  <cp:lastModifiedBy>ksu</cp:lastModifiedBy>
  <dcterms:modified xsi:type="dcterms:W3CDTF">2012-09-24T06:23:37Z</dcterms:modified>
  <cp:revision>13</cp:revision>
  <dc:subject/>
  <dc:title>الفصل الثالث </dc:title>
</cp:coreProperties>
</file>