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A93-9029-4D64-A954-AFB8F174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7A5-CFA2-448D-A880-B370B21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221-A558-451B-A924-C9157F5D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615-355A-4BE0-AD6C-0B6FF917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381E-ED52-42AB-A7F8-36E64F49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92B-998A-47CB-8AA4-F22B6809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D1A9-52F7-4A8A-A097-57871D66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42F0-1BB2-43E4-8E0E-671FB23A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C4C3-32B7-4C4E-8398-90C235A3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0C83-1348-4EB7-B120-DFC880CB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EEE0-7AA9-4830-9A45-67C3528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A7F-0958-4C03-A9C1-11797244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BAD4-9151-45A5-B307-E2226E4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C44F-9DEA-42D9-BAAB-5D673B3E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CE32-57DA-434E-8CF5-6E1B836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276E-AD4A-4952-AD99-3461E19F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E086-32B2-45C0-B68E-61D90C36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977-7FAE-4CA3-A554-56C1ACC4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83F-4BE5-415C-BC12-C9F9ED4F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B00-1C23-4E71-8FDB-26C5FFE4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755-99F1-4870-8403-9F66AB37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915-5BFA-448A-9468-A7C464B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27B-1170-4E20-B9D0-282ED41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AE4-1148-4C1D-9D8D-4B37AA2B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936B-C47D-4966-8023-2842D847394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F28-F681-491C-B47A-F955DCA8EB4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1EEC-9ED1-42A0-8175-67B6E063078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زهرة 4"/>
          <p:cNvPicPr/>
          <p:nvPr/>
        </p:nvPicPr>
        <p:blipFill>
          <a:blip r:embed="rId1"/>
          <a:stretch/>
        </p:blipFill>
        <p:spPr>
          <a:xfrm>
            <a:off x="914400" y="2743200"/>
            <a:ext cx="670572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1066680" y="190512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ام عليكن ورحمة الله و برك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عنصر نائب للتذييل 8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9EFE-CB9B-465C-AF12-1C7EEB3FABA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انواع خرائط التدفق المرتبطة بالتوثي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خرائط تدفق المستندات ####التعريف فقط بدون خطوات التصميم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    ”    ”       النظام     #####التعريف فقط بدون خطوات التصميم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”         ”        البيانات     #### التعريف و الانواع فقط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”        ”         </a:t>
            </a:r>
            <a:r>
              <a:rPr b="0" lang="ar-SA" sz="2800" spc="-1" strike="noStrike">
                <a:solidFill>
                  <a:srgbClr val="669999"/>
                </a:solidFill>
                <a:latin typeface="Arial"/>
              </a:rPr>
              <a:t>البرام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”       ”     </a:t>
            </a:r>
            <a:r>
              <a:rPr b="0" lang="ar-SA" sz="2800" spc="-1" strike="noStrike">
                <a:solidFill>
                  <a:srgbClr val="669999"/>
                </a:solidFill>
                <a:latin typeface="Arial"/>
              </a:rPr>
              <a:t>جدول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6A36-094D-4DAE-92C2-E7C0E8A7D3C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نظام الترميز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يقصد بالترميز ؟ ما اهميته ص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ستخداماته   ؟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 نظام المجموع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رموز الشائعة الاستخدام ؟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952-4043-4210-803E-08C856FAF01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وصلنا الي نهاية المحاضرة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976320" y="3143160"/>
            <a:ext cx="71913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مع تمنياتي لكي بالنجاح و التوفيق طالبتي العزيزة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عنصر نائب للتذييل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2B84-1820-49A8-BF3F-D4CDACC48B9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خير او ليس اخر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371600" y="1600200"/>
            <a:ext cx="6858000" cy="380988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125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شكرا  و الي لقاء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عنصر نائب للتذييل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80E-9390-46FD-9600-D69C74B6744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رحبا : مع الفصل الثالث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طيط و تحليل و تطوير و توثيق نظم المعلومات المحاس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323040" y="-3492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لتذييل 7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9E23-F56E-468F-94A6-AE720C28ABC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المقدم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بد ان يشارك المحاسبون مشاركة فعالة في مساعدة المنشات في مواجهة المشكلات المرتبطة بنظم المعلومات المحا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الضروري ان يكون المحاسب علي دارية بكيفية دراسة النظم بمراحل   التخطيط- التحليل –التصميم - مرحلة التنفيذ و متابعة التنفي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irewall"/>
          <p:cNvSpPr/>
          <p:nvPr/>
        </p:nvSpPr>
        <p:spPr>
          <a:xfrm>
            <a:off x="685800" y="4495680"/>
            <a:ext cx="4572000" cy="1524240"/>
          </a:xfrm>
          <a:custGeom>
            <a:avLst/>
            <a:gdLst>
              <a:gd name="textAreaLeft" fmla="*/ 160920 w 4572000"/>
              <a:gd name="textAreaRight" fmla="*/ 4459680 w 4572000"/>
              <a:gd name="textAreaTop" fmla="*/ 1584720 h 1524240"/>
              <a:gd name="textAreaBottom" fmla="*/ 2278440 h 15242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عنصر نائب للتذييل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7449-82AC-403D-91C8-D1D95D8A5D1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رحلة التخطيط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مية التخطيط  الاستراتيجي مواجهة المشاك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لازمة للتخطيط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جب محلل النظم : الدراية الكافية بجوانب المشكلة الحقيقية كيف ؟ ا – 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طرق التخطيط ( من الاعلي الي الادني – من الادني الي الاعل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تيجة : الابقاء او التغيير او التعد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0BD-8A35-494C-A0CC-34FABE66336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رحلة التحلي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حليل هو (تفهم اهداف النظام ، فحص النظام ، اقتراح الحلول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هدف عملية التحليل الي ص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 القوة  الضعف ، الفرص و التحديا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ستويات اهداف التحليل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(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مستويات )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اجراءات تحليل النظم ص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114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فحص النظام بغرض تجميع البيانات . ما طرق جمع البيانات . ما طرق التحليل ص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115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النتيجة إعداد تقرير تحليل النظام . ما اهم النقاط به ص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115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DDF-5BC1-4EFA-A7B3-7EA1E281FE0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 مرحلة التطوير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اسباب تطوير النظم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ا ) – (ب)  -(ج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مداخل التطوير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داخل ص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خطوات التطوير  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 خطوات من ص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ي ص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120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 ص  وضح بالرسم ثم الشرح المفي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الاعتبارات الواجب مراعاتها عند تطوير النظام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الاعتبارات العا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عتبارات الخاصة ( مخرجات – مدخلات – قاعدة البيانا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7A49-543A-469F-AAC6-0AC22BEC0A1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رحلة التصمي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 algn="r" rtl="1"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ا اهداف التصميم ؟ توفير- توفير – تحسين – توفير ص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ما خصائص التصميم ؟ الفعالية ، الكفاءة ، الاقتصا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يجب عند توثيق التصميم إعداد تقرير التصميم يحتوي  اخر ص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775D-082A-4B7D-B0B5-A29BDC967F6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 مرحلة التنفيذ و المتابعة و التقييم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عداد البرامج اللازمة ( يؤجل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B53A-9ED4-4920-9C37-5081A25C6F1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رحلة التوثيق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معني التوثيق ؟ إعداد مستندات و صفية للنظام ككل يشمل 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همية التوثيق ؟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قاط   ص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8:03:24Z</dcterms:created>
  <dc:creator>HOME</dc:creator>
  <dc:description/>
  <dc:language>en-US</dc:language>
  <cp:lastModifiedBy>ksu</cp:lastModifiedBy>
  <dcterms:modified xsi:type="dcterms:W3CDTF">2012-09-24T06:23:37Z</dcterms:modified>
  <cp:revision>13</cp:revision>
  <dc:subject/>
  <dc:title>الفصل الثالث </dc:title>
</cp:coreProperties>
</file>