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8B37-9671-48CB-8D22-D083E462985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39CB-C92F-42ED-AB21-ABE7D66D7B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628A-F22A-4FA9-84AF-C6C9A20173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68385-3587-4D3E-A231-88B2EABE1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8BD79-BC6A-48EC-8402-9A181957D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5F31C-67F2-4C53-83B7-1EB63DDB6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BC0CF-F9D9-4AC1-9DD8-FA41D6627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B8499-01E9-4CA2-BC3F-DD2AF4EBE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A35A7-6DA8-4639-8A7D-B58BCE0BF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77BAF-F469-42A5-951D-5EF8F1151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D3F1E-352C-4417-9999-FA371AAB1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018D7-984D-42E7-8DE2-811461A01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17203-F453-4083-9525-459F25908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A1E74-A669-4E4A-9378-8DD65D143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EE204-4A12-4754-965E-E89A315F1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DB2D6-88F1-4D1D-A34B-5282B25F3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5EDCF-FEBB-4716-88F8-67D3D7EC5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520E3-F06D-4E51-86BD-88F1689B3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7E16F-9995-4900-969A-345F96F41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80FD4-AF01-4C6C-8E35-287666D5C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89DC087-7DD8-4563-95AC-7D3CFC6DA3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9AEB23C-D39C-4C85-988C-0C3AD8F4D9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E4FA75-FB6A-4F49-AD56-00D9E6C38E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8409B5-A3D1-4109-9A90-32889827A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FD9CEF-1E62-4A1C-AA50-2B67B6606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6B582-0632-48A1-B4AC-2B98AFBD6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95D986-4C46-4273-B813-EC93853EA8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9B6FE9-B9EA-4DA5-BBEB-5792C7D04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A73AE9-AA73-4131-97C3-BB9E12D08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098EFA-0883-4184-AF95-FB4F72178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A0A9779-A514-4FBB-BBCF-E0E511EA6D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7DB1C38-B42B-4CC1-827D-50168F9A7D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35949E2-6425-4D55-BF1C-85AAD5A5C7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636396-5873-4E89-8CAC-3C4480C3C0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C95E0-C276-415A-8F9D-1454C93B5A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180A2-BD23-41D4-B516-A1D9EDE281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ED627-E2F9-4CA7-80DE-B73B34F07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51E77C-2692-49EC-BC50-59931FB4A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D43841-FC5B-4AF8-869B-EFB0914A23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AC84D-A083-4A9E-8965-EAB5DD6563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213F9-0882-46F0-9E76-9E77ED35F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66D8A-8286-4781-9E48-08376A014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ADD9E-4470-4780-AFC7-974BCBF6B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BCFF6C-099F-40A3-A104-9E749ADD0F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D54EB7-C72E-4173-BFA0-BCFB1AB020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5856E4-E724-409A-B973-E02862410F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845B3C-5640-4BB5-9CF3-70D306215E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FEF7B-A948-43EC-95B4-1E7D665AE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425F3F-5554-4100-9752-A12F7345F6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92FB5E-2051-4D70-A141-2FB5235548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67D52FA-9141-4458-BC29-AED3C616A3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20D0D8-AE71-4516-86B6-BE42E9EBF6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614A7D-5846-450E-8825-C26524EB0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9F3629-C7E1-448D-9ED5-335829D68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41C606-51DC-46F9-8AF1-C23397219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3F1511-041F-4D4D-90E8-03F3F714B5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96EA88-D788-4CF1-8A72-40E8C9D54A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47391B6-340A-4512-A346-17CB17703A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469BE-B6E3-4D18-95CC-A8D2EA368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8D6EFEC-7292-4EDA-AEB3-760CD758E2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FAA7E0E-6CE9-45D4-97BF-C21448CD85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0BE7175-3965-42E9-B7DA-A270062FD6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AC30E40-CEB8-47E7-8831-E4D71CE0E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4CB7577-8F53-4411-9C01-6F8DB2A2D8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B38A082-CDB9-449F-9602-D27F7865E1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1B7E4A2-56A9-47AD-9A42-A36A849641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947A7F-DAC8-4808-B96F-CD81FC326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0FDF59C-E5E8-4459-8B47-C679CD8054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2957589-A08C-488D-ACE7-F988094EC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CE9F-5F05-471A-BC98-CC413FA0D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DEE3A8B-0921-44D5-8E6F-5DEE6E6C96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49502E9-7CF2-4991-A017-E6F3B9DAAD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577432F-F6C0-4D06-8398-C0B1BA686E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A395BB3-733F-4D8F-A92D-488740ABF1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9D9AEF-7418-462E-878C-875BA148C2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2352B8D-E93A-4890-B3FB-F2C978F65A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A6FD5AD-1604-49FB-928C-A65E2B4A09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605D83F-2E4D-4781-B30D-DC86D93957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36058B1-97B8-4FB5-A2AD-530826F020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BB5ACA-05B9-44A0-99AD-6C3F4B321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9003B-3E09-46CD-AB68-46B62744C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C32066-0A5A-4B3A-9E38-BBA94A1405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4D17AD-F3EA-47F4-8413-B63A200770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10EFAC7-73D3-4D57-946F-2C186D95B9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86F6054-C684-4E33-B720-BE118AF19A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FA41718-A3CD-43E1-9ED8-90FDF50EAF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A68798E-BCD6-443D-ABEA-629E9202AC0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52763D10-6131-412B-B4B4-966CFFC61CA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806F7E31-22B3-46BC-A97E-18885781E76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518765F7-B762-417D-B338-D66DA1BCE15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D48D8449-88B6-4ADA-B7E1-DCA9F85990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11F8C-A957-4D26-B053-3360E3D45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EDF5EE18-6CFF-4FAD-B0E4-16755C9646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BAF71183-F7E2-4DCB-BF33-D7B8068DFED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BCB79F12-BDF6-4A5E-9DB7-FE1617F5760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90E81379-0856-4D86-B256-982D51AD9C8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9AD7349A-0DBE-429B-9E14-D9124581141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9FB56D92-257C-4E28-95B2-3616596EA4F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65D8596E-449A-4E88-AF48-37829CA19A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45C6-3125-4F20-B0E6-0C7B0F6E2795}"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9477-C84F-467C-A193-7B6E3516FA3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75B0-61EE-43A2-8424-781DE97C249A}"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2C6D-913C-4121-9C38-2ADF13B9C52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2684-5A97-4E14-BAA3-B3ED14461522}"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3B57-B8A2-4C12-AB71-33E8FA94D03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11DB-8FBA-47F3-A693-EAE6F563EB93}" type="datetime">
              <a:rPr b="0" lang="ar-SA" sz="1200" spc="-1" strike="noStrike">
                <a:solidFill>
                  <a:srgbClr val="def5fa"/>
                </a:solidFill>
                <a:latin typeface="Century Schoolbook"/>
                <a:cs typeface="Times New Roman"/>
              </a:rPr>
              <a:t>١٤٤٨/٠٢/١٦</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AA9C-93CB-4405-8CC2-FAF993E2009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6B2F-85AB-41E4-AE5A-065A15443F5F}"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35ED-AD28-4E00-A907-4D84C7B7FF8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1C2D-CFC2-495C-BCD6-76F17FA6A867}"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A5F0-C4C8-4E72-9FCC-27895ABB4C9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0869-A05F-4C09-BB95-8D42B664C433}" type="datetime">
              <a:rPr b="0" lang="ar-SA" sz="1200" spc="-1" strike="noStrike">
                <a:solidFill>
                  <a:srgbClr val="464646"/>
                </a:solidFill>
                <a:latin typeface="Century Schoolbook"/>
                <a:cs typeface="Times New Roman"/>
              </a:rPr>
              <a:t>١٤٤٨/٠٢/١٦</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3AE9-DA33-421B-937D-B56DD186B76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7973-409C-4E91-985C-40F886C24DB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DDC5-9909-41B9-9B18-7B353059AF8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A085-8288-413C-995D-EFA2358F433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CBAC-B6CB-4E92-A204-996A2DF3127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C722-BE35-4270-8BCE-58835ED929A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A96C-F894-4401-A665-746B700BD22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2BEA-379D-496C-B4F1-64F73C300BC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64F7-17C8-44AF-82F6-71682F2EC80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7244-0EBA-48C9-B648-46DE80F0E69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76BC-1FB3-42E4-B012-CC75452A27D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D9DB-815C-4914-8482-C5E756C2B3D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76A4-45D0-438E-B258-2DD2FD96245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49A3-01AB-4457-B78B-14CB4EBEDB1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DAC5-A6FA-4B67-851D-5445672AA9D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0129-2B4F-4955-B8EF-4FAA6AA3E49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97FC-6799-4F2D-A050-FF19963B612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DE91-0B36-4538-B23C-3D201AB3E5E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AD11-A0AE-4FAB-A45B-5B4B287266F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19E2-6C14-4EC8-AA49-0CED2DA4310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