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4E21-4143-4377-ADEB-14F337C27BC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8351-5044-4332-A64B-CBCD311219A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7A98-7269-4A39-8F24-C7FEBB1C12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6B715-3496-40E3-BFBA-D6D15FAAB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870BD-90F4-4029-AB6C-2D5D1D1CB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C20D5-660F-49D1-BCED-58600B656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6D61D-381C-41A2-BDD8-9527B22B5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BCCE5-6AB0-4007-9297-1FC8205CD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62753-F73F-43E5-8BC1-0E27C53C1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F7082-F97E-41D3-A933-1AD521ED3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8E007-2D2E-4921-86AD-4841A0D57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6B239-2F07-4FDC-A179-E43BA4513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A7FD6-05CA-4F86-BF96-4E83789B8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9D264-81A8-40E9-A3C1-EE018872E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448FA-110E-4D68-94CD-AB600FA09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07799-AB2C-4292-9F73-179B8B92A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A426A-93F0-41D2-90D1-3218E9DA9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42F5B-AD62-4F1D-9462-1F1DA02E3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12D0B-3758-4DB5-8067-1217A521C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87D1C-EEC3-4EBC-833E-3718C78B4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0F82D0F-B00D-4984-80DF-666F8E0297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2A3796-7123-4BFE-A7D5-0CB6054D70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693325C-4C8A-457A-BBCF-12A7CAECBA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0BF616-0207-4E02-B331-96DD1796A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E3926C-64FC-410B-8FB0-69D21834C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70B83-4038-4EFC-B021-796B01897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52BEB06-E6A4-4361-BAAC-A385E517E4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54A49F-BA99-45D4-8B6C-703D5086C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528D22-639C-4352-B89F-70B457E7C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E14866-0757-4A9F-BDE5-59832B7DD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AA62837-D066-4E17-97D5-3257461F66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E401861-B985-42A3-9FE7-8AE27A4BC5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32C3A12-66D9-4F9F-ACE4-1F05BE46E7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2E8812-E039-4269-A62C-333439ED40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91933-65A8-4542-8DD9-8BB050A03E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642364-2BA7-41FF-82D4-758BCBF55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44979-5910-4C3B-B499-93AF2A9D1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428524-59A6-4929-A57A-2D452E39D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9E16EA-BABB-4CCF-99C6-127B67A437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FDC4BC-81EC-40FF-89FF-523C19EE4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8CE231-207B-4C45-949E-3C15947956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3CA78-471D-468F-A03E-741F1236A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53D3E-498F-4DBF-9C67-21CF63D0F8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9C3D5-F6C8-4CCB-B156-594EE7DBC4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244607-2538-49EE-B1E3-6708635D60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A765BC-CDB3-469C-B56B-E888F9E207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E5EFE33-9E8B-48FE-B0BC-719D706101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929E3-1F16-4631-BA7E-584DADED7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18E1412-3E9B-4EA8-B705-A27805543B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F220B2-61F7-4664-96E0-4F760C293F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5BDB74E-8566-420E-8BC6-A3A7A00638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0670C0E-9446-4F0A-953D-36D0DA5EB9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EE9076-8596-4E45-A1F4-45D95D931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CFCCE7-7E46-40A1-BEAD-458231DD1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C5DDAD-D46E-4691-83C7-0953F879D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6A9AD2-DA25-4899-AA7A-ED5C5C5EAB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6C716B2-1CE3-499E-A8EC-4D21F7C7B0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32D66AB-7F69-4778-9336-81AFACF1DA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52CCC-9211-428B-8526-CC18F03C6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9EF2EC0-8C8C-437B-BA70-33303CF426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9828EDD-CBDA-437F-B040-750C108A23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8721257-FAA2-4165-8803-502EEC71EC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1AF11F8-0E0A-43CA-8746-7B079569E9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B25DD85-D274-4BA3-8D14-7E13C2389B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F24BB8B-8665-4392-8885-658E8362AF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8EEB669-2A79-4C41-8B15-CFE8F24FC5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163E5C-899C-46BF-AF54-3D4B4D15B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8CA3DD1-C315-42C3-86DB-C809F6A403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48D06F3-D025-477C-8C67-F60369CD71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1B41F-8A90-4D13-967C-EDF20DDEB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FAFE0F1-C8EE-4E26-B070-C787FA29E4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B4CD01D-FCFE-4CD5-9E9F-6705947800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0314AC1-1A3F-421D-AA37-774B3238F9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0D560A6-EC5A-4438-9FF4-5602ADED2A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6C3D97E-46ED-4D43-A2F4-429A63EF99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96272BC-4892-472B-A737-8C1F7D2F2A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D139EB0-3E2C-4F5C-B0FB-8085CF35A7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057758D-48FB-4B4B-A022-2D3E09F9FD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5FF862C-4C80-4A7A-8B14-BE41301578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6C5287B-4802-433F-AEF4-0EB358533B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A479-1065-46D8-BC22-EAA68122E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3FD90C2-9D84-43CE-BAF2-93BC59E2D4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1079244-412F-4F11-A5BF-B924ACAF9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376FA0B-44D5-40E1-A8CE-21AA66F388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044BBE8-9FA5-48F5-9912-971AE2746A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6DCBDA3-7790-4F00-BAA3-A2F169D2EF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9A2C845-D682-4203-BF32-9732B8046F4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F3112DB5-DB43-4792-8508-857FA7A8F41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9F9DDAFE-5373-4E02-9C37-9E014F1755C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6694BF4A-8624-48BA-B574-09DABF1B665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AB41A4B3-023F-4AAF-B0DC-26078C864E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16E57-4FCC-4F81-9C4D-FEDDA9395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1893A9DD-2848-4C81-9EFE-0E358A91964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84BA0682-6104-4563-B30F-1DF01D2E68B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C90B213B-E71E-4864-BEA9-90189617BE9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102805AE-58F6-4CFE-8BD1-2EC7A1634EB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F208C274-7EB5-4070-9E22-FC4478D8200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2F2CC90D-358E-426F-840C-9E4832C2EB5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6724A55A-494E-4F7F-AECF-732D829E08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1179-B25A-48AD-9CF6-D0BC63E1B012}"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EE89-9703-443A-8F07-F1F28B90E6F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9D9E-6AFC-4E16-8A11-F391E88EE141}"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308B-AC90-457B-8AA0-761B394C41B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AED7-4274-48F7-9E80-C4506B6A99FB}"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50A7-62FA-458F-AF0F-045219F1B43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F58D-5948-48A0-A20D-560776132058}" type="datetime">
              <a:rPr b="0" lang="ar-SA" sz="1200" spc="-1" strike="noStrike">
                <a:solidFill>
                  <a:srgbClr val="def5fa"/>
                </a:solidFill>
                <a:latin typeface="Century Schoolbook"/>
                <a:cs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C748-16FB-4F7E-9156-BCDB93DAA04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725E-9630-4AB3-91E8-78EF8E6A2E74}"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E12E-2B7E-474E-8746-0E11668D47E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B43B-BD7F-4FD5-8599-9DA8BB8870B6}"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5E71-1605-40EE-A50E-77BABB8A7B4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8009-2B90-4E9A-A4E3-60652275DC46}"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49C1-CDAC-432F-8FC9-2371DE2D3CE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6833-785C-42EA-B4BD-40EC0916CA7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7E07-05C0-48D7-B69C-3D4FF301ED0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2F5B-4363-483C-82AA-D516C594492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A709-6A67-4E7E-8AB8-CBC52330F0C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CC99-B98E-44B6-829D-4B97B84580C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72BE-0668-482E-BBDB-2C877994980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82CA-EEBE-4B99-B140-E8BC468F66C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4FC5-49AF-425B-AECB-5F4792C39B5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1E8A-1A44-44A6-ADF1-C0E60F1F3B8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24A1-FF14-4ED0-9BC0-5A0445B2906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D121-BE41-42EC-99C6-C3DABF25E1A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63F5-3A61-4493-9F30-46FFAE3ECAE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ED8E-84B7-491F-8792-7AE390E952B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5009-E8CF-4231-ACE6-41E23E7BCC9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473B-6266-4DBE-981C-0CDED8E6068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E0D7-ABA9-42C5-8B64-0868DADCB00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8DB2-FFE7-48DF-91FB-4958F8A211A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7BB5-8E57-4C43-8DE1-6BB2D1A55BF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0236A-CBD8-48E4-AD07-F234D33C1CC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