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0AAF4-07D0-413E-87CC-AA656361DD9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B009-7D87-4CE0-8DCF-433EBD30DC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7AEE-EFE8-45C5-9557-FA413C773D6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B0EA2-D7F5-4E38-9E4C-74C872547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A24BF-D4BF-4D0B-BC2A-CD724F478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3EC06-6F2F-47BF-AE52-AA83F505B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A582D-93B4-4B74-BB30-6B345B9F8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FD977-0CBC-4841-89F3-6603C785B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1E796-C432-4CF4-8B5E-70D9E734B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C2F15-2F6A-4D42-AB45-36AE68CCE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D7157-4979-49E1-90E7-86DA27D1C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B57DD-3345-4ACF-BF6A-E379CFD2D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533B7-9034-4263-821F-CB9B24B80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04EF0-76DF-4700-BECE-ABA1AF340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4CA38-0EB8-4D55-AA2D-FE5239365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6466E-26A7-4DE5-B0AE-FBC4D7AE6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60EFF-4232-4A7A-A211-F1A2813D7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BD1C9-1268-43E8-A158-3F1F3BF76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45294-A051-4220-A9B6-1FC049265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E5BAA-4E3A-4C56-8194-36D102EE4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372FB46-82C8-4B1E-A081-321E30777D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A9C1A8-C881-48DD-A719-82D9F355B9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9A57D7D-E516-4C99-9448-B29AC3D61E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5ABF47-EBEE-4C68-834A-D4157BEEA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524B632-FF2F-41BA-BCDE-6713EEB40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5ED80-3B76-40BD-B0E2-DB6AE736F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BB2BC0F-B414-4D11-87F1-11043E5AD3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F0EA9B-0930-47D8-8964-D76FDCBBAE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AFD6E5C-B40C-4964-8B41-0423F9B8A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1EF26A-6880-4A41-B4B3-60D669B99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52344E-7590-4B6C-9554-ADA2A8BA28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ACCC0EA-A5EB-4676-842C-A37299EC28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1BAFDB9-775E-49AA-BE0E-3CC52BB32F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40EE4D-0A22-4353-9581-34A097D712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43D3AF-61CB-4968-A7C4-55DF6380A0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E83E18-4E82-4DEF-8DBC-B7CFCE864E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FCC3E-3F7E-4095-8648-16DDCDA42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D4AFD2-279B-4598-A160-FC06FA4897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6E8799-3386-4532-B783-0805AEB59C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CEF8E5-E24D-4028-A374-3E1863C768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BDEFBD-B958-4156-8792-0B6216AA5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87EF2-49DE-4E78-B569-B992235E4E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6C9DA6-7691-40EF-8A42-4DA441A20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5D1327-23B7-4436-AD01-52A37497B4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9196C9-C315-40B9-B71C-3A5AE192B2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E32939-B06D-4709-9ABA-8613504199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A1ECB20-485F-462A-B7FF-9F44FF0104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A38A1-8D27-443C-B475-B3E6D0425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54BA1B3-4FB0-441F-994E-E464C7C5B1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7DCFBC5-3652-4C04-9A15-1771C23934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1557F8-9269-473C-99F2-6627AF6D30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12E870B-AAFE-4AEC-9860-03B3C84849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9E02759-22B3-4406-AFB0-C8403B538D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DD5177-008D-4065-A2DA-DB9FC98578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4EC2D0-6950-4B6F-B42B-FC6DC8B72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8DAF86-F723-47C0-9714-EC1509AE2C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96AD65C-B122-4986-85E3-3AFFD44611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4E539D4-EF0F-4EAB-B18E-86DB83F95F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5293B-073B-41C9-B661-FEDD18A69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5D1BBD1-AF90-450E-B161-0A18B327B4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5C15859-B650-4295-AC54-ED6538FAD4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0B54287-AFD0-43C4-9AA9-A991D159AF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712AA47-345B-4D95-9FAD-FAA24C97B4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7A64EC6-6985-4C44-AD24-1DDF342CE4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92DDA94-1A3E-4328-AF0B-3B878199C0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A936833-F463-443C-AAA4-D1CA221198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5165C70-C38B-4EAA-9473-91446F32F6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D2AD369-7ACD-4D8A-82DF-BC7AB3B084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4D2A2DD-0507-4741-AEC9-CAC6479EA6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B02C3-F66B-463F-B7A7-F4DA82BC2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8BB3564-7089-4BE5-A845-7F6EC482C0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7DC871B-D46F-4D0B-8A8C-F09AFDBB73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EA58C64-17DE-40EA-8C35-99B22BCAA9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4556AA4-3B53-4385-9E41-0130EE48BF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34AB0E2-0FBD-4E6F-866A-7D2D1EB1E5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D9E4698-CA3D-454C-9D4F-AD4C69E583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E6929E3-8FBB-4CC9-8414-DC49869691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DFF9830-6603-43C6-B23F-F634C19549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7A668A5-D0AC-417D-906A-70DBB949A3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203771C-2A21-49F7-BDE6-3B7505EB54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F9B4B-ED16-4426-A6C2-E2B090733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905F5B1-BE81-47D8-AACE-E6B7B84916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072D28-F935-43D1-9616-0ED6552EE7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F24CD01-F74F-4C80-A16A-0880E6D232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FED7EC3-680E-43C6-895B-2A445A33C7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ADD006F-97A4-4551-AECF-0578CE6FC8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9A2FED7-B4D0-434C-BD4F-7E8657BAECA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89CCE698-AEDE-45FD-B785-473BB588AA4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A692C3C6-6494-41D9-A9D0-09065B92FCC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8F87FC01-CB80-4E48-AEE8-8E540B8D702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C3C90D02-5D3F-4732-A408-20BBCBD411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A8B56-4F25-48E0-AB60-B6B59A5A6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44A95354-C576-43C5-9554-487D95C033E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B35D73F6-3003-4D00-87CD-6CE5926DC42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3E31348B-AD52-41B9-8B44-D9943057E0C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4AB3F226-24BB-4F20-B07B-8FEECAF8DAD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F980956A-350F-4D64-BAB4-D6121D3D6F7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35FA249F-0308-4B7B-978A-7652ECCE8B4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A58F0177-54F6-414A-9DDA-DD03AE7E54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C16C-7FD2-448E-B7EE-BE416F10F649}"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776F-1254-4F24-BFF2-2B1F406A469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C907-5318-4486-AE77-511492CC8C80}"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8767-0CE6-4D0E-ACB5-4BBF4D534CC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D629-A5DD-4B0D-A4DE-74A3D4E0AF22}"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977B-1F53-42E4-A450-D42C62850D3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BAA1-BC2F-4F3D-8539-9958ACCEEE66}" type="datetime">
              <a:rPr b="0" lang="ar-SA" sz="1200" spc="-1" strike="noStrike">
                <a:solidFill>
                  <a:srgbClr val="def5fa"/>
                </a:solidFill>
                <a:latin typeface="Century Schoolbook"/>
                <a:cs typeface="Times New Roman"/>
              </a:rPr>
              <a:t>١٤٤٨/٠٢/١٥</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0056-542F-4B90-A2B5-F1B52550683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20BA-74B8-4A01-9503-FB0960B9FF0C}"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7B2D7-4341-4A16-92E9-2E6D03BBB05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6F7A-8191-4202-B329-9364C2AD1FB6}"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58F9-B03D-4771-B3D8-CC9205CC1B7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1366-BCD0-4D15-A0F4-972D6927A3DF}"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BE7E-A5FB-45A9-864D-C86AAE39439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ABFF-3255-4DDD-B316-3B61DE51ECA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EDE1-1636-4F32-B9F3-64982FFC60E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C8CF-E4C7-4590-B7BB-1A8894EA941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4244-EA49-480B-9F6E-997A0982962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6092D-5A2E-4071-89A4-51E5FBD7ACF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1961-D64F-49CC-BDEE-96B387A6D6B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DE3F-4633-413B-9912-CC90CA451B1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7102-958C-4A5A-9A28-B4065CF2FB1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15E5-02FF-417D-B0B1-7B14AC06BA1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2EBFE-6FE9-4BFE-8E9E-232F16BB506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91E4-88A6-42A7-80BD-D8BE5E7AF7E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73FD-E118-4E6D-801D-371A71358E8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99CC-E912-452E-8DB1-7F20CBA638C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DBBF-C6C7-43BE-9FEB-107C2083735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F317-EDC4-4C4D-8565-D57190B76F7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66ED-6CF1-47B3-A297-64F7071D2C8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F2F8-30F8-4E4B-B6ED-6CE3AAB323D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B605-428A-476C-952D-59142E2D61E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42AC-784E-492D-A01C-BD5277DA38B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