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33F3-7C57-4FE5-8394-9B17301A513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03D77-3B14-4138-B99D-007D71B490A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5A89-C7F0-44FD-B9F7-98C09C6909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2F4C2-80F4-40FE-8DA1-8D89FF3DB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509D7-F458-4492-A617-076D82179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5D737-B9A4-4E7D-96FB-AE0DD2AE5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9BF35-7346-4481-B252-B1D16B63F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627EF-1116-4EBE-905B-7E87096AA2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47C87-C1C6-40C6-ADBB-CE11D6836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1B885-4832-474A-9E79-791B84D05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34E57-127F-431B-8928-EFF816092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BE8F9-FDBA-4F68-AAA8-AEDB1F6B7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A6D98-7922-4626-95C3-6D131BA83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DEC73-7451-46AB-979E-451075E87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49159-52CC-4C65-9BB4-43C274B85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58C6B-F8C4-448A-B0C5-99C2624D5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BB43A-26C8-46AE-B0B1-FD5156A57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E2975-E943-4DD0-B1A6-46512FD31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6EE01-93A1-4663-8177-8178A22E42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AF906-1E39-406A-B780-675D5E90F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F90DAA0-EB03-44A4-8080-54CBBFBE80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5AFF123-18EE-4B29-BD47-8F084C9367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B6769D-AB1D-4E80-80E3-024E5824C5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07C2452-9F8A-4452-A864-DB69E246FB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61317EF-CD77-4729-9A9A-EABFE24065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171BE-C847-4CB7-A4C9-018A089DA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D012B72-416D-4FEA-8AA6-ECD91E8142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D3542C-6D67-44B5-8BD5-80300AC8A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226ED1-EDD8-4CCB-9898-E1AA3242C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EEAD8AE-D4F0-48CE-AB8A-A0AD04C92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7464FC2-1887-4A18-8488-A74266DAE9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9F413F3-7D74-4EAA-BF1C-560520C810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D7AB777-DEDB-49EB-A5DE-3D983323C6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9FA0EA-5891-479D-B4B1-4D67CBBA5A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548041-83F2-41A5-BBE5-A3560C7DFA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E2F34C-8406-4E1A-BDEE-C7B9CEE1FB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455C0-3894-4BFB-8BE0-0658CD6BD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EF394C-5205-4539-B88E-1C32CC2B2B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1B3B1B-4092-4804-B5CD-3176BA08FC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8CE89F-188E-454F-8458-057F38732D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2293C-4B49-4F93-8A1C-F72994014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A5C1E-9708-4EDF-B392-97D3AA282B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F1A045-EA99-4A1A-9B56-227EA7E8B8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8AB42E-F393-415E-BB7A-E86795A13D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1D5848-59A5-467B-8080-FA3F04A7F2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FC527B-7214-4BC9-A142-0EA181B65D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0A7FF11-EFAD-4B12-8017-7790F3938A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7CE10-C9F7-401C-8EE2-BEEF02A9D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332E50F-B1D2-4A32-9294-72E874F259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025EF97-D178-4058-AD0E-5F16EA4167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8C065B-7D17-404D-AA97-BC2BA6B7AC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536A70E-7926-4062-B4B6-83B3072EB8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2A6352-6B1E-4A96-A886-B26FBBD1EF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88E14B-4D44-4F26-A953-70F617893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7F9FB8-4CF5-4778-B03E-1E4C2A85E8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D3631A-500C-4813-B8B1-5F6D82A93A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CA9392-0114-4BC0-B0B1-6F58F692E7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8E2613B-5601-42BA-84E6-8F93D6AFA1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EB7F0-E9A6-4850-B765-26D8AB42A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D75E876-C0F2-4A07-A00A-EE9EAFBAF8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50884C6-4F4A-4EA8-A3CF-D694CFEC59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7D8C6D3-0073-4B7E-8B9A-FBABCBFC28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3B9BE28-68F2-4F1D-9451-C13E57C375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3773E98-BF33-402B-B8B7-5E9DF61897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E59CFD5-81B6-4976-B777-9715B0A39F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E25FB34-B712-4DF5-B4F7-6942A34631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8C420A5-961E-40EC-8768-15B0209CD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164C50D-6E84-4D49-9779-9250F5AC60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2511B0D-F941-4E86-AD4A-D5511235C3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D21C6-97C8-4D49-824F-DFFD44926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2853962-4AAC-488F-9CC0-C6D5D4FFA7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2F9E425-98C7-4BC9-93FB-63AB44519A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0FBD271-20C8-4B42-BEB7-76F092F8A6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702BD81-33E0-416A-A507-39EDD3FE39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824C899-F441-4F0E-BE67-A6ABC52D2B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5AFDB07-99E3-43C0-A4E3-85DCE72298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A4D8F1C-2C30-4DF7-9AAA-E78F63B2C4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D76FD4C-1F25-456F-9FED-5841FD7C5D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2911B3B-CE0E-4112-A759-F5DE70C211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10766FE-36B5-488C-A09F-49F56B47B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AA390-0370-4CE4-89C1-0B63DFFBD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7687612-6DB1-4CEA-87E2-C67EED3EDF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77973AA-CA74-4438-8043-24AC465B78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824E2C9-D0EE-4FF2-AD93-CBEE9EDC98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83CF3EF-EAE2-4394-A324-21A844B41C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EDB35F9-66C1-47AA-BD0E-1856F4DAEF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1152BBA-0B1A-4309-B631-F84A6D236EA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39E2FD85-E676-487D-AB20-E884028AA95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7B2E98CD-8A2A-4922-A011-CC7D77E9282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DF977043-E78F-4C51-8A3D-4FB86CC8829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5A4B9B58-4385-4691-B524-6A024F294A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36F36-6597-454A-B9A7-A1A4755C8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C4873F0A-F0BC-4C78-936C-BDD72989646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1D4227D2-AAE6-4C91-8077-FD5BEB2A8CB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42B6DD7B-91AF-4CDB-8711-5CE3051AF90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C21DDC59-1D88-4C90-B2F1-17148F155A1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466C9A6E-CE1B-4D61-96FB-C2455B6D6E6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C71B630A-0F7B-4871-A314-ED55473A297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059C2E57-3950-4CD8-BF91-5D62260774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1022-A381-4950-AE0B-A441F36B47A4}"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AFFA-ACC4-4262-B4C2-DE284308D57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599C-B372-43F8-963E-B4F37FC3ECA8}"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7CDF-BBD9-41FB-9D1C-0174E68A515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D068-43C1-4B4D-AC71-AC4091CD5C1A}"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C27D-5748-4E57-BF60-1B8BD909A67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1D83-1A88-4893-8D6D-203A7B8CAF1E}" type="datetime">
              <a:rPr b="0" lang="ar-SA" sz="1200" spc="-1" strike="noStrike">
                <a:solidFill>
                  <a:srgbClr val="def5fa"/>
                </a:solidFill>
                <a:latin typeface="Century Schoolbook"/>
                <a:cs typeface="Times New Roman"/>
              </a:rPr>
              <a:t>١٤٤٨/٠٢/١٦</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94B3-D044-4577-8074-028548C931A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44AA-4951-46AA-A088-767142358736}"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A5BF-0C83-4AD6-ABCD-45B42FA0F50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1AAD-A8FF-4AA6-BD18-AE700A6E1A73}"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6281-9D62-4345-B469-1A2BD8382F2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A808-B47F-4A75-BCCC-5F751DE4B075}"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77C0-3347-461D-9F0D-AAB43924A7A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4D0F-DAFC-48E2-B77F-0BA84E5ACAE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59EC7-4761-48CE-9A48-FA1FB86E6C6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FCF2-BEEF-435F-A9B1-6E15316BE40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0022-2FB9-454E-B085-DFAE42AEBC0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AAE5-4186-4DC8-AA6E-1F88929C57C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46C4-D0A9-42A1-9E61-24DEE0189B3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FB50-0474-4567-B4DB-33DA8C352A5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4F4E-49AA-400F-9F21-033324EE8E9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16CE-B888-4149-B0A5-6AC21D8538F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293F-389D-425A-BB33-46F31B37B26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C70FE-477A-4199-8529-CF49D124F11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216D-93E1-4DD4-8992-283AE9484A6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3F58-4972-4810-AD94-C75F9916A2E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27A8-4D58-41C9-BE1E-E0701183946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7A85-ADED-481E-ABE3-EE19FC4C7E6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7264-156C-4602-A6AB-1CB38F833A8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55AF-84DA-4704-9B20-17F30E8D96F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F366-6736-4121-B5F2-246DD2D0473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24B0-6D8D-4321-AF59-3F7E4637098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