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CD37-70E6-4AE0-9B7A-B2392FED214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A5D5-DBCC-4506-860E-5730B454E7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07D6-64AA-4718-B375-58612BBE73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480F5-482E-40A5-930B-50CEDED8A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1AB7C-2186-4E6E-807C-3062897F4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44B9B-9F40-465F-A447-3F2FA7384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FEC53-AF20-4AFD-8EC0-8D507078F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8F3AB-4FE8-45D5-83C1-F7C2DAB0C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501B5-24EC-4742-A70F-841262D6D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46EC5-A373-4DBA-9DAC-4DA0013EF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548EC-0B03-4D50-BF40-4800AD0C1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CD498-F8E7-4A4B-B549-205CF0C5B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AAB55-B057-42BB-B180-8728B79E7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93426-161F-4B08-AE17-1195A91BE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DD9FE-7523-4BDA-8A29-B5F61AF17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E3B5E-7F25-4026-9FA5-F671DE42A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EB37A-03AC-4C81-8FFC-25630D420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C1121-D399-425B-AA06-A3C135C6E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DC900-9C4C-4484-A643-C0876BEDE7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3BC92-29F2-4ABD-B8F4-E83C4C800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A3B8716-E25D-4ADA-80E7-C2D4115D14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3A24F1-4D6C-4B94-B9B0-07DCE280F9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F136E3-2EF1-4333-BB0B-5A2670FD66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9E6EC4-A3A1-4BD7-B773-F50505590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87845A-1D51-4ED1-A636-193A1F96C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82283-A3BB-4EA3-9C48-91D5E2FD1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5C9094-FA6F-4E6F-A4DC-3B2D4C916A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F3CC94-066F-46AF-85E1-56AC127DF7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60C516-B54B-4C04-9359-C4FF2B9BDA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52A10E-A2C5-41CD-A59B-03A1441CA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0F7B476-74E2-4503-907D-FA012F88C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56ECA78-48C1-4742-9CEB-AAEFF5764C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85356EA-AFEA-42F5-A7A8-E08321EBD0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DEEEAD-24D4-47A2-96A3-8E71043BB6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F92BE6-8CCA-44D0-B621-5F5299C81C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E30EF0-AE38-435F-B5EA-4704FBF3D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12084-2A01-48DE-AC81-B698E92FB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D46CC7-71D3-4CC7-BF46-107D0CF752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D3F849-F234-4D49-9E74-5AF6D6090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F4467F-765F-45AC-A5C6-C64E040E6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63921-0BF6-43B0-8DDD-19A814972F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AC153-19BB-4543-9FF1-60B7D2A61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44E58-3DA8-4E12-B405-661A2E3D0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978E0D-4E02-4ECB-99C6-ACA2D95B25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97EDB5-F4F7-4425-9902-AD02CC43A8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3FA49C-1CAE-4F52-8732-E22A0C1E9B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B0AC981-25BB-4750-86FE-AEF73CDDE3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071A0-D5F9-47B9-9970-6DA3F958F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C436D1-090E-4FE5-B7C6-053FBA001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3230F9-9243-4A80-9C5D-6CE8CC8C20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8DAD297-BE2B-4372-B64A-ED3145349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BCB5BE-94F7-4CA9-BC54-1BCAB5B886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324C106-462D-43C6-B1B7-28105CFC7F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07F15B-640A-4D0F-ACFC-B0AAD7F64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DB196D-73E0-4159-B3FF-B46DE3487B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6DD88D-3535-4917-8B1E-238C12593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DFA1600-1AAA-490F-A12E-A2D08E8D1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2C5D90C-E26B-48C8-9CB7-4C2989EA6F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C2575-9C39-476F-985A-6C9A2BA6B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0F6C1F0-1B3C-45D8-8F09-3514CFA452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E9CB56B-41EF-46BD-9D51-B23C5217BD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66AC0DB-E70D-4EE8-9D7A-0033CC2716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098CA4D-3030-496A-A960-976FFD6900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3E6A59F-2C5C-4673-879E-F42BB03103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1A0BB67-FFFD-403D-8C8F-3D83849DD0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5F5E157-EB12-48E4-95BD-26F4766968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A7E6B57-9BEA-4744-AD72-A53647A2EB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C19137A-A7B0-44FB-9C8C-3DB338DC5A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FA3621D-0AF0-4F52-9F91-829BFA813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B9AB5-66B8-4328-A252-B73AAD151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DA20921-F053-4350-A36D-73C83AEBA4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0507ADB-28DD-48A8-8480-434C650A1B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758B347-E8E2-4DB5-AD27-99881050CB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A7EB705-6C62-43A8-95B5-E896750A30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1EC13AA-0266-442F-9467-D1F345C2AC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D9EA13A-D947-4AF9-9111-EA71657A3F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3172FAC-469B-4687-8A34-6BFBAB52AA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8AD3E4B-997B-42E8-9662-62B52DFC90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5FE48DA-FCEF-46D1-B4E3-89E1D087FB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3C90173-1988-4E5A-BF5B-E51C54A84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7F37C-D67A-4324-BE49-483625F89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38F692-8B21-4391-95E5-A08703F301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BA1458-8FC1-44CE-9B83-F9BC05AB70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2336F52-335A-411C-A9C8-192AE33B06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9F88F75-2F69-4969-931B-EDF2A3EAC7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DF5874A-D4AD-4555-BE6F-629F7FC7F2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77A156C-49DE-4831-87D6-062F52442AB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B8FEEE8B-0003-4A93-A064-27FAB00D874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4808CBA4-1297-4CFF-8885-C76754D6D1A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41D68732-3AC7-4749-92D0-8B9F3A1E4F2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A08E0D0A-1CB0-4D98-86CC-22D82FF36E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88132-9B85-4EB1-8414-EDBFFAAA2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13A583D9-D422-43D2-99C2-929BDA5B274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1F9CF15D-B5C8-4551-93AA-56F9CD7117F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369B8824-C4E0-4C5C-9CC4-3ABFB62DEF9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09AC469D-BF86-4F3E-8106-B70435733E1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FA02B8F8-67D7-48E7-8880-AF355875F6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7D00891E-372C-4D69-BFC2-253E4B4A5E0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EAF1173D-B81A-45F6-8258-0AC8DE99BC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8D6B-16A1-4F8A-B966-F450202F1367}"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BFD0-70B6-4655-B845-65CF57E8323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2DA3-EE17-440B-872D-FBB57B7F4D4D}"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82D5-3A44-4892-A8AE-2826F465580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55B0-8B4C-4065-8A03-4ABB97FAFF39}"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2B68-DF4B-47BB-9B01-D944AF719E0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8F34-6E49-4004-9773-AB073A94A0B5}" type="datetime">
              <a:rPr b="0" lang="ar-SA" sz="1200" spc="-1" strike="noStrike">
                <a:solidFill>
                  <a:srgbClr val="def5fa"/>
                </a:solidFill>
                <a:latin typeface="Century Schoolbook"/>
                <a:cs typeface="Times New Roman"/>
              </a:rPr>
              <a:t>١٤٤٨/٠٢/١٦</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20B1-76AA-40B8-A9C7-7DEED58DF66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844E-1476-412A-9CD4-B2AA434F6C3C}"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84B6-6F6A-4D0A-8059-53F6D5A846A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EBEA-742A-44E8-902D-3EEEA1CE9DE5}"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FAC8-5066-4CAD-9F6E-D49C62E7A4A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25AE-0564-4DD8-B93D-59C871BDE103}"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40D8-C6C6-4100-AEBB-CACF74E4342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A716-0FD9-4094-8F43-6FFE4310E47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3B05-1118-42A7-B517-ACDD48E1E40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4330-F4E7-4356-832A-C42B7DD3DA6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01F5-C13C-4F73-8445-CC5C504693B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59C2-6167-40B1-9E86-D884A44246F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ACB7-120D-49EF-814D-1902191B482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7CFB-FD27-457A-9312-F7174629037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B9A7-E54A-45F2-BAF5-FFBD529EB6C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9059-608B-4A17-8DDD-A8E6A664FFE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C511-F42C-4688-A545-DEF9F2D2426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08A7-E86D-4B23-8D4F-0292DDC7E5F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A82E-85D8-4844-B72E-80CA1482BAA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35AE-A8C4-4E59-B4B6-3078BDFF774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FA4B-CDC7-47AE-8E81-DC0B8F40756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C931-C885-4C97-BE36-600602F52F3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1227-43B8-4D2F-87BC-A84EF69F3A4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811C-CADA-4A8A-9696-96666D01C06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F328-0DB5-4D95-A39B-044AECE1D0F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DE8B-8BB3-4201-BC7C-3664605C062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