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FB6E-4AEA-46F0-A0E0-41B5B3E2649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8B6F-6FE6-4CAA-931F-FB9E122986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3271-FD53-42AE-826A-26C45722DA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132A9-22CC-4B21-A889-B6C121750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4F156-1540-4DC4-96B1-9C1B3A981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F6DBB-F8C8-426D-BAF2-A8E047479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F1A82-8875-4F83-92C0-27DCFD1E8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15CC8-A9E2-46BD-B392-07607CA04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E3236-05D9-4AB2-9D73-B8C925DE3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3586A-494B-43A4-97B1-71212E0C7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30705-34A9-4306-B9DD-C19F1C08C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435F1-68FE-4D0F-984B-6D926D300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BFD9D-4221-4F9C-BC8D-91E7E4596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CC641-9ED0-4489-A0B9-D32A3074D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24EC1-3B5B-4D07-BCAB-E7BBB1A4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0BE2D-3AB0-49EF-9EB9-764B3939E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46517-E8BF-4C27-A39E-7FCE9E040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B2BCA-C47F-4CD5-ADB1-C34CD6422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B7133-8ACB-4F1F-A285-1B86DEB08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FFDFF-9379-4A90-B261-398CFDC16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249724E-C5C5-465B-903D-2C232DA541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5E695D-316B-400D-B561-8570E0F7D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51C8A9-5029-4149-B9D4-6F30750BF4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76321B-2A3C-4F49-AF3D-09B4D39EB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A3EA5F-C6BC-4A48-B38B-1C8613E995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869AF-6009-4BC8-B85E-F07D61102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31623EA-3DC2-4524-A5E9-8C079A4455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D78BA9-401A-48EC-816E-537F117CF2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D1A103-8850-452D-AA82-736044BDC0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FD14B7-E99D-4D1D-8361-89108CACE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A851CB-0E1B-4FF9-9C3C-0BD0FBBEE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350994C-A222-40A1-91AC-449D611F72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87152F0-F17E-4CA4-8115-40FB26CCA8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C756CA-856D-4273-801D-661D39F70A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767FF-77EB-4350-A17B-5613D3E47C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0E239-88E5-4E6E-A0EE-A865039C9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58AF4-CCAD-4547-87B2-CFB8DE1A4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1F24B-FB1F-4654-9789-FA3ADA6E03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A4325-90ED-47F2-851D-E3186EFFA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DF96E-64EB-4029-966B-DE5369DA46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A94F5-59ED-4EF9-96EC-E7F644ED6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A9D69-D34D-4E3B-B280-7C6B0FCB4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41E181-A3AB-4196-992F-FEC671AF6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A8EC2-314B-42C9-9712-6B64002C4F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7EFEE3-E7BE-4C48-BCFF-3883167224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E97DF9-74D6-4B9A-94F0-975811ECC4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5F244E6-6355-44CA-B077-2249AFA02B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C6FE9-B802-4D45-88BE-AB5161C90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AE8F91-7A7E-444D-B819-34AAAE7438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DF76036-B60E-4EA1-B859-C8C1754B86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973E3DD-9CCE-4C86-BC00-77FA0961B6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4E7835-EF3A-4EC2-AD58-B7D535100D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F86E25-5F1B-45D1-BAD3-957BAAC0F7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84021B-4CA9-4253-AF11-1663DBF43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36D107-F636-411D-8B22-B04AB5BDD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ADCE96-4E37-4A56-B521-F72863DC44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C5A0B5-F02A-4003-BEF4-F325A67ED8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FEE5C07-273F-47A5-B311-9006B33DAE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886F3-D479-4A3A-A0B4-EB4538A8C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23CA92E-F2D7-4FE1-A644-273D4C488A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D79C9AB-54A6-4AC7-BA29-164D3E0ED9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808C624-5E02-47F5-84CC-26017EAA8E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55D5140-CFB8-4CD3-A455-F8072BCDF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C7186FB-73A9-4211-A78B-2801F96818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6BFB91A-6E6A-44F4-87C7-4173046C7B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726F598-39D2-40D2-92D7-F3F2B87DA8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77BAED-88A7-400F-8889-CA5C558A63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4659BD6-5D14-4A7C-BBAC-B13448BB3B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371007-F2DD-49B4-A09E-D2F5BA706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FDEC-C769-4D0A-849C-7284C243F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084B2AB-EF9A-491D-82A0-894A34B6F5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79AF515-5D22-4E53-9535-8059813C46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B423DAC-E5ED-43F2-A1C1-99D56A59E0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6348225-5396-4CB4-9134-B7D52A8620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677B76C-34F8-4387-9FEE-FC043D3DCE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464F28A-2DC6-4C09-963F-9FBA4C8380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47808FE-71F5-4BC4-B970-801E912BB5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47C06C4-3A86-435C-A044-403EA32BFA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6F3DD2D-102F-4DCD-A2E9-AE96BDE68E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EBB69C-A40E-4B30-ACD2-ED0537B89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5F00A-F839-4607-ACBA-8B73E87D3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B9C905-EE87-43F7-A5F8-1CE099FE2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D59EF7E-6972-4287-8BBF-4014F3D4C9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F6D046-755E-4234-B7D6-48B5A11F1C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96ECAC8-9014-4E20-9FB6-3E9E94B3AC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846D695-D565-46B9-95DC-267B94CC50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6123A12-308A-4774-A069-49BA3E4199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653A467B-5DA5-44D9-92CF-682DE253754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1B197C44-2ABA-4C92-8874-ADFA4E5C01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7443F834-5707-4AC3-A480-170CC17B55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B3BFB4EE-34CD-4788-A6AA-E489E701B9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D4CAB-6219-4A95-B904-98E4D58CE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F83AE3CE-F124-426C-A7EC-0B02196D897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16A96C8D-035C-4B55-9AFA-54EB4FD8429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4F014AF4-00D1-4913-96F1-F6F65B421E5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687E7AAE-ABCB-4270-814F-3FCD6CBE3DD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2D841BD1-D700-4C0D-B7CE-39204EB2B22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C1C8FD13-68D3-4338-81FA-74D1669AD53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A7D212A8-FBDC-4111-A267-9E8076C824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E253-6A62-4BD1-8043-6005F5B321E7}"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B44D-A00D-472F-92A1-B462B972D67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DA71-EC5C-4F7F-A3DD-228107BD3F94}"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3BA2-966E-4F71-8D75-101FEA9B7B0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604F-E94E-48F2-8DB9-4926B8DA7747}"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2E25-F002-41FD-9494-DE89D9EE405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2AF5-83AA-44E7-95A4-CBE9E95A896B}" type="datetime">
              <a:rPr b="0" lang="ar-SA" sz="1200" spc="-1" strike="noStrike">
                <a:solidFill>
                  <a:srgbClr val="def5fa"/>
                </a:solidFill>
                <a:latin typeface="Century Schoolbook"/>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A3A3-0420-4F28-AB79-FF3062A14ED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F690-E759-4D51-B74F-5E268C870A8D}"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74D4-0ED3-43C5-98E3-25FBF6C33C1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3A32-317A-46B0-A7D8-9B2F6F5357F8}"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D6E6-CD59-4767-BE0E-F654B91EB93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4253-A8A4-4381-BE9D-BA10A4E712C8}"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26D0-308E-4634-ACA0-FAE73451647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4A32-D82C-450A-836E-DAA78089399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AB0B-0A1C-4668-8631-2D46C92A90F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3B49-603B-47C1-942F-8E07B09D803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512F-F36A-499C-BD8B-475C33F5504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CF6C-4A41-43E3-84FC-D061632A274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AF6A-10F0-4944-9200-9EB1EED0ACC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5DE2-7C90-46A7-89F6-AB0932C39E8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4231-8096-4A31-B476-28D3E9E8237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1FC4-15F9-4319-A70E-FD75DF66EAD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D1C5-FA44-4F74-8E77-EFC7F84B64F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C943-71A9-485D-9470-E5685EEF0A3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5589-6F33-45C0-89C8-D78A60D3CBF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EC8F-E6E0-43CB-ACB0-910955AABB3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01F4-7C81-4378-9979-61944A062F9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D54B-03BB-4460-A328-0BEFDAFCB43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C5A3-4EEF-4DAC-A44F-3EAF5E39345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7607-3827-4D91-B662-E20A7495BD8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926F-277D-46FA-AABD-65C9DC4252C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EE9A-D364-432B-9BEA-460B17AA47C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