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5B30-A0E9-494F-B47A-DE5BE940239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2ED1-9182-469E-8F3A-7B64D100A50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FF85-9857-4214-B880-3B02A721E1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666F9-A5C2-4CB5-B8D0-109F7C86F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E40F1-5B1B-4770-BB2A-9135EE177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8AEE3-A664-4A43-8D51-23C324B53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F7360-11C9-44D9-AE8A-F3069B810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8EDB8-870C-4F9F-819A-53A88BC75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80714-11B0-4AFD-B400-9D515C6B6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B099F-642D-4809-9C5B-C33B8592D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FD789-A692-4064-A656-19524DA4E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FA84A-AE4F-401F-ACFA-77C0ECEFF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EC37F-574F-4DA7-9B81-D21FDFD03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36FCD-4D02-48FA-940C-850E943B8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3863B-A45E-4CD7-A839-5515B7EC0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EF9E1-DF29-4A2A-8A6B-3FE047B28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B16A9-0B8A-415F-B938-C9C849246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5F626-9D0B-4A15-96D3-2DA8F13FF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8C275-3688-4495-A5F1-A9A2985E4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4A868-98C2-4611-A232-D2B880C4B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EC92F57-BC1E-449C-9864-F4D6303D31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85C9CD8-4A9B-40EA-9CAF-78B28B848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37E6FC1-649E-4C87-9FFD-D28AF4C4B8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59BC79-E61A-4B55-9630-C02A9C7B6A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22CB90-1930-452D-A299-CD040DA856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29486-3594-45A9-B36F-26B38DF8D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588971D-786B-45D0-B5A7-71EF648720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26EDEF-C4BB-479D-857E-F2AEE60B7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60C32A-A6BF-4996-9107-C67630F995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90B265-BC18-4D4F-BFFE-FD3FD246F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845E1B7-53D4-40A9-9EED-2A730A073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D2993D0-A766-4C0C-A743-ECCEBD7E33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86D6BFF-6D9E-4644-84CE-F35225470C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752069-3CD2-40DA-8CA7-E16658F876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11984A-2643-47E0-B8BE-88EA57E538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AFA380-09BA-4763-A787-7C152EE93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BB19B-C73A-496B-ABD0-23E353AAB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77D241-D6C3-40F3-8D55-E172C0831D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0E2222-FDBA-4FA5-9022-E84592209E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80E66C-2A58-4654-973C-A84C8EBCB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96BEB1-83BC-44C1-9327-EB0C59BFDA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579F7-57B7-4837-9E95-524C4D952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D8F273-8CEA-41BA-837C-3AB43BA02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A3E1A-6FF5-4D8A-9A7D-4A73BC8A1F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00F236-A0E0-4511-969D-6EA533E047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2D76D9-488D-489D-A301-48387A3FFF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63456E2-BCA1-48EE-A166-EE5411B437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23223-CDD5-451F-AEE1-78ABEBF3C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178A3B-2B38-4A1B-9B68-6ACFDEFF84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D26F41-D277-45E9-9386-AF8AA11A0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0F77AB-8759-4BD2-A323-97A6414BA2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6B125ED-7275-4F0E-95EF-54118EB5FF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CA2FF17-DE1A-4EC2-A936-B8661F89F3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46DF64-E8BB-4DFC-8E34-7E15189A3D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2C1E8F-8827-462C-AB6D-34023304B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C14570-5D80-456F-8987-E788009D6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BDD77A-1E18-4D00-A1F5-5951393553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8FE2181-23BF-4CFD-9324-A5349EA82B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3790C-DC33-4316-BF94-DADB1A62A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068981B-548C-4E63-B09F-382E0FB0D9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E0BDA65-7824-4302-A3EA-169BFF4C4F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44EF61B-80B5-453D-B159-FDB3357A85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B289125-F3DE-48A1-B779-673A5B822E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E2D90C2-FCDC-4907-A0D6-81AED7A32C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5041C9E-1DFC-4DBF-A8C3-20D9017C69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55DE60A-813B-4917-87D5-131DAF29D8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A3785BF-F883-4F8D-950E-1C9691BC5F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71D6B73-F7CF-4F50-A475-23E5F9E76C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C3945AF-B2BB-45A3-BF3A-25CB06C32C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CCB8B-9411-4B28-BE32-CBE10B38B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7FE456F-2BB7-417B-89C2-FABDB28B3C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D4AE52D-1259-4D66-ADE9-BFCB9FC572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182BFFC-65B8-41CA-B232-F430B28EF2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CB39F7C-6AF8-4630-9CA1-B3F2A84384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314BFD2-5F74-491F-A69F-E20D49700A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59E2240-455A-4404-87AF-36EF6FB85E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8CDFD6A-79B8-4100-A2AD-FF8D32405D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580C3B7-273E-41F8-B0CC-49FB697AF3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E8F57CB-B102-4B24-A793-C28806243B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D889CE1-7EBA-40F5-A2D1-091AFABAB3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8BEAF-DC91-42B5-AE92-54D2086EF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1C08C4E-772A-4C98-98E4-36E516EFC7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33977A6-AF14-432C-BF7C-29BB8BA60B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2158BEA-1D8D-4E7C-B656-551524C8B7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55D22BA-3E48-4892-9A7E-942514F62E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6F061F7-78E3-4F97-906F-DD813A8DEF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BE3713C-CAB9-49CE-95AB-2DBC08C93C5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06BF7533-AECD-4582-A1F1-4B5868A763F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56B3091D-7358-4693-854F-1E287D3D9B3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02582DB7-117D-4536-B22E-DABAFEC5599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FAF30048-6559-42FF-8382-2BB503C59D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44F14-F559-4407-8E12-E8DACB9E2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B735522F-7C5A-427E-939C-CC6BD1EABA7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0F39AA70-FDAA-4801-8E47-6903EAC1199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516FE7D1-ED6B-4393-88F3-BB362EA6017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81F9750A-0BE0-48CB-98E0-D36631E3F8F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A59C73F8-14BA-4010-93DD-2868531603E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5477F225-E3D4-4895-8853-425BD0002AC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D6D6CA59-1E47-470D-8FC3-30B1CA1081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C54B-3ECB-44F6-B2FB-D1010E67282F}"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FEDE-95E5-4317-9056-886D37EC0CA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8229-35D6-4E9E-9D70-EA496E41AD6F}"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EE5D-9872-4B58-974F-E63247E5C75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1F6F-4DA0-4D31-9E04-7106D365F6CB}"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61B7-7121-4AE6-86DE-145151D1963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CFA5-7E96-4FED-8DF7-50CC4651CD39}" type="datetime">
              <a:rPr b="0" lang="ar-SA" sz="1200" spc="-1" strike="noStrike">
                <a:solidFill>
                  <a:srgbClr val="def5fa"/>
                </a:solidFill>
                <a:latin typeface="Century Schoolbook"/>
                <a:cs typeface="Times New Roman"/>
              </a:rPr>
              <a:t>١٤٤٨/٠٢/١٦</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AD2C-7726-4BBC-8775-693D4D54F11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7C3B-F1F5-4267-8BAD-5AF18F86FE02}"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A7A5-2804-49FE-AF66-7558DD01604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5445-07E5-428C-B8C2-A133455E6AE4}"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74A0-030E-4BC7-8C36-8ADBD2F9453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2C86-38BE-47D6-A74E-9C6EF44FC60D}"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9C6D-C52D-4D0B-86A0-234FD32A044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A7CF-C525-4D57-8915-C1581A95414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A701-B3F2-4A1F-90D9-86C59F228D0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7E3B-58FA-4F03-AB0E-A3E44EBBB90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6200-F53B-4FCA-9529-1DA3C74E526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27E7-D255-4733-8564-FA4F86BD4F8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34D0-3E6B-4A0C-9C05-479475DB842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4C99-99A2-46D5-A6D3-66279879A62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3CBA-AB64-46CA-A1D1-54F6AB6369B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615C-C814-4C3A-8475-AA6D621C95D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FF31-156C-46B9-BAF0-FCD49EEFDC7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A707-450F-4D27-9F68-518FCECE11A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E57C-CB6C-44E3-8117-B5742B9746E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DFBC-FE55-46E4-BC29-CB8E5254B6D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6C4A-28C4-4816-A1F4-041AE6C4EE9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DC47E-09D2-4CAC-A50F-0027E1A836B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7EDC-C84B-4AD7-8FDF-E4E6D758481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2D3A-E9CE-4FE5-9205-34749C6FC81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C80D-DA7B-4E73-89A6-CFFB7B45E26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2292-58F7-4EC3-B7BC-FDB655138C4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