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22208-0B59-48C2-900E-9AC3B99DE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3EEF4-B28D-4494-9249-56462CC54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5A312-AC43-4447-B66C-0EB835E62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E5B6D-C37A-460F-8344-861A39B7D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90449-7C2E-47E3-BCEB-0CA4BAE10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CFE5-BEF7-47C3-9766-EED9F1B03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CFD98-8D33-41BC-82B1-C434BF5F3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72D1-345C-46EA-81B7-DD2896BCA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36B0-4BBC-49C3-A06C-033E76652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45E6-DD17-41DF-9058-E3B73B99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1615-4D8B-4EF6-A18E-71B568C43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D515-D197-4590-8CF0-556657103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D863-FF56-4C34-96FC-7212DD08EDF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322360"/>
            <a:ext cx="7886880" cy="1006560"/>
            <a:chOff x="628560" y="2322360"/>
            <a:chExt cx="7886880" cy="100656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483280"/>
              <a:ext cx="77724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الطريق الثالث: سد الذرائع</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khbar MT"/>
                </a:rPr>
                <a:t>إعداد: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3" descr="$0$.gif"/>
          <p:cNvPicPr/>
          <p:nvPr/>
        </p:nvPicPr>
        <p:blipFill>
          <a:blip r:embed="rId1"/>
          <a:stretch/>
        </p:blipFill>
        <p:spPr>
          <a:xfrm>
            <a:off x="457200" y="1601640"/>
            <a:ext cx="8229600" cy="4521240"/>
          </a:xfrm>
          <a:prstGeom prst="rect">
            <a:avLst/>
          </a:prstGeom>
          <a:ln w="0">
            <a:noFill/>
          </a:ln>
        </p:spPr>
      </p:pic>
      <p:grpSp>
        <p:nvGrpSpPr>
          <p:cNvPr id="48" name="عنوان 1"/>
          <p:cNvGrpSpPr/>
          <p:nvPr/>
        </p:nvGrpSpPr>
        <p:grpSpPr>
          <a:xfrm>
            <a:off x="396720" y="237960"/>
            <a:ext cx="8345520" cy="1256040"/>
            <a:chOff x="396720" y="237960"/>
            <a:chExt cx="8345520" cy="1256040"/>
          </a:xfrm>
        </p:grpSpPr>
        <p:pic>
          <p:nvPicPr>
            <p:cNvPr id="49" name="عنوان 1" descr=""/>
            <p:cNvPicPr/>
            <p:nvPr/>
          </p:nvPicPr>
          <p:blipFill>
            <a:blip r:embed="rId2"/>
            <a:stretch/>
          </p:blipFill>
          <p:spPr>
            <a:xfrm>
              <a:off x="396720" y="237960"/>
              <a:ext cx="8345520" cy="1256040"/>
            </a:xfrm>
            <a:prstGeom prst="rect">
              <a:avLst/>
            </a:prstGeom>
            <a:ln w="0">
              <a:noFill/>
            </a:ln>
          </p:spPr>
        </p:pic>
        <p:sp>
          <p:nvSpPr>
            <p:cNvPr id="50"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الطريق الثالث: سد الذرائع</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عنوان 1"/>
          <p:cNvGrpSpPr/>
          <p:nvPr/>
        </p:nvGrpSpPr>
        <p:grpSpPr>
          <a:xfrm>
            <a:off x="396720" y="298440"/>
            <a:ext cx="8345520" cy="1012680"/>
            <a:chOff x="396720" y="298440"/>
            <a:chExt cx="8345520" cy="1012680"/>
          </a:xfrm>
        </p:grpSpPr>
        <p:pic>
          <p:nvPicPr>
            <p:cNvPr id="52" name="عنوان 1" descr=""/>
            <p:cNvPicPr/>
            <p:nvPr/>
          </p:nvPicPr>
          <p:blipFill>
            <a:blip r:embed="rId1"/>
            <a:stretch/>
          </p:blipFill>
          <p:spPr>
            <a:xfrm>
              <a:off x="396720" y="298440"/>
              <a:ext cx="8345520" cy="1012680"/>
            </a:xfrm>
            <a:prstGeom prst="rect">
              <a:avLst/>
            </a:prstGeom>
            <a:ln w="0">
              <a:noFill/>
            </a:ln>
          </p:spPr>
        </p:pic>
        <p:sp>
          <p:nvSpPr>
            <p:cNvPr id="5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 سد الذرائع</a:t>
              </a:r>
              <a:endParaRPr b="0" lang="en-US" sz="4400" spc="-1" strike="noStrike">
                <a:solidFill>
                  <a:srgbClr val="000000"/>
                </a:solidFill>
                <a:latin typeface="Calibri"/>
              </a:endParaRPr>
            </a:p>
          </p:txBody>
        </p:sp>
      </p:grpSp>
      <p:pic>
        <p:nvPicPr>
          <p:cNvPr id="54"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8440"/>
            <a:ext cx="8229600" cy="37486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akkal Majalla"/>
                <a:cs typeface="Sakkal Majalla"/>
              </a:rPr>
              <a:t>أمَّا في الاصطلاح: فقد عُرِّفت بتعريفات  كثيرة، تكاد تنحصر في أحد قسمي الذرائع؛  وذلك أنَّ كثيراً من العلماء والباحثين  درجوا على إطلاق الذريعة على ما يُتَوَصَّلُ  به إلى محظورٍ.</a:t>
            </a:r>
            <a:endParaRPr b="0" lang="en-US" sz="4000" spc="-1" strike="noStrike">
              <a:solidFill>
                <a:srgbClr val="000000"/>
              </a:solidFill>
              <a:latin typeface="Calibri"/>
            </a:endParaRPr>
          </a:p>
        </p:txBody>
      </p:sp>
      <p:sp>
        <p:nvSpPr>
          <p:cNvPr id="56" name="PlaceHolder 2"/>
          <p:cNvSpPr>
            <a:spLocks noGrp="1"/>
          </p:cNvSpPr>
          <p:nvPr>
            <p:ph/>
          </p:nvPr>
        </p:nvSpPr>
        <p:spPr>
          <a:xfrm>
            <a:off x="468360" y="3644640"/>
            <a:ext cx="8229600" cy="419148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هذا أحد قسمي قاعدة الذرائع؛ فإنَّ الذرائع منها ما يُوصِل إلى  المحذور - وهذا هو المشهور المتبادر عند ذكرها - ومنها ما يوصِل  إلى المشروع، وهذا ما يُعبِّر عنه بعض العلماء -كالقرافي - بـ"فتح  الذرائع"، واشتهر عند عامَّة الفقهاء تحت مسميات أُخرى؛ والذريعة  من حيث كونها طريقاً من طرق الاستدلال تشمل هذين القسمي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من هنا يمكن تعريف الذرائع بمعنىً اصطلاحي عام يشمل هذين  المعنيين؛ فيُقال: الذرائع في الاصطلاح: ما كان وسيلةً وطريقاً إلى  شيءٍ آخر حلالاً كان أو حرام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عنوان 1"/>
          <p:cNvGrpSpPr/>
          <p:nvPr/>
        </p:nvGrpSpPr>
        <p:grpSpPr>
          <a:xfrm>
            <a:off x="396720" y="304920"/>
            <a:ext cx="8345520" cy="1006200"/>
            <a:chOff x="396720" y="304920"/>
            <a:chExt cx="8345520" cy="1006200"/>
          </a:xfrm>
        </p:grpSpPr>
        <p:pic>
          <p:nvPicPr>
            <p:cNvPr id="58" name="عنوان 1" descr=""/>
            <p:cNvPicPr/>
            <p:nvPr/>
          </p:nvPicPr>
          <p:blipFill>
            <a:blip r:embed="rId1"/>
            <a:stretch/>
          </p:blipFill>
          <p:spPr>
            <a:xfrm>
              <a:off x="396720" y="304920"/>
              <a:ext cx="8345520" cy="1006200"/>
            </a:xfrm>
            <a:prstGeom prst="rect">
              <a:avLst/>
            </a:prstGeom>
            <a:ln w="0">
              <a:noFill/>
            </a:ln>
          </p:spPr>
        </p:pic>
        <p:sp>
          <p:nvSpPr>
            <p:cNvPr id="5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أولاً: قاعدة  سد الذرائع:</a:t>
              </a:r>
              <a:endParaRPr b="0" lang="en-US" sz="4400" spc="-1" strike="noStrike">
                <a:solidFill>
                  <a:srgbClr val="000000"/>
                </a:solidFill>
                <a:latin typeface="Calibri"/>
              </a:endParaRPr>
            </a:p>
          </p:txBody>
        </p:sp>
      </p:grpSp>
      <p:pic>
        <p:nvPicPr>
          <p:cNvPr id="60"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3800"/>
            <a:ext cx="8229600" cy="72241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الضابط:      الذين ينظرون لقاعدة الذرائع لا يجيزون  التوسع في سدِّها؛ لأنَّ التوسّع فيه يؤدي إلى  إيقاع الأمّة في الحرج، وفي هذا إخلال بأصل  شرعي آخر مهم هو "رفع الحرج"؛ وعليه فلا  يجوز الإفتاء بناءً على سدّ الذرائع مطلقاً مهما  كانت؛ بل لابد من تحقق مناط السدّ والمنع، وقد  نصَّ على ذلك عدد من العلماء والباحثين، ومن  نصوصهم في ذلك، يمكن ضبط قاعدة المنع في  الذرائع، من خلال الشروط والقيود التالية:</a:t>
            </a:r>
            <a:endParaRPr b="0" lang="en-US" sz="3600" spc="-1" strike="noStrike">
              <a:solidFill>
                <a:srgbClr val="000000"/>
              </a:solidFill>
              <a:latin typeface="Calibri"/>
            </a:endParaRPr>
          </a:p>
        </p:txBody>
      </p:sp>
      <p:sp>
        <p:nvSpPr>
          <p:cNvPr id="62" name="PlaceHolder 2"/>
          <p:cNvSpPr>
            <a:spLocks noGrp="1"/>
          </p:cNvSpPr>
          <p:nvPr>
            <p:ph/>
          </p:nvPr>
        </p:nvSpPr>
        <p:spPr>
          <a:xfrm>
            <a:off x="457200" y="7751520"/>
            <a:ext cx="8229600" cy="7270200"/>
          </a:xfrm>
          <a:prstGeom prst="rect">
            <a:avLst/>
          </a:prstGeom>
          <a:noFill/>
          <a:ln w="0">
            <a:noFill/>
          </a:ln>
        </p:spPr>
        <p:txBody>
          <a:bodyPr anchor="t">
            <a:normAutofit/>
          </a:bodyPr>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أن يؤدي الفعل المأذون فيه إلى مفسدة. فالمعوّل عليه في المنع:  ما يترتّب على الفعل من المفاسد في مجرى العادة، أو ما يقصد به في  العرف؛ وإن لم يثبت قصد خاص من الفاعل، بل وإن ثبت القصد  الحسن والنيـة الخالصة، كما في مسألة سَبّ آلهة الكفار.</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أن تكون تلك المفسدة راجحة على مصلحة الفعل المأذون فيه؛  فالفعل الذي يتضمن تحصيل مصلحة أو دفع مفسدة لا يمنع - وإن كان  ذريعةً إلى تفويت مصلحة أو تحصيل مفسدة من جهة أُخرى - إذا  كانت المصلحة التي يجلبها الفعل راجحة على المفسدة التي تنشأ عنه،  أو كانت المفسدة التي تندفـع به، راجحة على المصلحة التي تفوت به.</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أن يكون إفضاءُ الفعل المأذون فيه إلى المفسدة مقطوعاً به، أو  كثيراً غالباً بحيـث يغلب على الظن إفضاؤه إليها؛ أو أن تتعلق المفسدة  فيه بمحظور خطيرٍ، يقتضي الاحتياطُ من المجتهد درءَ المفسدة فيه،  ولو لم يكن إفضاؤها إلى المفسدة كثيراً.</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أن لا يكون سد الذريعة شاملاً عاماً لكل صور المحكوم فيه وكل أحواله؛  بل بالقدر الذي تندرىءُ فيه المفسدة، وإذا زالت الخشية زال الحظ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عنوان 1"/>
          <p:cNvGrpSpPr/>
          <p:nvPr/>
        </p:nvGrpSpPr>
        <p:grpSpPr>
          <a:xfrm>
            <a:off x="396720" y="304920"/>
            <a:ext cx="8345520" cy="1006200"/>
            <a:chOff x="396720" y="304920"/>
            <a:chExt cx="8345520" cy="1006200"/>
          </a:xfrm>
        </p:grpSpPr>
        <p:pic>
          <p:nvPicPr>
            <p:cNvPr id="64" name="عنوان 1" descr=""/>
            <p:cNvPicPr/>
            <p:nvPr/>
          </p:nvPicPr>
          <p:blipFill>
            <a:blip r:embed="rId1"/>
            <a:stretch/>
          </p:blipFill>
          <p:spPr>
            <a:xfrm>
              <a:off x="396720" y="304920"/>
              <a:ext cx="8345520" cy="1006200"/>
            </a:xfrm>
            <a:prstGeom prst="rect">
              <a:avLst/>
            </a:prstGeom>
            <a:ln w="0">
              <a:noFill/>
            </a:ln>
          </p:spPr>
        </p:pic>
        <p:sp>
          <p:nvSpPr>
            <p:cNvPr id="65"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ثانياً: قاعدة فتح الذرائع:</a:t>
              </a:r>
              <a:endParaRPr b="0" lang="en-US" sz="4400" spc="-1" strike="noStrike">
                <a:solidFill>
                  <a:srgbClr val="000000"/>
                </a:solidFill>
                <a:latin typeface="Calibri"/>
              </a:endParaRPr>
            </a:p>
          </p:txBody>
        </p:sp>
      </p:grpSp>
      <p:pic>
        <p:nvPicPr>
          <p:cNvPr id="66"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07160"/>
            <a:ext cx="8229600" cy="393228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الطرق التي يُسلك منها إلى الشيء، والأمور التي  تتوقف الأحكام عليها من لوازم وشروط" قاله الشيخ  السعدي؛ فالمراد فتح الذرائع المؤدية إلى جلب  المصالح وتحقيق المقاصد، التي لا تحصل إلا بها.</a:t>
            </a:r>
            <a:endParaRPr b="0" lang="en-US" sz="3600" spc="-1" strike="noStrike">
              <a:solidFill>
                <a:srgbClr val="000000"/>
              </a:solidFill>
              <a:latin typeface="Calibri"/>
            </a:endParaRPr>
          </a:p>
        </p:txBody>
      </p:sp>
      <p:sp>
        <p:nvSpPr>
          <p:cNvPr id="68" name="PlaceHolder 2"/>
          <p:cNvSpPr>
            <a:spLocks noGrp="1"/>
          </p:cNvSpPr>
          <p:nvPr>
            <p:ph/>
          </p:nvPr>
        </p:nvSpPr>
        <p:spPr>
          <a:xfrm>
            <a:off x="395280" y="3284280"/>
            <a:ext cx="8229600" cy="26521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يُعَبُّرُ عنه عند عامَّة الفقهاء بتعبيرات أشهر، من  مثل: "ما لا يتم الواجب إلا به فهو واجب" وَ "ما  لا يتم الأمر إلا به يكون مأموراً به" وَ "ما لا  يتوصل إلى المطلوب إلا به" وَ "وسيلة الواجب"  وَ "مقدمة الواجب"، وهذا الغالب عند الأصوليين  وفي كتب الشروح الفقهية؛ وقد تلقب عند الفقهاء  بـ"الاحتياط"، وغير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452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حكم فتح الذرائع:الذرائع  والوسائل التي لا يتم  المأمور إلا بها، نوعان:</a:t>
            </a:r>
            <a:endParaRPr b="0" lang="en-US" sz="4400" spc="-1" strike="noStrike">
              <a:solidFill>
                <a:srgbClr val="000000"/>
              </a:solidFill>
              <a:latin typeface="Calibri"/>
            </a:endParaRPr>
          </a:p>
        </p:txBody>
      </p:sp>
      <p:sp>
        <p:nvSpPr>
          <p:cNvPr id="70" name="PlaceHolder 2"/>
          <p:cNvSpPr>
            <a:spLocks noGrp="1"/>
          </p:cNvSpPr>
          <p:nvPr>
            <p:ph/>
          </p:nvPr>
        </p:nvSpPr>
        <p:spPr>
          <a:xfrm>
            <a:off x="395280" y="1844640"/>
            <a:ext cx="8229600" cy="75596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الأول: ما كان مأموراً بها بالنَّص الشرعي؛ كالسعي إلى صلاة الجمعة، كقول  الله عز وجل: ? يَا أَيُّهَا الَّذِينَ آمَنُوا إِذَا نُودِي لِلصَّلَاةِ مِن يَوْمِ الْجُمُعَةِ فَاسْعَوْا  إِلَى ذِكْرِ اللَّهِ وَذَرُوا الْبَيْعَ ذَلِكُمْ خَيْرٌ لَّكُمْ إِن كُنتُمْ تَعْلَمُونَ ?؛ وكالطهارة للصلاة،  وقوله تعالى: ? يَا أَيُّهَا الَّذِينَ آمَنُواْ إِذَا قُمْتُمْ إِلَى الصَّلاةِ فاغْسِلُواْ وُجُوهَكُمْ  وَأَيْدِيَكُمْ إِلَى الْمَرَافِقِ وَامْسَحُواْ بِرُؤُوسِكُمْ وَأَرْجُلَكُمْ إِلَى الْكَعْبَينِ ?؛ وهذا النوع  قد اجتمع على وجوبه دليلان: النَّصّ، وقاعدة: ما لا يتم الواجب إلا به فهو  واجب. وهذا ظاهر، لا يُحتاج إلى بيان حكمه.</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ثاني: ما كان مباحاً من حيث الأصل، لم يرد فيه أمر مستقل من  الشارع؛ كإفراز المال؛ لإخراج الزكاة؛ فهذا ليس بواجب قصداً، إنما  وجب بقاعدة: ما لا يتم المأمور إلا به فهو مأمور به. وهذا النوع الذي  نعنيه هنا، وخلاصته: أنَّ وسيلة المأمور به مأمور بفتحها؛ فالذرائع هي  الوسائل، و الأصل في الوسائل أنَّ لها أحكام المقاصد.</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قال العز بن عبد السلام: "للمصالح والمفاسد أسباب ووسائل، وللوسائل  أحكام المقاصد؛ من الندب، والإيجاب، والتحريم، والكراهة، والإباح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4:28:54Z</dcterms:created>
  <dc:creator>وفاء بنت محمد العيسى</dc:creator>
  <dc:description/>
  <dc:language>en-US</dc:language>
  <cp:lastModifiedBy>ساره</cp:lastModifiedBy>
  <dcterms:modified xsi:type="dcterms:W3CDTF">2013-03-08T16:39:39Z</dcterms:modified>
  <cp:revision>2</cp:revision>
  <dc:subject/>
  <dc:title>الطريق الثالث: سد الذرائع</dc:title>
</cp:coreProperties>
</file>