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gif" ContentType="image/gif"/>
  <Override PartName="/ppt/media/image3.gif" ContentType="image/gif"/>
  <Override PartName="/ppt/media/image6.wmf" ContentType="image/x-wmf"/>
  <Override PartName="/ppt/media/image7.png" ContentType="image/png"/>
  <Override PartName="/ppt/media/image5.gif" ContentType="image/gi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C026C-C673-42A5-AE9C-A8BBA230EB2C}"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0B899-051A-4AE6-B40A-AE55D5BF981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7F2BA-8366-4362-808F-39C54CE6F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D8D27-FC44-4DE8-AD8F-1C2B795D9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FA241-85B9-45CC-B7C5-70C2468CC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815D7-82B2-4476-B3AB-947B48B56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5116FE-F853-4408-9B88-54A8311769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F3FA4-A891-4313-8B6B-052087681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25A9F-CBFC-4ECC-BD51-032B2C3EB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5D382-76E4-401E-B9F6-0B62AE0EB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FCE1C-FB96-4357-A883-AD9E23D6B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78E98-013B-47E8-BAF1-CDB751375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D8F51-3A68-43E8-842D-F44BB8006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808C4-D27F-48C2-BAD1-7AC367942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05378-5297-4B1F-AFCB-48B67D8EB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08BCA-0705-4FDF-B976-0F8EFF614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104B4-364E-4D25-8436-ACD1CB36E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EB9444-90E0-49FB-83BD-41C70E89E4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A70A5-D2E7-4560-98C5-12EEF80BFC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7F5B41-87F5-4079-9EEE-99BCEA8EAA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24C410-D78E-45BE-9A6E-0127AB6106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F27F16-0766-48A1-80AE-3B65F6C1A4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1BE64B-1DD6-419A-AFF7-EB94F17524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5F2EE7-2BB9-419E-86F5-DBDB32CB91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01DD3-04BA-490E-83B4-A24AD2C67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3DC8A6-6092-4193-B010-B110160AC4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A499F9-016E-457E-A5E1-1B049316F5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B26A9D-46EC-493A-8F3E-2407712D03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4CBE33-34C8-4FC2-B8F5-8E4AD398AD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B36ABB-3960-480F-91B3-ECE2699341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2CC2A0-5F7B-4B57-9BF9-C4973CCCD8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138000-20B1-4A46-A783-BDFC32D319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C3B5B4-9AD6-477C-AFC5-5D60EC4459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49A95F-7CAC-4E2B-BE5E-D6AA8BE64D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CAB257-0E97-4A72-96B3-C38E6206F7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BEE78-F4B2-445C-A4D2-942E5C3A9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FD9423-AD8B-46C7-8FE1-B089435B26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BF8EA2-2B66-4363-B38D-E1A72FD35E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30F0A0-1ECB-4D2D-BFED-4A689720E3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CFF558-7F84-4610-8E5B-ED477118CD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93B1D7-6086-43D1-B777-462FD74A24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7C4E58-EB46-43E9-87EF-C1A2756D37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FB7A3C-ECA3-4B01-AB5F-509D52D013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6295EA-0350-4232-81AE-FAAE09D75A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A8218A-5FA5-41B8-A1F2-328367ACF3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ACCD5A-20FD-414D-B0EE-0F61E64E85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A0E59-1BCB-441D-8B1D-4FE642B4B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43B983-C648-44B4-BFF9-BA734EF70C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341C41-75AB-4AEA-A3CE-E1833A67F3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13E474-D667-4283-9721-E128441FB7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758A1F-6B1F-49F4-889F-27E8D06ACC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AED6AC-51A2-4E10-A7B8-0A5A3EF20E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97DF80-A713-482E-B9CE-FFA3E61359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EF2959-EDE8-44C7-91F4-7585FF761B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B896DF-25C8-4871-8BAE-853735C0E4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82212A-6E58-48C6-A58A-8900D22420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A7EB93-09AE-4624-92D7-9D8AFB97E1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5EF6A-38FA-499F-B37F-A18401630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5A936C-CE4B-4F2A-80DF-D473B1F009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F5649B-88F9-4272-9D9F-FF738EE68A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E0F04A-8320-4B9B-95D6-F0838ADD8B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5EEC69-210A-47D0-8EBD-53F4A23D08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17E513-4145-43D2-B4DA-D6F9B5A93B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E4683A-5E69-4E69-989E-ECECD62B98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D81220-E470-4AC8-A750-4CB9F091FB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547130-EC65-46E0-BEC8-03590373B4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2ED2EA-C6D6-4383-A7EE-7EA41F33A9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622230-A0FC-4D61-92AC-A8333BAD27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D8CFE-D981-473D-BC7E-6D45BD72D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506706-623B-4ACD-BE45-2183008FFB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8706DE-3433-40BB-84E8-7CEEE03152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A4F0C9-80E2-486A-A79A-C58BCB0EDD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699CA2-546B-40F6-AE4F-47CB848C9C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FF348B-6288-4700-890D-CE00BC78BD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076086-E748-48BA-9227-1FCFB46930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02F61C-0F63-484A-830E-D7AE43AF55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370B31-5B6B-4D31-A6B6-2289D8445B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15491C-0639-4282-B2D0-1D23CBE3EF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2EB0FD-3950-4BD7-AC47-0D357E6D4D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BAAA9-AF91-4135-AA6F-3F1C1B848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C54CBA-DBBF-499A-8A36-B3E17AF383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D768FC-6043-46DA-813A-68243C80BF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9E2851-E7D4-453A-B8EB-50A403C65F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A040DD-E693-4F84-833D-1369C85456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DF06A0-54B5-4D01-8964-626AA9D907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077BA2-494C-4BCC-AE72-9A9C89F103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3F437D-86F6-4F45-ADA9-AE68B557FD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C76BA4-E6AA-48D4-A9D5-09877F0C0A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8A1BEC-DF98-4302-B87F-DC450298E1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F4A94D-A0A4-47FB-9638-4ED1BEB5AF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A3B6D-AD62-4399-8A86-3FF49FA56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94B898-800F-4A65-A17D-F00FEEFF8A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C681F6-AB1F-418C-865D-9994E639EF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06795B-E376-4E70-84C6-29D96BF956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97F5E2-BEE7-4A02-B7C7-9D89EF7766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7B6DB5-8B5B-420A-BEDA-25A380EE0B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BA730C-FEEC-4040-84A5-0EBF899CCA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2F300B-4BEC-4A02-9E6B-299438671B7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39797-AF2B-48A5-ACF1-EEC2F3CE51F7}"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2836B-D93F-4D73-9639-30AEA08FB394}"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0D1EF-6A3A-4F6E-BE82-B8CBAEDCC0A6}"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46227-FD07-4868-92EC-24B4C9CD30CA}"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614E-C3CD-4F87-B904-4575F19BCDAF}" type="datetime">
              <a:rPr b="0" lang="ar-SA" sz="1400" spc="-1" strike="noStrike">
                <a:solidFill>
                  <a:srgbClr val="dde9ec"/>
                </a:solidFill>
                <a:latin typeface="Gill Sans MT"/>
              </a:rPr>
              <a:t>١٤٤٨/٠٢/١٦</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A0F2E-5968-4E94-80DA-3236B9548FDA}"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99E36-4C1C-40AF-94CB-D77B52460D5C}"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11BDA-3432-489F-B935-6457BF0AFFEA}"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3C66-55BB-4FE6-BA1D-DBE28A3800DF}"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5332-EABF-4862-864B-2CD29DCDB7CC}"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D184-8053-44A2-9414-876308384185}"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2782-4B1D-492D-8D6D-EB487FC82D5A}"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9E09A-6594-4A6F-AB75-6B6553883F50}" type="datetime">
              <a:rPr b="0" lang="ar-SA" sz="1400" spc="-1" strike="noStrike">
                <a:solidFill>
                  <a:srgbClr val="dde9ec"/>
                </a:solidFill>
                <a:latin typeface="Gill Sans MT"/>
              </a:rPr>
              <a:t>١٤٤٨/٠٢/١٦</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11CBF-39EC-472F-B4F9-B04DCD783F0F}"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61B6F-B711-438D-BF84-CBD23365AF7E}"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DA6D1-CEC1-4854-8BBF-8947B8E56813}"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Bookman Old Style"/>
              </a:rPr>
              <a:t>الرقابة الاستراتيجية التسويقية</a:t>
            </a:r>
            <a:br>
              <a:rPr sz="3200"/>
            </a:br>
            <a:r>
              <a:rPr b="0" lang="ar-SA" sz="2400" spc="-1" strike="noStrike">
                <a:solidFill>
                  <a:srgbClr val="000000"/>
                </a:solidFill>
                <a:latin typeface="Bookman Old Style"/>
              </a:rPr>
              <a:t>الفصل الثالث عشر</a:t>
            </a:r>
            <a:endParaRPr b="0" lang="en-US" sz="24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Marketing Strategic Control</a:t>
            </a:r>
            <a:endParaRPr b="0" lang="en-US" sz="20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F4AD9-9F79-408F-B662-767A661EB6E3}"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2" name="Picture 4" descr="C:\Users\Luna\AppData\Local\Microsoft\Windows\Temporary Internet Files\Content.IE5\8OXR8UTT\MP900407174[1].jpg"/>
          <p:cNvPicPr/>
          <p:nvPr/>
        </p:nvPicPr>
        <p:blipFill>
          <a:blip r:embed="rId1"/>
          <a:stretch/>
        </p:blipFill>
        <p:spPr>
          <a:xfrm>
            <a:off x="0" y="0"/>
            <a:ext cx="274320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74B3-E255-40A0-AAAF-04C28CF4DF57}"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00" name=""/>
          <p:cNvSpPr txBox="1"/>
          <p:nvPr/>
        </p:nvSpPr>
        <p:spPr>
          <a:xfrm>
            <a:off x="457200" y="1219320"/>
            <a:ext cx="8229600" cy="5067360"/>
          </a:xfrm>
          <a:prstGeom prst="rect">
            <a:avLst/>
          </a:prstGeom>
          <a:noFill/>
          <a:ln w="0">
            <a:noFill/>
          </a:ln>
        </p:spPr>
        <p:txBody>
          <a:bodyPr anchor="t">
            <a:normAutofit fontScale="92000"/>
          </a:bodyPr>
          <a:p>
            <a:pPr marL="326880" indent="-326880" algn="r" rtl="1">
              <a:lnSpc>
                <a:spcPct val="140000"/>
              </a:lnSpc>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326880" indent="-3268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منظمة على معرفة وقياس الأرباح المتحققة لمختلف أنواع السلع، المواقع التسويقية، مجاميع الزبائن، القنوات التسويقية، وحجم الطلب. وبالتالي معرفة أي منها تحقق أرباحاً (أموالاً) وأي منها ذا مردود سلبي يجعل المنظمة تخسر.</a:t>
            </a:r>
            <a:endParaRPr b="0" lang="en-US" sz="2400" spc="-1" strike="noStrike">
              <a:solidFill>
                <a:srgbClr val="000000"/>
              </a:solidFill>
              <a:latin typeface="Gill Sans MT"/>
            </a:endParaRPr>
          </a:p>
          <a:p>
            <a:pPr marL="326880" indent="-326880" algn="r" rtl="1">
              <a:lnSpc>
                <a:spcPct val="14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تم تحليل الربحية وفق الخطوات التالية:</a:t>
            </a:r>
            <a:endParaRPr b="0" lang="en-US" sz="2400" spc="-1" strike="noStrike">
              <a:solidFill>
                <a:srgbClr val="000000"/>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نفقات الوظيفية.</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أشير النفقات الوظيفية لكل نشاط (مجموع نفقات المبيعات لكل نشاط / عدد طلبات البيع = معدل الإنفاق لكل طلبية بيع).</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ربح والخسارة.</a:t>
            </a:r>
            <a:endParaRPr b="0" lang="en-US" sz="2300" spc="-1" strike="noStrike">
              <a:solidFill>
                <a:srgbClr val="464653"/>
              </a:solidFill>
              <a:latin typeface="Gill Sans MT"/>
            </a:endParaRPr>
          </a:p>
        </p:txBody>
      </p:sp>
      <p:pic>
        <p:nvPicPr>
          <p:cNvPr id="401" name="Picture 2" descr="C:\Users\Luna\AppData\Local\Microsoft\Windows\Temporary Internet Files\Content.IE5\AI1N5N38\MC900279264[1].wmf"/>
          <p:cNvPicPr/>
          <p:nvPr/>
        </p:nvPicPr>
        <p:blipFill>
          <a:blip r:embed="rId1"/>
          <a:stretch/>
        </p:blipFill>
        <p:spPr>
          <a:xfrm>
            <a:off x="142920" y="3571920"/>
            <a:ext cx="1000080" cy="208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1B25-CDD9-47BD-A860-6456C8610BDC}"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403" name="TextBox 5" descr=""/>
          <p:cNvPicPr/>
          <p:nvPr/>
        </p:nvPicPr>
        <p:blipFill>
          <a:blip r:embed="rId1"/>
          <a:stretch/>
        </p:blipFill>
        <p:spPr>
          <a:xfrm>
            <a:off x="2243160" y="2292480"/>
            <a:ext cx="465768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مقدمة</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lgn="just"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استكمال استراتيجية التسويق (من تخطيط وتنفيذ) يكون في الرقابة التسويقية، والتي تتأكد المنظمة من خلالها أنها تسير على المسار الصحيح لما تقوم به من أنشطة وفعاليات تسويقية تصب في أهدافها الاستراتيجية.</a:t>
            </a:r>
            <a:endParaRPr b="0" lang="en-US" sz="2600" spc="-1" strike="noStrike">
              <a:solidFill>
                <a:srgbClr val="000000"/>
              </a:solidFill>
              <a:latin typeface="Gill Sans MT"/>
            </a:endParaRPr>
          </a:p>
          <a:p>
            <a:pPr marL="272880" indent="-272880" algn="r"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في هذا الفصل سيتم دراسة:</a:t>
            </a:r>
            <a:endParaRPr b="0" lang="en-US" sz="2600" spc="-1" strike="noStrike">
              <a:solidFill>
                <a:srgbClr val="000000"/>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الرقابة التسويقية. </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مفهوم الرقابة الاستراتيجية.</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أبعاد الرقابة الاستراتيجية.</a:t>
            </a:r>
            <a:endParaRPr b="0" lang="en-US" sz="2300" spc="-1" strike="noStrike">
              <a:solidFill>
                <a:srgbClr val="464653"/>
              </a:solidFill>
              <a:latin typeface="Gill Sans MT"/>
            </a:endParaRPr>
          </a:p>
        </p:txBody>
      </p:sp>
      <p:sp>
        <p:nvSpPr>
          <p:cNvPr id="36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408A-7384-46B0-AEF5-CF5A46D2561D}"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6" name="Picture 2" descr="C:\Users\Luna\AppData\Local\Microsoft\Windows\Temporary Internet Files\Content.IE5\8OXR8UTT\MM900296973[1].gif"/>
          <p:cNvPicPr/>
          <p:nvPr/>
        </p:nvPicPr>
        <p:blipFill>
          <a:blip r:embed="rId1"/>
          <a:stretch/>
        </p:blipFill>
        <p:spPr>
          <a:xfrm>
            <a:off x="428760" y="3220920"/>
            <a:ext cx="271440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Bookman Old Style"/>
              </a:rPr>
              <a:t>الرقابة التسويقية</a:t>
            </a:r>
            <a:endParaRPr b="0" lang="en-US" sz="36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5000"/>
          </a:bodyPr>
          <a:p>
            <a:pPr marL="259200" indent="-25920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نظام الرقابة التسويقي الناجح يتصف بخصائص تتمثل في:</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لاءمة لطبيعة نشاط المنظمة وحجمها، فكلما كانت المنظمة كبيرة كان نظام الرقابة فيها أكثر تعقيداً.</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رونة لغرض التكييف مع المتغيرات البيئية الداخلية والخارجية للمنظمة والتي تستلزم تغذية عكسية (</a:t>
            </a:r>
            <a:r>
              <a:rPr b="0" lang="en-US" sz="2600" spc="-1" strike="noStrike">
                <a:solidFill>
                  <a:srgbClr val="000000"/>
                </a:solidFill>
                <a:latin typeface="Gill Sans MT"/>
              </a:rPr>
              <a:t>Feedback</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وح ودقة البيانات والمعايير المعتمدة والمستخدمة من القائمين على نظام الرقابة في المنظم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حديد المبكر للانحرافات والمعالجة السريعة للتنفيذ الخاطئ للخطة نحو تحقيق أفضل الأهداف وبأقل جهد وكلف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كلفة الاقتصادية المنخفضة لنظام الرقابة وتنفيذه، من خلال جعل الإيرادات المتحققة أكبر من النفقات.</a:t>
            </a:r>
            <a:endParaRPr b="0" lang="en-US" sz="2600" spc="-1" strike="noStrike">
              <a:solidFill>
                <a:srgbClr val="000000"/>
              </a:solidFill>
              <a:latin typeface="Gill Sans MT"/>
            </a:endParaRPr>
          </a:p>
        </p:txBody>
      </p:sp>
      <p:sp>
        <p:nvSpPr>
          <p:cNvPr id="36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E617-2B42-424E-9293-C8436C4CC91C}"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a:t>
            </a:r>
            <a:endParaRPr b="0" lang="en-US" sz="3200" spc="-1" strike="noStrike">
              <a:solidFill>
                <a:srgbClr val="464653"/>
              </a:solidFill>
              <a:latin typeface="Bookman Old Style"/>
            </a:endParaRPr>
          </a:p>
        </p:txBody>
      </p:sp>
      <p:sp>
        <p:nvSpPr>
          <p:cNvPr id="371" name=""/>
          <p:cNvSpPr txBox="1"/>
          <p:nvPr/>
        </p:nvSpPr>
        <p:spPr>
          <a:xfrm>
            <a:off x="457200" y="1219320"/>
            <a:ext cx="8229600" cy="5138640"/>
          </a:xfrm>
          <a:prstGeom prst="rect">
            <a:avLst/>
          </a:prstGeom>
          <a:noFill/>
          <a:ln w="0">
            <a:noFill/>
          </a:ln>
        </p:spPr>
        <p:txBody>
          <a:bodyPr anchor="t">
            <a:normAutofit fontScale="92000"/>
          </a:bodyPr>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تسويقية تتمثل بمجموعة المعايير التي تقيس الأداء وتعمل على إتخاذ الإجراء التصحيحي في حالة فشل الأداء من تحقيق أهداف المرسوم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ن للرقابة التسويقية غايات متعددة من أهمها تعريف المنظمة لمواقع تحقيق الأرباح فيها.</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تصف الرقابة التسويقية بأنها تقييم مستمر للأداء.</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رقابة التسويقية المدراء في وضع الخطط المستقبلية من خلال التغذية العكسية (</a:t>
            </a:r>
            <a:r>
              <a:rPr b="0" lang="en-US" sz="2400" spc="-1" strike="noStrike">
                <a:solidFill>
                  <a:srgbClr val="000000"/>
                </a:solidFill>
                <a:latin typeface="Gill Sans MT"/>
              </a:rPr>
              <a:t>Feedback</a:t>
            </a:r>
            <a:r>
              <a:rPr b="0" lang="ar-SA" sz="2400" spc="-1" strike="noStrike">
                <a:solidFill>
                  <a:srgbClr val="000000"/>
                </a:solidFill>
                <a:latin typeface="Gill Sans MT"/>
              </a:rPr>
              <a:t>)، والتغذية المتزامنة (</a:t>
            </a:r>
            <a:r>
              <a:rPr b="0" lang="en-US" sz="2400" spc="-1" strike="noStrike">
                <a:solidFill>
                  <a:srgbClr val="000000"/>
                </a:solidFill>
                <a:latin typeface="Gill Sans MT"/>
              </a:rPr>
              <a:t>Feed Forward</a:t>
            </a:r>
            <a:r>
              <a:rPr b="0" lang="ar-SA" sz="2400" spc="-1" strike="noStrike">
                <a:solidFill>
                  <a:srgbClr val="000000"/>
                </a:solidFill>
                <a:latin typeface="Gill Sans MT"/>
              </a:rPr>
              <a:t>) والتي تعني الرقابة المستمرة لتنفيذ الخطة خطوة بخطو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تلك العملية التي تحصل بها الإدارة على المعلومات المتعلقة بالأداء التسويقي ". وهناك إطاران رئيسان لها هما:</a:t>
            </a:r>
            <a:endParaRPr b="0" lang="en-US" sz="2400" spc="-1" strike="noStrike">
              <a:solidFill>
                <a:srgbClr val="000000"/>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رقابة من خلال الكفاءة في العمل التسويقي.</a:t>
            </a:r>
            <a:endParaRPr b="0" lang="en-US" sz="2100" spc="-1" strike="noStrike">
              <a:solidFill>
                <a:srgbClr val="464653"/>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مقارنة ما بين الخطط والأداء الفعلي.</a:t>
            </a:r>
            <a:endParaRPr b="0" lang="en-US" sz="2100" spc="-1" strike="noStrike">
              <a:solidFill>
                <a:srgbClr val="464653"/>
              </a:solidFill>
              <a:latin typeface="Gill Sans MT"/>
            </a:endParaRPr>
          </a:p>
        </p:txBody>
      </p:sp>
      <p:sp>
        <p:nvSpPr>
          <p:cNvPr id="37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5505-D8F8-41E6-8065-B075D8F86FDA}"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 - تابع</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تحقيق أهداف الرقابة التسويقية وإتمام الخطط التسويقية بنجاح يحتاج إلى:</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ع معايير ومقاييس للأداء.</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قييم الأداء الفعلي مع المعايير.</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تخاذ الإجراء التصحيحي.</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D46DF-4F46-4984-ACF2-2E397DF0A2C8}"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76" name="Picture 2" descr="C:\Users\Luna\AppData\Local\Microsoft\Windows\Temporary Internet Files\Content.IE5\9V6KBMM2\MM900283768[1].gif"/>
          <p:cNvPicPr/>
          <p:nvPr/>
        </p:nvPicPr>
        <p:blipFill>
          <a:blip r:embed="rId1"/>
          <a:stretch/>
        </p:blipFill>
        <p:spPr>
          <a:xfrm>
            <a:off x="785880" y="2428920"/>
            <a:ext cx="2227320" cy="22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a:t>
            </a:r>
            <a:endParaRPr b="0" lang="en-US" sz="3200" spc="-1" strike="noStrike">
              <a:solidFill>
                <a:srgbClr val="464653"/>
              </a:solidFill>
              <a:latin typeface="Bookman Old Style"/>
            </a:endParaRPr>
          </a:p>
        </p:txBody>
      </p:sp>
      <p:sp>
        <p:nvSpPr>
          <p:cNvPr id="378" name=""/>
          <p:cNvSpPr txBox="1"/>
          <p:nvPr/>
        </p:nvSpPr>
        <p:spPr>
          <a:xfrm>
            <a:off x="457200" y="1219320"/>
            <a:ext cx="8229600" cy="5138640"/>
          </a:xfrm>
          <a:prstGeom prst="rect">
            <a:avLst/>
          </a:prstGeom>
          <a:noFill/>
          <a:ln w="0">
            <a:noFill/>
          </a:ln>
        </p:spPr>
        <p:txBody>
          <a:bodyPr anchor="t">
            <a:normAutofit fontScale="96000"/>
          </a:bodyPr>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عتمد (</a:t>
            </a:r>
            <a:r>
              <a:rPr b="0" lang="en-US" sz="2400" spc="-1" strike="noStrike">
                <a:solidFill>
                  <a:srgbClr val="000000"/>
                </a:solidFill>
                <a:latin typeface="Gill Sans MT"/>
              </a:rPr>
              <a:t>Hutt</a:t>
            </a:r>
            <a:r>
              <a:rPr b="0" lang="ar-SA" sz="2400" spc="-1" strike="noStrike">
                <a:solidFill>
                  <a:srgbClr val="000000"/>
                </a:solidFill>
                <a:latin typeface="Gill Sans MT"/>
              </a:rPr>
              <a:t>) على أربعة أنواع من الرقابة على الأنشطة التسويقية وهي:</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استراتيج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خطة السنو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261720" indent="-261720" algn="just" rtl="1">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الاستراتيجية: </a:t>
            </a:r>
            <a:endParaRPr b="0" lang="en-US" sz="2400" spc="-1" strike="noStrike">
              <a:solidFill>
                <a:srgbClr val="000000"/>
              </a:solidFill>
              <a:latin typeface="Gill Sans MT"/>
            </a:endParaRPr>
          </a:p>
          <a:p>
            <a:pPr marL="261720" indent="-2617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مثل تقييماً شاملاً لأداء المنظمة وتكون مسؤولية تنفيذها محصورة بالإدارة العليا</a:t>
            </a:r>
            <a:r>
              <a:rPr b="1" lang="ar-SA" sz="2400" spc="-1" strike="noStrike">
                <a:solidFill>
                  <a:srgbClr val="000000"/>
                </a:solidFill>
                <a:latin typeface="Gill Sans MT"/>
              </a:rPr>
              <a:t> </a:t>
            </a:r>
            <a:r>
              <a:rPr b="0" lang="ar-SA" sz="2400" spc="-1" strike="noStrike">
                <a:solidFill>
                  <a:srgbClr val="000000"/>
                </a:solidFill>
                <a:latin typeface="Gill Sans MT"/>
              </a:rPr>
              <a:t>وتهدف إلى معرفة مدى التطابق بين النتائج المتحققة والخطط الاستراتيجية الموضوعة سلفاً، وتتم عبر أربع أدوات:</a:t>
            </a:r>
            <a:endParaRPr b="0" lang="en-US" sz="2400" spc="-1" strike="noStrike">
              <a:solidFill>
                <a:srgbClr val="000000"/>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فاعلية التسويق.</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تدقيق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جودة الأداء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المسؤولية الاجتماعية والأخلاقية.</a:t>
            </a:r>
            <a:endParaRPr b="0" lang="en-US" sz="2100" spc="-1" strike="noStrike">
              <a:solidFill>
                <a:srgbClr val="464653"/>
              </a:solidFill>
              <a:latin typeface="Gill Sans MT"/>
            </a:endParaRPr>
          </a:p>
          <a:p>
            <a:pPr marL="261720" indent="-261720" algn="r" rtl="1">
              <a:lnSpc>
                <a:spcPct val="90000"/>
              </a:lnSpc>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
        <p:nvSpPr>
          <p:cNvPr id="3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121F4-57D6-4396-B0E1-5969B902E95C}"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0" name="Picture 2" descr="C:\Users\Luna\AppData\Local\Microsoft\Windows\Temporary Internet Files\Content.IE5\9V6KBMM2\MC900303869[1].wmf"/>
          <p:cNvPicPr/>
          <p:nvPr/>
        </p:nvPicPr>
        <p:blipFill>
          <a:blip r:embed="rId1"/>
          <a:stretch/>
        </p:blipFill>
        <p:spPr>
          <a:xfrm>
            <a:off x="571680" y="1785960"/>
            <a:ext cx="1803240" cy="163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2" name=""/>
          <p:cNvSpPr txBox="1"/>
          <p:nvPr/>
        </p:nvSpPr>
        <p:spPr>
          <a:xfrm>
            <a:off x="457200" y="1219320"/>
            <a:ext cx="8229600" cy="5138640"/>
          </a:xfrm>
          <a:prstGeom prst="rect">
            <a:avLst/>
          </a:prstGeom>
          <a:noFill/>
          <a:ln w="0">
            <a:noFill/>
          </a:ln>
        </p:spPr>
        <p:txBody>
          <a:bodyPr anchor="t">
            <a:normAutofit fontScale="99000"/>
          </a:bodyPr>
          <a:p>
            <a:pPr marL="352080" indent="-352080" algn="just" rtl="1">
              <a:lnSpc>
                <a:spcPct val="90000"/>
              </a:lnSpc>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خطة السنوية : </a:t>
            </a:r>
            <a:endParaRPr b="0" lang="en-US" sz="2400" spc="-1" strike="noStrike">
              <a:solidFill>
                <a:srgbClr val="000000"/>
              </a:solidFill>
              <a:latin typeface="Gill Sans MT"/>
            </a:endParaRPr>
          </a:p>
          <a:p>
            <a:pPr marL="352080" indent="-352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هدف إلى معرفة التطابق بين الأداء المتحقق والخطط الموضوعة وتقييم الأداء الفعلي والنتائج، والقيام بالإجراء التصحيحي لها، والغاية منها التأكد من أن المنظمة تحقق المبيعات، الأرباح، والأهداف المحددة في الخطة السنوية عبر </a:t>
            </a:r>
            <a:r>
              <a:rPr b="1" lang="ar-SA" sz="2400" spc="-1" strike="noStrike">
                <a:solidFill>
                  <a:srgbClr val="000000"/>
                </a:solidFill>
                <a:latin typeface="Gill Sans MT"/>
              </a:rPr>
              <a:t>أربع خطوات</a:t>
            </a:r>
            <a:r>
              <a:rPr b="0" lang="ar-SA" sz="2400" spc="-1" strike="noStrike">
                <a:solidFill>
                  <a:srgbClr val="000000"/>
                </a:solidFill>
                <a:latin typeface="Gill Sans MT"/>
              </a:rPr>
              <a:t>:</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ديد أهداف شهرية أو فصلية في الخطة السنو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قياس الأداء التسويقي لكل موقع أو قناة تسوي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قييم الأداء وبيان الاختلافات بين الأدائين المتوقع والفعلي.</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تخاذ الفعل التصحيحي لتقليص الفجوات بين أهداف وأداء المنظمة.</a:t>
            </a:r>
            <a:endParaRPr b="0" lang="en-US" sz="2100" spc="-1" strike="noStrike">
              <a:solidFill>
                <a:srgbClr val="464653"/>
              </a:solidFill>
              <a:latin typeface="Gill Sans MT"/>
            </a:endParaRPr>
          </a:p>
          <a:p>
            <a:pPr marL="352080" indent="-35208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قد حددت </a:t>
            </a:r>
            <a:r>
              <a:rPr b="1" lang="ar-SA" sz="2400" spc="-1" strike="noStrike">
                <a:solidFill>
                  <a:srgbClr val="000000"/>
                </a:solidFill>
                <a:latin typeface="Gill Sans MT"/>
              </a:rPr>
              <a:t>أربعة أدوات </a:t>
            </a:r>
            <a:r>
              <a:rPr b="0" lang="ar-SA" sz="2400" spc="-1" strike="noStrike">
                <a:solidFill>
                  <a:srgbClr val="000000"/>
                </a:solidFill>
                <a:latin typeface="Gill Sans MT"/>
              </a:rPr>
              <a:t>للتعرف على طبيعة الأداء التسويقي:</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حصة السو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نفقات إلى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تبع وجهة نظر الزبون.</a:t>
            </a:r>
            <a:endParaRPr b="0" lang="en-US" sz="2100" spc="-1" strike="noStrike">
              <a:solidFill>
                <a:srgbClr val="464653"/>
              </a:solidFill>
              <a:latin typeface="Gill Sans MT"/>
            </a:endParaRPr>
          </a:p>
        </p:txBody>
      </p:sp>
      <p:sp>
        <p:nvSpPr>
          <p:cNvPr id="38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AA2F-226B-4B36-8FC0-DED73299E6EC}"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4" name="Picture 2" descr="C:\Users\Luna\AppData\Local\Microsoft\Windows\Temporary Internet Files\Content.IE5\AI1N5N38\MM900336860[1].gif"/>
          <p:cNvPicPr/>
          <p:nvPr/>
        </p:nvPicPr>
        <p:blipFill>
          <a:blip r:embed="rId1"/>
          <a:stretch/>
        </p:blipFill>
        <p:spPr>
          <a:xfrm>
            <a:off x="428760" y="2786040"/>
            <a:ext cx="1347480" cy="326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6" name=""/>
          <p:cNvSpPr txBox="1"/>
          <p:nvPr/>
        </p:nvSpPr>
        <p:spPr>
          <a:xfrm>
            <a:off x="285840" y="1219320"/>
            <a:ext cx="8400960" cy="5138640"/>
          </a:xfrm>
          <a:prstGeom prst="rect">
            <a:avLst/>
          </a:prstGeom>
          <a:noFill/>
          <a:ln w="0">
            <a:noFill/>
          </a:ln>
        </p:spPr>
        <p:txBody>
          <a:bodyPr anchor="t">
            <a:normAutofit fontScale="91000"/>
          </a:bodyPr>
          <a:p>
            <a:pPr marL="321840" indent="-321840" algn="r" rtl="1">
              <a:lnSpc>
                <a:spcPct val="90000"/>
              </a:lnSpc>
              <a:spcBef>
                <a:spcPts val="601"/>
              </a:spcBef>
              <a:spcAft>
                <a:spcPts val="601"/>
              </a:spcAft>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الاستخدام الامثل للموارد.</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فاعلية: </a:t>
            </a:r>
            <a:r>
              <a:rPr b="0" lang="ar-SA" sz="2400" spc="-1" strike="noStrike">
                <a:solidFill>
                  <a:srgbClr val="000000"/>
                </a:solidFill>
                <a:latin typeface="Gill Sans MT"/>
              </a:rPr>
              <a:t>اتخاذ القرارات الصحيحة وتنفيذها بشكل ناجح.</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كفاءة التسويقية: </a:t>
            </a:r>
            <a:r>
              <a:rPr b="0" lang="ar-SA" sz="2400" spc="-1" strike="noStrike">
                <a:solidFill>
                  <a:srgbClr val="000000"/>
                </a:solidFill>
                <a:latin typeface="Gill Sans MT"/>
              </a:rPr>
              <a:t>متابعة المدخلات والمخرجات (الإنتاجية = المخرجات / المدخلات) للمنظمة بشكل إقتصادي لدورها المؤثر في الربحية المتحققة. وهي تعني اختبار لكفاءة عناصر استراتيجية التسويق وهي:</a:t>
            </a:r>
            <a:endParaRPr b="0" lang="en-US" sz="2400" spc="-1" strike="noStrike">
              <a:solidFill>
                <a:srgbClr val="000000"/>
              </a:solidFill>
              <a:latin typeface="Gill Sans MT"/>
            </a:endParaRPr>
          </a:p>
          <a:p>
            <a:pPr lvl="2" marL="489600" indent="-489600" algn="just"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 كفاءة رجال البيع، كفاءة ترويج المبيعات والإعلان، كفاءة التوزيع)</a:t>
            </a:r>
            <a:endParaRPr b="0" lang="en-US" sz="22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فاعلية التسويقية: </a:t>
            </a:r>
            <a:r>
              <a:rPr b="0" lang="ar-SA" sz="2400" spc="-1" strike="noStrike">
                <a:solidFill>
                  <a:srgbClr val="000000"/>
                </a:solidFill>
                <a:latin typeface="Gill Sans MT"/>
              </a:rPr>
              <a:t>مراقبة الأداء والقيام به بالشكل الصحيح، وتشمل الإجراءات التي تتبعها المنظمة للتحقق من أن أداء أنشطتها تعمل على تحقيق الرضا لدى الزبون في السلع والخدمات المقدمة له والتي تميز المنظمة عن غيرها من المنافسين بما تحققه من أداء فاعل وصحيح. </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كلفة، </a:t>
            </a:r>
            <a:r>
              <a:rPr b="0" lang="ar-SA" sz="2400" spc="-1" strike="noStrike">
                <a:solidFill>
                  <a:srgbClr val="000000"/>
                </a:solidFill>
                <a:latin typeface="Gill Sans MT"/>
              </a:rPr>
              <a:t>بينما</a:t>
            </a:r>
            <a:r>
              <a:rPr b="1" lang="ar-SA" sz="2400" spc="-1" strike="noStrike">
                <a:solidFill>
                  <a:srgbClr val="000000"/>
                </a:solidFill>
                <a:latin typeface="Gill Sans MT"/>
              </a:rPr>
              <a:t> الفاعلي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زبون. </a:t>
            </a:r>
            <a:endParaRPr b="0" lang="en-US" sz="2400" spc="-1" strike="noStrike">
              <a:solidFill>
                <a:srgbClr val="000000"/>
              </a:solidFill>
              <a:latin typeface="Gill Sans MT"/>
            </a:endParaRPr>
          </a:p>
          <a:p>
            <a:pPr marL="321840" indent="-32184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7F3C0-495E-499D-81B5-064011FD0E4D}"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8" name="Picture 2" descr="C:\Users\Luna\AppData\Local\Microsoft\Windows\Temporary Internet Files\Content.IE5\ZNV8T11M\MC900370570[1].wmf"/>
          <p:cNvPicPr/>
          <p:nvPr/>
        </p:nvPicPr>
        <p:blipFill>
          <a:blip r:embed="rId1"/>
          <a:stretch/>
        </p:blipFill>
        <p:spPr>
          <a:xfrm>
            <a:off x="428760" y="214200"/>
            <a:ext cx="1662120" cy="185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rPr>
              <a:t>أبعاد الرقابة التسويقية – تابع</a:t>
            </a:r>
            <a:br>
              <a:rPr sz="2900"/>
            </a:br>
            <a:r>
              <a:rPr b="0" lang="ar-SA" sz="2900" spc="-1" strike="noStrike">
                <a:solidFill>
                  <a:srgbClr val="464653"/>
                </a:solidFill>
                <a:latin typeface="Bookman Old Style"/>
              </a:rPr>
              <a:t>مصفوفة الكفاءة والفاعلية وأثرهما على أداء المنظمة في السوق</a:t>
            </a:r>
            <a:endParaRPr b="0" lang="en-US" sz="2900" spc="-1" strike="noStrike">
              <a:solidFill>
                <a:srgbClr val="464653"/>
              </a:solidFill>
              <a:latin typeface="Bookman Old Style"/>
            </a:endParaRPr>
          </a:p>
        </p:txBody>
      </p:sp>
      <p:pic>
        <p:nvPicPr>
          <p:cNvPr id="390" name="Content Placeholder 5" descr=""/>
          <p:cNvPicPr/>
          <p:nvPr/>
        </p:nvPicPr>
        <p:blipFill>
          <a:blip r:embed="rId1"/>
          <a:stretch/>
        </p:blipFill>
        <p:spPr>
          <a:xfrm>
            <a:off x="426960" y="1285920"/>
            <a:ext cx="8143920" cy="5290920"/>
          </a:xfrm>
          <a:prstGeom prst="rect">
            <a:avLst/>
          </a:prstGeom>
          <a:ln w="0">
            <a:noFill/>
          </a:ln>
        </p:spPr>
      </p:pic>
      <p:sp>
        <p:nvSpPr>
          <p:cNvPr id="39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22148-E388-4280-AC4B-9A71FC493B08}"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392" name="TextBox 6"/>
          <p:cNvSpPr/>
          <p:nvPr/>
        </p:nvSpPr>
        <p:spPr>
          <a:xfrm>
            <a:off x="6786720" y="2643120"/>
            <a:ext cx="13572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كفء</a:t>
            </a:r>
            <a:endParaRPr b="0" lang="en-US" sz="2800" spc="-1" strike="noStrike">
              <a:solidFill>
                <a:srgbClr val="000000"/>
              </a:solidFill>
              <a:latin typeface="Arial"/>
            </a:endParaRPr>
          </a:p>
        </p:txBody>
      </p:sp>
      <p:sp>
        <p:nvSpPr>
          <p:cNvPr id="393" name="TextBox 7"/>
          <p:cNvSpPr/>
          <p:nvPr/>
        </p:nvSpPr>
        <p:spPr>
          <a:xfrm>
            <a:off x="7000920" y="4714920"/>
            <a:ext cx="10000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كفء</a:t>
            </a:r>
            <a:endParaRPr b="0" lang="en-US" sz="2800" spc="-1" strike="noStrike">
              <a:solidFill>
                <a:srgbClr val="000000"/>
              </a:solidFill>
              <a:latin typeface="Arial"/>
            </a:endParaRPr>
          </a:p>
        </p:txBody>
      </p:sp>
      <p:sp>
        <p:nvSpPr>
          <p:cNvPr id="394" name="TextBox 8"/>
          <p:cNvSpPr/>
          <p:nvPr/>
        </p:nvSpPr>
        <p:spPr>
          <a:xfrm>
            <a:off x="7358040" y="3357720"/>
            <a:ext cx="1285920" cy="2043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فاء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لفة)</a:t>
            </a:r>
            <a:endParaRPr b="0" lang="en-US" sz="3200" spc="-1" strike="noStrike">
              <a:solidFill>
                <a:srgbClr val="000000"/>
              </a:solidFill>
              <a:latin typeface="Arial"/>
            </a:endParaRPr>
          </a:p>
        </p:txBody>
      </p:sp>
      <p:sp>
        <p:nvSpPr>
          <p:cNvPr id="395" name="TextBox 9"/>
          <p:cNvSpPr/>
          <p:nvPr/>
        </p:nvSpPr>
        <p:spPr>
          <a:xfrm>
            <a:off x="5000760" y="1285920"/>
            <a:ext cx="1428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فاعل</a:t>
            </a:r>
            <a:endParaRPr b="0" lang="en-US" sz="2800" spc="-1" strike="noStrike">
              <a:solidFill>
                <a:srgbClr val="000000"/>
              </a:solidFill>
              <a:latin typeface="Arial"/>
            </a:endParaRPr>
          </a:p>
        </p:txBody>
      </p:sp>
      <p:sp>
        <p:nvSpPr>
          <p:cNvPr id="396" name="TextBox 10"/>
          <p:cNvSpPr/>
          <p:nvPr/>
        </p:nvSpPr>
        <p:spPr>
          <a:xfrm>
            <a:off x="2786040" y="1285920"/>
            <a:ext cx="1357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فاعل</a:t>
            </a:r>
            <a:endParaRPr b="0" lang="en-US" sz="2800" spc="-1" strike="noStrike">
              <a:solidFill>
                <a:srgbClr val="000000"/>
              </a:solidFill>
              <a:latin typeface="Arial"/>
            </a:endParaRPr>
          </a:p>
        </p:txBody>
      </p:sp>
      <p:sp>
        <p:nvSpPr>
          <p:cNvPr id="397" name="TextBox 11"/>
          <p:cNvSpPr/>
          <p:nvPr/>
        </p:nvSpPr>
        <p:spPr>
          <a:xfrm>
            <a:off x="2714760" y="6072120"/>
            <a:ext cx="30715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فاعلية (الزبو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2T17:33:08Z</dcterms:created>
  <dc:creator>Windows User</dc:creator>
  <dc:description/>
  <dc:language>en-US</dc:language>
  <cp:lastModifiedBy>Luna</cp:lastModifiedBy>
  <dcterms:modified xsi:type="dcterms:W3CDTF">2012-01-31T15:03:11Z</dcterms:modified>
  <cp:revision>4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