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5A89A-55F4-4E11-95D8-8D938608D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D8CB1-62CC-4811-ADA5-1B6B74681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5480722-345B-4DD5-B14E-C25D615BBEF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BC21078-C12F-47B5-923A-23B56FE27A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4546B13-7EE5-4B87-B92D-C277FA7CD5A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05F4900-2BCA-434D-B20C-37174EE604A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1939A05-2D0C-4805-A7BE-841C190C2CF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F615007-6B0B-4F00-8737-86F7599A99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3B9BBE4-2CEC-4BFA-87C1-84AE5A0D389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EF29756-92E4-4221-B676-875E5FD747B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BBB9039-8AB7-4BF4-9921-0EAA80FB197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2576017-A70B-466A-AC6E-733BC77E83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F6C3D-E365-4CC3-B08F-A0F705E0A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A6A0192-4C0A-4841-8518-020D11DD47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50F5FB9-9CD7-407D-9F87-D130CA089A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7DC3E2D-1F86-4CD0-B087-C6F5E1BEBC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C83675B-2304-404C-95F6-4E8564E5D3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B215F62-CDB2-4270-BE05-CD20E83CA4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7B085AD-3C2C-4015-9C84-496AB99340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037D592-0EA4-41BA-94FB-F897A257D1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21C4EFF-2074-41FA-B6F2-1427E464C0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7735F5D-75E6-466A-9AA4-4E7958C8CC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2133698-44E2-46F4-8401-C7EB132655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D0E64-6C61-43FF-8E69-A16D69A76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988A2D9-B9E0-445A-979E-4EAB482C79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FE32C3-71C3-4ACF-855C-CC298AEF2C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2E5551-CD40-41A6-A5D4-0DF2C86E34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6D9CA9-B8F6-49C0-9F22-54A4C2A783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75FE81-4E73-44F2-B01C-7151A1DF64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62C58C-58A1-44C9-B4EB-56AB811210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DE6E75-055D-4129-BA23-A073BB03EF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4BFDA3-12C5-4B0C-94FA-C46280F53B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F53BDE-C72A-4BCB-8E06-BD6D6F8011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1986AC-C097-46C3-A2B0-DFCE88EF5A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4D00B-5036-4AC6-9151-5D37FABEA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1815D6-1CA1-4D69-8F9D-CE724A7252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575433-E8AF-43C5-B5CF-034C50C0E9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CEF8F6-A218-429F-A662-35DEF9E978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0779874-80A4-477C-8042-D1B8D1EC1E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14ECAE4-32F1-489E-AAE3-2A4B8E1499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2F26CDF-A717-44A6-BEA2-99EA8AEB24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F44F56F-19CF-4149-8D26-472C2B83FE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F9C2998-7AE9-43D8-9FD7-0656468903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0D18D38-9FBD-4F59-A175-46E07AD8DB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3905A74-2053-4F3D-93D5-4D237314C6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EE8F3-4C1E-430C-A0E3-24660C244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0BDCD2F-5F68-4CEF-962C-21E4744F2A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EBBCF81-F232-4CE9-9F7F-C0E4555985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E56B779-6C88-405D-91BC-488A2D99FB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2B618BA-D3E2-4BAA-9692-4AF2466C60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37F7A51-0287-48A0-8FDE-266CE5FC52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334EA-1882-4660-BD97-C49E1A1A3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FE873-9187-4AF9-9534-65462D69F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B7806-BCE8-4DF3-B702-1C70CA32D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25B61-DB61-4072-BCDE-CC96788C5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F8914-54AC-49B5-AFEF-C10EF135F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590DD-A1CA-4FE9-805F-96C319AA9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F3771-A508-4569-8D25-A26B35686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E915C-C47F-4E60-BB19-3D365BAD1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84125-C6CA-475D-B1D4-DAAFC6F0A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5A4E3-3C5C-42C4-915E-9DE661635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3F978-EE9C-48AF-8C62-77B72F2FF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5F232B-88EA-4525-B497-16022A09DA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A28DF5-C7EF-450C-B141-F98F9D22FB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667F97-6229-49E4-A055-0DC287B2AF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2F4B05-5C45-4D83-8BEE-48CFB61671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91F6A-E9B1-4C79-9EAD-9A8C9AA74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8848F-E5AD-4763-B48A-E529C0AA8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75408-06AA-4C43-A7C4-8E8C8807B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DB7C30-A219-4F8D-98AF-7FF8D874F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CE5CD-140C-4AC7-8FE1-ED90C72C0D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9F0B4-2ECB-4776-BA50-63936FEFF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6E42C-1773-4A32-BF50-30BD1EB83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84AED9-FB0C-485F-82C5-27B0D9CAED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A51F4D-08F0-4506-AEE7-A3A1A4BB56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F06BD36-E73D-4EA1-893D-34673718F5C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210E219-2729-4DFF-B2FA-35596DD9E44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D9E186F-1CE8-4ED5-9642-90B8FC432B0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4B8AB-5AF3-4668-B500-E1801B5E3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7151414-FAD3-4AE2-A888-1FFD61F2F28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C7EFE56-AEDD-4202-85B8-241620CF01E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2006078-C4EF-43C7-A7F4-D6AE1F69BC9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CA0D534-D423-4A87-B256-888630625FC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D87D771-54CE-4856-97B4-453554D8BFA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6C6AE60-6429-48CB-BB38-6DD4EAF64CE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CA52EA1-2CA8-42A1-80E5-A75F6EAB87B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DCB7CAD-BE61-41A4-A28C-E28F896D563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076BED2-6804-4ADF-82EE-A6D59A06358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476AC9-C731-4584-8D18-CE7B57FFB4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B5FD7-8611-4ED9-88C6-33AE1E5A6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33E5A3-2D0B-40EB-B6B4-3BC176F491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486A6A-149B-4293-A01E-F89B788CC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2891D2-F50A-4C67-A237-C78B533D50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EC583-DB34-4EAB-B6D6-61916CBA43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BEBC42-841D-496D-8A10-2BDC7D622B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4CFFB-1FB0-4930-85EA-253A4A781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2E19C-594B-499F-91D3-E9A93F43C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CDD11-970F-4918-8644-B2EDE9180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8B4F17-FA49-4A17-84A3-9CC3E4FF6A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CADCD6-6A4E-4EFE-BCC1-334E1E3330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0057B-B73C-4D6B-AE8E-2C9CB77B2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DE373C-0137-419C-88CF-78DD17518D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3D12B9-BA20-4BFB-A273-CACABB2907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088CDF-2698-4B11-9835-824CA1FBE9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98E1CE-7214-4A39-9D7F-2F14A6A40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8DC0B2-0237-4B43-AF4D-62425370C5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B5C38B-487F-4FC5-A4CE-1C154CA935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07AC44-4710-4766-A3EA-FBE721D9CD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711B75-49AF-46A7-96EE-D5C2A393A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3A9641-1BAB-49E2-95F5-D4D66813CD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1C581-FC7E-4A65-89A0-637C7B52F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872C7-D272-429F-8D2B-368C7EAC6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6A5F3F-74DA-47B1-96DB-8B816594D0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FD7778-30F6-4243-BEAC-69E9CCF7C9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73217C-5E6E-400A-A1A0-DF806E1813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A33086-FE51-496E-8E01-BB2094F6BB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A886B2-EB83-4191-BFAE-36CFFA2468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C06BF1-EC34-4F1C-A428-A747E486DB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9E22D8-1665-49DE-80CF-14B75B2A2B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1D5F45-A709-40B6-8FD1-F11EE5D3FA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2B86A8-2245-4246-B791-B91F978891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08CAC9-DB15-4B6B-8CBE-592C7A1BDA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C3BEC-C2FB-4CFB-A543-F48154CF6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7A3C4B-7052-4B82-A5C2-6A71F63431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BA0FBC-7523-49C9-83E4-D99A97D1D1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4680E3-FEC1-40C3-B813-4C9420038C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0E98CB-F50A-44D6-9906-EC9B4B81AC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0DE190-E51D-4903-BCD8-BB43382378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AFFE5B-9A2C-42D4-B62F-E4746C4732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0E5144-0D42-4DA9-85E3-8BF154421C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B55212-3FFF-498D-8E64-52098CFD10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742BBE-5CAE-4DD9-AC31-51095D224B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31E3F8-961C-426B-91F1-79E7DE884E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54C8-5A0D-44F5-88D3-3A27425C2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1D9DEF-F137-4F64-A4C2-8928CB5EFA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85551E-94F7-4FAB-882F-46D71B7821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F411EB-5DE0-43B5-B3C8-499E6E3D02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F67C9F-A39D-45C3-8691-4050A2CE9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AE64E4-3263-435A-BE99-F9F1FF1EA5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0153C1-7A02-4649-BB3A-E1EAF1B042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977D5B-69E6-4DD3-B498-566457C6F6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C69E2EE-30A3-4558-8E9E-18874B1A4DB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42884A8-6D7A-464C-B385-1BDF6A14CD6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DE3AC06-CD92-4753-969B-8C78847768B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8095-F7D1-4A41-9490-853703788E93}"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3456-D8D7-45BB-8A83-3D992C84666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A773-1CA0-45C2-95E6-F76244E47B9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0425-AFB3-457C-B2B7-56953F42515E}"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BA90-C107-4598-9B08-645C2EAEF6E3}"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9FF5-7B6E-474A-9914-CA268B76B97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55892-AE42-45CE-BC35-CA148BFD4CB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65F1-28AD-4D4F-8C88-8B76FA6D21EC}"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F5E7-6B68-4D60-9D01-DB7B6521C444}"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3D32-B80A-4F33-BE75-F92082E2F56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AB6F-C0D5-4AF4-998B-6086FFC7AEC8}"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FD0C-0BA2-4CC6-890E-0151AAF9D4A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8DBD-149B-447D-9EB4-5477968FF82D}"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C708-52B5-46B8-8084-3F116E83F83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965B-5B3D-4B99-AABF-AB30243BD079}"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2FDA-9E66-47F5-8908-49B0BCE5993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20F3-697E-411E-B9FA-4B2C21B98E7D}"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C2DB-1332-40B5-856A-94B0FF2BDBD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5050-2274-4D04-82EE-BCDFDF94D139}"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FE26-2829-4722-A740-E1C878E4C85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ECDE-F58A-4E86-9A64-9830A2FBFA81}"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25DD-CF15-4955-9CFA-946E17C2AA94}"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6B0B-D003-45DE-930E-E33517C0917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AAEB-A07D-4893-91A3-D0174BB45FD6}" type="datetime">
              <a:rPr b="0" lang="ar-SA" sz="1400" spc="-1" strike="noStrike">
                <a:solidFill>
                  <a:srgbClr val="ffffff"/>
                </a:solidFill>
                <a:latin typeface="Georgia"/>
                <a:cs typeface="Times New Roman"/>
              </a:rPr>
              <a:t>١٤٤٨/٠٢/١٦</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0923-97F3-453C-875C-D1C98F03638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9359-7D3A-476E-BE15-FB7B9FFA907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91DB-B3E2-4CE5-9924-C261E2EA41C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69BF-665C-4092-B3DC-A97E9287030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B49D-CC0A-495C-8312-0A90DB1D81E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A622-3763-4985-A21C-A4E027B9733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81D38-881D-434D-B602-5EC09362CB1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065F-932B-426F-BF6A-AB442688D4E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D235-95EE-45F3-A351-C809A6D2EAD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B37F-5EC6-49F2-8477-4572E2CD023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7C3A-76AE-4613-B8F4-702215E3414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1289-6446-4ED9-B500-5B673967490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A37C-61C8-45EB-8F0A-0EFF7E5DB8B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52A9-68FA-4389-94E3-1766540C280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E845-87C2-4A3C-8610-A4A6806B759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ED06-B4C6-4672-8CA2-9A33F2FC543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66C4-58EC-421A-9F29-4B1AAE2225A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5CA0-CF9B-4DB7-8FB2-14056B870D3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29B9-DD84-426D-AF3B-6587D1F5533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1ED7-75D5-464A-B602-BAFBBEC943A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7872-74D2-4904-B165-7E5EAA0C676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