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4F11-966B-439C-9E33-675A91D5C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FB9-5984-41AC-B29C-589B5960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0A6E8D-5859-4991-A805-39A70F35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8845B-AB33-4FCD-9496-80115D93E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A1931-8FE8-4343-9AA0-13AE51355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E13FC-F1C2-400A-815E-D365A307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37985-05C1-4DC5-8BA7-B25C564B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F4D144-708E-4A9B-AAC9-CE6314DC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734F1-C8ED-455B-A66B-AA939DF6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275483-0B48-415D-BD75-FC545634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46FB7-13E7-4216-ADAC-226158C5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DDDD8A-4E66-465B-8B81-26BCD9C9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D181-4670-48F2-8964-8E343FAF1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2ED595-472C-499C-A291-E11B91FBC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70A7D-4AE7-4777-A821-27B0BD60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BB0E7-6CAD-44B0-9CE7-F8B5EE4A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F69B9C-BEFD-4027-B4B9-2115B880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793FCD-777B-44D1-A97F-3582FAC4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53BE5D-23C9-40AE-AE90-C3216CE1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9C509-7DB9-40A8-A59F-3EC0C09F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4AB9D-C0B6-4610-90BE-5880B0331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3B966-503A-4FF9-A5E0-CEE18B6A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0B12D6-4F5D-4D61-9B0B-E7CB195F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7EA-FC4E-41A4-AAF4-E049535F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DC7C7-37C0-4C1F-A993-70859BCD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801063-7C6A-4977-964D-C8ABB29C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71DBE-A284-405C-972B-C75DC201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12AE0-552E-43F4-82F2-EC493EFC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742969-7B48-42EA-9CFB-B4DAD432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9A2BE-E2AF-4DFE-9951-7E136377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F9E2A-3D06-4D26-B30E-F438A708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E3ACD-7980-4FEB-AC8F-33074A50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1C775-FCCA-4171-AA89-58B84FE8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3E7CB-02C3-4D71-81E3-62B7F285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4DE5B-A544-48E4-B12E-5D77D1B8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98BBF-DF9A-4EF9-A8CB-6A1E1EF4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1EE24-3982-44AB-8797-6DA24223E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6F2BA-CEE3-4579-865E-EE16B6FDE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C61C30-B28A-49D1-9D5A-3FA4D156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EDA32-89E5-486C-835B-411F683F1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D62FB-63AA-4683-B7F2-18AB8359E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93E39-E87C-4F3C-B282-EEDDCC3F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2D26A-57DE-44CA-A912-FF69A6B13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55B06C-A23A-434A-BF26-4C99ECD7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AC815E-DE18-4F16-88E4-1AF25272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C51B-8C75-4D87-816E-B82ABE3D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5EE21-515D-406C-96BB-5442FA08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ACC30-6D57-4B09-B339-963D6F10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2B1FDD-D4E5-4574-BEB7-3AAA9886E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717A25-A86F-44B0-8483-FA491AF9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B96950-D1D6-4BF5-9355-F21A0FA5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1627E5-3F0B-4F12-84C6-1533EA464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A26C5-AB36-4E19-B10D-94C31F13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6C8180-3DBD-4834-AD5B-A7C09705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945087-E986-4C4E-8489-50834808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385F0D-1C17-4100-91ED-A3C0FE4D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59C08-0C94-4F95-916A-E5820DB0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30DED-7C7B-4080-B8C1-92EFC910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B8585B-1AF1-4DC1-B31E-D6008758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0D9A8-A99F-4AF3-99E7-72426CB2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9CDA8-7BE0-48CE-9872-F50A29FB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1C87E1-207E-4DA2-B532-9A9EB6F0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55AC1-BEFC-46E9-AF96-7A060A0A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0C7D3-E680-45C4-B517-CE564E33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BA537-4D0A-4A80-A180-FFEBE6933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837083-7362-4803-9B0D-D593B679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63BBF8-C910-42EC-9540-ED3FA392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1EA5-B889-4C40-A6D1-524152A4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10FF20-66DB-4B35-9F3E-A7D74409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F8F04C-C55A-4622-8694-CAA41FDFB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65E27-C3D5-40F6-95BB-90E6EFAC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38CB5-46FF-45CD-8340-27790D2F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66BA69-9A4C-4A93-A6B8-6068C0E7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5109F-3079-4513-8020-E278E0C9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590C95-4B46-47E1-9CC1-00665B53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105058-72D6-420E-9BB4-16106941F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450A5-2644-44C7-A9EC-3ED496B21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8A4ABC-6277-4286-9575-A856DB2E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D3B9-6573-4D2A-9DA4-B11170F4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AB3D2A-D332-43F2-A987-09E867D6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1B949-7D6B-4160-B789-F0D5CA38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04A2EB-073C-431B-93C8-F7AB27B5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5CC93E-730E-4E5D-87B2-C058994B3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463D75-EBDC-4465-A3FF-1261F937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EF2EBA-D1C8-4B02-AD73-0E4509AC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BA8D15-164D-4283-8A12-A9A23E9B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EBA66F-1AEA-4297-B092-4421885F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ED184-556A-4895-B8D8-2CE536EC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E3673-F598-4935-91BC-51CFBF25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242B-B910-4720-80CD-A568528A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C31FF7-5522-49B3-AA55-4323E286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12EDD-4F25-45F6-85C2-D44F58AC8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C1F434-3751-49AE-A88B-0B363B66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0FCEB-B8DE-4BAD-A9EA-A2DF0C65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7C1C99-ECD5-4EA3-9F1B-C2FF1DCB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D56454-4F62-4F1D-9B52-B3892F6A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F4C73-6B45-4185-A90E-C765F591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C8301A-20F1-49C8-B493-D9166308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ABC7C7-0B47-47F3-BCE8-82041C82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15D964-8C3D-47C6-BFAC-7EC6B5472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DCC8-4287-46E0-8417-E36032C7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9A130-02E2-4201-A406-10B3013E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9E38B-7E6D-40D8-93CD-3E6B039E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6A00BC-D0B7-4AF0-977B-DC0C91E1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992-EADD-4B00-99FE-205F6C89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B071-2536-4478-91B7-30743454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4A09-4487-45FA-81D4-BAA7C261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DEE8-87B4-4503-95A4-D21ECEB4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CD64-F260-41AE-901E-A4BF0E001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4C4A-29E0-40A0-864F-6E9FF9B5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B65D1-D547-4C91-A356-098993F0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656C1-BCB5-46B3-B6BD-34228425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90C8-BAB8-4C5B-B893-CDE47A02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5DA84-C6C4-4F26-B3C9-552B93E5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3A87A-A4D0-4FE8-8DE1-3F809623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457-F7FF-493F-90D6-E0F72361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0D38-F4FA-4E37-8EE8-C663D4EB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775AE-C013-4860-9C33-DC04F06B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BB7F3-7A0E-422F-A12B-BE518007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3E12E-CC2D-47EC-8B26-A490AE38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63192-300B-4D56-929E-2D691058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EFB8-E1D5-4BD8-ACC2-077A593E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E169-53F2-4892-AEFA-67CDA7B69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380273-8951-4AD4-890F-16E42DA6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60993-9ED7-4F02-A594-1D6DCA05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6B377-4F39-48BD-8006-B9C5FE17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2102-7CDF-4FA1-891D-5890E6A1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3296FD-AD5A-4080-AD96-B9D51B06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8D75D0-EAAD-4A30-A0B9-3057C8F0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C3FA2A-6108-4ECA-9E11-9260E48A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2A92EC-0C86-467A-B527-744ED70D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FCF051-B7C7-4A74-96BD-C3089E3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2C593-97F0-4C69-9E9F-5F4F371B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C9BF27-5F83-4311-B727-7B184ADC1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2831A7-7E83-42DB-B74B-CDAFA31F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146D40-E7F5-44B9-8F68-AC4727B12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046B6-07F7-40FB-9E69-25451986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37A-EAAB-43FF-87A1-416D669B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94AB5-7A3B-413D-882C-FD8407530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7FFFA-E91C-4BD0-A406-66EE43CF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EF62E-61B6-4DA7-9417-3DBD8ABC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D4CF8-DFD7-412F-8EF1-7C99BD27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542E0-D0BF-464F-94A1-31BD588C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FA877-7960-4BC5-9749-2C0FD034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18751-E083-4568-9531-33D8E364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F2443-AEDF-4138-8C22-6225F7B5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F5B0A-9867-40F4-B22E-240FC678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372A8-19A7-46C7-8821-5738C7D0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D21-0416-44FF-8950-533E9FC7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0902F-F300-476B-87F1-14BFC65CE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9B998-F894-4563-A067-F75155CE0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428E6-2ABD-4001-9B06-EDB9BDCE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E8F5B-D2F9-4563-83AF-76D2045C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1ADBD-4756-40B3-9B9B-0E00AEB7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43A78-180E-4FDB-A6A8-D8B3805A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87C7D-CD9A-45F6-BA58-9F2301B6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DB891-FD13-4C51-B1D4-04D76684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127FE-CA0B-47A3-AF18-AF372B09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4F330-ADEC-4911-9B30-4322EFAD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69C9-3F1D-4C50-96C4-8E9116CF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A9E5C-C543-4228-929B-51750400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F49B4-30ED-433E-9573-0888272A5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D68B3-48BF-4C22-8879-6240EDDA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A9E8B-30DB-4DDF-BE45-E1F09AAB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F0D2A-21F0-4E77-99BC-63B5CF9C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F9018-29AA-458A-B12E-FC76FD42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7030F-DDB2-45C8-8463-517BFE47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523F5-73B5-4963-93BE-90AAD2F6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032F6-0AE1-4D7D-BFCE-4B9BA7E1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576BC-A614-4D8C-BEF7-D88BDC10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75C7-6FD0-49F1-B10C-C9CB85CF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C28A6-6C08-4C18-8FCE-30A385E3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A8851-5E88-4B10-9232-1765AB59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2B027-E9C0-4220-B746-59C78E15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78E86-0261-46DF-9ED2-A22EE9AC7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9DE2B-51CD-4A12-A54D-F0BE684F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9623D-1FFD-4FF7-9EEF-FFEE9B21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D69B33-A519-47BB-9268-03B929A1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4A46E-40F4-4A79-9163-324B934BA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56E11-5D2D-423C-815E-463483E8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19BC0-97DE-40EE-8E28-7C6EF8569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570-9F47-46B1-9F5D-AF2E89DC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06683-0FB5-42A2-A927-BDB88A37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81414-5BAA-4BFD-9561-FB9F1827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BD633-7462-428F-97E1-2F79CEEF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FD562-186D-4DED-8640-BB6E0119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932C2-2729-45FC-9A33-D2A77C37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08DBC-94CF-4742-8CC7-EDBDA9D8B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DD7E3-21E5-471C-9E7D-DA600C0A3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4BD81-AF60-4ADE-BC6A-A139E8B4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1F97F-E884-49C1-81D8-8C349C654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A169B-B94C-4FFA-B6EB-C09307EE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6E07-3613-4965-8625-5EBEAD38F03D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8DF5-E33D-474E-9883-79BE454D707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B29E-526F-427B-98A9-F90EC6783E7D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A15D-B893-4618-BDF6-925CC43ACC17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CC20-E3B6-4DB0-B512-DAD34BAA4D1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CED6-A9DD-4270-AFE8-0727B844DB7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87E1-7FA8-4917-840F-5847D75DEB97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C13C-363A-4496-BE7E-FAE7094C844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C874-1E80-4E6F-8482-BC6538C62129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2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3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6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7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38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9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0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41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68E96-418B-4028-B814-71A10A6AAC65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9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6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7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0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1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22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3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4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25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7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4FDB-4753-4B22-B5C4-6A218E8F0EE5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3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0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4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06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7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8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09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4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1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AD68-F6D8-4E20-82E4-F4987AD270B7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69CF-9D6E-48A4-BC39-9CA8D2A1A7DE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6BA9-FCD5-47DC-A969-C3B7175ABC1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E28E-9DF7-48B0-A7F6-F26C1055BBD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7BE9-2153-4B82-B830-C0BC89423A5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71600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GA Abasan Regular"/>
              </a:rPr>
              <a:t>العنصر الثاني: التحضر والتنمية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ناه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يف ظهر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نواع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3" name="Picture 4" descr="ي"/>
          <p:cNvPicPr/>
          <p:nvPr/>
        </p:nvPicPr>
        <p:blipFill>
          <a:blip r:embed="rId1"/>
          <a:stretch/>
        </p:blipFill>
        <p:spPr>
          <a:xfrm>
            <a:off x="1476360" y="2492280"/>
            <a:ext cx="33829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/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ات الاقتصاد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دفعة القو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6" name="Picture 4" descr="ضص"/>
          <p:cNvPicPr/>
          <p:nvPr/>
        </p:nvPicPr>
        <p:blipFill>
          <a:blip r:embed="rId1"/>
          <a:stretch/>
        </p:blipFill>
        <p:spPr>
          <a:xfrm>
            <a:off x="1042920" y="2708280"/>
            <a:ext cx="4535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قارب النجا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9" name="Picture 4" descr="تن"/>
          <p:cNvPicPr/>
          <p:nvPr/>
        </p:nvPicPr>
        <p:blipFill>
          <a:blip r:embed="rId1"/>
          <a:stretch/>
        </p:blipFill>
        <p:spPr>
          <a:xfrm>
            <a:off x="1619280" y="2997360"/>
            <a:ext cx="38577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&gt;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مراحل الاقتصا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2" name="Picture 4" descr="strate10"/>
          <p:cNvPicPr/>
          <p:nvPr/>
        </p:nvPicPr>
        <p:blipFill>
          <a:blip r:embed="rId1"/>
          <a:stretch/>
        </p:blipFill>
        <p:spPr>
          <a:xfrm>
            <a:off x="1547640" y="2997360"/>
            <a:ext cx="4034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/النظريات الاجتماع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ثنائية الاجتما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5" name="Picture 4" descr="ضضض"/>
          <p:cNvPicPr/>
          <p:nvPr/>
        </p:nvPicPr>
        <p:blipFill>
          <a:blip r:embed="rId1"/>
          <a:stretch/>
        </p:blipFill>
        <p:spPr>
          <a:xfrm>
            <a:off x="1547640" y="2924280"/>
            <a:ext cx="4319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دافع الإنجاز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8" name="Picture 4" descr="imagesئئ"/>
          <p:cNvPicPr/>
          <p:nvPr/>
        </p:nvPicPr>
        <p:blipFill>
          <a:blip r:embed="rId1"/>
          <a:stretch/>
        </p:blipFill>
        <p:spPr>
          <a:xfrm>
            <a:off x="2050920" y="2708280"/>
            <a:ext cx="2881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ة الإسلامية ل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تركتز على الإنسان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يزتها : الجمع بين الروح الأخلاقية/الدينية  و الأهداف المادية للإنسان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+الشمول +الواق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1" name="Picture 5" descr="Trains-by-Aaron-Durand-1"/>
          <p:cNvPicPr/>
          <p:nvPr/>
        </p:nvPicPr>
        <p:blipFill>
          <a:blip r:embed="rId1"/>
          <a:stretch/>
        </p:blipFill>
        <p:spPr>
          <a:xfrm>
            <a:off x="1258920" y="4221000"/>
            <a:ext cx="2724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-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عناصر المؤدية للتنمية في النظرية الإسلامية/كيف ستبدأ التنمية الإسلامية؟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استفادة من التقدم العلمي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حسين مستوى الأفراد صحياً واجتماع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وين رأس الما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4" name="Picture 4" descr="content-writting-small"/>
          <p:cNvPicPr/>
          <p:nvPr/>
        </p:nvPicPr>
        <p:blipFill>
          <a:blip r:embed="rId1"/>
          <a:stretch/>
        </p:blipFill>
        <p:spPr>
          <a:xfrm>
            <a:off x="611280" y="4221000"/>
            <a:ext cx="2736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بعاد التنمية الإسلامية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. البعد الفلسفي ويرتكز على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استخلاف /العم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مال  (الزكاة، الربا 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فكرة النظام الإجتماعي المتوازن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عدالة+التكافل، التكامل+المسؤول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.البعد التشريع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زكا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با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7" name="Picture 4" descr="plant_in_hand"/>
          <p:cNvPicPr/>
          <p:nvPr/>
        </p:nvPicPr>
        <p:blipFill>
          <a:blip r:embed="rId1"/>
          <a:stretch/>
        </p:blipFill>
        <p:spPr>
          <a:xfrm>
            <a:off x="900000" y="2205000"/>
            <a:ext cx="38102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Arabic Typesetting"/>
                <a:cs typeface="Arabic Typesetting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e3d2d"/>
                </a:solidFill>
                <a:latin typeface="Arabic Typesetting"/>
                <a:cs typeface="Arabic Typesetting"/>
              </a:rPr>
              <a:t>تطور المفهوم تاريخياً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اهيم متصلة ب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ض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دي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صر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ري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صني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يي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1" name="Picture 5" descr="imagesس"/>
          <p:cNvPicPr/>
          <p:nvPr/>
        </p:nvPicPr>
        <p:blipFill>
          <a:blip r:embed="rId1"/>
          <a:stretch/>
        </p:blipFill>
        <p:spPr>
          <a:xfrm>
            <a:off x="1692360" y="2349360"/>
            <a:ext cx="3168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111"/>
          <p:cNvGrpSpPr/>
          <p:nvPr/>
        </p:nvGrpSpPr>
        <p:grpSpPr>
          <a:xfrm>
            <a:off x="1684440" y="555480"/>
            <a:ext cx="5759280" cy="5761080"/>
            <a:chOff x="1684440" y="555480"/>
            <a:chExt cx="5759280" cy="5761080"/>
          </a:xfrm>
        </p:grpSpPr>
        <p:grpSp>
          <p:nvGrpSpPr>
            <p:cNvPr id="881" name="Group 37"/>
            <p:cNvGrpSpPr/>
            <p:nvPr/>
          </p:nvGrpSpPr>
          <p:grpSpPr>
            <a:xfrm>
              <a:off x="1684440" y="555480"/>
              <a:ext cx="5759280" cy="5761080"/>
              <a:chOff x="1684440" y="555480"/>
              <a:chExt cx="5759280" cy="5761080"/>
            </a:xfrm>
          </p:grpSpPr>
          <p:sp>
            <p:nvSpPr>
              <p:cNvPr id="882" name="Oval 7"/>
              <p:cNvSpPr/>
              <p:nvPr/>
            </p:nvSpPr>
            <p:spPr>
              <a:xfrm>
                <a:off x="2404080" y="1275480"/>
                <a:ext cx="4319640" cy="432072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3" name="Oval 8"/>
              <p:cNvSpPr/>
              <p:nvPr/>
            </p:nvSpPr>
            <p:spPr>
              <a:xfrm>
                <a:off x="1684440" y="555480"/>
                <a:ext cx="5759280" cy="576108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4" name="Oval 3"/>
              <p:cNvSpPr/>
              <p:nvPr/>
            </p:nvSpPr>
            <p:spPr>
              <a:xfrm>
                <a:off x="3153600" y="1995840"/>
                <a:ext cx="2850480" cy="2880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5" name="TextBox 19"/>
              <p:cNvSpPr/>
              <p:nvPr/>
            </p:nvSpPr>
            <p:spPr>
              <a:xfrm>
                <a:off x="3988080" y="26654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بيئ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6" name="Oval 4"/>
              <p:cNvSpPr/>
              <p:nvPr/>
            </p:nvSpPr>
            <p:spPr>
              <a:xfrm>
                <a:off x="3728160" y="2599920"/>
                <a:ext cx="1655640" cy="1656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grpSp>
            <p:nvGrpSpPr>
              <p:cNvPr id="887" name="Group 10"/>
              <p:cNvGrpSpPr/>
              <p:nvPr/>
            </p:nvGrpSpPr>
            <p:grpSpPr>
              <a:xfrm>
                <a:off x="4204080" y="3090600"/>
                <a:ext cx="719640" cy="724680"/>
                <a:chOff x="4204080" y="3090600"/>
                <a:chExt cx="719640" cy="724680"/>
              </a:xfrm>
            </p:grpSpPr>
            <p:sp>
              <p:nvSpPr>
                <p:cNvPr id="888" name="Oval 6"/>
                <p:cNvSpPr/>
                <p:nvPr/>
              </p:nvSpPr>
              <p:spPr>
                <a:xfrm>
                  <a:off x="4204080" y="3090600"/>
                  <a:ext cx="719640" cy="673200"/>
                </a:xfrm>
                <a:prstGeom prst="ellipse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9" name="TextBox 9"/>
                <p:cNvSpPr/>
                <p:nvPr/>
              </p:nvSpPr>
              <p:spPr>
                <a:xfrm>
                  <a:off x="4275720" y="3234600"/>
                  <a:ext cx="575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000000"/>
                      </a:solidFill>
                      <a:latin typeface="Calibri"/>
                      <a:cs typeface="Arial"/>
                    </a:rPr>
                    <a:t>التنمية</a:t>
                  </a:r>
                  <a:endParaRPr b="0" lang="en-US" sz="1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90" name="Straight Connector 12"/>
              <p:cNvSpPr/>
              <p:nvPr/>
            </p:nvSpPr>
            <p:spPr>
              <a:xfrm>
                <a:off x="3970800" y="2842560"/>
                <a:ext cx="33876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1" name="Straight Connector 13"/>
              <p:cNvSpPr/>
              <p:nvPr/>
            </p:nvSpPr>
            <p:spPr>
              <a:xfrm flipH="1">
                <a:off x="4779720" y="2787840"/>
                <a:ext cx="32292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2" name="TextBox 20"/>
              <p:cNvSpPr/>
              <p:nvPr/>
            </p:nvSpPr>
            <p:spPr>
              <a:xfrm rot="16200000">
                <a:off x="5458320" y="32018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ادي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3" name="TextBox 21"/>
              <p:cNvSpPr/>
              <p:nvPr/>
            </p:nvSpPr>
            <p:spPr>
              <a:xfrm>
                <a:off x="4242240" y="4372200"/>
                <a:ext cx="6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مدين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4" name="TextBox 22"/>
              <p:cNvSpPr/>
              <p:nvPr/>
            </p:nvSpPr>
            <p:spPr>
              <a:xfrm rot="5400000">
                <a:off x="3011040" y="30632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ريف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5" name="Straight Connector 24"/>
              <p:cNvSpPr/>
              <p:nvPr/>
            </p:nvSpPr>
            <p:spPr>
              <a:xfrm flipH="1">
                <a:off x="5067720" y="2374560"/>
                <a:ext cx="453960" cy="4248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6" name="Straight Connector 27"/>
              <p:cNvSpPr/>
              <p:nvPr/>
            </p:nvSpPr>
            <p:spPr>
              <a:xfrm>
                <a:off x="3633480" y="2361600"/>
                <a:ext cx="399600" cy="43776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7" name="TextBox 29"/>
              <p:cNvSpPr/>
              <p:nvPr/>
            </p:nvSpPr>
            <p:spPr>
              <a:xfrm>
                <a:off x="4060080" y="19958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حضر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8" name="TextBox 30"/>
              <p:cNvSpPr/>
              <p:nvPr/>
            </p:nvSpPr>
            <p:spPr>
              <a:xfrm rot="14784600">
                <a:off x="4892760" y="2865600"/>
                <a:ext cx="789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ظروف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9" name="TextBox 31"/>
              <p:cNvSpPr/>
              <p:nvPr/>
            </p:nvSpPr>
            <p:spPr>
              <a:xfrm rot="16925400">
                <a:off x="4777560" y="3517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سياس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0" name="TextBox 32"/>
              <p:cNvSpPr/>
              <p:nvPr/>
            </p:nvSpPr>
            <p:spPr>
              <a:xfrm rot="1444800">
                <a:off x="3719880" y="3840480"/>
                <a:ext cx="9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حضار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1" name="TextBox 33"/>
              <p:cNvSpPr/>
              <p:nvPr/>
            </p:nvSpPr>
            <p:spPr>
              <a:xfrm rot="19668600">
                <a:off x="4323240" y="3900240"/>
                <a:ext cx="102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اقتصاد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2" name="TextBox 34"/>
              <p:cNvSpPr/>
              <p:nvPr/>
            </p:nvSpPr>
            <p:spPr>
              <a:xfrm rot="3928800">
                <a:off x="3427920" y="33393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داخل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3" name="TextBox 35"/>
              <p:cNvSpPr/>
              <p:nvPr/>
            </p:nvSpPr>
            <p:spPr>
              <a:xfrm rot="6194400">
                <a:off x="3528720" y="2950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خارج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904" name="Straight Connector 38"/>
            <p:cNvSpPr/>
            <p:nvPr/>
          </p:nvSpPr>
          <p:spPr>
            <a:xfrm flipH="1">
              <a:off x="5463000" y="1789200"/>
              <a:ext cx="468720" cy="5083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Straight Connector 41"/>
            <p:cNvSpPr/>
            <p:nvPr/>
          </p:nvSpPr>
          <p:spPr>
            <a:xfrm flipH="1">
              <a:off x="5769000" y="2288160"/>
              <a:ext cx="594360" cy="3790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Straight Connector 43"/>
            <p:cNvSpPr/>
            <p:nvPr/>
          </p:nvSpPr>
          <p:spPr>
            <a:xfrm flipH="1">
              <a:off x="5961960" y="2961360"/>
              <a:ext cx="68976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Straight Connector 45"/>
            <p:cNvSpPr/>
            <p:nvPr/>
          </p:nvSpPr>
          <p:spPr>
            <a:xfrm flipH="1" flipV="1">
              <a:off x="5931720" y="3994560"/>
              <a:ext cx="603000" cy="377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Straight Connector 48"/>
            <p:cNvSpPr/>
            <p:nvPr/>
          </p:nvSpPr>
          <p:spPr>
            <a:xfrm>
              <a:off x="4564080" y="127548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Straight Connector 50"/>
            <p:cNvSpPr/>
            <p:nvPr/>
          </p:nvSpPr>
          <p:spPr>
            <a:xfrm>
              <a:off x="3178080" y="1789200"/>
              <a:ext cx="486360" cy="5720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Straight Connector 52"/>
            <p:cNvSpPr/>
            <p:nvPr/>
          </p:nvSpPr>
          <p:spPr>
            <a:xfrm>
              <a:off x="2476080" y="2961360"/>
              <a:ext cx="70164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Straight Connector 54"/>
            <p:cNvSpPr/>
            <p:nvPr/>
          </p:nvSpPr>
          <p:spPr>
            <a:xfrm flipV="1">
              <a:off x="2692080" y="4054320"/>
              <a:ext cx="602640" cy="41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Straight Connector 56"/>
            <p:cNvSpPr/>
            <p:nvPr/>
          </p:nvSpPr>
          <p:spPr>
            <a:xfrm flipV="1">
              <a:off x="3188160" y="4541400"/>
              <a:ext cx="476280" cy="550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Straight Connector 59"/>
            <p:cNvSpPr/>
            <p:nvPr/>
          </p:nvSpPr>
          <p:spPr>
            <a:xfrm flipV="1">
              <a:off x="3864960" y="4817160"/>
              <a:ext cx="274680" cy="663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Straight Connector 62"/>
            <p:cNvSpPr/>
            <p:nvPr/>
          </p:nvSpPr>
          <p:spPr>
            <a:xfrm flipV="1">
              <a:off x="4706280" y="487620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Straight Connector 65"/>
            <p:cNvSpPr/>
            <p:nvPr/>
          </p:nvSpPr>
          <p:spPr>
            <a:xfrm flipH="1" flipV="1">
              <a:off x="5043600" y="4791600"/>
              <a:ext cx="444240" cy="600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Straight Connector 67"/>
            <p:cNvSpPr/>
            <p:nvPr/>
          </p:nvSpPr>
          <p:spPr>
            <a:xfrm flipH="1" flipV="1">
              <a:off x="5488560" y="4541400"/>
              <a:ext cx="573480" cy="459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TextBox 70"/>
            <p:cNvSpPr/>
            <p:nvPr/>
          </p:nvSpPr>
          <p:spPr>
            <a:xfrm rot="1146600">
              <a:off x="4330800" y="148860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قطاعات التنم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TextBox 73"/>
            <p:cNvSpPr/>
            <p:nvPr/>
          </p:nvSpPr>
          <p:spPr>
            <a:xfrm rot="20103000">
              <a:off x="3176640" y="152892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وطن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TextBox 74"/>
            <p:cNvSpPr/>
            <p:nvPr/>
          </p:nvSpPr>
          <p:spPr>
            <a:xfrm rot="17998200">
              <a:off x="2251080" y="2312640"/>
              <a:ext cx="14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محل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TextBox 79"/>
            <p:cNvSpPr/>
            <p:nvPr/>
          </p:nvSpPr>
          <p:spPr>
            <a:xfrm rot="15878400">
              <a:off x="2250360" y="3320280"/>
              <a:ext cx="14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رجال المعارضة السياس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TextBox 82"/>
            <p:cNvSpPr/>
            <p:nvPr/>
          </p:nvSpPr>
          <p:spPr>
            <a:xfrm rot="2886600">
              <a:off x="2420280" y="440784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TextBox 86"/>
            <p:cNvSpPr/>
            <p:nvPr/>
          </p:nvSpPr>
          <p:spPr>
            <a:xfrm rot="1873200">
              <a:off x="3007440" y="4889880"/>
              <a:ext cx="9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وظف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TextBox 87"/>
            <p:cNvSpPr/>
            <p:nvPr/>
          </p:nvSpPr>
          <p:spPr>
            <a:xfrm rot="435000">
              <a:off x="3718080" y="51714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حرف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TextBox 88"/>
            <p:cNvSpPr/>
            <p:nvPr/>
          </p:nvSpPr>
          <p:spPr>
            <a:xfrm rot="21014400">
              <a:off x="4433400" y="52182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ف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TextBox 89"/>
            <p:cNvSpPr/>
            <p:nvPr/>
          </p:nvSpPr>
          <p:spPr>
            <a:xfrm rot="19233000">
              <a:off x="5106240" y="498744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ه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6" name="TextBox 90"/>
            <p:cNvSpPr/>
            <p:nvPr/>
          </p:nvSpPr>
          <p:spPr>
            <a:xfrm rot="18160200">
              <a:off x="5733000" y="438840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زارع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7" name="TextBox 91"/>
            <p:cNvSpPr/>
            <p:nvPr/>
          </p:nvSpPr>
          <p:spPr>
            <a:xfrm rot="17163600">
              <a:off x="5937120" y="40417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م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8" name="TextBox 92"/>
            <p:cNvSpPr/>
            <p:nvPr/>
          </p:nvSpPr>
          <p:spPr>
            <a:xfrm rot="15943200">
              <a:off x="6007320" y="298548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أطف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9" name="TextBox 93"/>
            <p:cNvSpPr/>
            <p:nvPr/>
          </p:nvSpPr>
          <p:spPr>
            <a:xfrm rot="13931400">
              <a:off x="5661000" y="209880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رأ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0" name="Straight Connector 107"/>
            <p:cNvSpPr/>
            <p:nvPr/>
          </p:nvSpPr>
          <p:spPr>
            <a:xfrm flipH="1" flipV="1">
              <a:off x="6000480" y="3553200"/>
              <a:ext cx="698760" cy="143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1" name="TextBox 109"/>
            <p:cNvSpPr/>
            <p:nvPr/>
          </p:nvSpPr>
          <p:spPr>
            <a:xfrm rot="14863200">
              <a:off x="5967720" y="26809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شباب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2" name="TextBox 112"/>
          <p:cNvSpPr/>
          <p:nvPr/>
        </p:nvSpPr>
        <p:spPr>
          <a:xfrm>
            <a:off x="3900600" y="692280"/>
            <a:ext cx="13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عد التنمو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3" name="TextBox 113"/>
          <p:cNvSpPr/>
          <p:nvPr/>
        </p:nvSpPr>
        <p:spPr>
          <a:xfrm rot="1697400">
            <a:off x="4867200" y="755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يئ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4" name="TextBox 114"/>
          <p:cNvSpPr/>
          <p:nvPr/>
        </p:nvSpPr>
        <p:spPr>
          <a:xfrm rot="2315400">
            <a:off x="5426280" y="1155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قاف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TextBox 115"/>
          <p:cNvSpPr/>
          <p:nvPr/>
        </p:nvSpPr>
        <p:spPr>
          <a:xfrm rot="3280200">
            <a:off x="1696320" y="4583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6" name="TextBox 116"/>
          <p:cNvSpPr/>
          <p:nvPr/>
        </p:nvSpPr>
        <p:spPr>
          <a:xfrm rot="16026600">
            <a:off x="1328040" y="32907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7" name="TextBox 117"/>
          <p:cNvSpPr/>
          <p:nvPr/>
        </p:nvSpPr>
        <p:spPr>
          <a:xfrm rot="16964400">
            <a:off x="6454800" y="37602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8" name="TextBox 118"/>
          <p:cNvSpPr/>
          <p:nvPr/>
        </p:nvSpPr>
        <p:spPr>
          <a:xfrm rot="17834400">
            <a:off x="1691640" y="1991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ذات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9" name="TextBox 119"/>
          <p:cNvSpPr/>
          <p:nvPr/>
        </p:nvSpPr>
        <p:spPr>
          <a:xfrm rot="19416600">
            <a:off x="2530080" y="1084680"/>
            <a:ext cx="133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مية روح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0" name="TextBox 120"/>
          <p:cNvSpPr/>
          <p:nvPr/>
        </p:nvSpPr>
        <p:spPr>
          <a:xfrm>
            <a:off x="3986280" y="57783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ري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1" name="TextBox 121"/>
          <p:cNvSpPr/>
          <p:nvPr/>
        </p:nvSpPr>
        <p:spPr>
          <a:xfrm rot="3735000">
            <a:off x="6165720" y="19191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نولوج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2" name="TextBox 122"/>
          <p:cNvSpPr/>
          <p:nvPr/>
        </p:nvSpPr>
        <p:spPr>
          <a:xfrm rot="18352200">
            <a:off x="6025680" y="46688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ف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TextBox 124"/>
          <p:cNvSpPr/>
          <p:nvPr/>
        </p:nvSpPr>
        <p:spPr>
          <a:xfrm rot="5400000">
            <a:off x="6464880" y="297072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TextBox 125"/>
          <p:cNvSpPr/>
          <p:nvPr/>
        </p:nvSpPr>
        <p:spPr>
          <a:xfrm rot="19645200">
            <a:off x="5271840" y="54324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ا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TextBox 126"/>
          <p:cNvSpPr/>
          <p:nvPr/>
        </p:nvSpPr>
        <p:spPr>
          <a:xfrm rot="1888200">
            <a:off x="2519280" y="53928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ش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6" name="Straight Connector 130"/>
          <p:cNvSpPr/>
          <p:nvPr/>
        </p:nvSpPr>
        <p:spPr>
          <a:xfrm>
            <a:off x="3700440" y="692280"/>
            <a:ext cx="2649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7" name="Straight Connector 131"/>
          <p:cNvSpPr/>
          <p:nvPr/>
        </p:nvSpPr>
        <p:spPr>
          <a:xfrm>
            <a:off x="2349360" y="1636560"/>
            <a:ext cx="561960" cy="41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8" name="Straight Connector 132"/>
          <p:cNvSpPr/>
          <p:nvPr/>
        </p:nvSpPr>
        <p:spPr>
          <a:xfrm flipH="1">
            <a:off x="5109840" y="692280"/>
            <a:ext cx="2127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Straight Connector 133"/>
          <p:cNvSpPr/>
          <p:nvPr/>
        </p:nvSpPr>
        <p:spPr>
          <a:xfrm flipH="1">
            <a:off x="5592600" y="930240"/>
            <a:ext cx="339840" cy="627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Straight Connector 144"/>
          <p:cNvSpPr/>
          <p:nvPr/>
        </p:nvSpPr>
        <p:spPr>
          <a:xfrm flipH="1" flipV="1">
            <a:off x="6724440" y="3544560"/>
            <a:ext cx="718920" cy="28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1" name="Straight Connector 145"/>
          <p:cNvSpPr/>
          <p:nvPr/>
        </p:nvSpPr>
        <p:spPr>
          <a:xfrm flipH="1">
            <a:off x="6611400" y="2732040"/>
            <a:ext cx="7210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Straight Connector 146"/>
          <p:cNvSpPr/>
          <p:nvPr/>
        </p:nvSpPr>
        <p:spPr>
          <a:xfrm flipH="1">
            <a:off x="6111360" y="1400040"/>
            <a:ext cx="489240" cy="516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3" name="Straight Connector 147"/>
          <p:cNvSpPr/>
          <p:nvPr/>
        </p:nvSpPr>
        <p:spPr>
          <a:xfrm flipH="1" flipV="1">
            <a:off x="1763640" y="2835000"/>
            <a:ext cx="712800" cy="127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Straight Connector 148"/>
          <p:cNvSpPr/>
          <p:nvPr/>
        </p:nvSpPr>
        <p:spPr>
          <a:xfrm flipH="1">
            <a:off x="1816200" y="4113360"/>
            <a:ext cx="696960" cy="1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5" name="Straight Connector 149"/>
          <p:cNvSpPr/>
          <p:nvPr/>
        </p:nvSpPr>
        <p:spPr>
          <a:xfrm flipH="1">
            <a:off x="2558880" y="4964040"/>
            <a:ext cx="478080" cy="530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6" name="Straight Connector 158"/>
          <p:cNvSpPr/>
          <p:nvPr/>
        </p:nvSpPr>
        <p:spPr>
          <a:xfrm flipH="1" flipV="1">
            <a:off x="6587640" y="4257360"/>
            <a:ext cx="660600" cy="284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7" name="Straight Connector 159"/>
          <p:cNvSpPr/>
          <p:nvPr/>
        </p:nvSpPr>
        <p:spPr>
          <a:xfrm>
            <a:off x="6091200" y="4964040"/>
            <a:ext cx="509760" cy="509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8" name="Straight Connector 160"/>
          <p:cNvSpPr/>
          <p:nvPr/>
        </p:nvSpPr>
        <p:spPr>
          <a:xfrm>
            <a:off x="5218200" y="5465880"/>
            <a:ext cx="244440" cy="712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9" name="Straight Connector 161"/>
          <p:cNvSpPr/>
          <p:nvPr/>
        </p:nvSpPr>
        <p:spPr>
          <a:xfrm flipH="1">
            <a:off x="3638520" y="5494320"/>
            <a:ext cx="262080" cy="65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تضمن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محاو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ولاً:البعد البيئ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ظروف السياسية و الاقتصادية و الحضارية داخلياً و خارج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نياً:البعد الحضر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دين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ي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9217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لثاً:قطاعات التنمية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رأ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شباب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أطف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زارع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ه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حرف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ظف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جال المعارضة ال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مهور العام الوطني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ابعاً:البعد التنمو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يئ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قاف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نولوج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لم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ف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دا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شري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ش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جتما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قتصاد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ذاتية تنمية روح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غ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ن النمو ، أي ارتفاع الشيء من موضعه إلى موضع آخ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4" name="Picture 4" descr="www-St-Takla-org___Plants-Growth-01"/>
          <p:cNvPicPr/>
          <p:nvPr/>
        </p:nvPicPr>
        <p:blipFill>
          <a:blip r:embed="rId1"/>
          <a:stretch/>
        </p:blipFill>
        <p:spPr>
          <a:xfrm>
            <a:off x="3059280" y="3500280"/>
            <a:ext cx="3340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ريق بين التنمية و النمو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نمو : الزيادة الثابتة و المستمرة التي تحدث في جانب معين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: تحقيق زيادة سريعة تراكمية ودائمة عبر فترة من الزمن في الإنتاج و الخدمات، نتيجة استخدام الجهود العلمية لتنظيم الأنشطة المشتركة الحكومية و الشعب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عريف 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4920" y="2323800"/>
            <a:ext cx="79218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زيادة محسوس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إنتاج والخدمات، شاملة ومتكاملة و مرتبطة بحركة المجتمع، تأثراً وتأثيراً ، مستخدمة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أساليب العلمية الحديث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تكنولوجيا و التنظيم و الإدار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حصلة الجهود العلمية المستخدمة لتنظيم الأنشطة المشتركة الحكومية والشعبية في مختلف المستويات 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لتعبئة الموارد الموجود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أو التي يمكن إيجادها لمواجهة الحاجات الضرورية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وفقاً لخطة مرسوم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،وفي ضوء السياسة العامة للمجتمع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9" name="Picture 5" descr="نمو-اقتصادي1"/>
          <p:cNvPicPr/>
          <p:nvPr/>
        </p:nvPicPr>
        <p:blipFill>
          <a:blip r:embed="rId1"/>
          <a:stretch/>
        </p:blipFill>
        <p:spPr>
          <a:xfrm>
            <a:off x="755640" y="476280"/>
            <a:ext cx="27828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لية تغيير مقصود نحو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نظام الاجتماعي و الاقتصادي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ذي تحتاجه الدول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ي العملية المرسومة لتقدم المجتمع كله اجتماعياً واقتصادياً و المعتمدة بأكبر قدر ممكن على مبادرة المجتمع المحلي و اشتراكه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قل المجتمعات من حالة أو مستوى إلى حالة أو مستوى أفضل، و من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نمط تقليدي إلى نمط متقدم ماً ونوعاً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، وتعد حلاً لا بديل عنه في مواجهة المتطلبات الوطنية في ميدان الإنتاج و الخدم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غيير أساسي في كل أنماط الحياة السائدة،و يتبع هذا تغيير نوعي و كمي في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صور العلاقات الاجتماعي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وفي كافة مجالات النشاط البشري في المجتمع، الاجتماعية و الاقتصادية و السياسية و الثقافية و الإدار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2" name="Picture 4" descr="20111214100048"/>
          <p:cNvPicPr/>
          <p:nvPr/>
        </p:nvPicPr>
        <p:blipFill>
          <a:blip r:embed="rId1"/>
          <a:stretch/>
        </p:blipFill>
        <p:spPr>
          <a:xfrm>
            <a:off x="468360" y="4941720"/>
            <a:ext cx="20160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تجاه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ند العلماء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يتحدث العلماء عن التنمية في ثلاث اتجاها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دل نمو دخل الفرد من إجمالي النتاج القومي الإجمالي في دولة م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تبط التنمية بعدد من التغيرات في بعض المجالات، مثل التعليم و محو الأمية و القوى العاملة و الصحة و التغذية وحجم السكان غير المزارعين ..الخ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 هي المعدل العالي للمواليد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5" name="Picture 6" descr="117054"/>
          <p:cNvPicPr/>
          <p:nvPr/>
        </p:nvPicPr>
        <p:blipFill>
          <a:blip r:embed="rId1"/>
          <a:stretch/>
        </p:blipFill>
        <p:spPr>
          <a:xfrm>
            <a:off x="468360" y="4508640"/>
            <a:ext cx="26654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تاريخيا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م التركيز على الزاوية الاقتصادية في تعريف التنمية و تفسير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م تمت إدخال كافة العناصر الاجتماعية و الثقافية لتفسير التنم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8" name="Picture 4" descr="360475445"/>
          <p:cNvPicPr/>
          <p:nvPr/>
        </p:nvPicPr>
        <p:blipFill>
          <a:blip r:embed="rId1"/>
          <a:stretch/>
        </p:blipFill>
        <p:spPr>
          <a:xfrm>
            <a:off x="971640" y="3429000"/>
            <a:ext cx="3384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سباب الاهتمام ب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ن وسائل النقل و الإعلام جعلت الموقف واضحاً ، و أصبح بالإمكان المقارنة بين أساليب الحيا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غبة الدول المستقلة بعد الاستعمار في أن تكون بنفس قوة الدول المستعمر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قف الأمم المتحدة من مشكلة التخلف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LoLo</cp:lastModifiedBy>
  <dcterms:modified xsi:type="dcterms:W3CDTF">2012-02-20T08:58:58Z</dcterms:modified>
  <cp:revision>27</cp:revision>
  <dc:subject/>
  <dc:title>الإعلام و التنمية علم 304</dc:title>
</cp:coreProperties>
</file>