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75E-5C38-4651-8486-1FF65CCB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932-748B-4DBA-965A-C2EDD8B42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36761-D4C6-4CCA-9B7C-13F1E6E3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42B84-009F-4ACE-BB35-04887FE8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E1AB8-66A6-4A00-9DAA-7E11FC0A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A3642-AA90-4A83-92D5-8880882D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B4ADB4-3B63-4B7E-AD6E-EB7E30E8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5B134-FCD5-4399-AA32-EEAD73A4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29D2B6-79AD-491B-957F-8EB6C6D8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CE3BE-4EB6-47DF-B2DD-D36392324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B8A3B-7378-44CB-8F48-2BB8E2EBB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A4AFB-1A96-4896-A9BF-7386C7420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7CD9-9C63-4F3A-84EA-FBE2C50D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92D5F-F0F4-42B8-B730-D9B504AF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31074-5648-4870-AA9F-B31E3F39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41D46-2206-4F19-AC16-3F499718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E3322-7521-4478-86AC-1F10D2C8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586EDE-FFA3-4A5A-83FA-7AFA93D6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CE114-26C5-4400-A6C8-754286B9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3F1E0-1E9D-400D-A012-BA575D88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6CB84-1927-4E5E-8476-622D39A0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3A87F-4DE6-4506-99C6-A8F65519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7F9DF-9695-4FD2-9CF5-D649C817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E2B5-30F4-4818-8344-085713651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33499-6487-4828-8723-AF8BE15D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7E1C70-8C5B-4828-AB88-CCA0B7DB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1103A7-9CCB-4562-A221-DEB64F8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193E7-D597-4E0A-9873-9D957B6D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763BF-D6A1-426F-A289-130D3324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9E5C8-43C9-4D38-8D50-8B0F8ED9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93F2D-114E-42D7-B0D2-A3A00305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8DC30-FDBB-44F8-9775-C11F76A6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AC96E-1235-49AC-92F3-9074D315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CD67D-587E-40E7-A0F8-4AA21F17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8C2CF-AB07-4AA0-995A-4DD125BC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C6D74-CFF3-4A01-8F3B-0E9631F3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876E8-31EF-4C3E-BB7B-DF49E22F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F113F-010D-43E2-BDCB-667E9210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B30F2-00D5-4A71-9443-2839FEAC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61B2A3-FC85-4E4A-B357-271FA16A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2C6C8-D6B3-483A-8D70-8E63BB11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806F46-3C51-48F7-A0D9-2553C568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04DCE-DF0A-45DD-A38C-5B82A3F6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D2A93-7F67-4963-B686-39D85856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5C6F6E-E0F4-4539-A872-8BE849C9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8F94-580A-43D8-9490-D5828D100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094013-B343-457F-8B54-09F1714C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D0D1F-BA29-491D-914F-04C99D79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7C9EEE-5312-4185-8B07-0484B59F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B5639-BF72-498E-928B-788154E49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313BE2-9733-458D-AEF9-F3777823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904420-BE07-41C1-99D5-957B87ADD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44CD5-7A5C-4DDA-B7E3-FB0C46D7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7658A-B6EC-45A4-82F0-74168CD4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17403-79DA-4E29-87EE-7A53255A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7F762-3868-4951-A965-E79759B1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0CBD-8918-4A33-BD5A-C99F5BA7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3809F2-4A2D-4B06-86DD-3DCCCBC2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55654-07D9-4184-A52D-08CFFA41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D0BC96-53D4-441A-A65B-EC086F85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EFAEA3-A4FC-4AB4-AB3E-996578C61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F53E96-0626-4FEF-A772-94E4CF35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77997-3273-4867-8832-410094112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0B1845-50F6-4FC9-96A6-F21A9679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BB0EF-71F3-4DCB-8448-8DA872D1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77D42-C5EC-4A12-9829-0008F7EC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0B1280-676E-4AB5-BE94-6AB27C6E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C3DC-00C4-4712-A092-50BFEE71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AE2B22-3552-4CF1-BC87-24D027D5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B90B75-A34C-43F2-B318-C7EE24E3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2F6041-BBB9-47E4-A536-AE876B2A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82059E-D3E8-4D99-9E5E-DE10394E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3478EF-5D26-4C11-88DD-C98DCCF1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8A189-ACF0-4203-903A-7722B53C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4B4B1-EAC3-4601-9498-B7469B63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1BB453-A909-461F-8475-0BE1312B9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298D0E-4897-4B6F-AAC6-1A5B13392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489D27-758C-45A9-A2DF-841E494D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CFC2-0E17-4EE0-9604-4E6FC19F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30F928-63B0-462A-9F69-84E27E9D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F628AF-FD17-4798-AA7D-30291450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DB0A43-A8DA-4334-A4DD-2734324C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97288-26E5-4131-8179-1B8287F0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07967-224B-4920-82D2-80DD2DD8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D57F0B-EB18-4F47-AAB8-9EFF9992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C241C6-0056-4CE3-A44D-B2D6571C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FC253-D053-42C6-B91E-DD4CF8A1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4FA17F-9ED0-4FEA-A740-713663FD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C6120-CE07-4802-8692-E7A2EC482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239F-BB9C-44E4-8F3C-57A9410E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31DB54-B374-4F1A-BC36-BF13002B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D3C002-5E31-4E15-B795-C75FEF07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952DED-B486-40A7-B914-CA493FE1F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73F04-1F21-4486-8E9A-7E741ED2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7966C-34AB-4D35-95CA-D9D00D43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D719EB-FA96-4473-A822-E45E8520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53247-1C00-4505-87E9-F5CDA83E1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78C58-DCB5-48E2-B995-8C1AC3E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D6075-3F6B-48FB-871E-9DBA95F9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48A7A0-866E-4B9F-BC93-4FC41B3E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3D6E-5118-422D-95E8-BA41DCF2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44F223-636E-4AC9-8ACF-B966F9A9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43492-80FD-4A18-8EE7-3CBFCC5C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C5115-9F8B-46C2-9577-FB9C44321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C9B1-5431-4A84-BD99-487F6433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6EAD-13BF-4ADC-8F32-E4ECB0E4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E151-DDE2-4BF0-A245-1C6E0C6A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03E7-094D-4FE7-882F-D91AA8E3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7C49-E0FC-42A8-8EC5-1D4D03CA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DF54-B3CB-4660-A245-7726EBA9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A0AB7-003C-451F-B944-A9957315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E06C3-5D36-4CAD-92F2-BE17F12B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0F492-936E-4102-9989-C5F65A24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035FA-B947-4618-B9DF-86D036090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5BE90-D0C9-49CA-BDF6-1E2620F5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348D-6BA8-4B51-8777-7028D0DD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8E243-7407-4138-B56C-D3EE05A60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8F418-D5AB-4C08-A51C-871ECC5C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391EF-2F60-4A9E-AF26-F6837660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8F5E1-CDF5-42B9-A891-C4F1D37F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9F896-0BA1-4BB5-8C08-D4E72B6B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59373-7360-4134-A6B2-BB0FD16B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D9E1-D037-42CE-A2A0-BF961F1A0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07ECC6-812D-42AE-A5CD-2A70E8F08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ECC4E-2349-40B6-8B19-1FEBB081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74C8A-0634-4F9C-8F5F-62CC40F8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6C3E-E932-44AA-A3DD-4B65D2A6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818E9-4427-4FC3-A3DE-9BBE69DC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A38D50-7320-4351-B77C-5FEA0D46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04D31E-4250-4F6E-AF3E-6883B523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AB0B1C-8864-4B3A-B8AD-3A8A736B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3D503-3B5E-4EC9-936A-6BF7B06E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B9D3AA-8D31-4E4C-A3B9-8BBEC6E6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4EDAFC-3BDC-41A9-89B2-521D1024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BA8090-9C0D-4176-8770-FE524715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4D7F26-BF90-4472-9FD6-162619D9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182AC-0D78-461D-8F73-E1ACB4C24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2E34-AD6C-44E3-AC27-4CD3EB3D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E01E1-246B-43D5-8DE6-087F4581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392D5-BB9E-4858-956C-9F234ECB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F903C-0BC5-4FB4-A694-EBA93F7E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13F29-8D1C-4FD7-8588-CC8AE517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BE2FA-2F1B-4644-916B-D0F88137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76883-860F-4C25-BAA2-7F6082AE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59E9B-8D11-4294-8E93-119706DD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DCFDB-05B1-4F1B-8669-3C8FF43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69887-3391-4A09-A735-A88BEE70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A2C5B-081B-433F-BCBA-2009D1A8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9F9C-C61D-496F-A8B2-125CBA41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A1729-834D-4EC5-B3CC-23D564C9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D13E5-8867-43D9-ADED-9EF36175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B3E64-76F1-4A03-86D6-2F23B80D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129E5-879B-4A39-BB3D-FED9AD32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D5079C-6808-4A3A-8614-19C4EF58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CC877-E76B-402C-AE9A-63B90E29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42D32-B9DE-462B-993F-58FCB5E4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C1CF4-29C0-457D-A46C-42B533BD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D65BD-7B5F-4B81-B8CB-618EC08F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F93C5-D801-46B0-A69C-BA739275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BFB9-E57F-4279-A297-EF869C03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689F2-E796-4495-B830-20AAB48F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A1D47-C3F1-47EC-86C7-E526B532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3AB34-9127-4ACD-9952-0D7EDF4C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1A8E5-99C7-47EF-B6C8-4E7872B0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54E7E-2FCF-45B6-86A4-D03681E0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FE335-FA26-483A-8F02-B7B5C859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C1E6E-67C0-463B-91B4-46F5853A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5838A-0457-4B40-91F0-5E08FD84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0F407-C6A1-4682-AFFD-6B8BFEA6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E5F66-5C94-45DD-BD58-1615D892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8B1A-E7E8-4DDD-AFC0-65B47C518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CAE12-169C-4F77-A7FF-7015AF52F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483255-3402-4C93-BA31-8B52A9AA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D7499-3BAF-47EE-AB0D-AEC47EDA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6022CE-62AC-434D-BDC8-5577FF866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2B532-1FB0-4F1F-9335-F1A5661D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EC446-7D4E-4794-8331-AEBF4014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3D553-0A41-4536-A3A3-AFD8D876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5EC03-8D24-484D-AFB3-729B446C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26E03-3D9A-4D6B-9215-0465D904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431EB1-0035-42F2-86A2-151D770E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102E-8910-479C-A3EE-103A09BA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F5CB96-A09D-44CC-80D6-1B83D39D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18325-A3B4-48BB-B5D9-A7DD5259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E6F50-793F-4E6B-BAE8-3E932B52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A95D1-0410-40B4-B255-2DD546DC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95B32-E220-41AE-85FA-C720FBF4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93397-BC38-4988-9E8E-A70EC131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8B677-7C20-40E8-8BDB-3D010746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96507F-56C1-4953-AF5E-0E27598CC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80D9C-5A9A-4CCB-BCA1-B8F78CB1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D2F8E-7AF7-467D-B941-7EF4D295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3793-82E2-41D5-9B5E-9DFD879156A0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1688-8833-4C7A-B1C0-7EB483DF850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7293-DFFF-424A-9A81-E7CA5209754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EA21-A1EC-4CEE-867C-23998FCFD852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DA88-416C-492B-B426-876FB5B63BE3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948E-883A-4602-AE10-AE874DB72A77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D694-910D-4E71-8D9A-A7B6BD45C18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D4A4-3A7B-49DA-A252-2AFC15DC6D7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0BF7-3BEC-4D4B-8BC8-F21F6F558CFF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2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3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6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7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38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9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0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41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018A-3AF5-4391-93BC-E1E980A95DFC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9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6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7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0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1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22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3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4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25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7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D1BE-F7EC-4AA9-9607-52A3D9C730FB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3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0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1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4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5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06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7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8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09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4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1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4E78-27A0-4F80-92A7-62B953517A7C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526F-23BB-417E-8804-9C27DEB1792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D6A7-53AC-48BC-9DFC-D769BE01066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1D9C-A093-4E2A-90DC-97D1E57AB9BC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3E8A-54EB-4EF0-9748-C39A4F35FE6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71600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GA Abasan Regular"/>
              </a:rPr>
              <a:t>العنصر الثاني: التحضر والتنمية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ناه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يف ظهر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نواع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3" name="Picture 4" descr="ي"/>
          <p:cNvPicPr/>
          <p:nvPr/>
        </p:nvPicPr>
        <p:blipFill>
          <a:blip r:embed="rId1"/>
          <a:stretch/>
        </p:blipFill>
        <p:spPr>
          <a:xfrm>
            <a:off x="1476360" y="2492280"/>
            <a:ext cx="33829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/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ات الاقتصاد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دفعة القو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6" name="Picture 4" descr="ضص"/>
          <p:cNvPicPr/>
          <p:nvPr/>
        </p:nvPicPr>
        <p:blipFill>
          <a:blip r:embed="rId1"/>
          <a:stretch/>
        </p:blipFill>
        <p:spPr>
          <a:xfrm>
            <a:off x="1042920" y="2708280"/>
            <a:ext cx="4535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قارب النجا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9" name="Picture 4" descr="تن"/>
          <p:cNvPicPr/>
          <p:nvPr/>
        </p:nvPicPr>
        <p:blipFill>
          <a:blip r:embed="rId1"/>
          <a:stretch/>
        </p:blipFill>
        <p:spPr>
          <a:xfrm>
            <a:off x="1619280" y="2997360"/>
            <a:ext cx="38577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&gt;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مراحل الاقتصا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2" name="Picture 4" descr="strate10"/>
          <p:cNvPicPr/>
          <p:nvPr/>
        </p:nvPicPr>
        <p:blipFill>
          <a:blip r:embed="rId1"/>
          <a:stretch/>
        </p:blipFill>
        <p:spPr>
          <a:xfrm>
            <a:off x="1547640" y="2997360"/>
            <a:ext cx="4034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/النظريات الاجتماع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ثنائية الاجتما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5" name="Picture 4" descr="ضضض"/>
          <p:cNvPicPr/>
          <p:nvPr/>
        </p:nvPicPr>
        <p:blipFill>
          <a:blip r:embed="rId1"/>
          <a:stretch/>
        </p:blipFill>
        <p:spPr>
          <a:xfrm>
            <a:off x="1547640" y="2924280"/>
            <a:ext cx="4319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دافع الإنجاز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8" name="Picture 4" descr="imagesئئ"/>
          <p:cNvPicPr/>
          <p:nvPr/>
        </p:nvPicPr>
        <p:blipFill>
          <a:blip r:embed="rId1"/>
          <a:stretch/>
        </p:blipFill>
        <p:spPr>
          <a:xfrm>
            <a:off x="2050920" y="2708280"/>
            <a:ext cx="2881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ة الإسلامية ل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تركتز على الإنسان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يزتها : الجمع بين الروح الأخلاقية/الدينية  و الأهداف المادية للإنسان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+الشمول +الواق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1" name="Picture 5" descr="Trains-by-Aaron-Durand-1"/>
          <p:cNvPicPr/>
          <p:nvPr/>
        </p:nvPicPr>
        <p:blipFill>
          <a:blip r:embed="rId1"/>
          <a:stretch/>
        </p:blipFill>
        <p:spPr>
          <a:xfrm>
            <a:off x="1258920" y="4221000"/>
            <a:ext cx="27241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-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عناصر المؤدية للتنمية في النظرية الإسلامية/كيف ستبدأ التنمية الإسلامية؟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استفادة من التقدم العلمي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حسين مستوى الأفراد صحياً واجتماع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وين رأس الما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4" name="Picture 4" descr="content-writting-small"/>
          <p:cNvPicPr/>
          <p:nvPr/>
        </p:nvPicPr>
        <p:blipFill>
          <a:blip r:embed="rId1"/>
          <a:stretch/>
        </p:blipFill>
        <p:spPr>
          <a:xfrm>
            <a:off x="611280" y="4221000"/>
            <a:ext cx="2736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بعاد التنمية الإسلامية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. البعد الفلسفي ويرتكز على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استخلاف /العم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مال  (الزكاة، الربا 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فكرة النظام الإجتماعي المتوازن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عدالة+التكافل، التكامل+المسؤول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.البعد التشريع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زكا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با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7" name="Picture 4" descr="plant_in_hand"/>
          <p:cNvPicPr/>
          <p:nvPr/>
        </p:nvPicPr>
        <p:blipFill>
          <a:blip r:embed="rId1"/>
          <a:stretch/>
        </p:blipFill>
        <p:spPr>
          <a:xfrm>
            <a:off x="900000" y="2205000"/>
            <a:ext cx="38102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Arabic Typesetting"/>
                <a:cs typeface="Arabic Typesetting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e3d2d"/>
                </a:solidFill>
                <a:latin typeface="Arabic Typesetting"/>
                <a:cs typeface="Arabic Typesetting"/>
              </a:rPr>
              <a:t>تطور المفهوم تاريخياً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اهيم متصلة ب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ض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دي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صر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ري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صني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يي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1" name="Picture 5" descr="imagesس"/>
          <p:cNvPicPr/>
          <p:nvPr/>
        </p:nvPicPr>
        <p:blipFill>
          <a:blip r:embed="rId1"/>
          <a:stretch/>
        </p:blipFill>
        <p:spPr>
          <a:xfrm>
            <a:off x="1692360" y="2349360"/>
            <a:ext cx="3168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111"/>
          <p:cNvGrpSpPr/>
          <p:nvPr/>
        </p:nvGrpSpPr>
        <p:grpSpPr>
          <a:xfrm>
            <a:off x="1684440" y="555480"/>
            <a:ext cx="5759280" cy="5761080"/>
            <a:chOff x="1684440" y="555480"/>
            <a:chExt cx="5759280" cy="5761080"/>
          </a:xfrm>
        </p:grpSpPr>
        <p:grpSp>
          <p:nvGrpSpPr>
            <p:cNvPr id="881" name="Group 37"/>
            <p:cNvGrpSpPr/>
            <p:nvPr/>
          </p:nvGrpSpPr>
          <p:grpSpPr>
            <a:xfrm>
              <a:off x="1684440" y="555480"/>
              <a:ext cx="5759280" cy="5761080"/>
              <a:chOff x="1684440" y="555480"/>
              <a:chExt cx="5759280" cy="5761080"/>
            </a:xfrm>
          </p:grpSpPr>
          <p:sp>
            <p:nvSpPr>
              <p:cNvPr id="882" name="Oval 7"/>
              <p:cNvSpPr/>
              <p:nvPr/>
            </p:nvSpPr>
            <p:spPr>
              <a:xfrm>
                <a:off x="2404080" y="1275480"/>
                <a:ext cx="4319640" cy="432072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3" name="Oval 8"/>
              <p:cNvSpPr/>
              <p:nvPr/>
            </p:nvSpPr>
            <p:spPr>
              <a:xfrm>
                <a:off x="1684440" y="555480"/>
                <a:ext cx="5759280" cy="576108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4" name="Oval 3"/>
              <p:cNvSpPr/>
              <p:nvPr/>
            </p:nvSpPr>
            <p:spPr>
              <a:xfrm>
                <a:off x="3153600" y="1995840"/>
                <a:ext cx="2850480" cy="2880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5" name="TextBox 19"/>
              <p:cNvSpPr/>
              <p:nvPr/>
            </p:nvSpPr>
            <p:spPr>
              <a:xfrm>
                <a:off x="3988080" y="26654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بيئ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6" name="Oval 4"/>
              <p:cNvSpPr/>
              <p:nvPr/>
            </p:nvSpPr>
            <p:spPr>
              <a:xfrm>
                <a:off x="3728160" y="2599920"/>
                <a:ext cx="1655640" cy="1656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grpSp>
            <p:nvGrpSpPr>
              <p:cNvPr id="887" name="Group 10"/>
              <p:cNvGrpSpPr/>
              <p:nvPr/>
            </p:nvGrpSpPr>
            <p:grpSpPr>
              <a:xfrm>
                <a:off x="4204080" y="3090600"/>
                <a:ext cx="719640" cy="724680"/>
                <a:chOff x="4204080" y="3090600"/>
                <a:chExt cx="719640" cy="724680"/>
              </a:xfrm>
            </p:grpSpPr>
            <p:sp>
              <p:nvSpPr>
                <p:cNvPr id="888" name="Oval 6"/>
                <p:cNvSpPr/>
                <p:nvPr/>
              </p:nvSpPr>
              <p:spPr>
                <a:xfrm>
                  <a:off x="4204080" y="3090600"/>
                  <a:ext cx="719640" cy="673200"/>
                </a:xfrm>
                <a:prstGeom prst="ellipse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9" name="TextBox 9"/>
                <p:cNvSpPr/>
                <p:nvPr/>
              </p:nvSpPr>
              <p:spPr>
                <a:xfrm>
                  <a:off x="4275720" y="3234600"/>
                  <a:ext cx="575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000000"/>
                      </a:solidFill>
                      <a:latin typeface="Calibri"/>
                      <a:cs typeface="Arial"/>
                    </a:rPr>
                    <a:t>التنمية</a:t>
                  </a:r>
                  <a:endParaRPr b="0" lang="en-US" sz="1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90" name="Straight Connector 12"/>
              <p:cNvSpPr/>
              <p:nvPr/>
            </p:nvSpPr>
            <p:spPr>
              <a:xfrm>
                <a:off x="3970800" y="2842560"/>
                <a:ext cx="33876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1" name="Straight Connector 13"/>
              <p:cNvSpPr/>
              <p:nvPr/>
            </p:nvSpPr>
            <p:spPr>
              <a:xfrm flipH="1">
                <a:off x="4779720" y="2787840"/>
                <a:ext cx="32292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2" name="TextBox 20"/>
              <p:cNvSpPr/>
              <p:nvPr/>
            </p:nvSpPr>
            <p:spPr>
              <a:xfrm rot="16200000">
                <a:off x="5458320" y="32018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ادي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3" name="TextBox 21"/>
              <p:cNvSpPr/>
              <p:nvPr/>
            </p:nvSpPr>
            <p:spPr>
              <a:xfrm>
                <a:off x="4242240" y="4372200"/>
                <a:ext cx="6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مدين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4" name="TextBox 22"/>
              <p:cNvSpPr/>
              <p:nvPr/>
            </p:nvSpPr>
            <p:spPr>
              <a:xfrm rot="5400000">
                <a:off x="3011040" y="30632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ريف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5" name="Straight Connector 24"/>
              <p:cNvSpPr/>
              <p:nvPr/>
            </p:nvSpPr>
            <p:spPr>
              <a:xfrm flipH="1">
                <a:off x="5067720" y="2374560"/>
                <a:ext cx="453960" cy="4248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6" name="Straight Connector 27"/>
              <p:cNvSpPr/>
              <p:nvPr/>
            </p:nvSpPr>
            <p:spPr>
              <a:xfrm>
                <a:off x="3633480" y="2361600"/>
                <a:ext cx="399600" cy="43776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7" name="TextBox 29"/>
              <p:cNvSpPr/>
              <p:nvPr/>
            </p:nvSpPr>
            <p:spPr>
              <a:xfrm>
                <a:off x="4060080" y="19958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حضر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8" name="TextBox 30"/>
              <p:cNvSpPr/>
              <p:nvPr/>
            </p:nvSpPr>
            <p:spPr>
              <a:xfrm rot="14784600">
                <a:off x="4892760" y="2865600"/>
                <a:ext cx="789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ظروف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9" name="TextBox 31"/>
              <p:cNvSpPr/>
              <p:nvPr/>
            </p:nvSpPr>
            <p:spPr>
              <a:xfrm rot="16925400">
                <a:off x="4777560" y="3517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سياس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0" name="TextBox 32"/>
              <p:cNvSpPr/>
              <p:nvPr/>
            </p:nvSpPr>
            <p:spPr>
              <a:xfrm rot="1444800">
                <a:off x="3719880" y="3840480"/>
                <a:ext cx="9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حضار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1" name="TextBox 33"/>
              <p:cNvSpPr/>
              <p:nvPr/>
            </p:nvSpPr>
            <p:spPr>
              <a:xfrm rot="19668600">
                <a:off x="4323240" y="3900240"/>
                <a:ext cx="102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اقتصاد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2" name="TextBox 34"/>
              <p:cNvSpPr/>
              <p:nvPr/>
            </p:nvSpPr>
            <p:spPr>
              <a:xfrm rot="3928800">
                <a:off x="3427920" y="33393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داخل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3" name="TextBox 35"/>
              <p:cNvSpPr/>
              <p:nvPr/>
            </p:nvSpPr>
            <p:spPr>
              <a:xfrm rot="6194400">
                <a:off x="3528720" y="2950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خارج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904" name="Straight Connector 38"/>
            <p:cNvSpPr/>
            <p:nvPr/>
          </p:nvSpPr>
          <p:spPr>
            <a:xfrm flipH="1">
              <a:off x="5463000" y="1789200"/>
              <a:ext cx="468720" cy="5083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Straight Connector 41"/>
            <p:cNvSpPr/>
            <p:nvPr/>
          </p:nvSpPr>
          <p:spPr>
            <a:xfrm flipH="1">
              <a:off x="5769000" y="2288160"/>
              <a:ext cx="594360" cy="3790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Straight Connector 43"/>
            <p:cNvSpPr/>
            <p:nvPr/>
          </p:nvSpPr>
          <p:spPr>
            <a:xfrm flipH="1">
              <a:off x="5961960" y="2961360"/>
              <a:ext cx="68976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Straight Connector 45"/>
            <p:cNvSpPr/>
            <p:nvPr/>
          </p:nvSpPr>
          <p:spPr>
            <a:xfrm flipH="1" flipV="1">
              <a:off x="5931720" y="3994560"/>
              <a:ext cx="603000" cy="377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Straight Connector 48"/>
            <p:cNvSpPr/>
            <p:nvPr/>
          </p:nvSpPr>
          <p:spPr>
            <a:xfrm>
              <a:off x="4564080" y="127548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Straight Connector 50"/>
            <p:cNvSpPr/>
            <p:nvPr/>
          </p:nvSpPr>
          <p:spPr>
            <a:xfrm>
              <a:off x="3178080" y="1789200"/>
              <a:ext cx="486360" cy="5720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Straight Connector 52"/>
            <p:cNvSpPr/>
            <p:nvPr/>
          </p:nvSpPr>
          <p:spPr>
            <a:xfrm>
              <a:off x="2476080" y="2961360"/>
              <a:ext cx="70164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Straight Connector 54"/>
            <p:cNvSpPr/>
            <p:nvPr/>
          </p:nvSpPr>
          <p:spPr>
            <a:xfrm flipV="1">
              <a:off x="2692080" y="4054320"/>
              <a:ext cx="602640" cy="414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Straight Connector 56"/>
            <p:cNvSpPr/>
            <p:nvPr/>
          </p:nvSpPr>
          <p:spPr>
            <a:xfrm flipV="1">
              <a:off x="3188160" y="4541400"/>
              <a:ext cx="476280" cy="550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Straight Connector 59"/>
            <p:cNvSpPr/>
            <p:nvPr/>
          </p:nvSpPr>
          <p:spPr>
            <a:xfrm flipV="1">
              <a:off x="3864960" y="4817160"/>
              <a:ext cx="274680" cy="663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Straight Connector 62"/>
            <p:cNvSpPr/>
            <p:nvPr/>
          </p:nvSpPr>
          <p:spPr>
            <a:xfrm flipV="1">
              <a:off x="4706280" y="487620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Straight Connector 65"/>
            <p:cNvSpPr/>
            <p:nvPr/>
          </p:nvSpPr>
          <p:spPr>
            <a:xfrm flipH="1" flipV="1">
              <a:off x="5043600" y="4791600"/>
              <a:ext cx="444240" cy="600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Straight Connector 67"/>
            <p:cNvSpPr/>
            <p:nvPr/>
          </p:nvSpPr>
          <p:spPr>
            <a:xfrm flipH="1" flipV="1">
              <a:off x="5488560" y="4541400"/>
              <a:ext cx="573480" cy="459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TextBox 70"/>
            <p:cNvSpPr/>
            <p:nvPr/>
          </p:nvSpPr>
          <p:spPr>
            <a:xfrm rot="1146600">
              <a:off x="4330800" y="148860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قطاعات التنم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TextBox 73"/>
            <p:cNvSpPr/>
            <p:nvPr/>
          </p:nvSpPr>
          <p:spPr>
            <a:xfrm rot="20103000">
              <a:off x="3176640" y="152892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وطن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TextBox 74"/>
            <p:cNvSpPr/>
            <p:nvPr/>
          </p:nvSpPr>
          <p:spPr>
            <a:xfrm rot="17998200">
              <a:off x="2251080" y="2312640"/>
              <a:ext cx="14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محل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TextBox 79"/>
            <p:cNvSpPr/>
            <p:nvPr/>
          </p:nvSpPr>
          <p:spPr>
            <a:xfrm rot="15878400">
              <a:off x="2250360" y="3320280"/>
              <a:ext cx="14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رجال المعارضة السياس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TextBox 82"/>
            <p:cNvSpPr/>
            <p:nvPr/>
          </p:nvSpPr>
          <p:spPr>
            <a:xfrm rot="2886600">
              <a:off x="2420280" y="440784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TextBox 86"/>
            <p:cNvSpPr/>
            <p:nvPr/>
          </p:nvSpPr>
          <p:spPr>
            <a:xfrm rot="1873200">
              <a:off x="3007440" y="4889880"/>
              <a:ext cx="9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وظف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TextBox 87"/>
            <p:cNvSpPr/>
            <p:nvPr/>
          </p:nvSpPr>
          <p:spPr>
            <a:xfrm rot="435000">
              <a:off x="3718080" y="51714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حرف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TextBox 88"/>
            <p:cNvSpPr/>
            <p:nvPr/>
          </p:nvSpPr>
          <p:spPr>
            <a:xfrm rot="21014400">
              <a:off x="4433400" y="52182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ف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TextBox 89"/>
            <p:cNvSpPr/>
            <p:nvPr/>
          </p:nvSpPr>
          <p:spPr>
            <a:xfrm rot="19233000">
              <a:off x="5106240" y="498744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ه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6" name="TextBox 90"/>
            <p:cNvSpPr/>
            <p:nvPr/>
          </p:nvSpPr>
          <p:spPr>
            <a:xfrm rot="18160200">
              <a:off x="5733000" y="438840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زارع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7" name="TextBox 91"/>
            <p:cNvSpPr/>
            <p:nvPr/>
          </p:nvSpPr>
          <p:spPr>
            <a:xfrm rot="17163600">
              <a:off x="5937120" y="40417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م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8" name="TextBox 92"/>
            <p:cNvSpPr/>
            <p:nvPr/>
          </p:nvSpPr>
          <p:spPr>
            <a:xfrm rot="15943200">
              <a:off x="6007320" y="298548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أطف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9" name="TextBox 93"/>
            <p:cNvSpPr/>
            <p:nvPr/>
          </p:nvSpPr>
          <p:spPr>
            <a:xfrm rot="13931400">
              <a:off x="5661000" y="209880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رأ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0" name="Straight Connector 107"/>
            <p:cNvSpPr/>
            <p:nvPr/>
          </p:nvSpPr>
          <p:spPr>
            <a:xfrm flipH="1" flipV="1">
              <a:off x="6000480" y="3553200"/>
              <a:ext cx="698760" cy="143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1" name="TextBox 109"/>
            <p:cNvSpPr/>
            <p:nvPr/>
          </p:nvSpPr>
          <p:spPr>
            <a:xfrm rot="14863200">
              <a:off x="5967720" y="26809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شباب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2" name="TextBox 112"/>
          <p:cNvSpPr/>
          <p:nvPr/>
        </p:nvSpPr>
        <p:spPr>
          <a:xfrm>
            <a:off x="3900600" y="692280"/>
            <a:ext cx="13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عد التنمو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3" name="TextBox 113"/>
          <p:cNvSpPr/>
          <p:nvPr/>
        </p:nvSpPr>
        <p:spPr>
          <a:xfrm rot="1697400">
            <a:off x="4867200" y="755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يئ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4" name="TextBox 114"/>
          <p:cNvSpPr/>
          <p:nvPr/>
        </p:nvSpPr>
        <p:spPr>
          <a:xfrm rot="2315400">
            <a:off x="5426280" y="1155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قاف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TextBox 115"/>
          <p:cNvSpPr/>
          <p:nvPr/>
        </p:nvSpPr>
        <p:spPr>
          <a:xfrm rot="3280200">
            <a:off x="1696320" y="4583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6" name="TextBox 116"/>
          <p:cNvSpPr/>
          <p:nvPr/>
        </p:nvSpPr>
        <p:spPr>
          <a:xfrm rot="16026600">
            <a:off x="1328040" y="32907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7" name="TextBox 117"/>
          <p:cNvSpPr/>
          <p:nvPr/>
        </p:nvSpPr>
        <p:spPr>
          <a:xfrm rot="16964400">
            <a:off x="6454800" y="37602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8" name="TextBox 118"/>
          <p:cNvSpPr/>
          <p:nvPr/>
        </p:nvSpPr>
        <p:spPr>
          <a:xfrm rot="17834400">
            <a:off x="1691640" y="199188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ذات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9" name="TextBox 119"/>
          <p:cNvSpPr/>
          <p:nvPr/>
        </p:nvSpPr>
        <p:spPr>
          <a:xfrm rot="19416600">
            <a:off x="2530080" y="1084680"/>
            <a:ext cx="133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مية روح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0" name="TextBox 120"/>
          <p:cNvSpPr/>
          <p:nvPr/>
        </p:nvSpPr>
        <p:spPr>
          <a:xfrm>
            <a:off x="3986280" y="57783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ري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1" name="TextBox 121"/>
          <p:cNvSpPr/>
          <p:nvPr/>
        </p:nvSpPr>
        <p:spPr>
          <a:xfrm rot="3735000">
            <a:off x="6165720" y="19191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نولوج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2" name="TextBox 122"/>
          <p:cNvSpPr/>
          <p:nvPr/>
        </p:nvSpPr>
        <p:spPr>
          <a:xfrm rot="18352200">
            <a:off x="6025680" y="46688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ف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TextBox 124"/>
          <p:cNvSpPr/>
          <p:nvPr/>
        </p:nvSpPr>
        <p:spPr>
          <a:xfrm rot="5400000">
            <a:off x="6464880" y="297072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TextBox 125"/>
          <p:cNvSpPr/>
          <p:nvPr/>
        </p:nvSpPr>
        <p:spPr>
          <a:xfrm rot="19645200">
            <a:off x="5271840" y="54324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ا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TextBox 126"/>
          <p:cNvSpPr/>
          <p:nvPr/>
        </p:nvSpPr>
        <p:spPr>
          <a:xfrm rot="1888200">
            <a:off x="2519280" y="53928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ش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6" name="Straight Connector 130"/>
          <p:cNvSpPr/>
          <p:nvPr/>
        </p:nvSpPr>
        <p:spPr>
          <a:xfrm>
            <a:off x="3700440" y="692280"/>
            <a:ext cx="2649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7" name="Straight Connector 131"/>
          <p:cNvSpPr/>
          <p:nvPr/>
        </p:nvSpPr>
        <p:spPr>
          <a:xfrm>
            <a:off x="2349360" y="1636560"/>
            <a:ext cx="561960" cy="41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8" name="Straight Connector 132"/>
          <p:cNvSpPr/>
          <p:nvPr/>
        </p:nvSpPr>
        <p:spPr>
          <a:xfrm flipH="1">
            <a:off x="5109840" y="692280"/>
            <a:ext cx="2127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9" name="Straight Connector 133"/>
          <p:cNvSpPr/>
          <p:nvPr/>
        </p:nvSpPr>
        <p:spPr>
          <a:xfrm flipH="1">
            <a:off x="5592600" y="930240"/>
            <a:ext cx="339840" cy="627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0" name="Straight Connector 144"/>
          <p:cNvSpPr/>
          <p:nvPr/>
        </p:nvSpPr>
        <p:spPr>
          <a:xfrm flipH="1" flipV="1">
            <a:off x="6724440" y="3544560"/>
            <a:ext cx="718920" cy="28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1" name="Straight Connector 145"/>
          <p:cNvSpPr/>
          <p:nvPr/>
        </p:nvSpPr>
        <p:spPr>
          <a:xfrm flipH="1">
            <a:off x="6611400" y="2732040"/>
            <a:ext cx="7210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Straight Connector 146"/>
          <p:cNvSpPr/>
          <p:nvPr/>
        </p:nvSpPr>
        <p:spPr>
          <a:xfrm flipH="1">
            <a:off x="6111360" y="1400040"/>
            <a:ext cx="489240" cy="516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3" name="Straight Connector 147"/>
          <p:cNvSpPr/>
          <p:nvPr/>
        </p:nvSpPr>
        <p:spPr>
          <a:xfrm flipH="1" flipV="1">
            <a:off x="1763640" y="2835000"/>
            <a:ext cx="712800" cy="127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Straight Connector 148"/>
          <p:cNvSpPr/>
          <p:nvPr/>
        </p:nvSpPr>
        <p:spPr>
          <a:xfrm flipH="1">
            <a:off x="1816200" y="4113360"/>
            <a:ext cx="696960" cy="1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5" name="Straight Connector 149"/>
          <p:cNvSpPr/>
          <p:nvPr/>
        </p:nvSpPr>
        <p:spPr>
          <a:xfrm flipH="1">
            <a:off x="2558880" y="4964040"/>
            <a:ext cx="478080" cy="530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6" name="Straight Connector 158"/>
          <p:cNvSpPr/>
          <p:nvPr/>
        </p:nvSpPr>
        <p:spPr>
          <a:xfrm flipH="1" flipV="1">
            <a:off x="6587640" y="4257360"/>
            <a:ext cx="660600" cy="284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7" name="Straight Connector 159"/>
          <p:cNvSpPr/>
          <p:nvPr/>
        </p:nvSpPr>
        <p:spPr>
          <a:xfrm>
            <a:off x="6091200" y="4964040"/>
            <a:ext cx="509760" cy="509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8" name="Straight Connector 160"/>
          <p:cNvSpPr/>
          <p:nvPr/>
        </p:nvSpPr>
        <p:spPr>
          <a:xfrm>
            <a:off x="5218200" y="5465880"/>
            <a:ext cx="244440" cy="712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9" name="Straight Connector 161"/>
          <p:cNvSpPr/>
          <p:nvPr/>
        </p:nvSpPr>
        <p:spPr>
          <a:xfrm flipH="1">
            <a:off x="3638520" y="5494320"/>
            <a:ext cx="262080" cy="65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تضمن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محاو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ولاً:البعد البيئ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ظروف السياسية و الاقتصادية و الحضارية داخلياً و خارج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نياً:البعد الحضر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دين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ي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69217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لثاً:قطاعات التنمية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رأ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شباب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أطف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زارع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ه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حرف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ظف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جال المعارضة ال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مهور العام الوطني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ابعاً:البعد التنمو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يئ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قاف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نولوج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لم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ف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دا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شري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ش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جتما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قتصاد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ذاتية تنمية روح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غ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ن النمو ، أي ارتفاع الشيء من موضعه إلى موضع آخ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4" name="Picture 4" descr="www-St-Takla-org___Plants-Growth-01"/>
          <p:cNvPicPr/>
          <p:nvPr/>
        </p:nvPicPr>
        <p:blipFill>
          <a:blip r:embed="rId1"/>
          <a:stretch/>
        </p:blipFill>
        <p:spPr>
          <a:xfrm>
            <a:off x="3059280" y="3500280"/>
            <a:ext cx="3340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ريق بين التنمية و النمو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نمو : الزيادة الثابتة و المستمرة التي تحدث في جانب معين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: تحقيق زيادة سريعة تراكمية ودائمة عبر فترة من الزمن في الإنتاج و الخدمات، نتيجة استخدام الجهود العلمية لتنظيم الأنشطة المشتركة الحكومية و الشعب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عريف 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94920" y="2323800"/>
            <a:ext cx="79218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زيادة محسوس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إنتاج والخدمات، شاملة ومتكاملة و مرتبطة بحركة المجتمع، تأثراً وتأثيراً ، مستخدمة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أساليب العلمية الحديث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تكنولوجيا و التنظيم و الإدار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حصلة الجهود العلمية المستخدمة لتنظيم الأنشطة المشتركة الحكومية والشعبية في مختلف المستويات 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لتعبئة الموارد الموجود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أو التي يمكن إيجادها لمواجهة الحاجات الضرورية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وفقاً لخطة مرسوم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،وفي ضوء السياسة العامة للمجتمع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9" name="Picture 5" descr="نمو-اقتصادي1"/>
          <p:cNvPicPr/>
          <p:nvPr/>
        </p:nvPicPr>
        <p:blipFill>
          <a:blip r:embed="rId1"/>
          <a:stretch/>
        </p:blipFill>
        <p:spPr>
          <a:xfrm>
            <a:off x="755640" y="476280"/>
            <a:ext cx="27828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لية تغيير مقصود نحو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نظام الاجتماعي و الاقتصادي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ذي تحتاجه الدول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ي العملية المرسومة لتقدم المجتمع كله اجتماعياً واقتصادياً و المعتمدة بأكبر قدر ممكن على مبادرة المجتمع المحلي و اشتراكه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قل المجتمعات من حالة أو مستوى إلى حالة أو مستوى أفضل، و من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نمط تقليدي إلى نمط متقدم ماً ونوعاً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، وتعد حلاً لا بديل عنه في مواجهة المتطلبات الوطنية في ميدان الإنتاج و الخدم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غيير أساسي في كل أنماط الحياة السائدة،و يتبع هذا تغيير نوعي و كمي في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صور العلاقات الاجتماعي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وفي كافة مجالات النشاط البشري في المجتمع، الاجتماعية و الاقتصادية و السياسية و الثقافية و الإدار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2" name="Picture 4" descr="20111214100048"/>
          <p:cNvPicPr/>
          <p:nvPr/>
        </p:nvPicPr>
        <p:blipFill>
          <a:blip r:embed="rId1"/>
          <a:stretch/>
        </p:blipFill>
        <p:spPr>
          <a:xfrm>
            <a:off x="468360" y="4941720"/>
            <a:ext cx="20160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تجاه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ند العلماء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يتحدث العلماء عن التنمية في ثلاث اتجاها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دل نمو دخل الفرد من إجمالي النتاج القومي الإجمالي في دولة م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تبط التنمية بعدد من التغيرات في بعض المجالات، مثل التعليم و محو الأمية و القوى العاملة و الصحة و التغذية وحجم السكان غير المزارعين ..الخ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 هي المعدل العالي للمواليد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5" name="Picture 6" descr="117054"/>
          <p:cNvPicPr/>
          <p:nvPr/>
        </p:nvPicPr>
        <p:blipFill>
          <a:blip r:embed="rId1"/>
          <a:stretch/>
        </p:blipFill>
        <p:spPr>
          <a:xfrm>
            <a:off x="468360" y="4508640"/>
            <a:ext cx="26654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تاريخيا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م التركيز على الزاوية الاقتصادية في تعريف التنمية و تفسير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م تمت إدخال كافة العناصر الاجتماعية و الثقافية لتفسير التنم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8" name="Picture 4" descr="360475445"/>
          <p:cNvPicPr/>
          <p:nvPr/>
        </p:nvPicPr>
        <p:blipFill>
          <a:blip r:embed="rId1"/>
          <a:stretch/>
        </p:blipFill>
        <p:spPr>
          <a:xfrm>
            <a:off x="971640" y="3429000"/>
            <a:ext cx="3384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سباب الاهتمام ب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ن وسائل النقل و الإعلام جعلت الموقف واضحاً ، و أصبح بالإمكان المقارنة بين أساليب الحيا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غبة الدول المستقلة بعد الاستعمار في أن تكون بنفس قوة الدول المستعمر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قف الأمم المتحدة من مشكلة التخلف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LoLo</cp:lastModifiedBy>
  <dcterms:modified xsi:type="dcterms:W3CDTF">2012-02-20T08:58:58Z</dcterms:modified>
  <cp:revision>27</cp:revision>
  <dc:subject/>
  <dc:title>الإعلام و التنمية علم 304</dc:title>
</cp:coreProperties>
</file>