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5E5-EC3C-4F14-A6CB-86A8815A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87A-FAF6-46CA-BED3-537FC04A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1CC68-199B-4B06-BBDA-69C9DCFA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B551A-3F16-46BB-B995-F8E28438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37A98-9D4B-4C66-B60E-08DB16DD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806B6-2AAF-4E3B-A50B-3DC0518F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07633-85F1-442D-8F82-491A248C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52568-5987-4A4A-BE2E-D7957020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7C4E9-7918-4553-AA79-A30F4A3E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8E18E-8EA5-4BBD-BC35-6352AADA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1F39C-2210-4000-8DA6-A6F77349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6E66D-81C9-44BB-AB7A-635DB136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900-40BB-42E8-BB9A-2FF39DEF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36711-1885-4E57-9540-47F16B74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3F275-232F-46C6-87FC-AE6FD791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FE9E3-DDCC-426A-A593-6976A561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723E4-E0A9-43CE-8761-8ECF6655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12286-28C5-44A7-838D-C07B4D90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F2D25-804E-4997-8E02-F0DD12CE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857AE-A05D-40E2-9EB5-9C3B6DAD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25D81-4F7B-4E5B-A411-719EE59C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0F7D0-F675-4BDC-878B-973C265A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F903B-0A39-4E04-9423-9CC68315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AA8-AA35-49C4-BE2F-EA1BB37E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1E9A4-FCCB-4DD3-B13F-F0691147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035E4-11AA-45FC-8522-378576C5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58607-3A7B-4576-BAE9-0AEB4533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DBB26-0451-466D-85F8-8C6ABA25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846D0-63AD-41EB-A307-927AF26C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B047F-0624-45FB-B22E-85738415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8AA0C-CA34-4E42-98E9-60C581B1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7DC90-0A68-42F6-AB85-EBD5FA95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A436A-E72A-457A-B59E-B7A5108B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04D72-BF41-4FF9-B697-52DA50B6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DB72-EBC3-495A-B255-5B48D67B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3E411-1B31-40CD-B145-2C51AE52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97DB0-99FB-4F37-AE66-00388B07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0171E-6EDC-40BC-8A93-E773C5D8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39924-4648-47EA-8CE4-BD5C4F6E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2D3D9-6953-49F5-A5E5-373E5A7B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F4E97-4FA1-47DC-80B5-080CC8E9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1E171-4963-4068-A11B-1538DACE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422E3-A712-43B4-9B18-6D730CF8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9E40B-4F04-4A2C-A47F-F856DE57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85870-5164-4BDA-996B-FBDE090F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E18B-1A76-4EA4-B668-FE9756C8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2F886-38E4-4744-9919-6EDAF411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45D71-687B-498B-A8D2-92EEBB2A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6CA28-2B5D-468A-9622-06985575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4E14C-EDA8-4993-9587-7FEB64E1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36BC9-33F0-483B-8AFD-32318430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913CEA-672B-46BE-BB5C-C677C620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57586-30A4-4424-9F78-899E7F9F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32326-4DB4-4329-A65E-1D65FC4B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96CE3-7249-4DE6-AFDB-C65F4D0E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0E293-D537-4A57-8E33-EA7A9AD3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BF5B-B5C4-40A6-A215-05BACFD5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B8B0A-FC5A-412D-A095-563A4D0A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A4BF8-038B-4CDE-9EA4-BBF570AD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D9B94-A9DE-45AC-894A-9072B46E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53114-F4C2-4BB3-8D4F-9DC31610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E0764-E7F5-4226-874B-F9056DAB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6CA9F-1CBD-4531-806D-1F678CF1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8C47C-7340-404A-9473-B5223D82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BF7E57-D593-4CDE-A13D-4D032D3D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418E3C-7618-4B85-A25E-20889765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BCFC4-E8AE-4830-8D3A-46089119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E4C8-8B58-45D3-8DA0-9C0C22CB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99AF89-FA48-400E-BD57-51DE822E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7F7B2-8AAE-43A8-B392-0D0E22AF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5819E2-DD22-4FE8-BBFF-9AEB61AC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07937-EE61-443B-B4C8-C5566D11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8600C-60C7-4CA5-A8C1-08B30891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5C71D-6826-4886-9315-CC9567AF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3C8461-A70A-4921-8BB0-7895ECF2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0684D-CA22-4535-8746-57D398FD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730F4-0479-42F1-89C1-FF37A35D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351B4-A5C9-48F1-AA3B-3863C8D7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820F-77A3-4D59-9E56-6220AB47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52251-5355-4662-8795-E2DE334C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0ED579-3EE1-4540-9695-73330DBC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5057B-04B1-478E-9359-07920B4C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0729D-0415-4A18-B835-F427D445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56546A-E7F0-4253-89C9-356CB10D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62B528-2750-4088-84CE-F2693FA7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D94AD7-BE09-4C3E-A082-6A844DC1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AFCA2A-7AB2-4A99-A289-358D9DEB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C6F8A-FECD-4D4C-A743-7EDA25F7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0B43CC-0B6B-4848-ACD6-6FD8A51F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886F-17BB-470A-8218-0DD9B648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DBDD7-2A0F-42EE-9715-FDBB8D46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FAF235-BEA9-4B16-BF9F-04709B5F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D0886-1566-478D-B4A1-B1E7EB68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C396AE-556D-43BB-82D4-5220FA70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E8607-77E3-4489-AF6D-B06BC16A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AB2EDD-BC3E-4FA0-B582-FD65BB8F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BF886E-2CBC-4A56-8580-F48190DB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6BB83-94EF-423B-AD03-3C30F192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574BA-4F89-48C6-8DA5-02D2281A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19F85A-38BF-465C-8851-5704F317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8701-146E-42C4-BBDC-532BA0A6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FA3BB-4B9B-446B-AB9D-B96BD56C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AC8F30-EBB0-40F7-98CE-DE9A5783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DF97E-0DFA-447A-8D46-0E3D0249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56E-1F22-492E-ADE2-F58E7712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DFE8-A606-42DF-825A-33806EBB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2F11-A6D4-43A6-8D94-C8822582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0EFC-E447-40D6-95E9-732600F8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6735-D27E-4923-A4F4-D0861882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3D3B-3BA2-440D-BE4B-E073505D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B94D0-386D-483B-9286-E4AF3DA0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FF545-84F6-4E1B-B715-7E73D58A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C0C7-7080-4C78-A639-6DB1AFA3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B7550-B4BF-4321-96DF-15EA39F5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AA373-34F8-467E-8ACE-6F2A07A5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1CF-28D0-4AB5-A7EF-B1CCF3C0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7BAF-49E6-4BB5-ABEA-13A214A3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F9A75-7B48-4F6A-A369-7943A04D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5906F-6AED-4A26-B9F4-E22A5AFA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AF8CB-77C0-4E16-86F6-B573F6E4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6228-2974-42BF-9AD8-372ECE00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97017-F5C1-4D18-B91E-0A91D195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6BA42-1742-404D-A8E8-4EA9455D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7DD962-7CD4-4078-8C2E-DAA5C04E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0EB266-D68D-4443-9186-94D90828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9E2FF-AFA5-48D2-A1D4-80E7E08F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EDCF-693B-40FB-8203-ECE8402B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382A4-94D8-4F41-9877-F7EC3C13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73E3A-D248-4C15-91F3-ACDA7613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AFFD4-12FF-46F0-A94F-3A3F2499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5E7955-5814-44D6-916B-5265BDC7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ABBB56-0B63-46F9-839D-66E51284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DC248-38D1-4FB4-A785-B50B54FC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FCF64-215C-4BB8-8A76-6AAF1192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83EA9-9480-4137-9849-A05F98B2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30A351-B5A6-4BAB-86E2-72A7647A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CE1A6-3E60-426F-A52B-CB76ED6E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582-35C2-446B-A8B1-22320482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03112-009C-4EDC-93D6-0481CA4B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E424C-1727-4E83-A913-DC01654C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F9498-F180-479B-AD6E-676AE539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63935-3CEB-4C29-96F2-DEEE7A70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B57D6-C168-499B-9021-9E7FBB27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194EE-358A-4879-B105-D782228E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2F77A-43B5-4C3F-97C0-7BB54543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DBB94-731F-4692-8020-BBE4838F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2844E-AF31-4ACE-9B73-6F43F1B7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796BB-FBA5-414B-A44F-781E7108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276-E3E6-444B-BFEF-3CAFDE4D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2D21B-0638-4240-807F-8B4D441C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0C03C-9C5D-4C3F-8604-7A89C576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A3E14-4556-4129-9300-27514A82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FD745-4054-4441-803B-3AB82C8B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C1D0C-4335-40F0-8CA6-0D4855C8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60E83-CB99-4C31-9C80-206315D3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55AF8-D2FE-460D-98D1-92007241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63A35-8023-4CA5-A2B3-5C292343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2A579-893F-4F0B-896D-5A7F0D39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2D591-9D1E-4690-A48B-57C4CEA5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5F5-7569-41D0-BF99-E9611A7B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008AC-DC90-4026-B516-0365BA7C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6B5F1-1677-4FD6-AB46-442C7EEF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B2B4C-494E-452B-87DC-D27CE252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5333A-BE65-4262-8076-A0979A95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BB96C-D4E4-467F-8007-DAAF8C50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686A0-4AE2-4E58-B8EE-7E9C6E95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AEB4F-2480-4A4C-B444-B2570C84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1C296-6F41-43BF-8E95-C23E8B7B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17863-C6C4-4D00-9F9E-8E06CCF7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A3650-CA8D-419B-B7D1-AF2DFB50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C98-085D-497C-900F-2C611EB4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5F210-3F88-4FD1-922D-327CE879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B8800-CE72-4EFA-A77C-D3007550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F66A4-BF6C-4226-86B6-B7A66FEC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0393B-487E-485E-AA60-85939A42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A31B0-1638-41B9-B164-B95302F4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476B6-6E66-477E-AE64-31B1B245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8EC26-AE79-4572-804A-99A2BAF3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89E35-CA38-449E-B775-8D27DC27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2D711-4216-49A8-B9C7-F63C4598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03244-6D73-449B-8B15-EA0375DA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F6A-677C-4966-80B3-8304493C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D10A8-7148-4DEE-9013-79D2E1A5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A1933-3A0F-4689-B667-B0E02BCA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2F0DE-DC1C-4068-B433-408B6C6C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D3E5C-95A1-4328-AC6D-E0B700DD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4EA9E-8AB4-4A8F-B902-9E36D535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22CB1-86B1-443C-8AF7-4382D7A7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5CD94-38F0-44C1-B532-70FBB2D0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EEE8E-7193-456E-BEC1-777296CB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E19C1-622E-40A7-8616-80E7D126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F02E1-CE5F-414C-AC81-4CC286A8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38A1-1B46-4173-853F-EFB754E6754F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FDDD-5061-426E-AABE-7505FBF4D253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D96E-0FD0-4BDF-99D6-CBCDCCD8AA16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54D5-5A8B-4BD7-9E69-3D38AC98FA87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E62B-78A1-404E-BDF2-CABD1BFF34B0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DB58-7A5A-470C-84AE-139B2AEA92DE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7D01-EE60-46F7-BDE6-4D54F9BBE23F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905D-E5D6-445A-B5EB-A3B228FB990C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57AC-B455-4966-AFF0-1A5FD04B68C3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2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2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27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31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2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3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35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6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7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38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9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0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41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8C6B-B39B-4DCC-BA21-5DFD4FACC47B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09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1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5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6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7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9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0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1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22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3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4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25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9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7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D486-F19C-4068-855C-13B3DE9AC87F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93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5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9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0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1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0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3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4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5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06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7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8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09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0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2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5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6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7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8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0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1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3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4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5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6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1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1173-4626-44C9-8B4B-9A2B7ADE8208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FB06-0A47-4C4A-B907-6F231209F6EF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E6B2-29E9-41FE-9A6F-22C2C47FFA1D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76D1-4AE0-441F-8639-85FDDF99ECC2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09E4-06DB-4676-B3F4-94AEC7A02B78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71600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GA Abasan Regular"/>
              </a:rPr>
              <a:t>العنصر الثاني: التحضر والتنمية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ناه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يف ظهر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نواع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3" name="Picture 4" descr="ي"/>
          <p:cNvPicPr/>
          <p:nvPr/>
        </p:nvPicPr>
        <p:blipFill>
          <a:blip r:embed="rId1"/>
          <a:stretch/>
        </p:blipFill>
        <p:spPr>
          <a:xfrm>
            <a:off x="1476360" y="2492280"/>
            <a:ext cx="338292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/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ات الاقتصاد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دفعة القو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6" name="Picture 4" descr="ضص"/>
          <p:cNvPicPr/>
          <p:nvPr/>
        </p:nvPicPr>
        <p:blipFill>
          <a:blip r:embed="rId1"/>
          <a:stretch/>
        </p:blipFill>
        <p:spPr>
          <a:xfrm>
            <a:off x="1042920" y="2708280"/>
            <a:ext cx="45356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قارب النجا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9" name="Picture 4" descr="تن"/>
          <p:cNvPicPr/>
          <p:nvPr/>
        </p:nvPicPr>
        <p:blipFill>
          <a:blip r:embed="rId1"/>
          <a:stretch/>
        </p:blipFill>
        <p:spPr>
          <a:xfrm>
            <a:off x="1619280" y="2997360"/>
            <a:ext cx="38577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&gt;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مراحل الاقتصا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2" name="Picture 4" descr="strate10"/>
          <p:cNvPicPr/>
          <p:nvPr/>
        </p:nvPicPr>
        <p:blipFill>
          <a:blip r:embed="rId1"/>
          <a:stretch/>
        </p:blipFill>
        <p:spPr>
          <a:xfrm>
            <a:off x="1547640" y="2997360"/>
            <a:ext cx="4034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/النظريات الاجتماع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ثنائية الاجتما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5" name="Picture 4" descr="ضضض"/>
          <p:cNvPicPr/>
          <p:nvPr/>
        </p:nvPicPr>
        <p:blipFill>
          <a:blip r:embed="rId1"/>
          <a:stretch/>
        </p:blipFill>
        <p:spPr>
          <a:xfrm>
            <a:off x="1547640" y="2924280"/>
            <a:ext cx="4319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دافع الإنجاز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8" name="Picture 4" descr="imagesئئ"/>
          <p:cNvPicPr/>
          <p:nvPr/>
        </p:nvPicPr>
        <p:blipFill>
          <a:blip r:embed="rId1"/>
          <a:stretch/>
        </p:blipFill>
        <p:spPr>
          <a:xfrm>
            <a:off x="2050920" y="2708280"/>
            <a:ext cx="28814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ة الإسلامية ل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تركتز على الإنسان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يزتها : الجمع بين الروح الأخلاقية/الدينية  و الأهداف المادية للإنسان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+الشمول +الواق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1" name="Picture 5" descr="Trains-by-Aaron-Durand-1"/>
          <p:cNvPicPr/>
          <p:nvPr/>
        </p:nvPicPr>
        <p:blipFill>
          <a:blip r:embed="rId1"/>
          <a:stretch/>
        </p:blipFill>
        <p:spPr>
          <a:xfrm>
            <a:off x="1258920" y="4221000"/>
            <a:ext cx="27241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-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عناصر المؤدية للتنمية في النظرية الإسلامية/كيف ستبدأ التنمية الإسلامية؟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استفادة من التقدم العلمي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حسين مستوى الأفراد صحياً واجتماع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وين رأس الما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4" name="Picture 4" descr="content-writting-small"/>
          <p:cNvPicPr/>
          <p:nvPr/>
        </p:nvPicPr>
        <p:blipFill>
          <a:blip r:embed="rId1"/>
          <a:stretch/>
        </p:blipFill>
        <p:spPr>
          <a:xfrm>
            <a:off x="611280" y="4221000"/>
            <a:ext cx="2736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بعاد التنمية الإسلامية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. البعد الفلسفي ويرتكز على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استخلاف /العم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مال  (الزكاة، الربا 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فكرة النظام الإجتماعي المتوازن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عدالة+التكافل، التكامل+المسؤول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.البعد التشريع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زكا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با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7" name="Picture 4" descr="plant_in_hand"/>
          <p:cNvPicPr/>
          <p:nvPr/>
        </p:nvPicPr>
        <p:blipFill>
          <a:blip r:embed="rId1"/>
          <a:stretch/>
        </p:blipFill>
        <p:spPr>
          <a:xfrm>
            <a:off x="900000" y="2205000"/>
            <a:ext cx="38102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Arabic Typesetting"/>
                <a:cs typeface="Arabic Typesetting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e3d2d"/>
                </a:solidFill>
                <a:latin typeface="Arabic Typesetting"/>
                <a:cs typeface="Arabic Typesetting"/>
              </a:rPr>
              <a:t>تطور المفهوم تاريخياً</a:t>
            </a: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اهيم متصلة ب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ض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دي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صر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ريب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صني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يي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1" name="Picture 5" descr="imagesس"/>
          <p:cNvPicPr/>
          <p:nvPr/>
        </p:nvPicPr>
        <p:blipFill>
          <a:blip r:embed="rId1"/>
          <a:stretch/>
        </p:blipFill>
        <p:spPr>
          <a:xfrm>
            <a:off x="1692360" y="2349360"/>
            <a:ext cx="3168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Group 111"/>
          <p:cNvGrpSpPr/>
          <p:nvPr/>
        </p:nvGrpSpPr>
        <p:grpSpPr>
          <a:xfrm>
            <a:off x="1684440" y="555480"/>
            <a:ext cx="5759280" cy="5761080"/>
            <a:chOff x="1684440" y="555480"/>
            <a:chExt cx="5759280" cy="5761080"/>
          </a:xfrm>
        </p:grpSpPr>
        <p:grpSp>
          <p:nvGrpSpPr>
            <p:cNvPr id="881" name="Group 37"/>
            <p:cNvGrpSpPr/>
            <p:nvPr/>
          </p:nvGrpSpPr>
          <p:grpSpPr>
            <a:xfrm>
              <a:off x="1684440" y="555480"/>
              <a:ext cx="5759280" cy="5761080"/>
              <a:chOff x="1684440" y="555480"/>
              <a:chExt cx="5759280" cy="5761080"/>
            </a:xfrm>
          </p:grpSpPr>
          <p:sp>
            <p:nvSpPr>
              <p:cNvPr id="882" name="Oval 7"/>
              <p:cNvSpPr/>
              <p:nvPr/>
            </p:nvSpPr>
            <p:spPr>
              <a:xfrm>
                <a:off x="2404080" y="1275480"/>
                <a:ext cx="4319640" cy="432072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3" name="Oval 8"/>
              <p:cNvSpPr/>
              <p:nvPr/>
            </p:nvSpPr>
            <p:spPr>
              <a:xfrm>
                <a:off x="1684440" y="555480"/>
                <a:ext cx="5759280" cy="576108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4" name="Oval 3"/>
              <p:cNvSpPr/>
              <p:nvPr/>
            </p:nvSpPr>
            <p:spPr>
              <a:xfrm>
                <a:off x="3153600" y="1995840"/>
                <a:ext cx="2850480" cy="2880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5" name="TextBox 19"/>
              <p:cNvSpPr/>
              <p:nvPr/>
            </p:nvSpPr>
            <p:spPr>
              <a:xfrm>
                <a:off x="3988080" y="26654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بيئ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6" name="Oval 4"/>
              <p:cNvSpPr/>
              <p:nvPr/>
            </p:nvSpPr>
            <p:spPr>
              <a:xfrm>
                <a:off x="3728160" y="2599920"/>
                <a:ext cx="1655640" cy="1656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grpSp>
            <p:nvGrpSpPr>
              <p:cNvPr id="887" name="Group 10"/>
              <p:cNvGrpSpPr/>
              <p:nvPr/>
            </p:nvGrpSpPr>
            <p:grpSpPr>
              <a:xfrm>
                <a:off x="4204080" y="3090600"/>
                <a:ext cx="719640" cy="724680"/>
                <a:chOff x="4204080" y="3090600"/>
                <a:chExt cx="719640" cy="724680"/>
              </a:xfrm>
            </p:grpSpPr>
            <p:sp>
              <p:nvSpPr>
                <p:cNvPr id="888" name="Oval 6"/>
                <p:cNvSpPr/>
                <p:nvPr/>
              </p:nvSpPr>
              <p:spPr>
                <a:xfrm>
                  <a:off x="4204080" y="3090600"/>
                  <a:ext cx="719640" cy="673200"/>
                </a:xfrm>
                <a:prstGeom prst="ellipse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9" name="TextBox 9"/>
                <p:cNvSpPr/>
                <p:nvPr/>
              </p:nvSpPr>
              <p:spPr>
                <a:xfrm>
                  <a:off x="4275720" y="3234600"/>
                  <a:ext cx="575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000000"/>
                      </a:solidFill>
                      <a:latin typeface="Calibri"/>
                      <a:cs typeface="Arial"/>
                    </a:rPr>
                    <a:t>التنمية</a:t>
                  </a:r>
                  <a:endParaRPr b="0" lang="en-US" sz="1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890" name="Straight Connector 12"/>
              <p:cNvSpPr/>
              <p:nvPr/>
            </p:nvSpPr>
            <p:spPr>
              <a:xfrm>
                <a:off x="3970800" y="2842560"/>
                <a:ext cx="33876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1" name="Straight Connector 13"/>
              <p:cNvSpPr/>
              <p:nvPr/>
            </p:nvSpPr>
            <p:spPr>
              <a:xfrm flipH="1">
                <a:off x="4779720" y="2787840"/>
                <a:ext cx="32292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2" name="TextBox 20"/>
              <p:cNvSpPr/>
              <p:nvPr/>
            </p:nvSpPr>
            <p:spPr>
              <a:xfrm rot="16200000">
                <a:off x="5458320" y="32018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ادي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3" name="TextBox 21"/>
              <p:cNvSpPr/>
              <p:nvPr/>
            </p:nvSpPr>
            <p:spPr>
              <a:xfrm>
                <a:off x="4242240" y="4372200"/>
                <a:ext cx="638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مدين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4" name="TextBox 22"/>
              <p:cNvSpPr/>
              <p:nvPr/>
            </p:nvSpPr>
            <p:spPr>
              <a:xfrm rot="5400000">
                <a:off x="3011040" y="30632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ريف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5" name="Straight Connector 24"/>
              <p:cNvSpPr/>
              <p:nvPr/>
            </p:nvSpPr>
            <p:spPr>
              <a:xfrm flipH="1">
                <a:off x="5067720" y="2374560"/>
                <a:ext cx="453960" cy="4248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6" name="Straight Connector 27"/>
              <p:cNvSpPr/>
              <p:nvPr/>
            </p:nvSpPr>
            <p:spPr>
              <a:xfrm>
                <a:off x="3633480" y="2361600"/>
                <a:ext cx="399600" cy="43776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7" name="TextBox 29"/>
              <p:cNvSpPr/>
              <p:nvPr/>
            </p:nvSpPr>
            <p:spPr>
              <a:xfrm>
                <a:off x="4060080" y="19958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حضر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8" name="TextBox 30"/>
              <p:cNvSpPr/>
              <p:nvPr/>
            </p:nvSpPr>
            <p:spPr>
              <a:xfrm rot="14784600">
                <a:off x="4892760" y="2865600"/>
                <a:ext cx="789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ظروف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9" name="TextBox 31"/>
              <p:cNvSpPr/>
              <p:nvPr/>
            </p:nvSpPr>
            <p:spPr>
              <a:xfrm rot="16925400">
                <a:off x="4777560" y="3517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سياس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0" name="TextBox 32"/>
              <p:cNvSpPr/>
              <p:nvPr/>
            </p:nvSpPr>
            <p:spPr>
              <a:xfrm rot="1444800">
                <a:off x="3719880" y="3840480"/>
                <a:ext cx="99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حضار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1" name="TextBox 33"/>
              <p:cNvSpPr/>
              <p:nvPr/>
            </p:nvSpPr>
            <p:spPr>
              <a:xfrm rot="19668600">
                <a:off x="4323240" y="3900240"/>
                <a:ext cx="102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اقتصاد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2" name="TextBox 34"/>
              <p:cNvSpPr/>
              <p:nvPr/>
            </p:nvSpPr>
            <p:spPr>
              <a:xfrm rot="3928800">
                <a:off x="3427920" y="33393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داخل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3" name="TextBox 35"/>
              <p:cNvSpPr/>
              <p:nvPr/>
            </p:nvSpPr>
            <p:spPr>
              <a:xfrm rot="6194400">
                <a:off x="3528720" y="2950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خارج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904" name="Straight Connector 38"/>
            <p:cNvSpPr/>
            <p:nvPr/>
          </p:nvSpPr>
          <p:spPr>
            <a:xfrm flipH="1">
              <a:off x="5463000" y="1789200"/>
              <a:ext cx="468720" cy="5083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Straight Connector 41"/>
            <p:cNvSpPr/>
            <p:nvPr/>
          </p:nvSpPr>
          <p:spPr>
            <a:xfrm flipH="1">
              <a:off x="5769000" y="2288160"/>
              <a:ext cx="594360" cy="3790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Straight Connector 43"/>
            <p:cNvSpPr/>
            <p:nvPr/>
          </p:nvSpPr>
          <p:spPr>
            <a:xfrm flipH="1">
              <a:off x="5961960" y="2961360"/>
              <a:ext cx="68976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Straight Connector 45"/>
            <p:cNvSpPr/>
            <p:nvPr/>
          </p:nvSpPr>
          <p:spPr>
            <a:xfrm flipH="1" flipV="1">
              <a:off x="5931720" y="3994560"/>
              <a:ext cx="603000" cy="377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Straight Connector 48"/>
            <p:cNvSpPr/>
            <p:nvPr/>
          </p:nvSpPr>
          <p:spPr>
            <a:xfrm>
              <a:off x="4564080" y="127548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Straight Connector 50"/>
            <p:cNvSpPr/>
            <p:nvPr/>
          </p:nvSpPr>
          <p:spPr>
            <a:xfrm>
              <a:off x="3178080" y="1789200"/>
              <a:ext cx="486360" cy="5720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Straight Connector 52"/>
            <p:cNvSpPr/>
            <p:nvPr/>
          </p:nvSpPr>
          <p:spPr>
            <a:xfrm>
              <a:off x="2476080" y="2961360"/>
              <a:ext cx="70164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Straight Connector 54"/>
            <p:cNvSpPr/>
            <p:nvPr/>
          </p:nvSpPr>
          <p:spPr>
            <a:xfrm flipV="1">
              <a:off x="2692080" y="4054320"/>
              <a:ext cx="602640" cy="414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Straight Connector 56"/>
            <p:cNvSpPr/>
            <p:nvPr/>
          </p:nvSpPr>
          <p:spPr>
            <a:xfrm flipV="1">
              <a:off x="3188160" y="4541400"/>
              <a:ext cx="476280" cy="550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Straight Connector 59"/>
            <p:cNvSpPr/>
            <p:nvPr/>
          </p:nvSpPr>
          <p:spPr>
            <a:xfrm flipV="1">
              <a:off x="3864960" y="4817160"/>
              <a:ext cx="274680" cy="663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Straight Connector 62"/>
            <p:cNvSpPr/>
            <p:nvPr/>
          </p:nvSpPr>
          <p:spPr>
            <a:xfrm flipV="1">
              <a:off x="4706280" y="487620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Straight Connector 65"/>
            <p:cNvSpPr/>
            <p:nvPr/>
          </p:nvSpPr>
          <p:spPr>
            <a:xfrm flipH="1" flipV="1">
              <a:off x="5043600" y="4791600"/>
              <a:ext cx="444240" cy="600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Straight Connector 67"/>
            <p:cNvSpPr/>
            <p:nvPr/>
          </p:nvSpPr>
          <p:spPr>
            <a:xfrm flipH="1" flipV="1">
              <a:off x="5488560" y="4541400"/>
              <a:ext cx="573480" cy="4593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TextBox 70"/>
            <p:cNvSpPr/>
            <p:nvPr/>
          </p:nvSpPr>
          <p:spPr>
            <a:xfrm rot="1146600">
              <a:off x="4330800" y="148860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قطاعات التنم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TextBox 73"/>
            <p:cNvSpPr/>
            <p:nvPr/>
          </p:nvSpPr>
          <p:spPr>
            <a:xfrm rot="20103000">
              <a:off x="3176640" y="152892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وطن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TextBox 74"/>
            <p:cNvSpPr/>
            <p:nvPr/>
          </p:nvSpPr>
          <p:spPr>
            <a:xfrm rot="17998200">
              <a:off x="2251080" y="2312640"/>
              <a:ext cx="140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محل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TextBox 79"/>
            <p:cNvSpPr/>
            <p:nvPr/>
          </p:nvSpPr>
          <p:spPr>
            <a:xfrm rot="15878400">
              <a:off x="2250360" y="3320280"/>
              <a:ext cx="14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رجال المعارضة السياس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TextBox 82"/>
            <p:cNvSpPr/>
            <p:nvPr/>
          </p:nvSpPr>
          <p:spPr>
            <a:xfrm rot="2886600">
              <a:off x="2420280" y="440784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TextBox 86"/>
            <p:cNvSpPr/>
            <p:nvPr/>
          </p:nvSpPr>
          <p:spPr>
            <a:xfrm rot="1873200">
              <a:off x="3007440" y="4889880"/>
              <a:ext cx="97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وظف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TextBox 87"/>
            <p:cNvSpPr/>
            <p:nvPr/>
          </p:nvSpPr>
          <p:spPr>
            <a:xfrm rot="435000">
              <a:off x="3718080" y="51714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حرف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4" name="TextBox 88"/>
            <p:cNvSpPr/>
            <p:nvPr/>
          </p:nvSpPr>
          <p:spPr>
            <a:xfrm rot="21014400">
              <a:off x="4433400" y="52182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ف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5" name="TextBox 89"/>
            <p:cNvSpPr/>
            <p:nvPr/>
          </p:nvSpPr>
          <p:spPr>
            <a:xfrm rot="19233000">
              <a:off x="5106240" y="498744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ه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6" name="TextBox 90"/>
            <p:cNvSpPr/>
            <p:nvPr/>
          </p:nvSpPr>
          <p:spPr>
            <a:xfrm rot="18160200">
              <a:off x="5733000" y="438840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زارع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7" name="TextBox 91"/>
            <p:cNvSpPr/>
            <p:nvPr/>
          </p:nvSpPr>
          <p:spPr>
            <a:xfrm rot="17163600">
              <a:off x="5937120" y="40417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م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8" name="TextBox 92"/>
            <p:cNvSpPr/>
            <p:nvPr/>
          </p:nvSpPr>
          <p:spPr>
            <a:xfrm rot="15943200">
              <a:off x="6007320" y="298548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أطف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9" name="TextBox 93"/>
            <p:cNvSpPr/>
            <p:nvPr/>
          </p:nvSpPr>
          <p:spPr>
            <a:xfrm rot="13931400">
              <a:off x="5661000" y="209880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رأ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0" name="Straight Connector 107"/>
            <p:cNvSpPr/>
            <p:nvPr/>
          </p:nvSpPr>
          <p:spPr>
            <a:xfrm flipH="1" flipV="1">
              <a:off x="6000480" y="3553200"/>
              <a:ext cx="698760" cy="143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1" name="TextBox 109"/>
            <p:cNvSpPr/>
            <p:nvPr/>
          </p:nvSpPr>
          <p:spPr>
            <a:xfrm rot="14863200">
              <a:off x="5967720" y="26809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شباب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2" name="TextBox 112"/>
          <p:cNvSpPr/>
          <p:nvPr/>
        </p:nvSpPr>
        <p:spPr>
          <a:xfrm>
            <a:off x="3900600" y="692280"/>
            <a:ext cx="13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بعد التنمو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3" name="TextBox 113"/>
          <p:cNvSpPr/>
          <p:nvPr/>
        </p:nvSpPr>
        <p:spPr>
          <a:xfrm rot="1697400">
            <a:off x="4867200" y="75528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يئ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4" name="TextBox 114"/>
          <p:cNvSpPr/>
          <p:nvPr/>
        </p:nvSpPr>
        <p:spPr>
          <a:xfrm rot="2315400">
            <a:off x="5426280" y="11559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ثقاف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TextBox 115"/>
          <p:cNvSpPr/>
          <p:nvPr/>
        </p:nvSpPr>
        <p:spPr>
          <a:xfrm rot="3280200">
            <a:off x="1696320" y="4583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جتما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6" name="TextBox 116"/>
          <p:cNvSpPr/>
          <p:nvPr/>
        </p:nvSpPr>
        <p:spPr>
          <a:xfrm rot="16026600">
            <a:off x="1328040" y="32907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قتصاد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7" name="TextBox 117"/>
          <p:cNvSpPr/>
          <p:nvPr/>
        </p:nvSpPr>
        <p:spPr>
          <a:xfrm rot="16964400">
            <a:off x="6454800" y="376020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سيا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8" name="TextBox 118"/>
          <p:cNvSpPr/>
          <p:nvPr/>
        </p:nvSpPr>
        <p:spPr>
          <a:xfrm rot="17834400">
            <a:off x="1691640" y="199188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ذات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9" name="TextBox 119"/>
          <p:cNvSpPr/>
          <p:nvPr/>
        </p:nvSpPr>
        <p:spPr>
          <a:xfrm rot="19416600">
            <a:off x="2530080" y="1084680"/>
            <a:ext cx="133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مية روح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0" name="TextBox 120"/>
          <p:cNvSpPr/>
          <p:nvPr/>
        </p:nvSpPr>
        <p:spPr>
          <a:xfrm>
            <a:off x="3986280" y="57783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ري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1" name="TextBox 121"/>
          <p:cNvSpPr/>
          <p:nvPr/>
        </p:nvSpPr>
        <p:spPr>
          <a:xfrm rot="3735000">
            <a:off x="6165720" y="19191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كنولوج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2" name="TextBox 122"/>
          <p:cNvSpPr/>
          <p:nvPr/>
        </p:nvSpPr>
        <p:spPr>
          <a:xfrm rot="18352200">
            <a:off x="6025680" y="466884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ف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3" name="TextBox 124"/>
          <p:cNvSpPr/>
          <p:nvPr/>
        </p:nvSpPr>
        <p:spPr>
          <a:xfrm rot="5400000">
            <a:off x="6464880" y="297072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لم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TextBox 125"/>
          <p:cNvSpPr/>
          <p:nvPr/>
        </p:nvSpPr>
        <p:spPr>
          <a:xfrm rot="19645200">
            <a:off x="5271840" y="54324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دا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TextBox 126"/>
          <p:cNvSpPr/>
          <p:nvPr/>
        </p:nvSpPr>
        <p:spPr>
          <a:xfrm rot="1888200">
            <a:off x="2519280" y="53928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ش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6" name="Straight Connector 130"/>
          <p:cNvSpPr/>
          <p:nvPr/>
        </p:nvSpPr>
        <p:spPr>
          <a:xfrm>
            <a:off x="3700440" y="692280"/>
            <a:ext cx="2649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7" name="Straight Connector 131"/>
          <p:cNvSpPr/>
          <p:nvPr/>
        </p:nvSpPr>
        <p:spPr>
          <a:xfrm>
            <a:off x="2349360" y="1636560"/>
            <a:ext cx="561960" cy="41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8" name="Straight Connector 132"/>
          <p:cNvSpPr/>
          <p:nvPr/>
        </p:nvSpPr>
        <p:spPr>
          <a:xfrm flipH="1">
            <a:off x="5109840" y="692280"/>
            <a:ext cx="2127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9" name="Straight Connector 133"/>
          <p:cNvSpPr/>
          <p:nvPr/>
        </p:nvSpPr>
        <p:spPr>
          <a:xfrm flipH="1">
            <a:off x="5592600" y="930240"/>
            <a:ext cx="339840" cy="627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0" name="Straight Connector 144"/>
          <p:cNvSpPr/>
          <p:nvPr/>
        </p:nvSpPr>
        <p:spPr>
          <a:xfrm flipH="1" flipV="1">
            <a:off x="6724440" y="3544560"/>
            <a:ext cx="718920" cy="28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1" name="Straight Connector 145"/>
          <p:cNvSpPr/>
          <p:nvPr/>
        </p:nvSpPr>
        <p:spPr>
          <a:xfrm flipH="1">
            <a:off x="6611400" y="2732040"/>
            <a:ext cx="7210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2" name="Straight Connector 146"/>
          <p:cNvSpPr/>
          <p:nvPr/>
        </p:nvSpPr>
        <p:spPr>
          <a:xfrm flipH="1">
            <a:off x="6111360" y="1400040"/>
            <a:ext cx="489240" cy="516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3" name="Straight Connector 147"/>
          <p:cNvSpPr/>
          <p:nvPr/>
        </p:nvSpPr>
        <p:spPr>
          <a:xfrm flipH="1" flipV="1">
            <a:off x="1763640" y="2835000"/>
            <a:ext cx="712800" cy="127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4" name="Straight Connector 148"/>
          <p:cNvSpPr/>
          <p:nvPr/>
        </p:nvSpPr>
        <p:spPr>
          <a:xfrm flipH="1">
            <a:off x="1816200" y="4113360"/>
            <a:ext cx="696960" cy="1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5" name="Straight Connector 149"/>
          <p:cNvSpPr/>
          <p:nvPr/>
        </p:nvSpPr>
        <p:spPr>
          <a:xfrm flipH="1">
            <a:off x="2558880" y="4964040"/>
            <a:ext cx="478080" cy="530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6" name="Straight Connector 158"/>
          <p:cNvSpPr/>
          <p:nvPr/>
        </p:nvSpPr>
        <p:spPr>
          <a:xfrm flipH="1" flipV="1">
            <a:off x="6587640" y="4257360"/>
            <a:ext cx="660600" cy="284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7" name="Straight Connector 159"/>
          <p:cNvSpPr/>
          <p:nvPr/>
        </p:nvSpPr>
        <p:spPr>
          <a:xfrm>
            <a:off x="6091200" y="4964040"/>
            <a:ext cx="509760" cy="5097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8" name="Straight Connector 160"/>
          <p:cNvSpPr/>
          <p:nvPr/>
        </p:nvSpPr>
        <p:spPr>
          <a:xfrm>
            <a:off x="5218200" y="5465880"/>
            <a:ext cx="244440" cy="712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9" name="Straight Connector 161"/>
          <p:cNvSpPr/>
          <p:nvPr/>
        </p:nvSpPr>
        <p:spPr>
          <a:xfrm flipH="1">
            <a:off x="3638520" y="5494320"/>
            <a:ext cx="262080" cy="654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تضمن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محاو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ولاً:البعد البيئ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ظروف السياسية و الاقتصادية و الحضارية داخلياً و خارج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نياً:البعد الحضر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دين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ي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69217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لثاً:قطاعات التنمية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رأ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شباب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أطف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زارع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ه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حرف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ظف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جال المعارضة ال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مهور العام الوطني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ابعاً:البعد التنمو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يئ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قاف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نولوج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لم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ف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دا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شري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ش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جتما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قتصاد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ذاتية تنمية روح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غ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ن النمو ، أي ارتفاع الشيء من موضعه إلى موضع آخ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4" name="Picture 4" descr="www-St-Takla-org___Plants-Growth-01"/>
          <p:cNvPicPr/>
          <p:nvPr/>
        </p:nvPicPr>
        <p:blipFill>
          <a:blip r:embed="rId1"/>
          <a:stretch/>
        </p:blipFill>
        <p:spPr>
          <a:xfrm>
            <a:off x="3059280" y="3500280"/>
            <a:ext cx="3340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ريق بين التنمية و النمو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نمو : الزيادة الثابتة و المستمرة التي تحدث في جانب معين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: تحقيق زيادة سريعة تراكمية ودائمة عبر فترة من الزمن في الإنتاج و الخدمات، نتيجة استخدام الجهود العلمية لتنظيم الأنشطة المشتركة الحكومية و الشعب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عريف 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94920" y="2323800"/>
            <a:ext cx="79218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زيادة محسوس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إنتاج والخدمات، شاملة ومتكاملة و مرتبطة بحركة المجتمع، تأثراً وتأثيراً ، مستخدمة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أساليب العلمية الحديث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تكنولوجيا و التنظيم و الإدار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حصلة الجهود العلمية المستخدمة لتنظيم الأنشطة المشتركة الحكومية والشعبية في مختلف المستويات 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لتعبئة الموارد الموجود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أو التي يمكن إيجادها لمواجهة الحاجات الضرورية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وفقاً لخطة مرسوم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،وفي ضوء السياسة العامة للمجتمع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9" name="Picture 5" descr="نمو-اقتصادي1"/>
          <p:cNvPicPr/>
          <p:nvPr/>
        </p:nvPicPr>
        <p:blipFill>
          <a:blip r:embed="rId1"/>
          <a:stretch/>
        </p:blipFill>
        <p:spPr>
          <a:xfrm>
            <a:off x="755640" y="476280"/>
            <a:ext cx="27828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لية تغيير مقصود نحو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نظام الاجتماعي و الاقتصادي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ذي تحتاجه الدول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ي العملية المرسومة لتقدم المجتمع كله اجتماعياً واقتصادياً و المعتمدة بأكبر قدر ممكن على مبادرة المجتمع المحلي و اشتراكه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قل المجتمعات من حالة أو مستوى إلى حالة أو مستوى أفضل، و من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نمط تقليدي إلى نمط متقدم ماً ونوعاً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، وتعد حلاً لا بديل عنه في مواجهة المتطلبات الوطنية في ميدان الإنتاج و الخدم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غيير أساسي في كل أنماط الحياة السائدة،و يتبع هذا تغيير نوعي و كمي في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صور العلاقات الاجتماعي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وفي كافة مجالات النشاط البشري في المجتمع، الاجتماعية و الاقتصادية و السياسية و الثقافية و الإداري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2" name="Picture 4" descr="20111214100048"/>
          <p:cNvPicPr/>
          <p:nvPr/>
        </p:nvPicPr>
        <p:blipFill>
          <a:blip r:embed="rId1"/>
          <a:stretch/>
        </p:blipFill>
        <p:spPr>
          <a:xfrm>
            <a:off x="468360" y="4941720"/>
            <a:ext cx="20160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تجاه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ند العلماء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يتحدث العلماء عن التنمية في ثلاث اتجاها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دل نمو دخل الفرد من إجمالي النتاج القومي الإجمالي في دولة م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تبط التنمية بعدد من التغيرات في بعض المجالات، مثل التعليم و محو الأمية و القوى العاملة و الصحة و التغذية وحجم السكان غير المزارعين ..الخ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 هي المعدل العالي للمواليد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5" name="Picture 6" descr="117054"/>
          <p:cNvPicPr/>
          <p:nvPr/>
        </p:nvPicPr>
        <p:blipFill>
          <a:blip r:embed="rId1"/>
          <a:stretch/>
        </p:blipFill>
        <p:spPr>
          <a:xfrm>
            <a:off x="468360" y="4508640"/>
            <a:ext cx="26654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تاريخيا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م التركيز على الزاوية الاقتصادية في تعريف التنمية و تفسير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م تمت إدخال كافة العناصر الاجتماعية و الثقافية لتفسير التنم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8" name="Picture 4" descr="360475445"/>
          <p:cNvPicPr/>
          <p:nvPr/>
        </p:nvPicPr>
        <p:blipFill>
          <a:blip r:embed="rId1"/>
          <a:stretch/>
        </p:blipFill>
        <p:spPr>
          <a:xfrm>
            <a:off x="971640" y="3429000"/>
            <a:ext cx="3384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سباب الاهتمام ب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ن وسائل النقل و الإعلام جعلت الموقف واضحاً ، و أصبح بالإمكان المقارنة بين أساليب الحيا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غبة الدول المستقلة بعد الاستعمار في أن تكون بنفس قوة الدول المستعمر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قف الأمم المتحدة من مشكلة التخلف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LoLo</cp:lastModifiedBy>
  <dcterms:modified xsi:type="dcterms:W3CDTF">2012-02-20T08:58:58Z</dcterms:modified>
  <cp:revision>27</cp:revision>
  <dc:subject/>
  <dc:title>الإعلام و التنمية علم 304</dc:title>
</cp:coreProperties>
</file>