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3D6-C679-43B0-BC3A-F62056DFA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FF6-5DB3-46C5-ABCA-9BDB6FAD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67BD3-44FE-433A-9988-B5674378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1FEA85-24DF-47EC-879D-7A061312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59B0A8-E5AA-45C0-AB79-975E99D0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325CF-D229-4146-99BA-3FF8FEE4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3CAA7-22C4-4CE5-B3D6-6869557F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6E10DE-D278-414F-AF56-0AAABA61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EE31B-F9CA-4756-8F55-E53E9B31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2267D-80F7-4AC3-8BC3-33F6B824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C39B0-13E4-4DE2-B5BB-E05FEE18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92396-782D-411D-8568-0DE8C88E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ECA9-C045-4EDF-8A0B-06E2705C8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ACE23-C67E-483B-AA7E-D47E4879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7A7E6-9A0B-4434-A378-ECB34B26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6886B-2264-41D0-8A21-C07A85C9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633383-008C-4170-AA63-1438DE41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6F92B-B7A8-4591-AB48-9AFFA530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72779-A03C-4BA2-BB48-8DD631C9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9C75C-1EF4-4040-9E28-C5F5A67E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7773C-B725-479E-8A2F-ED8BAFEA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7B36C6-5471-4728-AA71-E116FFDD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08631-D3FF-4BBD-B57F-8E4F2AED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137-30A0-4633-A4BE-7632CD0A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5A66A-4D60-4837-8D22-DBBDE8243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A785C-082F-4E3C-B1F5-56B0C04F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EEBD2-FC11-4506-874C-74424401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8BEFC-CFD7-44F9-A9D1-81B7F8DB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7D7D0-0A35-47AB-9815-ED9F9C27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CBCE5-D7F0-4EFF-8078-C4BCA53A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4D269-3FC1-49E1-A07D-C0450007C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7000C-EB5A-4B2C-8592-06A608E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E7D10-E93E-4C9F-9014-8CEF156A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C6062-5362-48C4-8D34-7C65C796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B3FB-27FF-4EE5-83F1-8655118B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BB8F3-49C3-49BC-A899-760AD247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453C4-24DD-45CD-8C4F-01435B3A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38677-F5DB-444C-B61F-7A2BCC87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4ADE2-7ABA-4783-93D7-A24B2E27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174CD0-A449-492E-8C0B-19FF48D7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6976A-AFC1-43CD-8BFB-100A85044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5C792-9FDE-47DD-85F1-BEEC0794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4010C-D509-4386-92F5-1B5F4437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3BE847-ACA2-488C-ABFD-8A38C200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303A4-E565-42A5-BB98-BF2B2DBD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9570-BD15-4603-81F0-7B8A14A2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FA8E0-7F51-4B3D-8031-DFEE1B9B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A11E72-EB9E-4F1C-AF94-F60BD54C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8FF64-4A74-4311-A4ED-4563055E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67BEE-86EB-4D70-90AB-F0D54CCD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4D1D26-AE7A-4FA8-B430-1624773A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6057B3-8245-42BE-B81A-CA32DA810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3931E9-60C4-41E1-831A-82FFEA96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227F9-83AC-471E-BDD9-3C692EAC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E45164-F2EC-46C7-AAF0-380A4E80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6C7BE-AA36-4786-BA71-3A21FFEE4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6A6F-6F5B-488C-A142-50097B0A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5289C-18DB-46C9-8608-CEA64A66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F7028B-213F-485E-B9BA-D2FB749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72FA5-3CC2-423E-AEAF-A09458B6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74AF8-B530-4243-B25C-791EDC70B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2DCD2E-9CDA-4B20-8020-E6FBEBFD2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918FC-8521-46D3-822D-6FED17AC6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27505C-0196-4CF2-865B-8D8226AC8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E6D2A8-17F2-42B9-97AC-0F70B974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E62B4-C296-43A6-9D3B-DFCEFD24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241C8A-50D8-4F5A-98F2-8E18AE79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D559-B9BC-4B49-939E-FF3E796F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0C40D-C3CE-4148-9D33-F620B5B2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F8C416-23A5-4E2D-9875-5CABD55C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143195-A685-4DCA-8E0F-6313F096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9D2A7-8C73-4EDB-8247-F505EC0A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3F86A1-5DA0-4BC8-A6A8-2088693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669CF-B765-4D18-BD5B-89613CF1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F63659-3AEF-4820-BBD5-1711C6C7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40CE2-D120-4772-B750-C8D240D8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9D2957-4D99-4254-A676-0A652653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4A9EF3-C32E-48A9-91B5-E1258964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9A5B-6298-4703-9756-BD6FD777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B1B673-DF55-4F83-BCA8-4A48AC3D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CCDC23-C153-4D81-B83C-0E830142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35AEF2-5058-4A55-811B-93F2472F1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21DD1-AF28-445B-9228-A4E51806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D3DCB-1830-458D-93B8-3A8325AB7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DD4B2B-4178-4481-A58D-CB2390B5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3DFAB1-F047-45BB-9FBA-0E9977EF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39D494-8A40-4228-B6CF-43816590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F503A6-FDEE-4117-BCA3-B0CFB4844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2B19A4-DD01-4D92-BF30-56BDA1DC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4E81-AF1A-407C-9452-88BD955F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59F15A-69DE-4568-A169-4157DF824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BFAB40-6C51-403B-8D7C-9D217738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6B4B8-7414-46B4-BC5C-27A0A256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CD59F-6CD8-475D-A2AA-B7F51C12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0BC047-0465-43F1-A9BA-28C235C2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5399E-4D9E-4C3D-8580-8AE11BC6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2A53F-DD4D-4525-87C6-02BC19B6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2D8804-D824-4EAD-AFDF-5F4106AF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02415-DE59-4455-9C38-B3690DCB8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75070A-DE18-436E-BE06-24BCA4A5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AD460-37F0-4821-89AE-6D0BBD88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B029C0-F37E-4D4A-82F2-1B6A2921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FED61A-579C-47A4-B803-DB623870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46D944-CAA3-4828-8337-9295D29B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316-C4FD-4BEC-847C-6D54DAD41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31E24-920B-47BC-8E80-04144512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3407-5E3D-469C-93DE-B965603A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01ED-185F-4779-B445-EBA910D84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F803-2AFA-49A7-9026-A2680267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F97D-4492-4348-A93A-036CD249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C3EC4-4D84-4661-B186-0AB7091A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265D2-A052-44DB-AC3E-0023F87C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D768-8621-4D24-BE1E-B7292741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2A785-BEDB-46B3-9BA1-53AF7F43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17791-99A9-4B20-82EE-B761D5F8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4233-8663-4081-B639-F0EBE5D0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79FBC-109E-4B57-8E61-C06E7FBF4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31798-B2E4-40BE-9391-EC2F3E00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1D0B1-6804-4C46-91C5-EBB7C22A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B7D7-E027-440A-828B-21561386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68ECE-8A94-4CC5-BB80-2D7B0596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E4E8C-2BAC-46CB-BAA5-942C7BAA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6C762-A6F4-4153-B90C-BF38E5B7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D8357-EE38-45CA-85AA-57BD62E2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80FD26-1597-41CE-9905-FA280109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732A1-1BB0-416D-9561-9B034C8D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721-5E25-4EB8-8874-7A1091480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8FE3D0-14C3-4DCE-9AD1-CB6AA56E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744155-91EC-4350-9F25-CAD544330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AEC6F-BF19-4621-838C-32BDB2D1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26EDCF-F388-44C3-B29E-7104439E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0A7899-053A-48CE-8392-8C62E59D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C2F0A5-2FEA-4CCA-BD4A-BCB9729F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C50F1D-1146-4328-94C9-D01F6822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5D7022-A530-4A03-AA53-D6F257673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8DCA8-E03D-400B-8D6D-AD685BAD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5A466-807D-4FE9-BF78-7A45710E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BFF-5407-409D-B201-BB0B39ED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21F39-1DC6-4A0B-A414-7B60334D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3F9CE-7562-403E-8C42-81C8C822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EE685-6CDC-4ADE-9910-91173FB3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0ACFA-F949-4A86-BC99-0398AF5C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9C5F0-E845-411C-8B55-F3240985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7C09B-D27F-44CE-B9BA-CDE693E1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52B9A-4DDD-4540-B049-1FE9B66A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B0CC9-430B-45D6-A98D-787B7C2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96DE6-9611-49D9-9F94-23B1DA70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96B718-8D51-45C4-8CE7-8531A991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C98-34CC-4B15-BC68-8A4692AA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0874-25CC-4E23-BE59-01253E9F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51037-B3F3-41DC-86CD-CF7C10CEA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9D24F-8842-496E-8758-8DC88EFC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EAEC-361D-4424-AFE5-FF2E60A1B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5F94D-925B-4841-8B80-44863F22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6EAFA-8C6D-44F7-9359-83F66B027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B728A-2A73-4DAD-B951-3A2B49DC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E1E24-E48F-48D1-B639-1B9EBE44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CB5FF-D06F-4D77-9C10-EB8F661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CF21C-CD86-44C5-B925-316A8D479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7CD0-A4E0-4D63-8A42-C1716377B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88A8B-255D-44A3-931B-77A30283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D12A3-4682-439A-931E-816E94A9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C39E9-9431-4DF7-B2C2-C9BE6852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295519-C693-4CB3-806F-039D0C53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ECB4F-261E-487A-B810-6EA446F2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8CF92-9575-42A2-A6C5-75C7B289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2EA29-B7A9-4245-AA64-0E47360C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3176B-9C14-4064-A845-F82F19F5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B4617-88DD-4B4F-AF7B-975E8DFB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47A56-DAE7-43B0-867A-CD32C26D5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ADCB-BF28-43E6-A994-57AD24C9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C62ADF-649E-4B54-BF92-39D639EA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0545C-CC35-45E9-A443-2E6D3890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75EE7-08AC-47B0-862C-7F46834D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B67A2-DBDD-4EF2-9A4F-FABB89E06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AAFC5-24FD-4C07-B37D-1F6607F7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9DD70-EB27-4D7F-9743-3417D296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9997A-0065-4C43-A9C2-736DDD1C6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957E1-BD99-4307-809B-BAAC9EC3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D612CE-7659-437A-868A-ADE6BAD1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9BDFE-85ED-42E6-A475-40A3A1C6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3EB-3C01-43D0-BED4-A404F6D2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A327F-BA9D-48F6-97BF-32D3DE46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B369F-6943-40BE-AC01-45CA4B8F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B32E4-F67F-494E-8506-D8A49B96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FEF81-7968-43BC-AB88-0CB3C0E0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1FB76-831F-4BD8-A30C-44CF740A8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A1C42-C702-4C3A-BB71-ED017F78B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172D3-0287-41C0-B470-3295B65A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414B1-DB20-45F3-883C-EA808E8E0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DB60F-3335-4DD4-9122-A628921C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A54AC-25F7-4709-B3FE-628311D1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3B05-46A3-4D34-A74A-ACBC2EB2CEA3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FA04-AAFA-4FA1-9A65-E3A99BDDE47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C21E5-0EED-43DA-912F-7754413B7521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E37A-DEA9-44E6-97F7-30B266B76960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188B4-EC32-4735-901B-A4F3E048B5B5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 type="dt" idx="4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 type="sldNum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2D58-F96B-48B5-8896-529EE9E3B56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4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7A45-C681-41AE-81CB-533213CC14F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4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C57F-7202-4AC9-9EF9-980A6CFAC16E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F492-831D-4A01-9592-39F7F9C51215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25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26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27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8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9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0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31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2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3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34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35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6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7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38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41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4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5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6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7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8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49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0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1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2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3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4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5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6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7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8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59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3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98C5-F8E4-410B-8085-0EB6469E7BD3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09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10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11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2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3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4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15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6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17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18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19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0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21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22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3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4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25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6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7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8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9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0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1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2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3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4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5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6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7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8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9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0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1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2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3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4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5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6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7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8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sldNum" idx="11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F1B4-2DBF-4E1F-B2AE-0176F81EF4E7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12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93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94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95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6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97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98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99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0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1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302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303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4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305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306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7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08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09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0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1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2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3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4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5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6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7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8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9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0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1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2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3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4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5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6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7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8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9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0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1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3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14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15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0C6F-2C9A-41CC-9BC2-A0BC5AD3CFCA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8E9A-B9FA-4E97-A075-C86F22CB0434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400A-E84A-4A79-BC5B-D5AF2F2F1D1A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BE83-0560-4ACE-B7AF-F6CF0923B3D6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0DC4-6096-430E-8CF0-ABA03AD2DD0B}" type="slidenum">
              <a:rPr b="0" lang="ar-S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71600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GA Abasan Regular"/>
              </a:rPr>
              <a:t>العنصر الثاني: التحضر والتنمية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ناه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يف ظهر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نواع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3" name="Picture 4" descr="ي"/>
          <p:cNvPicPr/>
          <p:nvPr/>
        </p:nvPicPr>
        <p:blipFill>
          <a:blip r:embed="rId1"/>
          <a:stretch/>
        </p:blipFill>
        <p:spPr>
          <a:xfrm>
            <a:off x="1476360" y="2492280"/>
            <a:ext cx="3382920" cy="26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/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ات الاقتصاد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دفعة القو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6" name="Picture 4" descr="ضص"/>
          <p:cNvPicPr/>
          <p:nvPr/>
        </p:nvPicPr>
        <p:blipFill>
          <a:blip r:embed="rId1"/>
          <a:stretch/>
        </p:blipFill>
        <p:spPr>
          <a:xfrm>
            <a:off x="1042920" y="2708280"/>
            <a:ext cx="4535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قارب النجا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59" name="Picture 4" descr="تن"/>
          <p:cNvPicPr/>
          <p:nvPr/>
        </p:nvPicPr>
        <p:blipFill>
          <a:blip r:embed="rId1"/>
          <a:stretch/>
        </p:blipFill>
        <p:spPr>
          <a:xfrm>
            <a:off x="1619280" y="2997360"/>
            <a:ext cx="385776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&gt;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مراحل الاقتصا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2" name="Picture 4" descr="strate10"/>
          <p:cNvPicPr/>
          <p:nvPr/>
        </p:nvPicPr>
        <p:blipFill>
          <a:blip r:embed="rId1"/>
          <a:stretch/>
        </p:blipFill>
        <p:spPr>
          <a:xfrm>
            <a:off x="1547640" y="2997360"/>
            <a:ext cx="4034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ظري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/النظريات الاجتماع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ثنائية الاجتما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5" name="Picture 4" descr="ضضض"/>
          <p:cNvPicPr/>
          <p:nvPr/>
        </p:nvPicPr>
        <p:blipFill>
          <a:blip r:embed="rId1"/>
          <a:stretch/>
        </p:blipFill>
        <p:spPr>
          <a:xfrm>
            <a:off x="1547640" y="2924280"/>
            <a:ext cx="4319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دافع الإنجاز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68" name="Picture 4" descr="imagesئئ"/>
          <p:cNvPicPr/>
          <p:nvPr/>
        </p:nvPicPr>
        <p:blipFill>
          <a:blip r:embed="rId1"/>
          <a:stretch/>
        </p:blipFill>
        <p:spPr>
          <a:xfrm>
            <a:off x="2050920" y="2708280"/>
            <a:ext cx="28814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نظرية الإسلامية ل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تركتز على الإنسان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يزتها : الجمع بين الروح الأخلاقية/الدينية  و الأهداف المادية للإنسان </a:t>
            </a:r>
            <a:r>
              <a:rPr b="0" lang="ar-SA" sz="24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+الشمول +الواق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1" name="Picture 5" descr="Trains-by-Aaron-Durand-1"/>
          <p:cNvPicPr/>
          <p:nvPr/>
        </p:nvPicPr>
        <p:blipFill>
          <a:blip r:embed="rId1"/>
          <a:stretch/>
        </p:blipFill>
        <p:spPr>
          <a:xfrm>
            <a:off x="1258920" y="4221000"/>
            <a:ext cx="27241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-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عناصر المؤدية للتنمية في النظرية الإسلامية/كيف ستبدأ التنمية الإسلامية؟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استفادة من التقدم العلمي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حسين مستوى الأفراد صحياً واجتماع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 rtl="1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وين رأس المال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4" name="Picture 4" descr="content-writting-small"/>
          <p:cNvPicPr/>
          <p:nvPr/>
        </p:nvPicPr>
        <p:blipFill>
          <a:blip r:embed="rId1"/>
          <a:stretch/>
        </p:blipFill>
        <p:spPr>
          <a:xfrm>
            <a:off x="611280" y="4221000"/>
            <a:ext cx="2736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بعاد التنمية الإسلامية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. البعد الفلسفي ويرتكز على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استخلاف /العم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كرة المال  (الزكاة، الربا 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-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فكرة النظام الإجتماعي المتوازن</a:t>
            </a: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عدالة+التكافل، التكامل+المسؤول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.البعد التشريع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زكا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با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77" name="Picture 4" descr="plant_in_hand"/>
          <p:cNvPicPr/>
          <p:nvPr/>
        </p:nvPicPr>
        <p:blipFill>
          <a:blip r:embed="rId1"/>
          <a:stretch/>
        </p:blipFill>
        <p:spPr>
          <a:xfrm>
            <a:off x="900000" y="2205000"/>
            <a:ext cx="381024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Arabic Typesetting"/>
                <a:cs typeface="Arabic Typesetting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3e3d2d"/>
                </a:solidFill>
                <a:latin typeface="Arabic Typesetting"/>
                <a:cs typeface="Arabic Typesetting"/>
              </a:rPr>
              <a:t>تطور المفهوم تاريخياً</a:t>
            </a:r>
            <a:endParaRPr b="0" lang="en-US" sz="5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اهيم متصلة ب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ض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حدي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صر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ريب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صني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غيي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1" name="Picture 5" descr="imagesس"/>
          <p:cNvPicPr/>
          <p:nvPr/>
        </p:nvPicPr>
        <p:blipFill>
          <a:blip r:embed="rId1"/>
          <a:stretch/>
        </p:blipFill>
        <p:spPr>
          <a:xfrm>
            <a:off x="1692360" y="2349360"/>
            <a:ext cx="316872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0" name="Group 111"/>
          <p:cNvGrpSpPr/>
          <p:nvPr/>
        </p:nvGrpSpPr>
        <p:grpSpPr>
          <a:xfrm>
            <a:off x="1684440" y="555480"/>
            <a:ext cx="5759280" cy="5761080"/>
            <a:chOff x="1684440" y="555480"/>
            <a:chExt cx="5759280" cy="5761080"/>
          </a:xfrm>
        </p:grpSpPr>
        <p:grpSp>
          <p:nvGrpSpPr>
            <p:cNvPr id="881" name="Group 37"/>
            <p:cNvGrpSpPr/>
            <p:nvPr/>
          </p:nvGrpSpPr>
          <p:grpSpPr>
            <a:xfrm>
              <a:off x="1684440" y="555480"/>
              <a:ext cx="5759280" cy="5761080"/>
              <a:chOff x="1684440" y="555480"/>
              <a:chExt cx="5759280" cy="5761080"/>
            </a:xfrm>
          </p:grpSpPr>
          <p:sp>
            <p:nvSpPr>
              <p:cNvPr id="882" name="Oval 7"/>
              <p:cNvSpPr/>
              <p:nvPr/>
            </p:nvSpPr>
            <p:spPr>
              <a:xfrm>
                <a:off x="2404080" y="1275480"/>
                <a:ext cx="4319640" cy="432072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3" name="Oval 8"/>
              <p:cNvSpPr/>
              <p:nvPr/>
            </p:nvSpPr>
            <p:spPr>
              <a:xfrm>
                <a:off x="1684440" y="555480"/>
                <a:ext cx="5759280" cy="576108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4" name="Oval 3"/>
              <p:cNvSpPr/>
              <p:nvPr/>
            </p:nvSpPr>
            <p:spPr>
              <a:xfrm>
                <a:off x="3153600" y="1995840"/>
                <a:ext cx="2850480" cy="2880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5" name="TextBox 19"/>
              <p:cNvSpPr/>
              <p:nvPr/>
            </p:nvSpPr>
            <p:spPr>
              <a:xfrm>
                <a:off x="3988080" y="26654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بيئ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86" name="Oval 4"/>
              <p:cNvSpPr/>
              <p:nvPr/>
            </p:nvSpPr>
            <p:spPr>
              <a:xfrm>
                <a:off x="3728160" y="2599920"/>
                <a:ext cx="1655640" cy="1656360"/>
              </a:xfrm>
              <a:prstGeom prst="ellipse">
                <a:avLst/>
              </a:prstGeom>
              <a:noFill/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grpSp>
            <p:nvGrpSpPr>
              <p:cNvPr id="887" name="Group 10"/>
              <p:cNvGrpSpPr/>
              <p:nvPr/>
            </p:nvGrpSpPr>
            <p:grpSpPr>
              <a:xfrm>
                <a:off x="4204080" y="3090600"/>
                <a:ext cx="719640" cy="724680"/>
                <a:chOff x="4204080" y="3090600"/>
                <a:chExt cx="719640" cy="724680"/>
              </a:xfrm>
            </p:grpSpPr>
            <p:sp>
              <p:nvSpPr>
                <p:cNvPr id="888" name="Oval 6"/>
                <p:cNvSpPr/>
                <p:nvPr/>
              </p:nvSpPr>
              <p:spPr>
                <a:xfrm>
                  <a:off x="4204080" y="3090600"/>
                  <a:ext cx="719640" cy="673200"/>
                </a:xfrm>
                <a:prstGeom prst="ellipse">
                  <a:avLst/>
                </a:prstGeom>
                <a:noFill/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9" name="TextBox 9"/>
                <p:cNvSpPr/>
                <p:nvPr/>
              </p:nvSpPr>
              <p:spPr>
                <a:xfrm>
                  <a:off x="4275720" y="3234600"/>
                  <a:ext cx="5756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1600" spc="-1" strike="noStrike">
                      <a:solidFill>
                        <a:srgbClr val="000000"/>
                      </a:solidFill>
                      <a:latin typeface="Calibri"/>
                      <a:cs typeface="Arial"/>
                    </a:rPr>
                    <a:t>التنمية</a:t>
                  </a:r>
                  <a:endParaRPr b="0" lang="en-US" sz="16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890" name="Straight Connector 12"/>
              <p:cNvSpPr/>
              <p:nvPr/>
            </p:nvSpPr>
            <p:spPr>
              <a:xfrm>
                <a:off x="3970800" y="2842560"/>
                <a:ext cx="33876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1" name="Straight Connector 13"/>
              <p:cNvSpPr/>
              <p:nvPr/>
            </p:nvSpPr>
            <p:spPr>
              <a:xfrm flipH="1">
                <a:off x="4779720" y="2787840"/>
                <a:ext cx="322920" cy="34668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2" name="TextBox 20"/>
              <p:cNvSpPr/>
              <p:nvPr/>
            </p:nvSpPr>
            <p:spPr>
              <a:xfrm rot="16200000">
                <a:off x="5458320" y="32018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ادي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3" name="TextBox 21"/>
              <p:cNvSpPr/>
              <p:nvPr/>
            </p:nvSpPr>
            <p:spPr>
              <a:xfrm>
                <a:off x="4242240" y="4372200"/>
                <a:ext cx="638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مدينة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4" name="TextBox 22"/>
              <p:cNvSpPr/>
              <p:nvPr/>
            </p:nvSpPr>
            <p:spPr>
              <a:xfrm rot="5400000">
                <a:off x="3011040" y="3063240"/>
                <a:ext cx="663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ريف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5" name="Straight Connector 24"/>
              <p:cNvSpPr/>
              <p:nvPr/>
            </p:nvSpPr>
            <p:spPr>
              <a:xfrm flipH="1">
                <a:off x="5067720" y="2374560"/>
                <a:ext cx="453960" cy="42480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6" name="Straight Connector 27"/>
              <p:cNvSpPr/>
              <p:nvPr/>
            </p:nvSpPr>
            <p:spPr>
              <a:xfrm>
                <a:off x="3633480" y="2361600"/>
                <a:ext cx="399600" cy="437760"/>
              </a:xfrm>
              <a:prstGeom prst="line">
                <a:avLst/>
              </a:prstGeom>
              <a:ln w="284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7" name="TextBox 29"/>
              <p:cNvSpPr/>
              <p:nvPr/>
            </p:nvSpPr>
            <p:spPr>
              <a:xfrm>
                <a:off x="4060080" y="1995840"/>
                <a:ext cx="1007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6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بعد الحضري</a:t>
                </a:r>
                <a:endParaRPr b="0" lang="en-US" sz="16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8" name="TextBox 30"/>
              <p:cNvSpPr/>
              <p:nvPr/>
            </p:nvSpPr>
            <p:spPr>
              <a:xfrm rot="14784600">
                <a:off x="4892760" y="2865600"/>
                <a:ext cx="789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ظروف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99" name="TextBox 31"/>
              <p:cNvSpPr/>
              <p:nvPr/>
            </p:nvSpPr>
            <p:spPr>
              <a:xfrm rot="16925400">
                <a:off x="4777560" y="3517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السياس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0" name="TextBox 32"/>
              <p:cNvSpPr/>
              <p:nvPr/>
            </p:nvSpPr>
            <p:spPr>
              <a:xfrm rot="1444800">
                <a:off x="3719880" y="3840480"/>
                <a:ext cx="99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حضار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1" name="TextBox 33"/>
              <p:cNvSpPr/>
              <p:nvPr/>
            </p:nvSpPr>
            <p:spPr>
              <a:xfrm rot="19668600">
                <a:off x="4323240" y="3900240"/>
                <a:ext cx="1020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الاقتصادية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2" name="TextBox 34"/>
              <p:cNvSpPr/>
              <p:nvPr/>
            </p:nvSpPr>
            <p:spPr>
              <a:xfrm rot="3928800">
                <a:off x="3427920" y="33393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داخل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03" name="TextBox 35"/>
              <p:cNvSpPr/>
              <p:nvPr/>
            </p:nvSpPr>
            <p:spPr>
              <a:xfrm rot="6194400">
                <a:off x="3528720" y="295092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ar-SA" sz="1400" spc="-1" strike="noStrike">
                    <a:solidFill>
                      <a:srgbClr val="000000"/>
                    </a:solidFill>
                    <a:latin typeface="Calibri"/>
                    <a:cs typeface="Arial"/>
                  </a:rPr>
                  <a:t>وخارجيا</a:t>
                </a:r>
                <a:endParaRPr b="0" lang="en-US" sz="1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904" name="Straight Connector 38"/>
            <p:cNvSpPr/>
            <p:nvPr/>
          </p:nvSpPr>
          <p:spPr>
            <a:xfrm flipH="1">
              <a:off x="5463000" y="1789200"/>
              <a:ext cx="468720" cy="5083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5" name="Straight Connector 41"/>
            <p:cNvSpPr/>
            <p:nvPr/>
          </p:nvSpPr>
          <p:spPr>
            <a:xfrm flipH="1">
              <a:off x="5769000" y="2288160"/>
              <a:ext cx="594360" cy="3790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6" name="Straight Connector 43"/>
            <p:cNvSpPr/>
            <p:nvPr/>
          </p:nvSpPr>
          <p:spPr>
            <a:xfrm flipH="1">
              <a:off x="5961960" y="2961360"/>
              <a:ext cx="68976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7" name="Straight Connector 45"/>
            <p:cNvSpPr/>
            <p:nvPr/>
          </p:nvSpPr>
          <p:spPr>
            <a:xfrm flipH="1" flipV="1">
              <a:off x="5931720" y="3994560"/>
              <a:ext cx="603000" cy="377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8" name="Straight Connector 48"/>
            <p:cNvSpPr/>
            <p:nvPr/>
          </p:nvSpPr>
          <p:spPr>
            <a:xfrm>
              <a:off x="4564080" y="127548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09" name="Straight Connector 50"/>
            <p:cNvSpPr/>
            <p:nvPr/>
          </p:nvSpPr>
          <p:spPr>
            <a:xfrm>
              <a:off x="3178080" y="1789200"/>
              <a:ext cx="486360" cy="5720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0" name="Straight Connector 52"/>
            <p:cNvSpPr/>
            <p:nvPr/>
          </p:nvSpPr>
          <p:spPr>
            <a:xfrm>
              <a:off x="2476080" y="2961360"/>
              <a:ext cx="701640" cy="1292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1" name="Straight Connector 54"/>
            <p:cNvSpPr/>
            <p:nvPr/>
          </p:nvSpPr>
          <p:spPr>
            <a:xfrm flipV="1">
              <a:off x="2692080" y="4054320"/>
              <a:ext cx="602640" cy="414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2" name="Straight Connector 56"/>
            <p:cNvSpPr/>
            <p:nvPr/>
          </p:nvSpPr>
          <p:spPr>
            <a:xfrm flipV="1">
              <a:off x="3188160" y="4541400"/>
              <a:ext cx="476280" cy="5508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3" name="Straight Connector 59"/>
            <p:cNvSpPr/>
            <p:nvPr/>
          </p:nvSpPr>
          <p:spPr>
            <a:xfrm flipV="1">
              <a:off x="3864960" y="4817160"/>
              <a:ext cx="274680" cy="663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4" name="Straight Connector 62"/>
            <p:cNvSpPr/>
            <p:nvPr/>
          </p:nvSpPr>
          <p:spPr>
            <a:xfrm flipV="1">
              <a:off x="4706280" y="4876200"/>
              <a:ext cx="0" cy="7200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5" name="Straight Connector 65"/>
            <p:cNvSpPr/>
            <p:nvPr/>
          </p:nvSpPr>
          <p:spPr>
            <a:xfrm flipH="1" flipV="1">
              <a:off x="5043600" y="4791600"/>
              <a:ext cx="444240" cy="60084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6" name="Straight Connector 67"/>
            <p:cNvSpPr/>
            <p:nvPr/>
          </p:nvSpPr>
          <p:spPr>
            <a:xfrm flipH="1" flipV="1">
              <a:off x="5488560" y="4541400"/>
              <a:ext cx="573480" cy="4593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7" name="TextBox 70"/>
            <p:cNvSpPr/>
            <p:nvPr/>
          </p:nvSpPr>
          <p:spPr>
            <a:xfrm rot="1146600">
              <a:off x="4330800" y="148860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قطاعات التنم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8" name="TextBox 73"/>
            <p:cNvSpPr/>
            <p:nvPr/>
          </p:nvSpPr>
          <p:spPr>
            <a:xfrm rot="20103000">
              <a:off x="3176640" y="1528920"/>
              <a:ext cx="1400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وطن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19" name="TextBox 74"/>
            <p:cNvSpPr/>
            <p:nvPr/>
          </p:nvSpPr>
          <p:spPr>
            <a:xfrm rot="17998200">
              <a:off x="2251080" y="2312640"/>
              <a:ext cx="1400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جمهور العام المحلي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0" name="TextBox 79"/>
            <p:cNvSpPr/>
            <p:nvPr/>
          </p:nvSpPr>
          <p:spPr>
            <a:xfrm rot="15878400">
              <a:off x="2250360" y="3320280"/>
              <a:ext cx="14004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رجال المعارضة السياسي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1" name="TextBox 82"/>
            <p:cNvSpPr/>
            <p:nvPr/>
          </p:nvSpPr>
          <p:spPr>
            <a:xfrm rot="2886600">
              <a:off x="2420280" y="440784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سياس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2" name="TextBox 86"/>
            <p:cNvSpPr/>
            <p:nvPr/>
          </p:nvSpPr>
          <p:spPr>
            <a:xfrm rot="1873200">
              <a:off x="3007440" y="4889880"/>
              <a:ext cx="97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وظف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3" name="TextBox 87"/>
            <p:cNvSpPr/>
            <p:nvPr/>
          </p:nvSpPr>
          <p:spPr>
            <a:xfrm rot="435000">
              <a:off x="3718080" y="51714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حرف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4" name="TextBox 88"/>
            <p:cNvSpPr/>
            <p:nvPr/>
          </p:nvSpPr>
          <p:spPr>
            <a:xfrm rot="21014400">
              <a:off x="4433400" y="521820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ف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5" name="TextBox 89"/>
            <p:cNvSpPr/>
            <p:nvPr/>
          </p:nvSpPr>
          <p:spPr>
            <a:xfrm rot="19233000">
              <a:off x="5106240" y="4987440"/>
              <a:ext cx="97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هني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6" name="TextBox 90"/>
            <p:cNvSpPr/>
            <p:nvPr/>
          </p:nvSpPr>
          <p:spPr>
            <a:xfrm rot="18160200">
              <a:off x="5733000" y="4388400"/>
              <a:ext cx="97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زارعون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7" name="TextBox 91"/>
            <p:cNvSpPr/>
            <p:nvPr/>
          </p:nvSpPr>
          <p:spPr>
            <a:xfrm rot="17163600">
              <a:off x="5937120" y="40417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عم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8" name="TextBox 92"/>
            <p:cNvSpPr/>
            <p:nvPr/>
          </p:nvSpPr>
          <p:spPr>
            <a:xfrm rot="15943200">
              <a:off x="6007320" y="298548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أطفال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29" name="TextBox 93"/>
            <p:cNvSpPr/>
            <p:nvPr/>
          </p:nvSpPr>
          <p:spPr>
            <a:xfrm rot="13931400">
              <a:off x="5661000" y="209880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مرأة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0" name="Straight Connector 107"/>
            <p:cNvSpPr/>
            <p:nvPr/>
          </p:nvSpPr>
          <p:spPr>
            <a:xfrm flipH="1" flipV="1">
              <a:off x="6000480" y="3553200"/>
              <a:ext cx="698760" cy="14328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31" name="TextBox 109"/>
            <p:cNvSpPr/>
            <p:nvPr/>
          </p:nvSpPr>
          <p:spPr>
            <a:xfrm rot="14863200">
              <a:off x="5967720" y="2680920"/>
              <a:ext cx="97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600" spc="-1" strike="noStrike">
                  <a:solidFill>
                    <a:srgbClr val="000000"/>
                  </a:solidFill>
                  <a:latin typeface="Calibri"/>
                  <a:cs typeface="Arial"/>
                </a:rPr>
                <a:t>الشباب</a:t>
              </a:r>
              <a:endParaRPr b="0" lang="en-US" sz="16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932" name="TextBox 112"/>
          <p:cNvSpPr/>
          <p:nvPr/>
        </p:nvSpPr>
        <p:spPr>
          <a:xfrm>
            <a:off x="3900600" y="692280"/>
            <a:ext cx="13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لبعد التنمو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3" name="TextBox 113"/>
          <p:cNvSpPr/>
          <p:nvPr/>
        </p:nvSpPr>
        <p:spPr>
          <a:xfrm rot="1697400">
            <a:off x="4867200" y="75528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يئ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4" name="TextBox 114"/>
          <p:cNvSpPr/>
          <p:nvPr/>
        </p:nvSpPr>
        <p:spPr>
          <a:xfrm rot="2315400">
            <a:off x="5426280" y="11559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ثقاف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TextBox 115"/>
          <p:cNvSpPr/>
          <p:nvPr/>
        </p:nvSpPr>
        <p:spPr>
          <a:xfrm rot="3280200">
            <a:off x="1696320" y="4583880"/>
            <a:ext cx="13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جتما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6" name="TextBox 116"/>
          <p:cNvSpPr/>
          <p:nvPr/>
        </p:nvSpPr>
        <p:spPr>
          <a:xfrm rot="16026600">
            <a:off x="1328040" y="32907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قتصاد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7" name="TextBox 117"/>
          <p:cNvSpPr/>
          <p:nvPr/>
        </p:nvSpPr>
        <p:spPr>
          <a:xfrm rot="16964400">
            <a:off x="6454800" y="3760200"/>
            <a:ext cx="13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سيا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8" name="TextBox 118"/>
          <p:cNvSpPr/>
          <p:nvPr/>
        </p:nvSpPr>
        <p:spPr>
          <a:xfrm rot="17834400">
            <a:off x="1691640" y="199188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ذات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9" name="TextBox 119"/>
          <p:cNvSpPr/>
          <p:nvPr/>
        </p:nvSpPr>
        <p:spPr>
          <a:xfrm rot="19416600">
            <a:off x="2530080" y="1084680"/>
            <a:ext cx="133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نمية روح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0" name="TextBox 120"/>
          <p:cNvSpPr/>
          <p:nvPr/>
        </p:nvSpPr>
        <p:spPr>
          <a:xfrm>
            <a:off x="3986280" y="57783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شريع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1" name="TextBox 121"/>
          <p:cNvSpPr/>
          <p:nvPr/>
        </p:nvSpPr>
        <p:spPr>
          <a:xfrm rot="3735000">
            <a:off x="6165720" y="191916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تكنولوج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2" name="TextBox 122"/>
          <p:cNvSpPr/>
          <p:nvPr/>
        </p:nvSpPr>
        <p:spPr>
          <a:xfrm rot="18352200">
            <a:off x="6025680" y="466884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نفس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TextBox 124"/>
          <p:cNvSpPr/>
          <p:nvPr/>
        </p:nvSpPr>
        <p:spPr>
          <a:xfrm rot="5400000">
            <a:off x="6464880" y="297072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علم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TextBox 125"/>
          <p:cNvSpPr/>
          <p:nvPr/>
        </p:nvSpPr>
        <p:spPr>
          <a:xfrm rot="19645200">
            <a:off x="5271840" y="54324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ادا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TextBox 126"/>
          <p:cNvSpPr/>
          <p:nvPr/>
        </p:nvSpPr>
        <p:spPr>
          <a:xfrm rot="1888200">
            <a:off x="2519280" y="5392800"/>
            <a:ext cx="13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  <a:cs typeface="Arial"/>
              </a:rPr>
              <a:t>بشرية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6" name="Straight Connector 130"/>
          <p:cNvSpPr/>
          <p:nvPr/>
        </p:nvSpPr>
        <p:spPr>
          <a:xfrm>
            <a:off x="3700440" y="692280"/>
            <a:ext cx="2649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7" name="Straight Connector 131"/>
          <p:cNvSpPr/>
          <p:nvPr/>
        </p:nvSpPr>
        <p:spPr>
          <a:xfrm>
            <a:off x="2349360" y="1636560"/>
            <a:ext cx="561960" cy="41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8" name="Straight Connector 132"/>
          <p:cNvSpPr/>
          <p:nvPr/>
        </p:nvSpPr>
        <p:spPr>
          <a:xfrm flipH="1">
            <a:off x="5109840" y="692280"/>
            <a:ext cx="212760" cy="66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Straight Connector 133"/>
          <p:cNvSpPr/>
          <p:nvPr/>
        </p:nvSpPr>
        <p:spPr>
          <a:xfrm flipH="1">
            <a:off x="5592600" y="930240"/>
            <a:ext cx="339840" cy="627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0" name="Straight Connector 144"/>
          <p:cNvSpPr/>
          <p:nvPr/>
        </p:nvSpPr>
        <p:spPr>
          <a:xfrm flipH="1" flipV="1">
            <a:off x="6724440" y="3544560"/>
            <a:ext cx="718920" cy="28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1" name="Straight Connector 145"/>
          <p:cNvSpPr/>
          <p:nvPr/>
        </p:nvSpPr>
        <p:spPr>
          <a:xfrm flipH="1">
            <a:off x="6611400" y="2732040"/>
            <a:ext cx="7210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Straight Connector 146"/>
          <p:cNvSpPr/>
          <p:nvPr/>
        </p:nvSpPr>
        <p:spPr>
          <a:xfrm flipH="1">
            <a:off x="6111360" y="1400040"/>
            <a:ext cx="489240" cy="516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3" name="Straight Connector 147"/>
          <p:cNvSpPr/>
          <p:nvPr/>
        </p:nvSpPr>
        <p:spPr>
          <a:xfrm flipH="1" flipV="1">
            <a:off x="1763640" y="2835000"/>
            <a:ext cx="712800" cy="127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4" name="Straight Connector 148"/>
          <p:cNvSpPr/>
          <p:nvPr/>
        </p:nvSpPr>
        <p:spPr>
          <a:xfrm flipH="1">
            <a:off x="1816200" y="4113360"/>
            <a:ext cx="696960" cy="1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5" name="Straight Connector 149"/>
          <p:cNvSpPr/>
          <p:nvPr/>
        </p:nvSpPr>
        <p:spPr>
          <a:xfrm flipH="1">
            <a:off x="2558880" y="4964040"/>
            <a:ext cx="478080" cy="530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6" name="Straight Connector 158"/>
          <p:cNvSpPr/>
          <p:nvPr/>
        </p:nvSpPr>
        <p:spPr>
          <a:xfrm flipH="1" flipV="1">
            <a:off x="6587640" y="4257360"/>
            <a:ext cx="660600" cy="284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7" name="Straight Connector 159"/>
          <p:cNvSpPr/>
          <p:nvPr/>
        </p:nvSpPr>
        <p:spPr>
          <a:xfrm>
            <a:off x="6091200" y="4964040"/>
            <a:ext cx="509760" cy="5097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8" name="Straight Connector 160"/>
          <p:cNvSpPr/>
          <p:nvPr/>
        </p:nvSpPr>
        <p:spPr>
          <a:xfrm>
            <a:off x="5218200" y="5465880"/>
            <a:ext cx="244440" cy="712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9" name="Straight Connector 161"/>
          <p:cNvSpPr/>
          <p:nvPr/>
        </p:nvSpPr>
        <p:spPr>
          <a:xfrm flipH="1">
            <a:off x="3638520" y="5494320"/>
            <a:ext cx="262080" cy="654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نمية الشامل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تضمن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محاو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أولاً:البعد البيئ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ظروف السياسية و الاقتصادية و الحضارية داخلياً و خارجياً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نياً:البعد الحضر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دين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ري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6921720" cy="45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الثاً:قطاعات التنمية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رأ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شباب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أطف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مال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زارع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ه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ن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حرف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ظف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ون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جال المعارضة ال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مهور العام الوطن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632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ابعاً:البعد التنموي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يئ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قاف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كنولوج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لم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يا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فس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دا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شري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شر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جتماع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قتصاد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ذاتية تنمية روحية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 ”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GA Abasan Regular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غ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ن النمو ، أي ارتفاع الشيء من موضعه إلى موضع آخر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4" name="Picture 4" descr="www-St-Takla-org___Plants-Growth-01"/>
          <p:cNvPicPr/>
          <p:nvPr/>
        </p:nvPicPr>
        <p:blipFill>
          <a:blip r:embed="rId1"/>
          <a:stretch/>
        </p:blipFill>
        <p:spPr>
          <a:xfrm>
            <a:off x="3059280" y="3500280"/>
            <a:ext cx="334008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فريق بين التنمية و النمو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نمو : الزيادة الثابتة و المستمرة التي تحدث في جانب معين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: تحقيق زيادة سريعة تراكمية ودائمة عبر فترة من الزمن في الإنتاج و الخدمات، نتيجة استخدام الجهود العلمية لتنظيم الأنشطة المشتركة الحكومية و الشعب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عريف 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94920" y="2323800"/>
            <a:ext cx="7921800" cy="38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زيادة محسوس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إنتاج والخدمات، شاملة ومتكاملة و مرتبطة بحركة المجتمع، تأثراً وتأثيراً ، مستخدمة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أساليب العلمية الحديث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في التكنولوجيا و التنظيم و الإدار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حصلة الجهود العلمية المستخدمة لتنظيم الأنشطة المشتركة الحكومية والشعبية في مختلف المستويات 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لتعبئة الموارد الموجود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أو التي يمكن إيجادها لمواجهة الحاجات الضرورية،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وفقاً لخطة مرسوم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،وفي ضوء السياسة العامة للمجتمع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39" name="Picture 5" descr="نمو-اقتصادي1"/>
          <p:cNvPicPr/>
          <p:nvPr/>
        </p:nvPicPr>
        <p:blipFill>
          <a:blip r:embed="rId1"/>
          <a:stretch/>
        </p:blipFill>
        <p:spPr>
          <a:xfrm>
            <a:off x="755640" y="476280"/>
            <a:ext cx="27828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39640" y="33336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لية تغيير مقصود نحو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النظام الاجتماعي و الاقتصادي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الذي تحتاجه الدول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ي العملية المرسومة لتقدم المجتمع كله اجتماعياً واقتصادياً و المعتمدة بأكبر قدر ممكن على مبادرة المجتمع المحلي و اشتراكه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قل المجتمعات من حالة أو مستوى إلى حالة أو مستوى أفضل، و من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نمط تقليدي إلى نمط متقدم ماً ونوعاً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، وتعد حلاً لا بديل عنه في مواجهة المتطلبات الوطنية في ميدان الإنتاج و الخدمات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153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غيير أساسي في كل أنماط الحياة السائدة،و يتبع هذا تغيير نوعي و كمي في </a:t>
            </a:r>
            <a:r>
              <a:rPr b="0" lang="ar-SA" sz="2800" spc="-1" strike="noStrike" u="sng">
                <a:solidFill>
                  <a:srgbClr val="3e3d2d"/>
                </a:solidFill>
                <a:uFillTx/>
                <a:latin typeface="Century Gothic"/>
                <a:cs typeface="AL-Mohanad Bold"/>
              </a:rPr>
              <a:t>صور العلاقات الاجتماعي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وفي كافة مجالات النشاط البشري في المجتمع، الاجتماعية و الاقتصادية و السياسية و الثقافية و الإدارية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2" name="Picture 4" descr="20111214100048"/>
          <p:cNvPicPr/>
          <p:nvPr/>
        </p:nvPicPr>
        <p:blipFill>
          <a:blip r:embed="rId1"/>
          <a:stretch/>
        </p:blipFill>
        <p:spPr>
          <a:xfrm>
            <a:off x="468360" y="4941720"/>
            <a:ext cx="201600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تجاهات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ند العلماء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يتحدث العلماء عن التنمية في ثلاث اتجاهات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عدل نمو دخل الفرد من إجمالي النتاج القومي الإجمالي في دولة ما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تبط التنمية بعدد من التغيرات في بعض المجالات، مثل التعليم و محو الأمية و القوى العاملة و الصحة و التغذية وحجم السكان غير المزارعين ..الخ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52704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نمية هي المعدل العالي للمواليد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5" name="Picture 6" descr="117054"/>
          <p:cNvPicPr/>
          <p:nvPr/>
        </p:nvPicPr>
        <p:blipFill>
          <a:blip r:embed="rId1"/>
          <a:stretch/>
        </p:blipFill>
        <p:spPr>
          <a:xfrm>
            <a:off x="468360" y="4508640"/>
            <a:ext cx="266544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تاريخيا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م التركيز على الزاوية الاقتصادية في تعريف التنمية و تفسيرها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ثم تمت إدخال كافة العناصر الاجتماعية و الثقافية لتفسير التنم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848" name="Picture 4" descr="360475445"/>
          <p:cNvPicPr/>
          <p:nvPr/>
        </p:nvPicPr>
        <p:blipFill>
          <a:blip r:embed="rId1"/>
          <a:stretch/>
        </p:blipFill>
        <p:spPr>
          <a:xfrm>
            <a:off x="971640" y="3429000"/>
            <a:ext cx="33843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أسباب الاهتمام ب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GA Abasan Regular"/>
              </a:rPr>
              <a:t>التنمية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إن وسائل النقل و الإعلام جعلت الموقف واضحاً ، و أصبح بالإمكان المقارنة بين أساليب الحيا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غبة الدول المستقلة بعد الاستعمار في أن تكون بنفس قوة الدول المستعمرة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30852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8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قف الأمم المتحدة من مشكلة التخلف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LoLo</cp:lastModifiedBy>
  <dcterms:modified xsi:type="dcterms:W3CDTF">2012-02-20T08:58:58Z</dcterms:modified>
  <cp:revision>27</cp:revision>
  <dc:subject/>
  <dc:title>الإعلام و التنمية علم 304</dc:title>
</cp:coreProperties>
</file>