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5948-3CC7-4022-B4D5-F49E65BB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A1F-A9A7-4A29-A54B-9DD721B4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DECE1-89F7-4ECD-8377-3D0648AE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7BBB9-FC11-4BCD-B932-E646EA9D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50404-BAE1-4658-A426-70300E03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FF857-7B73-41D5-8433-E257CF06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D7C93-8F92-4A15-9B64-F1C2FBD9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3B78F-92E8-4BB3-B409-48E12707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BBEA3-3A4F-4584-96A5-6A7CEA9A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B184F-6B82-4BF6-9E1D-0171C954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74BE4-5FC1-42C2-A4C2-A6F8A0F3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13002-917D-400D-8A28-B464BA40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36DC-56F5-41E4-9E89-126136E0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64D90-CDB4-4CC2-9A40-E32C04BC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6791C-D65F-4962-B4FA-196C5357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EC370-C360-49ED-99E8-52551B55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0F626-0762-4B09-9545-DB4AEBF5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F83DC-798A-4E66-B32A-10244D4C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F83BA-4C1B-4F39-A6F4-89E012E1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9DEBC-0F98-4AD1-AE33-374CD9A9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B69D5-E272-442B-B33E-20E04179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C025F-DEFA-4744-9CAE-A505AC4D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171BE-93AA-41DE-BC92-8E961F86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B0F-9BFD-40D3-A5BC-0950E1B2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93047-3D89-4528-89C7-5C175423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961F8-3692-44FF-947B-4BB168E6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21D08-616C-4A2A-A4FA-163D8FA7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1C541-6EAC-4EF1-AE2F-D3353774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5F575-7C2C-4A2C-99C0-B8E914F5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AD856-3F84-4F64-A585-9E658B00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021CA-F4DD-4C43-8A22-35C80362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2385A-7C1D-40CD-9E11-98BA4310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EB6E4-18AD-4F66-9B89-F4B472C1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3D9F9-C583-4082-ACCE-B168813C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0B93-9FDB-4613-9280-3BC8DEB6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71CA7-AEE4-42A7-A9D2-712CCC71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6412D-5D83-4B9E-90C4-7C19FD4C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14E57-0C7C-4FE4-9351-B9F9A79E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530F2-C2E8-4A99-8884-DC39221B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06F85-5FC7-47F6-AC83-16D506D5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3BDA9-5C46-4518-A8C3-3D0B1946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CB456-61F6-497E-BF0A-FB726A98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12547-5AF8-40E3-A890-109A0155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4C536-3E88-4185-A540-50F4A54D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1218F-709C-4A9E-BF72-0BB9FDCA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60FF-7FD5-45DD-9434-CDF5CF56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16996-1E3D-4067-9115-FFBFAD23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E5714-5D71-4D8D-A267-9EB6B0AB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DA613-623D-4020-BE2F-F014AA94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7C6EB-6815-4BBD-BCE4-6CA2FD99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B0DC5-5A61-44BE-BC98-05B8F536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A7836-590F-4C31-B7B9-85302402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63084A-E299-4C6C-BE09-5931339F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B58AC-EAC5-4955-B775-369AA3A3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FA57CB-D290-43B5-A13B-524F762A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F938B-63F5-4D54-BF30-902D132A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B8C4-5E1B-43CD-8573-74B07C33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BE30A1-B93A-416D-95B0-2011FBBF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CD0320-AB26-4169-86A1-E0E7658B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B926A-2A4D-4414-8626-79E31106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5F9B03-DD8D-4232-9167-36D83D4C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B7AF9-5201-4415-906E-79AA36E7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7DDCAA-09E6-45E3-AF1D-E179D009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1AC3B-3805-440F-8CCB-DF929DE9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EE7C8-9738-44AC-AC68-79C9F210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D150F5-18E3-4B03-80DC-57355F19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E900EC-ACD9-4BAA-B0CF-2D3496F9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F719-0735-4583-A510-6A481523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476823-9B60-4140-81D3-8DC0238E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26BF8-C120-484F-B727-41392DD2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05886-0B43-46B3-B45F-870DC442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00FD19-A2B2-4506-8939-7049AD35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5A2423-AEC2-4029-BA3E-C04661D2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1AD3B7-C904-45D4-8A23-E4CC4A8E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ABF27B-397B-400B-9B68-BC657063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601F26-E866-4D17-B1A8-DD305654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3F64A4-EB38-4E00-BAE9-38C5466E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976452-BD5E-4189-B6B9-6F8000CC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FE16-2F4C-4471-8439-4B0526F2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754021-0815-48F6-A369-0698AFBF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8F12D4-ABA6-4988-A248-FE3EFA7D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50953-A5D9-42EE-9456-B5B836E6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810AFC-8512-4021-84B6-28D4010E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D9C8C4-7E91-433E-A63E-26EE8858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A3F3C9-D8F5-4DF1-9479-22889983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117921-059F-44B7-B627-18AB72EA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318AF6-3D64-4454-BA0F-A46FB40D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87D681-56D9-4F33-9F82-AA209B02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2B3CB3-F207-4783-B966-C4EA2800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A8E1-79AA-448D-8594-9FB46167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1BC821-1DF8-4442-8242-FDEF1C0D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AE0609-CFCD-4B8A-AC45-C3728D3A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AE5D3E-1A68-4AFE-926A-999586A1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51C6C8-E74D-45B6-B0AB-25C0FF8D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1A456E-BA7F-41F8-A3D4-D885C7DF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93B6CB-2377-4D92-85FD-3FD1D31D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A13118-E62D-467A-B46B-C98E862F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DEEB50-9833-4176-A160-836A1218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0038AF-8009-43A6-A004-C1F955B4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3DFA5C-CD21-4B8F-B12A-6633513D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4AD1-94BC-42D6-B650-DB0A17C9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BE8E7C-B046-4104-8066-04719B34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E45277-41A7-416B-8BF0-935204AB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095AC8-F819-435B-BC48-AB7A18A6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2E94-2602-4A47-B7D0-899CD393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A97F-BF08-4E61-B6B3-7571A1B6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E25F-F10C-4CF9-84A8-DCBF8472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D6DD-07FE-4689-9F2E-D5EC96BE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8106-92C8-415C-B0E1-357E25BC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FB5A-203A-47DF-A7DF-45E5CB89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4F6C0-CE8B-400F-A644-7D2A100A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1D973-D39B-4894-B6DB-C7C59B2D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348DC-122C-4681-8449-6D24AF34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14294-15DA-496A-9C5B-392111C9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F457F-EF80-41AC-8C86-44ABE1D5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C527-366F-4DBF-A307-4AEF1AA2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7FE1D-BD53-40A7-A303-3845D71D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281E7-D7B0-4DB6-8185-E42AFBE7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CD4F2-2EC6-4996-ABE3-AC425596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0D47D-DB3C-4E31-A84C-9F9BEA4B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764FC-B192-441C-9C94-0FD5FA89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F1150-FA8C-4BC9-AAB2-B4A208AC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CC52A-8790-49AF-80B8-088389B2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299FCB-4A86-463A-B5E9-95263625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DF9962-0AED-4FA6-BFDB-C47F9BA6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C382A3-774D-46AC-823A-9B7BA706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45B-D678-4C09-B861-560C38E6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9867F0-CDC6-4FE7-A1D1-4C0C60B9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79CC8B-7CC1-417B-9B35-9037BB53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4D404E-00A9-4B12-AD25-19F197FD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953A47-1CFA-4108-831C-19236DC5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C853C0-A332-4617-88A8-D45D329A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9B6CE0-FE15-4223-9ADE-8985C001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FFFD75-436A-4495-9480-4F22AA6E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7DE796-84CD-49C8-BD05-5B19BE9B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7C28B-C618-4E88-9073-84FE9735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B1078-D8FD-4E8F-8CD8-5E9DAE16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7AC-766A-4F3B-BD1F-B86C577E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40357-8F7D-477D-92D7-F3740537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CC097-3900-4A74-9851-08606B20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562AE-B571-4595-9A4D-F72924FD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40FF6-5297-4407-A83F-4B4EAA49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151BF-6F96-4167-8349-EFF67058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4C7B3-8747-44B6-BE8E-4D020BFE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63081-2885-4834-BC45-876D1EAA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9F62F-8B14-4547-9BE4-BD9E60D2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953E1-1218-4B75-96D0-A5FCF654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40735-30CE-4BE1-8D70-24227639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2D43-B809-4D13-A47E-C7E5C57F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1CA09-EAE8-49EF-9F8F-72387874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41FC0-91B8-4F39-8F51-730A1431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BCF2F-D7FE-4CBE-BA7F-C77902B3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1A4D7-C0F5-45D9-BEC4-FB031411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EE3CC-F685-432E-B371-9078B607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6430A-ECE7-4413-A62C-AC63AA3A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41068-B08E-4C65-9B8E-1367D13C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35257-95BB-4FC1-B87D-2D9E6F5E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43522-27F9-499E-BD24-34E16B9E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F5DAF-C268-40AC-9D5E-4102DC48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806-349B-4202-82EE-E35160CE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20737-C383-40BB-ABD1-3CDDB57E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EB4D7-BDB4-4C7F-AF02-BBF86312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F18CB-8175-448F-A0F9-057EBBF6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BB9B7-DC08-4E39-AF47-E0A74ABD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BF623-1941-46A7-8A95-1D1FA54F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FFFE7-B2A4-4AFE-8DFE-5B5D8734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358D3-EBBB-40F9-B6A0-930147AD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95CCF-D1C0-4278-8861-74EED981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38D85-2C17-47EB-B82E-FB9C5B10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0C14C-4042-4F4B-95C4-DF4E3BDB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8BD7-B88E-4216-81FD-3B9707DE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E0AE1-86B4-45C4-99A2-1F9F337E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6E043-C428-416F-93F3-F06BA557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B4A56-8F90-4C6B-B8F1-3C50F1A1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DDF23-C6D6-4292-B871-BDE7AA36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5E895-B479-454E-B5A5-4488FBB0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89914-B8A7-4EF3-AA77-600CF2D1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D4D7E-E50D-4191-9BD2-ABE67D72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80618-C8F5-4FB0-A045-1D9F5AC9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CF95B-DE48-4FA2-9BBB-A3599587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5BF79-1DD1-4AA2-94E8-FF51FCB5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2BD9-DA9D-4BC1-899C-67F8398A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FC942-EE51-4638-AC40-2A76715C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1CFF0-49CE-40AF-8E95-8568E635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84F8A-81CB-4B29-A1EA-2449BF27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FA8EC-2530-4A5E-A9BB-9DFD70C3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5857E-0110-4D36-9BEC-0791B7F1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65AE2-0266-44C4-94AE-A8E62366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F3F18-CF46-48D9-9337-7390897B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0C54C-651B-4772-B196-2C897AF9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B3D8D-17C4-4596-99E7-B02BFBB1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94476-B4E0-48F7-B5F8-368EE97A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5D27-2EB0-4B03-A01E-BC545CD49269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62D6-18A7-4DBF-AC6A-8FE09F32CD82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755B-4A60-4242-BF92-114E2E535C02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3953-CAEB-4559-AD07-1FEC1CE177C9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E3DA-0A2C-4487-8485-6A2E9BE07756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3457-432B-46F3-BD0A-6641D266466E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86DD-6A38-4F75-AECB-D4EE9896B396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44A5-76F5-458C-B960-506781FC5909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2DD3-AE31-4346-AA35-703EF702548B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25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26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27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8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9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0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31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2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3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4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35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6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7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38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9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0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41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C769-AB39-4B73-BE13-6EED181DFA3E}" type="slidenum">
              <a:rPr b="0" lang="ar-SA" sz="1200" spc="-1" strike="noStrike">
                <a:solidFill>
                  <a:srgbClr val="94c6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09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11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2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3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4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15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6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7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8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19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0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1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22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3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4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25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2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3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4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5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6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7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8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9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0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1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2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3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4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5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6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7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CCFF-4568-4CE1-9690-82FC4703C8B8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93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94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95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6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7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98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99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0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1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02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03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4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5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306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7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8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309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0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1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2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3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4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5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6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7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8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9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0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1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2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3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4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5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6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7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8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9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0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1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ADFD-2234-483D-A25B-87971E1EECB3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36CD-A12B-4423-BE37-A5E6218AE914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C77E-9069-4EAB-9209-E0D51A4706AC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23EC-3484-48BC-B1D3-80C5B0C1D62A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418E-E4F2-42F2-AFDD-5E21AC1A0B6A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71600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إعلام و التنمية</a:t>
            </a:r>
            <a:br>
              <a:rPr sz="3600"/>
            </a:b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لم 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304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716000" y="4436640"/>
            <a:ext cx="33102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24242"/>
                </a:solidFill>
                <a:latin typeface="Century Gothic"/>
                <a:cs typeface="AGA Abasan Regular"/>
              </a:rPr>
              <a:t>العنصر الثاني: التحضر والتنمية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عناها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كيف ظهرت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نواعها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3" name="Picture 4" descr="ي"/>
          <p:cNvPicPr/>
          <p:nvPr/>
        </p:nvPicPr>
        <p:blipFill>
          <a:blip r:embed="rId1"/>
          <a:stretch/>
        </p:blipFill>
        <p:spPr>
          <a:xfrm>
            <a:off x="1476360" y="2492280"/>
            <a:ext cx="338292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 /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نظريات الاقتصاد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دفعة القو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6" name="Picture 4" descr="ضص"/>
          <p:cNvPicPr/>
          <p:nvPr/>
        </p:nvPicPr>
        <p:blipFill>
          <a:blip r:embed="rId1"/>
          <a:stretch/>
        </p:blipFill>
        <p:spPr>
          <a:xfrm>
            <a:off x="1042920" y="2708280"/>
            <a:ext cx="453564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قارب النجا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9" name="Picture 4" descr="تن"/>
          <p:cNvPicPr/>
          <p:nvPr/>
        </p:nvPicPr>
        <p:blipFill>
          <a:blip r:embed="rId1"/>
          <a:stretch/>
        </p:blipFill>
        <p:spPr>
          <a:xfrm>
            <a:off x="1619280" y="2997360"/>
            <a:ext cx="385776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&gt;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مراحل الاقتصاد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2" name="Picture 4" descr="strate10"/>
          <p:cNvPicPr/>
          <p:nvPr/>
        </p:nvPicPr>
        <p:blipFill>
          <a:blip r:embed="rId1"/>
          <a:stretch/>
        </p:blipFill>
        <p:spPr>
          <a:xfrm>
            <a:off x="1547640" y="2997360"/>
            <a:ext cx="4034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/النظريات الاجتماع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ثنائية الاجتما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5" name="Picture 4" descr="ضضض"/>
          <p:cNvPicPr/>
          <p:nvPr/>
        </p:nvPicPr>
        <p:blipFill>
          <a:blip r:embed="rId1"/>
          <a:stretch/>
        </p:blipFill>
        <p:spPr>
          <a:xfrm>
            <a:off x="1547640" y="2924280"/>
            <a:ext cx="43196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دافع الإنجاز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8" name="Picture 4" descr="imagesئئ"/>
          <p:cNvPicPr/>
          <p:nvPr/>
        </p:nvPicPr>
        <p:blipFill>
          <a:blip r:embed="rId1"/>
          <a:stretch/>
        </p:blipFill>
        <p:spPr>
          <a:xfrm>
            <a:off x="2050920" y="2708280"/>
            <a:ext cx="28814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نظرية الإسلامية ل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 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تركتز على الإنسان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 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يزتها : الجمع بين الروح الأخلاقية/الدينية  و الأهداف المادية للإنسان 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+الشمول +الواق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1" name="Picture 5" descr="Trains-by-Aaron-Durand-1"/>
          <p:cNvPicPr/>
          <p:nvPr/>
        </p:nvPicPr>
        <p:blipFill>
          <a:blip r:embed="rId1"/>
          <a:stretch/>
        </p:blipFill>
        <p:spPr>
          <a:xfrm>
            <a:off x="1258920" y="4221000"/>
            <a:ext cx="27241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-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عناصر المؤدية للتنمية في النظرية الإسلامية/كيف ستبدأ التنمية الإسلامية؟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الاستفادة من التقدم العلمي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مل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حسين مستوى الأفراد صحياً واجتماعيا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كوين رأس المال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4" name="Picture 4" descr="content-writting-small"/>
          <p:cNvPicPr/>
          <p:nvPr/>
        </p:nvPicPr>
        <p:blipFill>
          <a:blip r:embed="rId1"/>
          <a:stretch/>
        </p:blipFill>
        <p:spPr>
          <a:xfrm>
            <a:off x="611280" y="4221000"/>
            <a:ext cx="27367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أبعاد التنمية الإسلامية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. البعد الفلسفي ويرتكز على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كرة الاستخلاف /العم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كرة المال  (الزكاة، الربا 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-</a:t>
            </a: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فكرة النظام الإجتماعي المتوازن</a:t>
            </a: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عدالة+التكافل، التكامل+المسؤول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.البعد التشريعي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زكا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ربا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7" name="Picture 4" descr="plant_in_hand"/>
          <p:cNvPicPr/>
          <p:nvPr/>
        </p:nvPicPr>
        <p:blipFill>
          <a:blip r:embed="rId1"/>
          <a:stretch/>
        </p:blipFill>
        <p:spPr>
          <a:xfrm>
            <a:off x="900000" y="2205000"/>
            <a:ext cx="38102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Arabic Typesetting"/>
                <a:cs typeface="Arabic Typesetting"/>
              </a:rPr>
              <a:t>التنمية الشامل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3e3d2d"/>
                </a:solidFill>
                <a:latin typeface="Arabic Typesetting"/>
                <a:cs typeface="Arabic Typesetting"/>
              </a:rPr>
              <a:t>تطور المفهوم تاريخياً</a:t>
            </a:r>
            <a:endParaRPr b="0" lang="en-US" sz="5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اهيم متصلة ب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حض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حديث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صر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غريب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صني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غيي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1" name="Picture 5" descr="imagesس"/>
          <p:cNvPicPr/>
          <p:nvPr/>
        </p:nvPicPr>
        <p:blipFill>
          <a:blip r:embed="rId1"/>
          <a:stretch/>
        </p:blipFill>
        <p:spPr>
          <a:xfrm>
            <a:off x="1692360" y="2349360"/>
            <a:ext cx="31687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Group 111"/>
          <p:cNvGrpSpPr/>
          <p:nvPr/>
        </p:nvGrpSpPr>
        <p:grpSpPr>
          <a:xfrm>
            <a:off x="1684440" y="555480"/>
            <a:ext cx="5759280" cy="5761080"/>
            <a:chOff x="1684440" y="555480"/>
            <a:chExt cx="5759280" cy="5761080"/>
          </a:xfrm>
        </p:grpSpPr>
        <p:grpSp>
          <p:nvGrpSpPr>
            <p:cNvPr id="881" name="Group 37"/>
            <p:cNvGrpSpPr/>
            <p:nvPr/>
          </p:nvGrpSpPr>
          <p:grpSpPr>
            <a:xfrm>
              <a:off x="1684440" y="555480"/>
              <a:ext cx="5759280" cy="5761080"/>
              <a:chOff x="1684440" y="555480"/>
              <a:chExt cx="5759280" cy="5761080"/>
            </a:xfrm>
          </p:grpSpPr>
          <p:sp>
            <p:nvSpPr>
              <p:cNvPr id="882" name="Oval 7"/>
              <p:cNvSpPr/>
              <p:nvPr/>
            </p:nvSpPr>
            <p:spPr>
              <a:xfrm>
                <a:off x="2404080" y="1275480"/>
                <a:ext cx="4319640" cy="432072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3" name="Oval 8"/>
              <p:cNvSpPr/>
              <p:nvPr/>
            </p:nvSpPr>
            <p:spPr>
              <a:xfrm>
                <a:off x="1684440" y="555480"/>
                <a:ext cx="5759280" cy="576108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4" name="Oval 3"/>
              <p:cNvSpPr/>
              <p:nvPr/>
            </p:nvSpPr>
            <p:spPr>
              <a:xfrm>
                <a:off x="3153600" y="1995840"/>
                <a:ext cx="2850480" cy="288036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5" name="TextBox 19"/>
              <p:cNvSpPr/>
              <p:nvPr/>
            </p:nvSpPr>
            <p:spPr>
              <a:xfrm>
                <a:off x="3988080" y="26654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بيئي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6" name="Oval 4"/>
              <p:cNvSpPr/>
              <p:nvPr/>
            </p:nvSpPr>
            <p:spPr>
              <a:xfrm>
                <a:off x="3728160" y="2599920"/>
                <a:ext cx="1655640" cy="165636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grpSp>
            <p:nvGrpSpPr>
              <p:cNvPr id="887" name="Group 10"/>
              <p:cNvGrpSpPr/>
              <p:nvPr/>
            </p:nvGrpSpPr>
            <p:grpSpPr>
              <a:xfrm>
                <a:off x="4204080" y="3090600"/>
                <a:ext cx="719640" cy="724680"/>
                <a:chOff x="4204080" y="3090600"/>
                <a:chExt cx="719640" cy="724680"/>
              </a:xfrm>
            </p:grpSpPr>
            <p:sp>
              <p:nvSpPr>
                <p:cNvPr id="888" name="Oval 6"/>
                <p:cNvSpPr/>
                <p:nvPr/>
              </p:nvSpPr>
              <p:spPr>
                <a:xfrm>
                  <a:off x="4204080" y="3090600"/>
                  <a:ext cx="719640" cy="673200"/>
                </a:xfrm>
                <a:prstGeom prst="ellipse">
                  <a:avLst/>
                </a:prstGeom>
                <a:noFill/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9" name="TextBox 9"/>
                <p:cNvSpPr/>
                <p:nvPr/>
              </p:nvSpPr>
              <p:spPr>
                <a:xfrm>
                  <a:off x="4275720" y="3234600"/>
                  <a:ext cx="5756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000000"/>
                      </a:solidFill>
                      <a:latin typeface="Calibri"/>
                      <a:cs typeface="Arial"/>
                    </a:rPr>
                    <a:t>التنمية</a:t>
                  </a:r>
                  <a:endParaRPr b="0" lang="en-US" sz="1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890" name="Straight Connector 12"/>
              <p:cNvSpPr/>
              <p:nvPr/>
            </p:nvSpPr>
            <p:spPr>
              <a:xfrm>
                <a:off x="3970800" y="2842560"/>
                <a:ext cx="338760" cy="3466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1" name="Straight Connector 13"/>
              <p:cNvSpPr/>
              <p:nvPr/>
            </p:nvSpPr>
            <p:spPr>
              <a:xfrm flipH="1">
                <a:off x="4779720" y="2787840"/>
                <a:ext cx="322920" cy="3466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2" name="TextBox 20"/>
              <p:cNvSpPr/>
              <p:nvPr/>
            </p:nvSpPr>
            <p:spPr>
              <a:xfrm rot="16200000">
                <a:off x="5458320" y="32018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ادية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3" name="TextBox 21"/>
              <p:cNvSpPr/>
              <p:nvPr/>
            </p:nvSpPr>
            <p:spPr>
              <a:xfrm>
                <a:off x="4242240" y="4372200"/>
                <a:ext cx="638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مدينة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4" name="TextBox 22"/>
              <p:cNvSpPr/>
              <p:nvPr/>
            </p:nvSpPr>
            <p:spPr>
              <a:xfrm rot="5400000">
                <a:off x="3011040" y="30632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ريف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5" name="Straight Connector 24"/>
              <p:cNvSpPr/>
              <p:nvPr/>
            </p:nvSpPr>
            <p:spPr>
              <a:xfrm flipH="1">
                <a:off x="5067720" y="2374560"/>
                <a:ext cx="453960" cy="4248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6" name="Straight Connector 27"/>
              <p:cNvSpPr/>
              <p:nvPr/>
            </p:nvSpPr>
            <p:spPr>
              <a:xfrm>
                <a:off x="3633480" y="2361600"/>
                <a:ext cx="399600" cy="43776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7" name="TextBox 29"/>
              <p:cNvSpPr/>
              <p:nvPr/>
            </p:nvSpPr>
            <p:spPr>
              <a:xfrm>
                <a:off x="4060080" y="19958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حضري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8" name="TextBox 30"/>
              <p:cNvSpPr/>
              <p:nvPr/>
            </p:nvSpPr>
            <p:spPr>
              <a:xfrm rot="14784600">
                <a:off x="4892760" y="2865600"/>
                <a:ext cx="789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ظروف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9" name="TextBox 31"/>
              <p:cNvSpPr/>
              <p:nvPr/>
            </p:nvSpPr>
            <p:spPr>
              <a:xfrm rot="16925400">
                <a:off x="4777560" y="3517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سياس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0" name="TextBox 32"/>
              <p:cNvSpPr/>
              <p:nvPr/>
            </p:nvSpPr>
            <p:spPr>
              <a:xfrm rot="1444800">
                <a:off x="3719880" y="3840480"/>
                <a:ext cx="99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حضار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1" name="TextBox 33"/>
              <p:cNvSpPr/>
              <p:nvPr/>
            </p:nvSpPr>
            <p:spPr>
              <a:xfrm rot="19668600">
                <a:off x="4323240" y="3900240"/>
                <a:ext cx="1020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اقتصاد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2" name="TextBox 34"/>
              <p:cNvSpPr/>
              <p:nvPr/>
            </p:nvSpPr>
            <p:spPr>
              <a:xfrm rot="3928800">
                <a:off x="3427920" y="33393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داخليا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3" name="TextBox 35"/>
              <p:cNvSpPr/>
              <p:nvPr/>
            </p:nvSpPr>
            <p:spPr>
              <a:xfrm rot="6194400">
                <a:off x="3528720" y="2950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خارجيا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904" name="Straight Connector 38"/>
            <p:cNvSpPr/>
            <p:nvPr/>
          </p:nvSpPr>
          <p:spPr>
            <a:xfrm flipH="1">
              <a:off x="5463000" y="1789200"/>
              <a:ext cx="468720" cy="50832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Straight Connector 41"/>
            <p:cNvSpPr/>
            <p:nvPr/>
          </p:nvSpPr>
          <p:spPr>
            <a:xfrm flipH="1">
              <a:off x="5769000" y="2288160"/>
              <a:ext cx="594360" cy="3790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Straight Connector 43"/>
            <p:cNvSpPr/>
            <p:nvPr/>
          </p:nvSpPr>
          <p:spPr>
            <a:xfrm flipH="1">
              <a:off x="5961960" y="2961360"/>
              <a:ext cx="689760" cy="1292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Straight Connector 45"/>
            <p:cNvSpPr/>
            <p:nvPr/>
          </p:nvSpPr>
          <p:spPr>
            <a:xfrm flipH="1" flipV="1">
              <a:off x="5931720" y="3994560"/>
              <a:ext cx="603000" cy="3772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Straight Connector 48"/>
            <p:cNvSpPr/>
            <p:nvPr/>
          </p:nvSpPr>
          <p:spPr>
            <a:xfrm>
              <a:off x="4564080" y="1275480"/>
              <a:ext cx="0" cy="720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Straight Connector 50"/>
            <p:cNvSpPr/>
            <p:nvPr/>
          </p:nvSpPr>
          <p:spPr>
            <a:xfrm>
              <a:off x="3178080" y="1789200"/>
              <a:ext cx="486360" cy="5720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Straight Connector 52"/>
            <p:cNvSpPr/>
            <p:nvPr/>
          </p:nvSpPr>
          <p:spPr>
            <a:xfrm>
              <a:off x="2476080" y="2961360"/>
              <a:ext cx="701640" cy="1292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1" name="Straight Connector 54"/>
            <p:cNvSpPr/>
            <p:nvPr/>
          </p:nvSpPr>
          <p:spPr>
            <a:xfrm flipV="1">
              <a:off x="2692080" y="4054320"/>
              <a:ext cx="602640" cy="414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2" name="Straight Connector 56"/>
            <p:cNvSpPr/>
            <p:nvPr/>
          </p:nvSpPr>
          <p:spPr>
            <a:xfrm flipV="1">
              <a:off x="3188160" y="4541400"/>
              <a:ext cx="476280" cy="550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Straight Connector 59"/>
            <p:cNvSpPr/>
            <p:nvPr/>
          </p:nvSpPr>
          <p:spPr>
            <a:xfrm flipV="1">
              <a:off x="3864960" y="4817160"/>
              <a:ext cx="274680" cy="6638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Straight Connector 62"/>
            <p:cNvSpPr/>
            <p:nvPr/>
          </p:nvSpPr>
          <p:spPr>
            <a:xfrm flipV="1">
              <a:off x="4706280" y="4876200"/>
              <a:ext cx="0" cy="720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Straight Connector 65"/>
            <p:cNvSpPr/>
            <p:nvPr/>
          </p:nvSpPr>
          <p:spPr>
            <a:xfrm flipH="1" flipV="1">
              <a:off x="5043600" y="4791600"/>
              <a:ext cx="444240" cy="6008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Straight Connector 67"/>
            <p:cNvSpPr/>
            <p:nvPr/>
          </p:nvSpPr>
          <p:spPr>
            <a:xfrm flipH="1" flipV="1">
              <a:off x="5488560" y="4541400"/>
              <a:ext cx="573480" cy="4593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TextBox 70"/>
            <p:cNvSpPr/>
            <p:nvPr/>
          </p:nvSpPr>
          <p:spPr>
            <a:xfrm rot="1146600">
              <a:off x="4330800" y="148860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قطاعات التنمي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TextBox 73"/>
            <p:cNvSpPr/>
            <p:nvPr/>
          </p:nvSpPr>
          <p:spPr>
            <a:xfrm rot="20103000">
              <a:off x="3176640" y="152892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وطني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TextBox 74"/>
            <p:cNvSpPr/>
            <p:nvPr/>
          </p:nvSpPr>
          <p:spPr>
            <a:xfrm rot="17998200">
              <a:off x="2251080" y="2312640"/>
              <a:ext cx="140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محلي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TextBox 79"/>
            <p:cNvSpPr/>
            <p:nvPr/>
          </p:nvSpPr>
          <p:spPr>
            <a:xfrm rot="15878400">
              <a:off x="2250360" y="3320280"/>
              <a:ext cx="14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رجال المعارضة السياسي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TextBox 82"/>
            <p:cNvSpPr/>
            <p:nvPr/>
          </p:nvSpPr>
          <p:spPr>
            <a:xfrm rot="2886600">
              <a:off x="2420280" y="440784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سياس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TextBox 86"/>
            <p:cNvSpPr/>
            <p:nvPr/>
          </p:nvSpPr>
          <p:spPr>
            <a:xfrm rot="1873200">
              <a:off x="3007440" y="4889880"/>
              <a:ext cx="97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وظف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TextBox 87"/>
            <p:cNvSpPr/>
            <p:nvPr/>
          </p:nvSpPr>
          <p:spPr>
            <a:xfrm rot="435000">
              <a:off x="3718080" y="51714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حرف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4" name="TextBox 88"/>
            <p:cNvSpPr/>
            <p:nvPr/>
          </p:nvSpPr>
          <p:spPr>
            <a:xfrm rot="21014400">
              <a:off x="4433400" y="52182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فن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5" name="TextBox 89"/>
            <p:cNvSpPr/>
            <p:nvPr/>
          </p:nvSpPr>
          <p:spPr>
            <a:xfrm rot="19233000">
              <a:off x="5106240" y="498744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هن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6" name="TextBox 90"/>
            <p:cNvSpPr/>
            <p:nvPr/>
          </p:nvSpPr>
          <p:spPr>
            <a:xfrm rot="18160200">
              <a:off x="5733000" y="438840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زارع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7" name="TextBox 91"/>
            <p:cNvSpPr/>
            <p:nvPr/>
          </p:nvSpPr>
          <p:spPr>
            <a:xfrm rot="17163600">
              <a:off x="5937120" y="40417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عمال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8" name="TextBox 92"/>
            <p:cNvSpPr/>
            <p:nvPr/>
          </p:nvSpPr>
          <p:spPr>
            <a:xfrm rot="15943200">
              <a:off x="6007320" y="298548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أطفال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9" name="TextBox 93"/>
            <p:cNvSpPr/>
            <p:nvPr/>
          </p:nvSpPr>
          <p:spPr>
            <a:xfrm rot="13931400">
              <a:off x="5661000" y="209880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رأ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0" name="Straight Connector 107"/>
            <p:cNvSpPr/>
            <p:nvPr/>
          </p:nvSpPr>
          <p:spPr>
            <a:xfrm flipH="1" flipV="1">
              <a:off x="6000480" y="3553200"/>
              <a:ext cx="698760" cy="1432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1" name="TextBox 109"/>
            <p:cNvSpPr/>
            <p:nvPr/>
          </p:nvSpPr>
          <p:spPr>
            <a:xfrm rot="14863200">
              <a:off x="5967720" y="26809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شباب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32" name="TextBox 112"/>
          <p:cNvSpPr/>
          <p:nvPr/>
        </p:nvSpPr>
        <p:spPr>
          <a:xfrm>
            <a:off x="3900600" y="692280"/>
            <a:ext cx="133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بعد التنمو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3" name="TextBox 113"/>
          <p:cNvSpPr/>
          <p:nvPr/>
        </p:nvSpPr>
        <p:spPr>
          <a:xfrm rot="1697400">
            <a:off x="4867200" y="75528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يئ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4" name="TextBox 114"/>
          <p:cNvSpPr/>
          <p:nvPr/>
        </p:nvSpPr>
        <p:spPr>
          <a:xfrm rot="2315400">
            <a:off x="5426280" y="11559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ثقاف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5" name="TextBox 115"/>
          <p:cNvSpPr/>
          <p:nvPr/>
        </p:nvSpPr>
        <p:spPr>
          <a:xfrm rot="3280200">
            <a:off x="1696320" y="458388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جتماع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6" name="TextBox 116"/>
          <p:cNvSpPr/>
          <p:nvPr/>
        </p:nvSpPr>
        <p:spPr>
          <a:xfrm rot="16026600">
            <a:off x="1328040" y="32907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قتصاد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7" name="TextBox 117"/>
          <p:cNvSpPr/>
          <p:nvPr/>
        </p:nvSpPr>
        <p:spPr>
          <a:xfrm rot="16964400">
            <a:off x="6454800" y="376020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سياس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8" name="TextBox 118"/>
          <p:cNvSpPr/>
          <p:nvPr/>
        </p:nvSpPr>
        <p:spPr>
          <a:xfrm rot="17834400">
            <a:off x="1691640" y="199188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ذات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9" name="TextBox 119"/>
          <p:cNvSpPr/>
          <p:nvPr/>
        </p:nvSpPr>
        <p:spPr>
          <a:xfrm rot="19416600">
            <a:off x="2530080" y="1084680"/>
            <a:ext cx="133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مية روح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0" name="TextBox 120"/>
          <p:cNvSpPr/>
          <p:nvPr/>
        </p:nvSpPr>
        <p:spPr>
          <a:xfrm>
            <a:off x="3986280" y="57783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شريع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1" name="TextBox 121"/>
          <p:cNvSpPr/>
          <p:nvPr/>
        </p:nvSpPr>
        <p:spPr>
          <a:xfrm rot="3735000">
            <a:off x="6165720" y="19191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كنولوج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2" name="TextBox 122"/>
          <p:cNvSpPr/>
          <p:nvPr/>
        </p:nvSpPr>
        <p:spPr>
          <a:xfrm rot="18352200">
            <a:off x="6025680" y="466884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فس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3" name="TextBox 124"/>
          <p:cNvSpPr/>
          <p:nvPr/>
        </p:nvSpPr>
        <p:spPr>
          <a:xfrm rot="5400000">
            <a:off x="6464880" y="297072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علم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TextBox 125"/>
          <p:cNvSpPr/>
          <p:nvPr/>
        </p:nvSpPr>
        <p:spPr>
          <a:xfrm rot="19645200">
            <a:off x="5271840" y="54324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دار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5" name="TextBox 126"/>
          <p:cNvSpPr/>
          <p:nvPr/>
        </p:nvSpPr>
        <p:spPr>
          <a:xfrm rot="1888200">
            <a:off x="2519280" y="53928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شر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6" name="Straight Connector 130"/>
          <p:cNvSpPr/>
          <p:nvPr/>
        </p:nvSpPr>
        <p:spPr>
          <a:xfrm>
            <a:off x="3700440" y="692280"/>
            <a:ext cx="264960" cy="66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7" name="Straight Connector 131"/>
          <p:cNvSpPr/>
          <p:nvPr/>
        </p:nvSpPr>
        <p:spPr>
          <a:xfrm>
            <a:off x="2349360" y="1636560"/>
            <a:ext cx="561960" cy="41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8" name="Straight Connector 132"/>
          <p:cNvSpPr/>
          <p:nvPr/>
        </p:nvSpPr>
        <p:spPr>
          <a:xfrm flipH="1">
            <a:off x="5109840" y="692280"/>
            <a:ext cx="212760" cy="66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9" name="Straight Connector 133"/>
          <p:cNvSpPr/>
          <p:nvPr/>
        </p:nvSpPr>
        <p:spPr>
          <a:xfrm flipH="1">
            <a:off x="5592600" y="930240"/>
            <a:ext cx="339840" cy="627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0" name="Straight Connector 144"/>
          <p:cNvSpPr/>
          <p:nvPr/>
        </p:nvSpPr>
        <p:spPr>
          <a:xfrm flipH="1" flipV="1">
            <a:off x="6724440" y="3544560"/>
            <a:ext cx="718920" cy="28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1" name="Straight Connector 145"/>
          <p:cNvSpPr/>
          <p:nvPr/>
        </p:nvSpPr>
        <p:spPr>
          <a:xfrm flipH="1">
            <a:off x="6611400" y="2732040"/>
            <a:ext cx="7210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2" name="Straight Connector 146"/>
          <p:cNvSpPr/>
          <p:nvPr/>
        </p:nvSpPr>
        <p:spPr>
          <a:xfrm flipH="1">
            <a:off x="6111360" y="1400040"/>
            <a:ext cx="489240" cy="516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3" name="Straight Connector 147"/>
          <p:cNvSpPr/>
          <p:nvPr/>
        </p:nvSpPr>
        <p:spPr>
          <a:xfrm flipH="1" flipV="1">
            <a:off x="1763640" y="2835000"/>
            <a:ext cx="712800" cy="127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4" name="Straight Connector 148"/>
          <p:cNvSpPr/>
          <p:nvPr/>
        </p:nvSpPr>
        <p:spPr>
          <a:xfrm flipH="1">
            <a:off x="1816200" y="4113360"/>
            <a:ext cx="696960" cy="1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5" name="Straight Connector 149"/>
          <p:cNvSpPr/>
          <p:nvPr/>
        </p:nvSpPr>
        <p:spPr>
          <a:xfrm flipH="1">
            <a:off x="2558880" y="4964040"/>
            <a:ext cx="478080" cy="530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6" name="Straight Connector 158"/>
          <p:cNvSpPr/>
          <p:nvPr/>
        </p:nvSpPr>
        <p:spPr>
          <a:xfrm flipH="1" flipV="1">
            <a:off x="6587640" y="4257360"/>
            <a:ext cx="660600" cy="284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7" name="Straight Connector 159"/>
          <p:cNvSpPr/>
          <p:nvPr/>
        </p:nvSpPr>
        <p:spPr>
          <a:xfrm>
            <a:off x="6091200" y="4964040"/>
            <a:ext cx="509760" cy="5097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8" name="Straight Connector 160"/>
          <p:cNvSpPr/>
          <p:nvPr/>
        </p:nvSpPr>
        <p:spPr>
          <a:xfrm>
            <a:off x="5218200" y="5465880"/>
            <a:ext cx="244440" cy="712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9" name="Straight Connector 161"/>
          <p:cNvSpPr/>
          <p:nvPr/>
        </p:nvSpPr>
        <p:spPr>
          <a:xfrm flipH="1">
            <a:off x="3638520" y="5494320"/>
            <a:ext cx="262080" cy="654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تنمية الشامل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تضمن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محاور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ولاً:البعد البيئ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ظروف السياسية و الاقتصادية و الحضارية داخلياً و خارجيا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انياً:البعد الحضر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ا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دين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ري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69217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الثاً:قطاعات التنمية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رأ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شباب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أطفا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ما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زارع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هن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فن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حرف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ظف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ياس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جال المعارضة السيا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جمهور العام الوطني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ابعاً:البعد التنموي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يئ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قاف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كنولوج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لم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يا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ف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دار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شريع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شر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جتماع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قتصاد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ذاتية تنمية روح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”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GA Abasan Regular"/>
              </a:rPr>
              <a:t> ”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GA Abasan Regular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غ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ن النمو ، أي ارتفاع الشيء من موضعه إلى موضع آخر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4" name="Picture 4" descr="www-St-Takla-org___Plants-Growth-01"/>
          <p:cNvPicPr/>
          <p:nvPr/>
        </p:nvPicPr>
        <p:blipFill>
          <a:blip r:embed="rId1"/>
          <a:stretch/>
        </p:blipFill>
        <p:spPr>
          <a:xfrm>
            <a:off x="3059280" y="3500280"/>
            <a:ext cx="33400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فريق بين التنمية و النمو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نمو : الزيادة الثابتة و المستمرة التي تحدث في جانب معين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نمية: تحقيق زيادة سريعة تراكمية ودائمة عبر فترة من الزمن في الإنتاج و الخدمات، نتيجة استخدام الجهود العلمية لتنظيم الأنشطة المشتركة الحكومية و الشعب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تعريف 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94920" y="2323800"/>
            <a:ext cx="792180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زيادة محسوس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في الإنتاج والخدمات، شاملة ومتكاملة و مرتبطة بحركة المجتمع، تأثراً وتأثيراً ، مستخدمة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الأساليب العلمية الحديث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في التكنولوجيا و التنظيم و الإدار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حصلة الجهود العلمية المستخدمة لتنظيم الأنشطة المشتركة الحكومية والشعبية في مختلف المستويات ،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لتعبئة الموارد الموجود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أو التي يمكن إيجادها لمواجهة الحاجات الضرورية،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وفقاً لخطة مرسوم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،وفي ضوء السياسة العامة للمجتمع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9" name="Picture 5" descr="نمو-اقتصادي1"/>
          <p:cNvPicPr/>
          <p:nvPr/>
        </p:nvPicPr>
        <p:blipFill>
          <a:blip r:embed="rId1"/>
          <a:stretch/>
        </p:blipFill>
        <p:spPr>
          <a:xfrm>
            <a:off x="755640" y="476280"/>
            <a:ext cx="27828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39640" y="333360"/>
            <a:ext cx="763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ملية تغيير مقصود نحو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النظام الاجتماعي و الاقتصادي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الذي تحتاجه الدول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هي العملية المرسومة لتقدم المجتمع كله اجتماعياً واقتصادياً و المعتمدة بأكبر قدر ممكن على مبادرة المجتمع المحلي و اشتراكه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قل المجتمعات من حالة أو مستوى إلى حالة أو مستوى أفضل، و من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نمط تقليدي إلى نمط متقدم ماً ونوعاً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، وتعد حلاً لا بديل عنه في مواجهة المتطلبات الوطنية في ميدان الإنتاج و الخدمات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غيير أساسي في كل أنماط الحياة السائدة،و يتبع هذا تغيير نوعي و كمي في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صور العلاقات الاجتماعي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وفي كافة مجالات النشاط البشري في المجتمع، الاجتماعية و الاقتصادية و السياسية و الثقافية و الإداري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2" name="Picture 4" descr="20111214100048"/>
          <p:cNvPicPr/>
          <p:nvPr/>
        </p:nvPicPr>
        <p:blipFill>
          <a:blip r:embed="rId1"/>
          <a:stretch/>
        </p:blipFill>
        <p:spPr>
          <a:xfrm>
            <a:off x="468360" y="4941720"/>
            <a:ext cx="201600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تجاه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ند العلماء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يتحدث العلماء عن التنمية في ثلاث اتجاهات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عدل نمو دخل الفرد من إجمالي النتاج القومي الإجمالي في دولة ما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رتبط التنمية بعدد من التغيرات في بعض المجالات، مثل التعليم و محو الأمية و القوى العاملة و الصحة و التغذية وحجم السكان غير المزارعين ..الخ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نمية هي المعدل العالي للمواليد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5" name="Picture 6" descr="117054"/>
          <p:cNvPicPr/>
          <p:nvPr/>
        </p:nvPicPr>
        <p:blipFill>
          <a:blip r:embed="rId1"/>
          <a:stretch/>
        </p:blipFill>
        <p:spPr>
          <a:xfrm>
            <a:off x="468360" y="4508640"/>
            <a:ext cx="266544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تاريخيا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م التركيز على الزاوية الاقتصادية في تعريف التنمية و تفسيرها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م تمت إدخال كافة العناصر الاجتماعية و الثقافية لتفسير التنم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8" name="Picture 4" descr="360475445"/>
          <p:cNvPicPr/>
          <p:nvPr/>
        </p:nvPicPr>
        <p:blipFill>
          <a:blip r:embed="rId1"/>
          <a:stretch/>
        </p:blipFill>
        <p:spPr>
          <a:xfrm>
            <a:off x="971640" y="3429000"/>
            <a:ext cx="3384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أسباب الاهتمام ب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ن وسائل النقل و الإعلام جعلت الموقف واضحاً ، و أصبح بالإمكان المقارنة بين أساليب الحيا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غبة الدول المستقلة بعد الاستعمار في أن تكون بنفس قوة الدول المستعمر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قف الأمم المتحدة من مشكلة التخلف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6:40:27Z</dcterms:created>
  <dc:creator>dell</dc:creator>
  <dc:description/>
  <dc:language>en-US</dc:language>
  <cp:lastModifiedBy>LoLo</cp:lastModifiedBy>
  <dcterms:modified xsi:type="dcterms:W3CDTF">2012-02-20T08:58:58Z</dcterms:modified>
  <cp:revision>27</cp:revision>
  <dc:subject/>
  <dc:title>الإعلام و التنمية علم 304</dc:title>
</cp:coreProperties>
</file>