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ED2-0B7E-4A5C-81B4-176E616F9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131E-1B80-40E8-B85B-0304DBC1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81977-911B-4827-A013-C0A0195D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D1C42-65FE-4724-8A13-70108700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22BBD-2797-402C-B635-BE718B24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3F58E-D323-4B44-83D4-38F17FD6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B5DD6-7790-4FFE-A0B4-577A92FB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992A3B-3397-4B00-A724-1E21C96C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782415-C407-4D1F-B0DE-C077C28C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D8AC6-8BD0-4661-AA3C-E40E8096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4FDC4-D70F-44E1-952C-2D0E4002F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9D9394-8580-4813-8226-F8E4B2A8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10D-7738-4B1D-9734-8252DB6F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6524C-69B8-4719-95F6-8DD6CCAF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37FDB6-B50C-4000-94AF-071AB9F4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F9A29-0A3B-4B1D-A0B1-27C0BB57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C9364-6482-4529-AC27-CFFDEE5F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78CB11-7E1B-4E2D-8A4C-E5871082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34759-A86C-45D6-8221-D7600D74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43072-4AFE-4364-918B-2DE8FF34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4205A-AF73-4400-BFDC-18C69FE7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4D6305-334C-4436-8409-2446A5BC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76F11-0AB6-41EB-BF9D-9351F9500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E4E9-44D2-420C-A916-DDC71905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A071B1-D7F3-4FEA-9679-810E25034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4BC71B-724D-46A3-A507-88FAB8080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36369-BB2F-4BDD-9E88-8499807D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0B6FD2-6B24-4FD1-AE1E-852C6DF6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B3D29-989B-4E79-A159-A248B69D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F1229-8FC6-4701-9FCC-1370D6C0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377D5-D50B-49DD-83B0-C569A5D9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74DD5D-45CB-43CD-9CBB-77B20CF2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893EA-CA70-42E3-8E3B-CB2B899E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BF3614-30D4-4A3B-BE18-AB464799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A886-AF60-4471-94D9-AC42B9524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04806-1137-460B-B59F-4C02AAC3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8F2CD5-6607-4896-B840-BB7023C8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BB869-30A6-4174-A634-F52BC2AB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9C6E7-7522-4D7F-8F02-16AA76549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55D511-029B-4A01-9D7D-450DC892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07D34A-3431-4119-805D-1E1D4D91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08DAE-A78A-4592-A78A-49B0C16A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C775AE-7FF7-410E-A2B5-00C9FA7F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56198-736F-44A1-B04C-31941A6E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A53F2-71DB-463C-8D6B-1D197075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737F-1212-4907-AE12-21252418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D1C555-68CD-440B-BC70-33BB54F6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BEFB95-47AF-47BD-A660-4DFBE093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42339-FE3C-4F3B-9A8C-1DDEF6A7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C57F6-9930-4519-831E-D2DF2013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76226-B7B1-4955-A782-39D0A620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13F27-92B8-4173-8705-FC05FB7AD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B77A7-4001-43B9-93A2-931F7983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9BCC57-47E9-41DC-AE72-B78AD7F3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8E6AB-F403-4E55-B5C1-474C44DD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E1DC08-E5A6-48CD-AFAC-5475C654E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2CBA-AF82-44FE-9C7E-FB1B51A9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CE4F35-F020-4120-804C-88232280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72E65-03FC-4577-9F02-5C252A03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37DCF-9126-4D20-A1DB-9F6AFE10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3C259B-79C0-411C-ACC6-ACCFA87E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95F3EC-C2FC-4C09-BD23-5BA63E084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C0D16-6F6C-4B27-85EE-D90CEA62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37EE07-AE8B-4971-82A9-6DD20186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5CDFED-9346-4049-B5C5-8BB2EF0F3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E62E4-FD58-47F2-B412-2FBDE04D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6A5694-BA26-41D7-AB2E-B23586A1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6D32C-8EF4-4C13-8F03-4FBDC930C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D8EF7B-758C-4CEE-8A49-33E966C68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EE8F4D-EA89-4041-900C-85B92211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B6FA1C-2382-4E1C-993A-4AA542C1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BC8032-CF5A-444B-8D68-FB8892AA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965CF-6EC7-44EB-896C-F5EED005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A27EF9-08B5-4140-BB46-BDB2D767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A5BBC4-6BF0-4316-A723-D1F6955A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650BA8-C1F7-4701-97EE-42A7A2F42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F630B4-82F4-4A45-947A-9A138C3A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65FD60-8BA6-44CB-AC8D-B4E2BE4D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302F-65EA-434F-88BB-6C36DBFA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9D2EB-9C00-4E97-9EDC-45370299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AB2FA-060D-4A7F-8773-7E3101CE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AE234E-84D7-48C3-9BDB-908FC442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3041D9-C4BD-4485-BED1-DF10FAC8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4DE61-DA99-4315-BBE0-EE4F09D26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AD800-2166-4660-BB35-73E4C6D5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4FFB06-9192-49C1-A24F-75C6B540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34411-0AE0-4E17-9145-0C8C004D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A03A8-F444-40E3-9B54-FF9CF8F9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969BEF-0F03-4D4D-A678-62261D84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474F-E14C-4B73-B572-254263E3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D10660-99EF-45CA-8447-F73E03BA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C28BEE-9B62-4A50-905F-4E2C54C6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756F4-125E-4321-8234-B1EB4B33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97A45A-869D-44AC-AD93-10ADBE49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C63E13-4919-4030-9A26-9E9CD1C9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009C7-8B97-4B08-BC50-0317F3FE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6D8549-B6B2-442A-90B8-B76720E1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D73C0-2B1C-40B8-AE1C-3DB17370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00364F-CEB0-4BA8-938D-EB5F3C00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D7D754-85ED-4125-94EA-B23846D0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0181-D74F-4225-93A2-3D30D679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93D836-58CC-4FC6-9860-F8FD9F06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DE250A-921A-471F-BD90-F0EC2B7DF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A0806-CB3C-40E4-A9EE-1F7605689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563A-90C1-4D96-BD32-B653B332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7B45-35D7-47C4-88BB-3558E129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212B1-D816-46DB-9616-125E5050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917C5-7A30-4067-9758-6C8393B6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BAFA-7B63-45B6-9320-147EAF4C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0FD7-8A3A-4ECD-B25D-4FD17F67C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39783-C71E-44A7-B169-9DCCE0A1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B417A-408B-4FEC-8EEE-D549D5C0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8F5CE-BB71-47EE-A51F-34937392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FDA3-E153-49CF-8761-1E0414F5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47A83-725E-40FA-878B-F4CB037D0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165E-4BD4-44A9-8D73-6CF6316D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EC22-BC63-4576-9FA6-0D9A8728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2D382-0DBC-434A-9BBB-3B56D3DF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210F0-1F77-4666-90B1-3198EE12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733D1-21CB-4689-9FF9-6742184F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0127-FDA6-48AD-AB73-3097C67F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03698-B602-471F-B802-22E8F1F0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7D57-8C80-4B46-88C7-FA0A4BB1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B9AEE7-D2D3-4BF8-A009-1E09A9E8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85089-D0B4-47C7-A4DE-3C58B0FC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94F3B8-6138-4C4A-A3AB-EE1D9F42F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C9FE-915F-4B0D-902F-A8422B5F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95288A-CB6B-4416-B196-7EF0E2A9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8BA9AF-1D05-4172-B7DB-D0B99A01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A2CB7F-439A-40F5-B70D-2A4E417F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05EA2-8C72-48A4-83B8-0AD7207E2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E7F224-2C04-465F-AB1C-6B3EC34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F6C749-1390-4476-A5BB-4E0349C8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294A3-531C-46C5-91FD-76A7AF3C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D5A4C2-7BEC-4C6D-8892-64BCD99A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81C122-A429-4F16-A61D-A7E21DEFD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61D7D-6328-4F5F-9AB9-4FD0F3E7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2064-0ABA-4444-888E-BF1C219F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147F2-E12A-4919-842E-11F091A2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535C0-22A4-4EB9-8232-E6B1D914B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14E3B-ABDB-4356-8501-AC3A4D89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304D5-4B48-4396-9784-4C482C78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47205-C98B-4A46-AC51-8A3CCEE4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84D8F-3CE6-462C-83BC-16DE1077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769B9-3E8C-4A5A-9186-FCB30162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DA1DB-087D-421D-8091-A3E0A64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B12F9-FEC3-4FB0-B96C-3777EADF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66E9C-F566-4A83-9914-4CD515091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C91-9749-4CB6-A199-0A42DA86D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CAD8-E42F-4FEB-B0C4-37E94DE82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F5E8D-34EF-4F3C-8F43-CE1B4745B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E8393-39A9-4E65-A859-4F4D7255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E45537-3D31-4F5A-AD82-7E7245E9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0B8CA-4865-477F-9162-32C7F5F3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9C13E-57CD-4787-B716-FFBF7800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47840-B5F8-4B5D-A0D5-D00D777C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6F055-C72A-497D-A393-26479555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93954-0D36-4585-8B85-D6F129F8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FFDB3-F265-4495-8723-E0157F3A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9393-7DD7-468E-9C6C-02491D0F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30969-D523-4097-B537-4C8A5D425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6CEB4-2789-4C7B-9A4F-2A802812A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EEE1E-06F3-4535-9F20-A8F0DCA46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27B18-A04B-4325-957B-16760054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214E-0B53-409E-BD27-B49B0C6F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D05B2-AB48-4D1B-8E58-2B9FA257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4D471-5EE5-40D5-B546-3BBD8FCC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DDAFED-9AD6-44EC-A13B-DFD7D17F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1B7B5-1082-40AA-9334-DB4BA85D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2F883-593D-47AD-BB37-38D88098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A57-74AC-44B6-A00D-DFAEF948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4B96F-C42B-46DC-A2E9-7CD41738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3E9F4-88F7-4E0D-AC4F-1139D92C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4EDD8-6AAA-4D3F-BBB2-A5C04249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CFBED-105D-41F3-B797-F6DE98DF3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5B89F-32FF-4C22-891E-195B11847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3A8D2-BF47-4CA7-B139-A6C2A82EA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1CDBC-1D93-48A7-92AD-B67DFE9F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D2E2C-69E6-47FA-AD78-12AF744C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26A138-A1E9-4B82-878D-EAD2B2AE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1E434-0C1D-48B5-8DF1-78E01693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D8B7-7408-42B7-A657-DF847C4A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83632-9C27-41A2-B908-B0FC602F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2E8C8-EDD2-4A15-B9C2-6E487A37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7C3B16-80B6-4335-8F13-8D604640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A7FDBA-B90B-4645-970A-D490C135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3294F-0BD2-44B7-982D-746399CD2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80AB6-69B1-4129-9355-31860D26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0051B-8880-4510-90E8-7CEA3AED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916225-867F-40B5-9E5B-C42F0893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13444-9E41-4462-B260-AE071230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DAEAD-35EE-4000-BCD2-36736763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2017-200B-4A61-A311-824FE89FFA01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8C4B-97F4-4A08-A690-293C2B2DA553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9AEC-6983-4B44-BF81-E613B0588621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4E77-0F17-4562-8F40-9EC2BFA11C9D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5E5EA-200F-4C71-A2BC-E1B578001FF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BD65-B869-4C5E-88E4-C76A411A3721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8A27-F9C6-4CFF-AD67-5EB1DB35F90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77E3-4E5E-47A5-AD98-6C21B1652EA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AA63-92AA-4EC6-AA7B-AE035E90811A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2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3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6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7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38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9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0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41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BDA7-0C51-4A34-B922-693B67F2C6F7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9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6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7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0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1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22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3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4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25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7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4F5F-CFB9-4013-90E9-03AB2C85B5C3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3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0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4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06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7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8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09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4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1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25B2-1C28-4F6B-943B-AFB6D2CEA27D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1C0C-95A3-46B2-886F-FC07F6B96F11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21C8-DA4F-47B4-A0CF-ABF398F29759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A5EA5-A200-46CF-927E-42405B5B6863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A013-55ED-472B-8E42-5AC5C1FFF6B5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71600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GA Abasan Regular"/>
              </a:rPr>
              <a:t>العنصر الثاني: التحضر والتنمية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ناه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يف ظهر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نواع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3" name="Picture 4" descr="ي"/>
          <p:cNvPicPr/>
          <p:nvPr/>
        </p:nvPicPr>
        <p:blipFill>
          <a:blip r:embed="rId1"/>
          <a:stretch/>
        </p:blipFill>
        <p:spPr>
          <a:xfrm>
            <a:off x="1476360" y="2492280"/>
            <a:ext cx="33829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/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ات الاقتصاد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دفعة القو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6" name="Picture 4" descr="ضص"/>
          <p:cNvPicPr/>
          <p:nvPr/>
        </p:nvPicPr>
        <p:blipFill>
          <a:blip r:embed="rId1"/>
          <a:stretch/>
        </p:blipFill>
        <p:spPr>
          <a:xfrm>
            <a:off x="1042920" y="2708280"/>
            <a:ext cx="4535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قارب النجا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9" name="Picture 4" descr="تن"/>
          <p:cNvPicPr/>
          <p:nvPr/>
        </p:nvPicPr>
        <p:blipFill>
          <a:blip r:embed="rId1"/>
          <a:stretch/>
        </p:blipFill>
        <p:spPr>
          <a:xfrm>
            <a:off x="1619280" y="2997360"/>
            <a:ext cx="38577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&gt;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مراحل الاقتصا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2" name="Picture 4" descr="strate10"/>
          <p:cNvPicPr/>
          <p:nvPr/>
        </p:nvPicPr>
        <p:blipFill>
          <a:blip r:embed="rId1"/>
          <a:stretch/>
        </p:blipFill>
        <p:spPr>
          <a:xfrm>
            <a:off x="1547640" y="2997360"/>
            <a:ext cx="4034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/النظريات الاجتماع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ثنائية الاجتما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5" name="Picture 4" descr="ضضض"/>
          <p:cNvPicPr/>
          <p:nvPr/>
        </p:nvPicPr>
        <p:blipFill>
          <a:blip r:embed="rId1"/>
          <a:stretch/>
        </p:blipFill>
        <p:spPr>
          <a:xfrm>
            <a:off x="1547640" y="2924280"/>
            <a:ext cx="4319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دافع الإنجاز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8" name="Picture 4" descr="imagesئئ"/>
          <p:cNvPicPr/>
          <p:nvPr/>
        </p:nvPicPr>
        <p:blipFill>
          <a:blip r:embed="rId1"/>
          <a:stretch/>
        </p:blipFill>
        <p:spPr>
          <a:xfrm>
            <a:off x="2050920" y="2708280"/>
            <a:ext cx="2881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ة الإسلامية ل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تركتز على الإنسان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يزتها : الجمع بين الروح الأخلاقية/الدينية  و الأهداف المادية للإنسان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+الشمول +الواق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1" name="Picture 5" descr="Trains-by-Aaron-Durand-1"/>
          <p:cNvPicPr/>
          <p:nvPr/>
        </p:nvPicPr>
        <p:blipFill>
          <a:blip r:embed="rId1"/>
          <a:stretch/>
        </p:blipFill>
        <p:spPr>
          <a:xfrm>
            <a:off x="1258920" y="4221000"/>
            <a:ext cx="2724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-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عناصر المؤدية للتنمية في النظرية الإسلامية/كيف ستبدأ التنمية الإسلامية؟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استفادة من التقدم العلمي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حسين مستوى الأفراد صحياً واجتماع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وين رأس الما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4" name="Picture 4" descr="content-writting-small"/>
          <p:cNvPicPr/>
          <p:nvPr/>
        </p:nvPicPr>
        <p:blipFill>
          <a:blip r:embed="rId1"/>
          <a:stretch/>
        </p:blipFill>
        <p:spPr>
          <a:xfrm>
            <a:off x="611280" y="4221000"/>
            <a:ext cx="2736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بعاد التنمية الإسلامية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. البعد الفلسفي ويرتكز على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استخلاف /العم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مال  (الزكاة، الربا 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فكرة النظام الإجتماعي المتوازن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عدالة+التكافل، التكامل+المسؤول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.البعد التشريع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زكا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با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7" name="Picture 4" descr="plant_in_hand"/>
          <p:cNvPicPr/>
          <p:nvPr/>
        </p:nvPicPr>
        <p:blipFill>
          <a:blip r:embed="rId1"/>
          <a:stretch/>
        </p:blipFill>
        <p:spPr>
          <a:xfrm>
            <a:off x="900000" y="2205000"/>
            <a:ext cx="38102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Arabic Typesetting"/>
                <a:cs typeface="Arabic Typesetting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e3d2d"/>
                </a:solidFill>
                <a:latin typeface="Arabic Typesetting"/>
                <a:cs typeface="Arabic Typesetting"/>
              </a:rPr>
              <a:t>تطور المفهوم تاريخياً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اهيم متصلة ب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ض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دي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صر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ري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صني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يي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1" name="Picture 5" descr="imagesس"/>
          <p:cNvPicPr/>
          <p:nvPr/>
        </p:nvPicPr>
        <p:blipFill>
          <a:blip r:embed="rId1"/>
          <a:stretch/>
        </p:blipFill>
        <p:spPr>
          <a:xfrm>
            <a:off x="1692360" y="2349360"/>
            <a:ext cx="3168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111"/>
          <p:cNvGrpSpPr/>
          <p:nvPr/>
        </p:nvGrpSpPr>
        <p:grpSpPr>
          <a:xfrm>
            <a:off x="1684440" y="555480"/>
            <a:ext cx="5759280" cy="5761080"/>
            <a:chOff x="1684440" y="555480"/>
            <a:chExt cx="5759280" cy="5761080"/>
          </a:xfrm>
        </p:grpSpPr>
        <p:grpSp>
          <p:nvGrpSpPr>
            <p:cNvPr id="881" name="Group 37"/>
            <p:cNvGrpSpPr/>
            <p:nvPr/>
          </p:nvGrpSpPr>
          <p:grpSpPr>
            <a:xfrm>
              <a:off x="1684440" y="555480"/>
              <a:ext cx="5759280" cy="5761080"/>
              <a:chOff x="1684440" y="555480"/>
              <a:chExt cx="5759280" cy="5761080"/>
            </a:xfrm>
          </p:grpSpPr>
          <p:sp>
            <p:nvSpPr>
              <p:cNvPr id="882" name="Oval 7"/>
              <p:cNvSpPr/>
              <p:nvPr/>
            </p:nvSpPr>
            <p:spPr>
              <a:xfrm>
                <a:off x="2404080" y="1275480"/>
                <a:ext cx="4319640" cy="432072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3" name="Oval 8"/>
              <p:cNvSpPr/>
              <p:nvPr/>
            </p:nvSpPr>
            <p:spPr>
              <a:xfrm>
                <a:off x="1684440" y="555480"/>
                <a:ext cx="5759280" cy="576108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4" name="Oval 3"/>
              <p:cNvSpPr/>
              <p:nvPr/>
            </p:nvSpPr>
            <p:spPr>
              <a:xfrm>
                <a:off x="3153600" y="1995840"/>
                <a:ext cx="2850480" cy="2880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5" name="TextBox 19"/>
              <p:cNvSpPr/>
              <p:nvPr/>
            </p:nvSpPr>
            <p:spPr>
              <a:xfrm>
                <a:off x="3988080" y="26654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بيئ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6" name="Oval 4"/>
              <p:cNvSpPr/>
              <p:nvPr/>
            </p:nvSpPr>
            <p:spPr>
              <a:xfrm>
                <a:off x="3728160" y="2599920"/>
                <a:ext cx="1655640" cy="1656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grpSp>
            <p:nvGrpSpPr>
              <p:cNvPr id="887" name="Group 10"/>
              <p:cNvGrpSpPr/>
              <p:nvPr/>
            </p:nvGrpSpPr>
            <p:grpSpPr>
              <a:xfrm>
                <a:off x="4204080" y="3090600"/>
                <a:ext cx="719640" cy="724680"/>
                <a:chOff x="4204080" y="3090600"/>
                <a:chExt cx="719640" cy="724680"/>
              </a:xfrm>
            </p:grpSpPr>
            <p:sp>
              <p:nvSpPr>
                <p:cNvPr id="888" name="Oval 6"/>
                <p:cNvSpPr/>
                <p:nvPr/>
              </p:nvSpPr>
              <p:spPr>
                <a:xfrm>
                  <a:off x="4204080" y="3090600"/>
                  <a:ext cx="719640" cy="673200"/>
                </a:xfrm>
                <a:prstGeom prst="ellipse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9" name="TextBox 9"/>
                <p:cNvSpPr/>
                <p:nvPr/>
              </p:nvSpPr>
              <p:spPr>
                <a:xfrm>
                  <a:off x="4275720" y="3234600"/>
                  <a:ext cx="575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000000"/>
                      </a:solidFill>
                      <a:latin typeface="Calibri"/>
                      <a:cs typeface="Arial"/>
                    </a:rPr>
                    <a:t>التنمية</a:t>
                  </a:r>
                  <a:endParaRPr b="0" lang="en-US" sz="1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90" name="Straight Connector 12"/>
              <p:cNvSpPr/>
              <p:nvPr/>
            </p:nvSpPr>
            <p:spPr>
              <a:xfrm>
                <a:off x="3970800" y="2842560"/>
                <a:ext cx="33876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1" name="Straight Connector 13"/>
              <p:cNvSpPr/>
              <p:nvPr/>
            </p:nvSpPr>
            <p:spPr>
              <a:xfrm flipH="1">
                <a:off x="4779720" y="2787840"/>
                <a:ext cx="32292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2" name="TextBox 20"/>
              <p:cNvSpPr/>
              <p:nvPr/>
            </p:nvSpPr>
            <p:spPr>
              <a:xfrm rot="16200000">
                <a:off x="5458320" y="32018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ادي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3" name="TextBox 21"/>
              <p:cNvSpPr/>
              <p:nvPr/>
            </p:nvSpPr>
            <p:spPr>
              <a:xfrm>
                <a:off x="4242240" y="4372200"/>
                <a:ext cx="6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مدين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4" name="TextBox 22"/>
              <p:cNvSpPr/>
              <p:nvPr/>
            </p:nvSpPr>
            <p:spPr>
              <a:xfrm rot="5400000">
                <a:off x="3011040" y="30632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ريف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5" name="Straight Connector 24"/>
              <p:cNvSpPr/>
              <p:nvPr/>
            </p:nvSpPr>
            <p:spPr>
              <a:xfrm flipH="1">
                <a:off x="5067720" y="2374560"/>
                <a:ext cx="453960" cy="4248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6" name="Straight Connector 27"/>
              <p:cNvSpPr/>
              <p:nvPr/>
            </p:nvSpPr>
            <p:spPr>
              <a:xfrm>
                <a:off x="3633480" y="2361600"/>
                <a:ext cx="399600" cy="43776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7" name="TextBox 29"/>
              <p:cNvSpPr/>
              <p:nvPr/>
            </p:nvSpPr>
            <p:spPr>
              <a:xfrm>
                <a:off x="4060080" y="19958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حضر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8" name="TextBox 30"/>
              <p:cNvSpPr/>
              <p:nvPr/>
            </p:nvSpPr>
            <p:spPr>
              <a:xfrm rot="14784600">
                <a:off x="4892760" y="2865600"/>
                <a:ext cx="789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ظروف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9" name="TextBox 31"/>
              <p:cNvSpPr/>
              <p:nvPr/>
            </p:nvSpPr>
            <p:spPr>
              <a:xfrm rot="16925400">
                <a:off x="4777560" y="3517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سياس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0" name="TextBox 32"/>
              <p:cNvSpPr/>
              <p:nvPr/>
            </p:nvSpPr>
            <p:spPr>
              <a:xfrm rot="1444800">
                <a:off x="3719880" y="3840480"/>
                <a:ext cx="9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حضار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1" name="TextBox 33"/>
              <p:cNvSpPr/>
              <p:nvPr/>
            </p:nvSpPr>
            <p:spPr>
              <a:xfrm rot="19668600">
                <a:off x="4323240" y="3900240"/>
                <a:ext cx="102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اقتصاد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2" name="TextBox 34"/>
              <p:cNvSpPr/>
              <p:nvPr/>
            </p:nvSpPr>
            <p:spPr>
              <a:xfrm rot="3928800">
                <a:off x="3427920" y="33393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داخل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3" name="TextBox 35"/>
              <p:cNvSpPr/>
              <p:nvPr/>
            </p:nvSpPr>
            <p:spPr>
              <a:xfrm rot="6194400">
                <a:off x="3528720" y="2950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خارج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904" name="Straight Connector 38"/>
            <p:cNvSpPr/>
            <p:nvPr/>
          </p:nvSpPr>
          <p:spPr>
            <a:xfrm flipH="1">
              <a:off x="5463000" y="1789200"/>
              <a:ext cx="468720" cy="5083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Straight Connector 41"/>
            <p:cNvSpPr/>
            <p:nvPr/>
          </p:nvSpPr>
          <p:spPr>
            <a:xfrm flipH="1">
              <a:off x="5769000" y="2288160"/>
              <a:ext cx="594360" cy="3790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Straight Connector 43"/>
            <p:cNvSpPr/>
            <p:nvPr/>
          </p:nvSpPr>
          <p:spPr>
            <a:xfrm flipH="1">
              <a:off x="5961960" y="2961360"/>
              <a:ext cx="68976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Straight Connector 45"/>
            <p:cNvSpPr/>
            <p:nvPr/>
          </p:nvSpPr>
          <p:spPr>
            <a:xfrm flipH="1" flipV="1">
              <a:off x="5931720" y="3994560"/>
              <a:ext cx="603000" cy="377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Straight Connector 48"/>
            <p:cNvSpPr/>
            <p:nvPr/>
          </p:nvSpPr>
          <p:spPr>
            <a:xfrm>
              <a:off x="4564080" y="127548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Straight Connector 50"/>
            <p:cNvSpPr/>
            <p:nvPr/>
          </p:nvSpPr>
          <p:spPr>
            <a:xfrm>
              <a:off x="3178080" y="1789200"/>
              <a:ext cx="486360" cy="5720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Straight Connector 52"/>
            <p:cNvSpPr/>
            <p:nvPr/>
          </p:nvSpPr>
          <p:spPr>
            <a:xfrm>
              <a:off x="2476080" y="2961360"/>
              <a:ext cx="70164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Straight Connector 54"/>
            <p:cNvSpPr/>
            <p:nvPr/>
          </p:nvSpPr>
          <p:spPr>
            <a:xfrm flipV="1">
              <a:off x="2692080" y="4054320"/>
              <a:ext cx="602640" cy="41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Straight Connector 56"/>
            <p:cNvSpPr/>
            <p:nvPr/>
          </p:nvSpPr>
          <p:spPr>
            <a:xfrm flipV="1">
              <a:off x="3188160" y="4541400"/>
              <a:ext cx="476280" cy="550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Straight Connector 59"/>
            <p:cNvSpPr/>
            <p:nvPr/>
          </p:nvSpPr>
          <p:spPr>
            <a:xfrm flipV="1">
              <a:off x="3864960" y="4817160"/>
              <a:ext cx="274680" cy="663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Straight Connector 62"/>
            <p:cNvSpPr/>
            <p:nvPr/>
          </p:nvSpPr>
          <p:spPr>
            <a:xfrm flipV="1">
              <a:off x="4706280" y="487620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Straight Connector 65"/>
            <p:cNvSpPr/>
            <p:nvPr/>
          </p:nvSpPr>
          <p:spPr>
            <a:xfrm flipH="1" flipV="1">
              <a:off x="5043600" y="4791600"/>
              <a:ext cx="444240" cy="600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Straight Connector 67"/>
            <p:cNvSpPr/>
            <p:nvPr/>
          </p:nvSpPr>
          <p:spPr>
            <a:xfrm flipH="1" flipV="1">
              <a:off x="5488560" y="4541400"/>
              <a:ext cx="573480" cy="459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TextBox 70"/>
            <p:cNvSpPr/>
            <p:nvPr/>
          </p:nvSpPr>
          <p:spPr>
            <a:xfrm rot="1146600">
              <a:off x="4330800" y="148860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قطاعات التنم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TextBox 73"/>
            <p:cNvSpPr/>
            <p:nvPr/>
          </p:nvSpPr>
          <p:spPr>
            <a:xfrm rot="20103000">
              <a:off x="3176640" y="152892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وطن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TextBox 74"/>
            <p:cNvSpPr/>
            <p:nvPr/>
          </p:nvSpPr>
          <p:spPr>
            <a:xfrm rot="17998200">
              <a:off x="2251080" y="2312640"/>
              <a:ext cx="14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محل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TextBox 79"/>
            <p:cNvSpPr/>
            <p:nvPr/>
          </p:nvSpPr>
          <p:spPr>
            <a:xfrm rot="15878400">
              <a:off x="2250360" y="3320280"/>
              <a:ext cx="14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رجال المعارضة السياس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TextBox 82"/>
            <p:cNvSpPr/>
            <p:nvPr/>
          </p:nvSpPr>
          <p:spPr>
            <a:xfrm rot="2886600">
              <a:off x="2420280" y="440784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TextBox 86"/>
            <p:cNvSpPr/>
            <p:nvPr/>
          </p:nvSpPr>
          <p:spPr>
            <a:xfrm rot="1873200">
              <a:off x="3007440" y="4889880"/>
              <a:ext cx="9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وظف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TextBox 87"/>
            <p:cNvSpPr/>
            <p:nvPr/>
          </p:nvSpPr>
          <p:spPr>
            <a:xfrm rot="435000">
              <a:off x="3718080" y="51714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حرف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TextBox 88"/>
            <p:cNvSpPr/>
            <p:nvPr/>
          </p:nvSpPr>
          <p:spPr>
            <a:xfrm rot="21014400">
              <a:off x="4433400" y="52182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ف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TextBox 89"/>
            <p:cNvSpPr/>
            <p:nvPr/>
          </p:nvSpPr>
          <p:spPr>
            <a:xfrm rot="19233000">
              <a:off x="5106240" y="498744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ه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6" name="TextBox 90"/>
            <p:cNvSpPr/>
            <p:nvPr/>
          </p:nvSpPr>
          <p:spPr>
            <a:xfrm rot="18160200">
              <a:off x="5733000" y="438840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زارع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7" name="TextBox 91"/>
            <p:cNvSpPr/>
            <p:nvPr/>
          </p:nvSpPr>
          <p:spPr>
            <a:xfrm rot="17163600">
              <a:off x="5937120" y="40417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م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8" name="TextBox 92"/>
            <p:cNvSpPr/>
            <p:nvPr/>
          </p:nvSpPr>
          <p:spPr>
            <a:xfrm rot="15943200">
              <a:off x="6007320" y="298548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أطف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9" name="TextBox 93"/>
            <p:cNvSpPr/>
            <p:nvPr/>
          </p:nvSpPr>
          <p:spPr>
            <a:xfrm rot="13931400">
              <a:off x="5661000" y="209880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رأ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0" name="Straight Connector 107"/>
            <p:cNvSpPr/>
            <p:nvPr/>
          </p:nvSpPr>
          <p:spPr>
            <a:xfrm flipH="1" flipV="1">
              <a:off x="6000480" y="3553200"/>
              <a:ext cx="698760" cy="143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1" name="TextBox 109"/>
            <p:cNvSpPr/>
            <p:nvPr/>
          </p:nvSpPr>
          <p:spPr>
            <a:xfrm rot="14863200">
              <a:off x="5967720" y="26809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شباب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2" name="TextBox 112"/>
          <p:cNvSpPr/>
          <p:nvPr/>
        </p:nvSpPr>
        <p:spPr>
          <a:xfrm>
            <a:off x="3900600" y="692280"/>
            <a:ext cx="13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عد التنمو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3" name="TextBox 113"/>
          <p:cNvSpPr/>
          <p:nvPr/>
        </p:nvSpPr>
        <p:spPr>
          <a:xfrm rot="1697400">
            <a:off x="4867200" y="755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يئ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4" name="TextBox 114"/>
          <p:cNvSpPr/>
          <p:nvPr/>
        </p:nvSpPr>
        <p:spPr>
          <a:xfrm rot="2315400">
            <a:off x="5426280" y="1155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قاف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TextBox 115"/>
          <p:cNvSpPr/>
          <p:nvPr/>
        </p:nvSpPr>
        <p:spPr>
          <a:xfrm rot="3280200">
            <a:off x="1696320" y="4583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6" name="TextBox 116"/>
          <p:cNvSpPr/>
          <p:nvPr/>
        </p:nvSpPr>
        <p:spPr>
          <a:xfrm rot="16026600">
            <a:off x="1328040" y="32907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7" name="TextBox 117"/>
          <p:cNvSpPr/>
          <p:nvPr/>
        </p:nvSpPr>
        <p:spPr>
          <a:xfrm rot="16964400">
            <a:off x="6454800" y="37602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8" name="TextBox 118"/>
          <p:cNvSpPr/>
          <p:nvPr/>
        </p:nvSpPr>
        <p:spPr>
          <a:xfrm rot="17834400">
            <a:off x="1691640" y="1991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ذات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9" name="TextBox 119"/>
          <p:cNvSpPr/>
          <p:nvPr/>
        </p:nvSpPr>
        <p:spPr>
          <a:xfrm rot="19416600">
            <a:off x="2530080" y="1084680"/>
            <a:ext cx="133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مية روح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0" name="TextBox 120"/>
          <p:cNvSpPr/>
          <p:nvPr/>
        </p:nvSpPr>
        <p:spPr>
          <a:xfrm>
            <a:off x="3986280" y="57783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ري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1" name="TextBox 121"/>
          <p:cNvSpPr/>
          <p:nvPr/>
        </p:nvSpPr>
        <p:spPr>
          <a:xfrm rot="3735000">
            <a:off x="6165720" y="19191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نولوج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2" name="TextBox 122"/>
          <p:cNvSpPr/>
          <p:nvPr/>
        </p:nvSpPr>
        <p:spPr>
          <a:xfrm rot="18352200">
            <a:off x="6025680" y="46688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ف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TextBox 124"/>
          <p:cNvSpPr/>
          <p:nvPr/>
        </p:nvSpPr>
        <p:spPr>
          <a:xfrm rot="5400000">
            <a:off x="6464880" y="297072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TextBox 125"/>
          <p:cNvSpPr/>
          <p:nvPr/>
        </p:nvSpPr>
        <p:spPr>
          <a:xfrm rot="19645200">
            <a:off x="5271840" y="54324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ا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TextBox 126"/>
          <p:cNvSpPr/>
          <p:nvPr/>
        </p:nvSpPr>
        <p:spPr>
          <a:xfrm rot="1888200">
            <a:off x="2519280" y="53928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ش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6" name="Straight Connector 130"/>
          <p:cNvSpPr/>
          <p:nvPr/>
        </p:nvSpPr>
        <p:spPr>
          <a:xfrm>
            <a:off x="3700440" y="692280"/>
            <a:ext cx="2649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7" name="Straight Connector 131"/>
          <p:cNvSpPr/>
          <p:nvPr/>
        </p:nvSpPr>
        <p:spPr>
          <a:xfrm>
            <a:off x="2349360" y="1636560"/>
            <a:ext cx="561960" cy="41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8" name="Straight Connector 132"/>
          <p:cNvSpPr/>
          <p:nvPr/>
        </p:nvSpPr>
        <p:spPr>
          <a:xfrm flipH="1">
            <a:off x="5109840" y="692280"/>
            <a:ext cx="2127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Straight Connector 133"/>
          <p:cNvSpPr/>
          <p:nvPr/>
        </p:nvSpPr>
        <p:spPr>
          <a:xfrm flipH="1">
            <a:off x="5592600" y="930240"/>
            <a:ext cx="339840" cy="627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Straight Connector 144"/>
          <p:cNvSpPr/>
          <p:nvPr/>
        </p:nvSpPr>
        <p:spPr>
          <a:xfrm flipH="1" flipV="1">
            <a:off x="6724440" y="3544560"/>
            <a:ext cx="718920" cy="28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1" name="Straight Connector 145"/>
          <p:cNvSpPr/>
          <p:nvPr/>
        </p:nvSpPr>
        <p:spPr>
          <a:xfrm flipH="1">
            <a:off x="6611400" y="2732040"/>
            <a:ext cx="7210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Straight Connector 146"/>
          <p:cNvSpPr/>
          <p:nvPr/>
        </p:nvSpPr>
        <p:spPr>
          <a:xfrm flipH="1">
            <a:off x="6111360" y="1400040"/>
            <a:ext cx="489240" cy="516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3" name="Straight Connector 147"/>
          <p:cNvSpPr/>
          <p:nvPr/>
        </p:nvSpPr>
        <p:spPr>
          <a:xfrm flipH="1" flipV="1">
            <a:off x="1763640" y="2835000"/>
            <a:ext cx="712800" cy="127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Straight Connector 148"/>
          <p:cNvSpPr/>
          <p:nvPr/>
        </p:nvSpPr>
        <p:spPr>
          <a:xfrm flipH="1">
            <a:off x="1816200" y="4113360"/>
            <a:ext cx="696960" cy="1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5" name="Straight Connector 149"/>
          <p:cNvSpPr/>
          <p:nvPr/>
        </p:nvSpPr>
        <p:spPr>
          <a:xfrm flipH="1">
            <a:off x="2558880" y="4964040"/>
            <a:ext cx="478080" cy="530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6" name="Straight Connector 158"/>
          <p:cNvSpPr/>
          <p:nvPr/>
        </p:nvSpPr>
        <p:spPr>
          <a:xfrm flipH="1" flipV="1">
            <a:off x="6587640" y="4257360"/>
            <a:ext cx="660600" cy="284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7" name="Straight Connector 159"/>
          <p:cNvSpPr/>
          <p:nvPr/>
        </p:nvSpPr>
        <p:spPr>
          <a:xfrm>
            <a:off x="6091200" y="4964040"/>
            <a:ext cx="509760" cy="509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8" name="Straight Connector 160"/>
          <p:cNvSpPr/>
          <p:nvPr/>
        </p:nvSpPr>
        <p:spPr>
          <a:xfrm>
            <a:off x="5218200" y="5465880"/>
            <a:ext cx="244440" cy="712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9" name="Straight Connector 161"/>
          <p:cNvSpPr/>
          <p:nvPr/>
        </p:nvSpPr>
        <p:spPr>
          <a:xfrm flipH="1">
            <a:off x="3638520" y="5494320"/>
            <a:ext cx="262080" cy="65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تضمن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محاو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ولاً:البعد البيئ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ظروف السياسية و الاقتصادية و الحضارية داخلياً و خارج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نياً:البعد الحضر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دين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ي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9217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لثاً:قطاعات التنمية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رأ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شباب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أطف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زارع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ه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حرف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ظف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جال المعارضة ال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مهور العام الوطني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ابعاً:البعد التنمو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يئ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قاف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نولوج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لم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ف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دا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شري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ش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جتما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قتصاد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ذاتية تنمية روح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غ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ن النمو ، أي ارتفاع الشيء من موضعه إلى موضع آخ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4" name="Picture 4" descr="www-St-Takla-org___Plants-Growth-01"/>
          <p:cNvPicPr/>
          <p:nvPr/>
        </p:nvPicPr>
        <p:blipFill>
          <a:blip r:embed="rId1"/>
          <a:stretch/>
        </p:blipFill>
        <p:spPr>
          <a:xfrm>
            <a:off x="3059280" y="3500280"/>
            <a:ext cx="3340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ريق بين التنمية و النمو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نمو : الزيادة الثابتة و المستمرة التي تحدث في جانب معين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: تحقيق زيادة سريعة تراكمية ودائمة عبر فترة من الزمن في الإنتاج و الخدمات، نتيجة استخدام الجهود العلمية لتنظيم الأنشطة المشتركة الحكومية و الشعب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عريف 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4920" y="2323800"/>
            <a:ext cx="79218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زيادة محسوس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إنتاج والخدمات، شاملة ومتكاملة و مرتبطة بحركة المجتمع، تأثراً وتأثيراً ، مستخدمة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أساليب العلمية الحديث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تكنولوجيا و التنظيم و الإدار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حصلة الجهود العلمية المستخدمة لتنظيم الأنشطة المشتركة الحكومية والشعبية في مختلف المستويات 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لتعبئة الموارد الموجود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أو التي يمكن إيجادها لمواجهة الحاجات الضرورية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وفقاً لخطة مرسوم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،وفي ضوء السياسة العامة للمجتمع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9" name="Picture 5" descr="نمو-اقتصادي1"/>
          <p:cNvPicPr/>
          <p:nvPr/>
        </p:nvPicPr>
        <p:blipFill>
          <a:blip r:embed="rId1"/>
          <a:stretch/>
        </p:blipFill>
        <p:spPr>
          <a:xfrm>
            <a:off x="755640" y="476280"/>
            <a:ext cx="27828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لية تغيير مقصود نحو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نظام الاجتماعي و الاقتصادي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ذي تحتاجه الدول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ي العملية المرسومة لتقدم المجتمع كله اجتماعياً واقتصادياً و المعتمدة بأكبر قدر ممكن على مبادرة المجتمع المحلي و اشتراكه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قل المجتمعات من حالة أو مستوى إلى حالة أو مستوى أفضل، و من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نمط تقليدي إلى نمط متقدم ماً ونوعاً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، وتعد حلاً لا بديل عنه في مواجهة المتطلبات الوطنية في ميدان الإنتاج و الخدم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غيير أساسي في كل أنماط الحياة السائدة،و يتبع هذا تغيير نوعي و كمي في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صور العلاقات الاجتماعي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وفي كافة مجالات النشاط البشري في المجتمع، الاجتماعية و الاقتصادية و السياسية و الثقافية و الإدار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2" name="Picture 4" descr="20111214100048"/>
          <p:cNvPicPr/>
          <p:nvPr/>
        </p:nvPicPr>
        <p:blipFill>
          <a:blip r:embed="rId1"/>
          <a:stretch/>
        </p:blipFill>
        <p:spPr>
          <a:xfrm>
            <a:off x="468360" y="4941720"/>
            <a:ext cx="20160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تجاه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ند العلماء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يتحدث العلماء عن التنمية في ثلاث اتجاها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دل نمو دخل الفرد من إجمالي النتاج القومي الإجمالي في دولة م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تبط التنمية بعدد من التغيرات في بعض المجالات، مثل التعليم و محو الأمية و القوى العاملة و الصحة و التغذية وحجم السكان غير المزارعين ..الخ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 هي المعدل العالي للمواليد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5" name="Picture 6" descr="117054"/>
          <p:cNvPicPr/>
          <p:nvPr/>
        </p:nvPicPr>
        <p:blipFill>
          <a:blip r:embed="rId1"/>
          <a:stretch/>
        </p:blipFill>
        <p:spPr>
          <a:xfrm>
            <a:off x="468360" y="4508640"/>
            <a:ext cx="26654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تاريخيا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م التركيز على الزاوية الاقتصادية في تعريف التنمية و تفسير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م تمت إدخال كافة العناصر الاجتماعية و الثقافية لتفسير التنم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8" name="Picture 4" descr="360475445"/>
          <p:cNvPicPr/>
          <p:nvPr/>
        </p:nvPicPr>
        <p:blipFill>
          <a:blip r:embed="rId1"/>
          <a:stretch/>
        </p:blipFill>
        <p:spPr>
          <a:xfrm>
            <a:off x="971640" y="3429000"/>
            <a:ext cx="3384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سباب الاهتمام ب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ن وسائل النقل و الإعلام جعلت الموقف واضحاً ، و أصبح بالإمكان المقارنة بين أساليب الحيا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غبة الدول المستقلة بعد الاستعمار في أن تكون بنفس قوة الدول المستعمر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قف الأمم المتحدة من مشكلة التخلف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LoLo</cp:lastModifiedBy>
  <dcterms:modified xsi:type="dcterms:W3CDTF">2012-02-20T08:58:58Z</dcterms:modified>
  <cp:revision>27</cp:revision>
  <dc:subject/>
  <dc:title>الإعلام و التنمية علم 304</dc:title>
</cp:coreProperties>
</file>