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D244-7792-4CF5-85F1-A5BCE94EB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42FF-2D6A-447D-8FB2-EEB0F56FC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E468F3-235B-4566-82A7-AC126FFAA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D7F69A-6252-47E4-B897-52DD9EE07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566F23-85C6-41A0-A22F-4BC1108E7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C45DBE-5415-4AE2-A655-4124D11B4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932C39-DC2C-45E4-8FA8-6BF60701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C9C841-6DB4-4C25-BC09-DF1D7FA7F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97FE8F-0152-4C36-983E-414C88D49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E50BC0-0FD2-4A2B-9280-CF9A63074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55DF5D-BBA4-4962-89B4-48E2DC72F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CA33-908B-4DE6-A6F6-14F21776E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58F3-4C9C-444F-9D02-84E2F74CE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2BFC0-849D-4158-9841-3816BE323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455AC-3D46-4146-B271-0C7BDA2D3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63170-0AA3-4506-8CC7-F2FC051D7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6E047-D9FD-4C91-86FE-A3AE5476F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58FC4-D75A-480E-8FC4-DB30CB96B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12065-DCD7-4F1C-81BD-0968FE4A2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4DCAD-0BBA-430D-84FB-2A847D67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393A-2DBF-4C0E-A645-52BC0B88C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E29B8-1729-4A73-AE16-633E9E13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1257A-35D6-4CF2-9B43-6CB0938B8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D8C2D-B194-4E70-BAD7-732CC549F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824F8-7656-4568-9ABB-F044D8A3D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22F56-EEC2-4DB4-B555-90F8C54A2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2968B-6934-4DAA-BE23-A81EB6C07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5D1CC-108E-4B42-9692-FA391489E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9D9DB-CC30-4D40-A176-E48999B2B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36D85-15B9-46C1-BF62-7BFEB1CE9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6CD18-77BA-4A64-B755-517088D34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BCE0-3148-4DD2-8A6E-C77421B0D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9239A-CF84-4FAD-B238-813D04AAF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3F00E-A5CF-4543-B41E-F1D45C980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9F262-9F64-47AB-99A0-4286B5DD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AA496-F043-439C-9FB0-22C647B6B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F4C1B-F246-4E3B-A85C-85E110B75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BBC8E-4D41-4414-A9E8-C982C9AE7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013A4-A08C-4203-ABD0-EF3263B16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6CFB2-CB15-40C9-9A50-A93A346D5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B3F2F-F839-456B-809B-BA815D48C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769A9-263C-4DE4-A40D-26E06BDB4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3BC3-9B6B-45D2-80F9-47084D790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B6A35-2688-43B9-8DA2-4AD957E0E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F64C0-42FE-4AA9-8EEC-79E945239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6D27D-D078-45A8-AFCF-70D4B9773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2A7E1-6469-4C41-A745-DBF5A7564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AAA8C-4BD6-48F9-B614-D6FD89FE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AE8D5-E6C5-4378-813D-FE551F11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956D6-1B6E-42B1-B439-E53EE081F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EA405-C45E-4C4B-B44F-5070C8263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A2F99-746B-4751-80CD-5412D6444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DB51E-48C0-4D54-98A3-DAB477402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F4D7-3D7F-4628-9645-991517C2F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D12774-8AB4-4479-A7A0-CA4227519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8AA21-2853-41D3-B9E9-966B6E32D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68E717-F55E-456F-BA7E-31B5A4860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56E732-CEE1-4C6A-8493-B8E40AC5E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92113-3BB9-4AC1-B348-B75427D13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D5597D-6FB6-4DB1-A60A-9CCC1B643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68F510-593F-47C9-AEEF-C1B02C89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538F79-9EAA-4F44-B085-8B36E6FB4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264686-4A73-48A7-BC76-86AEF623E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0BF8E-A29C-44C7-89CC-7134FD852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9AE8-58F9-4C1D-9DE6-CF450D2EC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5492D3-BCE6-4C41-B7D2-CA6D04956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966D60-3A8C-4372-8E18-2553EC8BD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C4DF36-AF26-4A4D-A15A-05C554F14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53F2BD-DF0C-4AE7-A01B-846CEF5EE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DEECBB-3CC3-4719-B48E-764772B73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D4632B-DDD9-4171-AF98-29E71AC4C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6C0837-F7E5-49B3-8BA3-72BDED6C3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2B7045-3EC0-4CB3-9FA5-E00964FD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3B058B-C79A-41C2-9D95-F4C3E4ACC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436000-A7DF-4596-8841-91539C6C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78B6-5100-4540-ABBC-884EAA5C8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BB0FB6-75F7-44F7-8A56-55FCB0509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9A8CC3-C1B9-47CB-BCA6-5F4F6C3CF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602885-4A97-4A60-9639-D17297D31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D7E941-F858-4981-918A-914139528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FD6905-103A-4D0E-BFF8-792D076D0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B288B1-26A8-499C-81BF-D69265CAA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93FE02-2A1D-47F0-84D8-DC2451492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AA454B-2E3F-487B-9270-AB2553E87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575AD1-ED71-446D-853A-58F5B280C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35D4A5-1993-4430-8C63-7F83EE5CE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F000-ABFB-40CA-87BB-12712EA5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944E47-DD36-4E55-911C-EDF57C829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F282E7-F94B-4921-AED5-3CE2A597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4FA1B3-364B-4278-8189-030264919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0F3BBD-F5DD-4AB6-97A6-074DF6FB1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6E7715-C3A7-45FE-AC2B-621D378A7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1CA6F7-B6BB-44CD-AC69-9AC0C57A4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F05353-4C6B-4BF5-B74E-5336567DC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16A8CB-8783-48A1-94B2-2766C6160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A86EA0-B6F9-4BF7-BAE8-0DFFCDB61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DB4AE4-CAB8-493A-9088-28F22BBD2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19DC-F074-45B7-AE83-9C7CC3743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654256-14BD-4000-9306-75543D1BD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931455-01B5-4F4F-A4E4-99DEC690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2C9C44-E17E-42AB-91AE-37B08329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0F0140-447E-4DFE-A6E7-2DD2EFDF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38BE1D-165D-4FF8-A2AA-173099157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C6D782-BA21-46D4-ACFA-CC91312CE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8901A8-BEDC-420F-B3F5-8224A5ED0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E60F71-6F39-4E5F-BCB1-9E8B3F0A2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28AB0F-C279-43B3-BBD8-45307FF12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8535D1-B49D-4C2D-84B3-098D0A14C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ED793-7B8C-481C-97EA-02F15C5E4B74}" type="datetime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١٤٤٨/٠٢/١٦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إعداد: أ.إيمان المريعي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FF50C-B7CD-464B-8B0A-D9E2468ADC1D}" type="slidenum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2182A-8C3B-48C5-8D40-7429C68D48DC}" type="datetime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١٤٤٨/٠٢/١٦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إعداد: أ.إيمان المريعي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4B880-7DF0-4115-BF97-C14DA57622A1}" type="slidenum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37BF6-9093-4D43-BB76-644CC167AE79}" type="datetime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١٤٤٨/٠٢/١٦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إعداد: أ.إيمان المريعي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C0F89-9FC4-444C-A507-6DEA91FD928F}" type="slidenum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BB9A9-9361-463D-957D-3B28054844D4}" type="datetime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١٤٤٨/٠٢/١٦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إعداد: أ.إيمان المريعي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CA46F-BBD6-44E6-A6F7-51A654B0AD4D}" type="slidenum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4A374-46DD-4768-B45E-2DE5041D1349}" type="datetime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١٤٤٨/٠٢/١٦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إعداد: أ.إيمان المريعي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1C6B3-07D8-4AE2-B1A4-CA4CB9251875}" type="slidenum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7FE85-9674-45AB-95F6-DB2E74F3FEC5}" type="datetime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١٤٤٨/٠٢/١٦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إعداد: أ.إيمان المريعي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6FAE7-3AA1-4688-B106-F1704A96B318}" type="slidenum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F83C6-C706-43C4-97C1-5C7F116F63CC}" type="datetime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١٤٤٨/٠٢/١٦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إعداد: أ.إيمان المريعي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E93EB-29F4-4BB6-A403-C25FACD61E1A}" type="slidenum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B9A12-EAD6-4ACB-B44C-42441AEE7120}" type="datetime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١٤٤٨/٠٢/١٦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إعداد: أ.إيمان المريعي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C31DA-F5E0-4131-96DE-097340605316}" type="slidenum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20A29-08CE-4D5B-81CD-6C62AB175D48}" type="datetime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١٤٤٨/٠٢/١٦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إعداد: أ.إيمان المريعي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6BC2C-9185-4FF9-9484-9B00AA5D3742}" type="slidenum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itle 1" descr=""/>
          <p:cNvPicPr/>
          <p:nvPr/>
        </p:nvPicPr>
        <p:blipFill>
          <a:blip r:embed="rId1"/>
          <a:stretch/>
        </p:blipFill>
        <p:spPr>
          <a:xfrm>
            <a:off x="712800" y="554040"/>
            <a:ext cx="7785000" cy="202392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610920" y="2491920"/>
            <a:ext cx="800100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443329"/>
                </a:solidFill>
                <a:latin typeface="Sakkal Majalla"/>
                <a:cs typeface="Sakkal Majalla"/>
              </a:rPr>
              <a:t>مفهوم التدريس والتعليم والتعلم وطرق واساليب التدريس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ounded Rectangle 2"/>
          <p:cNvSpPr/>
          <p:nvPr/>
        </p:nvSpPr>
        <p:spPr>
          <a:xfrm>
            <a:off x="4786200" y="571680"/>
            <a:ext cx="3714840" cy="2571480"/>
          </a:xfrm>
          <a:prstGeom prst="roundRect">
            <a:avLst>
              <a:gd name="adj" fmla="val 16667"/>
            </a:avLst>
          </a:prstGeom>
          <a:solidFill>
            <a:srgbClr val="f6c782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ounded Rectangle 3"/>
          <p:cNvSpPr/>
          <p:nvPr/>
        </p:nvSpPr>
        <p:spPr>
          <a:xfrm>
            <a:off x="4859280" y="3500280"/>
            <a:ext cx="3700440" cy="2881440"/>
          </a:xfrm>
          <a:prstGeom prst="roundRect">
            <a:avLst>
              <a:gd name="adj" fmla="val 16667"/>
            </a:avLst>
          </a:prstGeom>
          <a:solidFill>
            <a:srgbClr val="f6c782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ounded Rectangle 4"/>
          <p:cNvSpPr/>
          <p:nvPr/>
        </p:nvSpPr>
        <p:spPr>
          <a:xfrm>
            <a:off x="826920" y="3500280"/>
            <a:ext cx="3786480" cy="2953080"/>
          </a:xfrm>
          <a:prstGeom prst="roundRect">
            <a:avLst>
              <a:gd name="adj" fmla="val 16667"/>
            </a:avLst>
          </a:prstGeom>
          <a:solidFill>
            <a:srgbClr val="f6c782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ounded Rectangle 5"/>
          <p:cNvSpPr/>
          <p:nvPr/>
        </p:nvSpPr>
        <p:spPr>
          <a:xfrm>
            <a:off x="785880" y="571680"/>
            <a:ext cx="3786120" cy="2571480"/>
          </a:xfrm>
          <a:prstGeom prst="roundRect">
            <a:avLst>
              <a:gd name="adj" fmla="val 16667"/>
            </a:avLst>
          </a:prstGeom>
          <a:solidFill>
            <a:srgbClr val="f6c782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6"/>
          <p:cNvSpPr/>
          <p:nvPr/>
        </p:nvSpPr>
        <p:spPr>
          <a:xfrm>
            <a:off x="4714920" y="571680"/>
            <a:ext cx="3602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d0d0d"/>
                </a:solidFill>
                <a:latin typeface="Sakkal Majalla"/>
                <a:cs typeface="Sakkal Majalla"/>
              </a:rPr>
              <a:t>أولا: المدخلات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d0d0d"/>
                </a:solidFill>
                <a:latin typeface="Sakkal Majalla"/>
                <a:cs typeface="Sakkal Majalla"/>
              </a:rPr>
              <a:t>تتكون من جميع مصادر تصميم المنهج كالأهداف والمحتوى الدراسي (الكتب الدراسية) والوسائل التعليمية والمعلمين والمديرين والموجهين والمبا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7"/>
          <p:cNvSpPr/>
          <p:nvPr/>
        </p:nvSpPr>
        <p:spPr>
          <a:xfrm>
            <a:off x="857160" y="571680"/>
            <a:ext cx="36435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d0d0d"/>
                </a:solidFill>
                <a:latin typeface="Sakkal Majalla"/>
                <a:cs typeface="Sakkal Majalla"/>
              </a:rPr>
              <a:t>ثانيا: العمليات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d0d0d"/>
                </a:solidFill>
                <a:latin typeface="Sakkal Majalla"/>
                <a:cs typeface="Sakkal Majalla"/>
              </a:rPr>
              <a:t>ويقصد بها التفاعلات التي تحدث بين المدخلات لانتاج المخرجات وتتمثل في خطوات انتاج المنهج المدرسي ابتداء من تخطيطه ومرورا بتنفيذه وانتهاء بتقويمه وتطوير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Box 8"/>
          <p:cNvSpPr/>
          <p:nvPr/>
        </p:nvSpPr>
        <p:spPr>
          <a:xfrm>
            <a:off x="4786200" y="3645000"/>
            <a:ext cx="3602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d0d0d"/>
                </a:solidFill>
                <a:latin typeface="Sakkal Majalla"/>
                <a:cs typeface="Sakkal Majalla"/>
              </a:rPr>
              <a:t>ثالثا: المخرجات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d0d0d"/>
                </a:solidFill>
                <a:latin typeface="Sakkal Majalla"/>
                <a:cs typeface="Sakkal Majalla"/>
              </a:rPr>
              <a:t>النتاجات التربوية المتمثلة في الاهداف الخاصة بالنمو الشامل والمتكامل للمتعلمي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9"/>
          <p:cNvSpPr/>
          <p:nvPr/>
        </p:nvSpPr>
        <p:spPr>
          <a:xfrm>
            <a:off x="755640" y="3500280"/>
            <a:ext cx="37148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d0d0d"/>
                </a:solidFill>
                <a:latin typeface="Sakkal Majalla"/>
                <a:cs typeface="Sakkal Majalla"/>
              </a:rPr>
              <a:t>رابعا: التغذية الراجع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d0d0d"/>
                </a:solidFill>
                <a:latin typeface="Sakkal Majalla"/>
                <a:cs typeface="Sakkal Majalla"/>
              </a:rPr>
              <a:t>تهدف إلى التأكد من ان المخرجات التي تم الحصول عليها كانت مناسبة لكل من المدخلات والعمليات أو انها تحتاج إلى تعديل أو اضافات لتحسين نوعية المخرج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28400" y="428760"/>
            <a:ext cx="8258040" cy="60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54160" indent="-254160" algn="ct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d0d0d"/>
                </a:solidFill>
                <a:latin typeface="Sakkal Majalla"/>
                <a:cs typeface="Sakkal Majalla"/>
              </a:rPr>
              <a:t>مفهوم المنهج المدرسي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254160" indent="-254160"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e3b30"/>
              </a:solidFill>
              <a:latin typeface="Franklin Gothic Book"/>
            </a:endParaRPr>
          </a:p>
          <a:p>
            <a:pPr marL="254160" indent="-254160" algn="just" rtl="1">
              <a:spcBef>
                <a:spcPts val="799"/>
              </a:spcBef>
              <a:buClr>
                <a:srgbClr val="b58b80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54160" indent="-254160" algn="just" rtl="1">
              <a:lnSpc>
                <a:spcPct val="100000"/>
              </a:lnSpc>
              <a:spcBef>
                <a:spcPts val="1001"/>
              </a:spcBef>
              <a:buClr>
                <a:srgbClr val="b58b80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4e3b30"/>
                </a:solidFill>
                <a:latin typeface="Sakkal Majalla"/>
                <a:cs typeface="Sakkal Majalla"/>
              </a:rPr>
              <a:t>المنهج في اللغة: لفظ مشتق من النهج وهو الطريق الواضح, وعلى ذلك فالمنهج لغويا يعني وسيلة محددة توصل الى غاية معينة.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254160" indent="-254160" algn="just" rtl="1">
              <a:lnSpc>
                <a:spcPct val="100000"/>
              </a:lnSpc>
              <a:spcBef>
                <a:spcPts val="1001"/>
              </a:spcBef>
              <a:buClr>
                <a:srgbClr val="b58b80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4e3b30"/>
                </a:solidFill>
                <a:latin typeface="Sakkal Majalla"/>
                <a:cs typeface="Sakkal Majalla"/>
              </a:rPr>
              <a:t>في الميدان التربوي: وسيلة منظمة ومحددة تساعد في الوصول إلى غاية منشودة.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254160" indent="-254160" algn="r" rtl="1">
              <a:lnSpc>
                <a:spcPct val="100000"/>
              </a:lnSpc>
              <a:spcBef>
                <a:spcPts val="1001"/>
              </a:spcBef>
              <a:buClr>
                <a:srgbClr val="b58b8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28400" y="259920"/>
            <a:ext cx="82580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22480" indent="-222480" algn="ct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d0d0d"/>
                </a:solidFill>
                <a:latin typeface="Sakkal Majalla"/>
                <a:cs typeface="Sakkal Majalla"/>
              </a:rPr>
              <a:t>مفهوم المنهج المدرسي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222480" indent="-222480" algn="r" rtl="1">
              <a:spcBef>
                <a:spcPts val="799"/>
              </a:spcBef>
              <a:buClr>
                <a:srgbClr val="b58b8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22480" indent="-222480" algn="r" rtl="1">
              <a:lnSpc>
                <a:spcPct val="100000"/>
              </a:lnSpc>
              <a:spcBef>
                <a:spcPts val="799"/>
              </a:spcBef>
              <a:buClr>
                <a:srgbClr val="b58b8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95008"/>
                </a:solidFill>
                <a:latin typeface="Sakkal Majalla"/>
                <a:cs typeface="Sakkal Majalla"/>
              </a:rPr>
              <a:t>مفهوم المنهج التقليدي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153000" indent="-153000" algn="just" rtl="1">
              <a:lnSpc>
                <a:spcPct val="100000"/>
              </a:lnSpc>
              <a:spcBef>
                <a:spcPts val="1001"/>
              </a:spcBef>
              <a:buClr>
                <a:srgbClr val="f0a22e"/>
              </a:buClr>
              <a:buSzPct val="70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4e3b30"/>
                </a:solidFill>
                <a:latin typeface="Sakkal Majalla"/>
                <a:cs typeface="Sakkal Majalla"/>
              </a:rPr>
              <a:t>مفهوم المنهج المدرسي لدى المربين التقليديين كان مرادفا للمعرفة فالمنهج عندهم يمثل المقرر الدراسي حيث كان تعريف المنهج: مجموعة المقررات الدراسية التي يتولى المتخصصون اعدادها ويقوم المتعلمون بدراستها تحت اشراف المدرسة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222480" indent="-222480" algn="r" rtl="1">
              <a:lnSpc>
                <a:spcPct val="100000"/>
              </a:lnSpc>
              <a:spcBef>
                <a:spcPts val="1001"/>
              </a:spcBef>
              <a:buClr>
                <a:srgbClr val="b58b8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Title 1" descr=""/>
          <p:cNvPicPr/>
          <p:nvPr/>
        </p:nvPicPr>
        <p:blipFill>
          <a:blip r:embed="rId1"/>
          <a:stretch/>
        </p:blipFill>
        <p:spPr>
          <a:xfrm>
            <a:off x="3103560" y="469800"/>
            <a:ext cx="3492360" cy="148752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2916000" y="2204640"/>
            <a:ext cx="3887640" cy="32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13680"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4e3b30"/>
                </a:solidFill>
                <a:latin typeface="Sakkal Majalla"/>
                <a:cs typeface="Sakkal Majalla"/>
              </a:rPr>
              <a:t>تزويد المتعلم بأكبر قدر ممكن من المعلومات بحسبان ان المعرفة لها قيمة في ذاتها وأن تزويد المتعلم بها يكفي ووحدة لتوجيه سلوكه بما يتفق مع مضمون هذه المعرفة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5" name="Rounded Rectangle 4"/>
          <p:cNvSpPr/>
          <p:nvPr/>
        </p:nvSpPr>
        <p:spPr>
          <a:xfrm>
            <a:off x="2411280" y="476280"/>
            <a:ext cx="4897440" cy="5286240"/>
          </a:xfrm>
          <a:custGeom>
            <a:avLst/>
            <a:gdLst>
              <a:gd name="textAreaLeft" fmla="*/ 239040 w 4897440"/>
              <a:gd name="textAreaRight" fmla="*/ 4658400 w 4897440"/>
              <a:gd name="textAreaTop" fmla="*/ 239040 h 5286240"/>
              <a:gd name="textAreaBottom" fmla="*/ 5047200 h 5286240"/>
            </a:gdLst>
            <a:ahLst/>
            <a:rect l="textAreaLeft" t="textAreaTop" r="textAreaRight" b="textAreaBottom"/>
            <a:pathLst>
              <a:path w="21600" h="23315">
                <a:moveTo>
                  <a:pt x="3600" y="0"/>
                </a:moveTo>
                <a:arcTo wR="3600" hR="3600" stAng="16200000" swAng="-5400000"/>
                <a:lnTo>
                  <a:pt x="0" y="19715"/>
                </a:lnTo>
                <a:arcTo wR="3600" hR="3600" stAng="10800000" swAng="-5400000"/>
                <a:lnTo>
                  <a:pt x="18000" y="23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28760" y="1125000"/>
            <a:ext cx="8175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142200" indent="-142200" algn="r" rtl="1">
              <a:lnSpc>
                <a:spcPct val="90000"/>
              </a:lnSpc>
              <a:spcBef>
                <a:spcPts val="850"/>
              </a:spcBef>
              <a:buClr>
                <a:srgbClr val="b58b8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4e3b30"/>
                </a:solidFill>
                <a:latin typeface="Sakkal Majalla"/>
                <a:cs typeface="Sakkal Majalla"/>
              </a:rPr>
              <a:t>اهتمامه بالجانب المعرفي في مستوياته الدنيا من تذكر وفهم</a:t>
            </a: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  <a:p>
            <a:pPr marL="142200" indent="-142200" algn="r" rtl="1">
              <a:lnSpc>
                <a:spcPct val="90000"/>
              </a:lnSpc>
              <a:spcBef>
                <a:spcPts val="850"/>
              </a:spcBef>
              <a:buClr>
                <a:srgbClr val="b58b8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4e3b30"/>
                </a:solidFill>
                <a:latin typeface="Sakkal Majalla"/>
                <a:cs typeface="Sakkal Majalla"/>
              </a:rPr>
              <a:t>اهمال حاجات المتعلمين وميولهم ومابينهم من فروق فردية</a:t>
            </a: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  <a:p>
            <a:pPr marL="142200" indent="-142200" algn="r" rtl="1">
              <a:lnSpc>
                <a:spcPct val="90000"/>
              </a:lnSpc>
              <a:spcBef>
                <a:spcPts val="850"/>
              </a:spcBef>
              <a:buClr>
                <a:srgbClr val="b58b8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4e3b30"/>
                </a:solidFill>
                <a:latin typeface="Sakkal Majalla"/>
                <a:cs typeface="Sakkal Majalla"/>
              </a:rPr>
              <a:t>اغفال دور القدوة والقيم التربوية في توجيه السلوك</a:t>
            </a: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  <a:p>
            <a:pPr marL="142200" indent="-142200" algn="r" rtl="1">
              <a:lnSpc>
                <a:spcPct val="90000"/>
              </a:lnSpc>
              <a:spcBef>
                <a:spcPts val="850"/>
              </a:spcBef>
              <a:buClr>
                <a:srgbClr val="b58b8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4e3b30"/>
                </a:solidFill>
                <a:latin typeface="Sakkal Majalla"/>
                <a:cs typeface="Sakkal Majalla"/>
              </a:rPr>
              <a:t>قتل ابداع المعلم وقيد حريته</a:t>
            </a: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  <a:p>
            <a:pPr marL="142200" indent="-142200" algn="r" rtl="1">
              <a:lnSpc>
                <a:spcPct val="90000"/>
              </a:lnSpc>
              <a:spcBef>
                <a:spcPts val="850"/>
              </a:spcBef>
              <a:buClr>
                <a:srgbClr val="b58b8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4e3b30"/>
                </a:solidFill>
                <a:latin typeface="Sakkal Majalla"/>
                <a:cs typeface="Sakkal Majalla"/>
              </a:rPr>
              <a:t>اقتصار اختيار محتوى المادة الدراسية وتنظيمها على المتخصصين والخبراء</a:t>
            </a: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  <a:p>
            <a:pPr marL="142200" indent="-142200" algn="r" rtl="1">
              <a:lnSpc>
                <a:spcPct val="90000"/>
              </a:lnSpc>
              <a:spcBef>
                <a:spcPts val="850"/>
              </a:spcBef>
              <a:buClr>
                <a:srgbClr val="b58b8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4e3b30"/>
                </a:solidFill>
                <a:latin typeface="Sakkal Majalla"/>
                <a:cs typeface="Sakkal Majalla"/>
              </a:rPr>
              <a:t>استبعاد معظم الانشطة المدرسية</a:t>
            </a: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  <a:p>
            <a:pPr marL="142200" indent="-142200" algn="r" rtl="1">
              <a:lnSpc>
                <a:spcPct val="90000"/>
              </a:lnSpc>
              <a:spcBef>
                <a:spcPts val="850"/>
              </a:spcBef>
              <a:buClr>
                <a:srgbClr val="b58b8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4e3b30"/>
                </a:solidFill>
                <a:latin typeface="Sakkal Majalla"/>
                <a:cs typeface="Sakkal Majalla"/>
              </a:rPr>
              <a:t>انعزال المدرسة عن الحياة حيث استنفذت طاقتها في حفظ المعارف وتلقين الدروس</a:t>
            </a: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7" name="TextBox 6"/>
          <p:cNvSpPr/>
          <p:nvPr/>
        </p:nvSpPr>
        <p:spPr>
          <a:xfrm>
            <a:off x="2987640" y="333360"/>
            <a:ext cx="47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95008"/>
                </a:solidFill>
                <a:latin typeface="Sakkal Majalla"/>
                <a:cs typeface="Sakkal Majalla"/>
              </a:rPr>
              <a:t>النقد الموجة للمنهج التقليد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88" dur="2000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itle 1" descr=""/>
          <p:cNvPicPr/>
          <p:nvPr/>
        </p:nvPicPr>
        <p:blipFill>
          <a:blip r:embed="rId1"/>
          <a:stretch/>
        </p:blipFill>
        <p:spPr>
          <a:xfrm>
            <a:off x="171360" y="30240"/>
            <a:ext cx="8588520" cy="1079280"/>
          </a:xfrm>
          <a:prstGeom prst="rect">
            <a:avLst/>
          </a:prstGeom>
          <a:ln w="0">
            <a:noFill/>
          </a:ln>
        </p:spPr>
      </p:pic>
      <p:sp>
        <p:nvSpPr>
          <p:cNvPr id="409" name="TextBox 2"/>
          <p:cNvSpPr/>
          <p:nvPr/>
        </p:nvSpPr>
        <p:spPr>
          <a:xfrm>
            <a:off x="755640" y="1109520"/>
            <a:ext cx="7786800" cy="73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82520" indent="-182520" algn="r" rtl="1">
              <a:lnSpc>
                <a:spcPct val="100000"/>
              </a:lnSpc>
              <a:spcBef>
                <a:spcPts val="249"/>
              </a:spcBef>
              <a:buClr>
                <a:srgbClr val="f0a22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التطورات التي حدثت في كافة مجالات الحياة العلمية والتقنية والثقافية والاجتماعي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82520" indent="-182520" algn="r" rtl="1">
              <a:lnSpc>
                <a:spcPct val="100000"/>
              </a:lnSpc>
              <a:spcBef>
                <a:spcPts val="249"/>
              </a:spcBef>
              <a:buClr>
                <a:srgbClr val="f0a22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التغير الذي طرأ على أهداف التربية ووظيفة المدرسة ومهام المعلم حيث غدت التربية صانعة للتطور وصائغة للمستقبل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82520" indent="-182520" algn="r" rtl="1">
              <a:lnSpc>
                <a:spcPct val="100000"/>
              </a:lnSpc>
              <a:spcBef>
                <a:spcPts val="249"/>
              </a:spcBef>
              <a:buClr>
                <a:srgbClr val="f0a22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التطور في ميادين العلوم المختلفة ولاسيما في ميدان التربية وعلم النف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82520" indent="-182520" algn="r" rtl="1">
              <a:lnSpc>
                <a:spcPct val="100000"/>
              </a:lnSpc>
              <a:spcBef>
                <a:spcPts val="249"/>
              </a:spcBef>
              <a:buClr>
                <a:srgbClr val="f0a22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نتائج البحوث التي تناولت المنهج المدرسي القديم وأظهرت كثير من جوانب القصور والضعف التي تركت آثارا سلبية على العملية التعليمي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6" dur="500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Title 1" descr=""/>
          <p:cNvPicPr/>
          <p:nvPr/>
        </p:nvPicPr>
        <p:blipFill>
          <a:blip r:embed="rId1"/>
          <a:stretch/>
        </p:blipFill>
        <p:spPr>
          <a:xfrm>
            <a:off x="3486240" y="396720"/>
            <a:ext cx="2981160" cy="133992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2916000" y="1700280"/>
            <a:ext cx="41036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14760" algn="r" rtl="1">
              <a:lnSpc>
                <a:spcPct val="100000"/>
              </a:lnSpc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4e3b30"/>
                </a:solidFill>
                <a:latin typeface="Sakkal Majalla"/>
                <a:cs typeface="Sakkal Majalla"/>
              </a:rPr>
              <a:t>المنهج هو جميع الخبرات المخططة التي تقدمها المدرسة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14760" algn="r" rtl="1">
              <a:lnSpc>
                <a:spcPct val="100000"/>
              </a:lnSpc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4e3b30"/>
                </a:solidFill>
                <a:latin typeface="Sakkal Majalla"/>
                <a:cs typeface="Sakkal Majalla"/>
              </a:rPr>
              <a:t>المنهج هو كل نشاط هادف تقدمه وتنظمه المدرسة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14760" algn="r" rtl="1">
              <a:lnSpc>
                <a:spcPct val="100000"/>
              </a:lnSpc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4e3b30"/>
                </a:solidFill>
                <a:latin typeface="Sakkal Majalla"/>
                <a:cs typeface="Sakkal Majalla"/>
              </a:rPr>
              <a:t>المنهج هو مجموعة الخبرات والانشطة التي تقدمها المدرسة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2" name="Rounded Rectangle 4"/>
          <p:cNvSpPr/>
          <p:nvPr/>
        </p:nvSpPr>
        <p:spPr>
          <a:xfrm>
            <a:off x="2484360" y="333360"/>
            <a:ext cx="4967280" cy="5040360"/>
          </a:xfrm>
          <a:custGeom>
            <a:avLst/>
            <a:gdLst>
              <a:gd name="textAreaLeft" fmla="*/ 242280 w 4967280"/>
              <a:gd name="textAreaRight" fmla="*/ 4725000 w 4967280"/>
              <a:gd name="textAreaTop" fmla="*/ 242280 h 5040360"/>
              <a:gd name="textAreaBottom" fmla="*/ 4798080 h 5040360"/>
            </a:gdLst>
            <a:ahLst/>
            <a:rect l="textAreaLeft" t="textAreaTop" r="textAreaRight" b="textAreaBottom"/>
            <a:pathLst>
              <a:path w="21600" h="21918">
                <a:moveTo>
                  <a:pt x="3600" y="0"/>
                </a:moveTo>
                <a:arcTo wR="3600" hR="3600" stAng="16200000" swAng="-5400000"/>
                <a:lnTo>
                  <a:pt x="0" y="18318"/>
                </a:lnTo>
                <a:arcTo wR="3600" hR="3600" stAng="10800000" swAng="-5400000"/>
                <a:lnTo>
                  <a:pt x="18000" y="219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10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10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10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250920" y="404640"/>
            <a:ext cx="8391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149400" indent="-149400" algn="r" rtl="1">
              <a:lnSpc>
                <a:spcPct val="100000"/>
              </a:lnSpc>
              <a:spcBef>
                <a:spcPts val="799"/>
              </a:spcBef>
              <a:buClr>
                <a:srgbClr val="b58b8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4e3b30"/>
                </a:solidFill>
                <a:latin typeface="Sakkal Majalla"/>
                <a:cs typeface="Sakkal Majalla"/>
              </a:rPr>
              <a:t>يتضمن المنهج خبرات تربوية مفيدة يتم تصميمها تحت اشراف المدرسة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149400" indent="-149400" algn="r" rtl="1">
              <a:lnSpc>
                <a:spcPct val="100000"/>
              </a:lnSpc>
              <a:spcBef>
                <a:spcPts val="799"/>
              </a:spcBef>
              <a:buClr>
                <a:srgbClr val="b58b8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4e3b30"/>
                </a:solidFill>
                <a:latin typeface="Sakkal Majalla"/>
                <a:cs typeface="Sakkal Majalla"/>
              </a:rPr>
              <a:t>تتنوع الخبرات التربوية بتنوع الجوانب التي ترغب المدرسة باحداث النمو فيها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149400" indent="-149400" algn="r" rtl="1">
              <a:lnSpc>
                <a:spcPct val="100000"/>
              </a:lnSpc>
              <a:spcBef>
                <a:spcPts val="799"/>
              </a:spcBef>
              <a:buClr>
                <a:srgbClr val="b58b8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4e3b30"/>
                </a:solidFill>
                <a:latin typeface="Sakkal Majalla"/>
                <a:cs typeface="Sakkal Majalla"/>
              </a:rPr>
              <a:t>يحدث التعلم من خلال مرور المتعلم بخبرات متعددة ومشاركته في مواقف تعليمية ولا يكون سلبيا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149400" indent="-149400" algn="r" rtl="1">
              <a:lnSpc>
                <a:spcPct val="100000"/>
              </a:lnSpc>
              <a:spcBef>
                <a:spcPts val="799"/>
              </a:spcBef>
              <a:buClr>
                <a:srgbClr val="b58b8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4e3b30"/>
                </a:solidFill>
                <a:latin typeface="Sakkal Majalla"/>
                <a:cs typeface="Sakkal Majalla"/>
              </a:rPr>
              <a:t>لا تقتصر بيئة التعلم على حجرة الدراسة وانما تمتد إلى خارجهما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149400" indent="-149400" algn="r" rtl="1">
              <a:lnSpc>
                <a:spcPct val="100000"/>
              </a:lnSpc>
              <a:spcBef>
                <a:spcPts val="799"/>
              </a:spcBef>
              <a:buClr>
                <a:srgbClr val="b58b8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4e3b30"/>
                </a:solidFill>
                <a:latin typeface="Sakkal Majalla"/>
                <a:cs typeface="Sakkal Majalla"/>
              </a:rPr>
              <a:t>يسعى المنهج الحديث إلى النمو الشامل المتكامل للمتعلم والذي يؤدي إلى تعديل سلوكه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149400" indent="-149400" algn="r" rtl="1">
              <a:lnSpc>
                <a:spcPct val="100000"/>
              </a:lnSpc>
              <a:spcBef>
                <a:spcPts val="799"/>
              </a:spcBef>
              <a:buClr>
                <a:srgbClr val="b58b8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4e3b30"/>
                </a:solidFill>
                <a:latin typeface="Sakkal Majalla"/>
                <a:cs typeface="Sakkal Majalla"/>
              </a:rPr>
              <a:t>يهدف المنهج الحديث إلى ان يُعمِل المتعلم عقله ويبذل جهده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1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6" dur="20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Title 1" descr=""/>
          <p:cNvPicPr/>
          <p:nvPr/>
        </p:nvPicPr>
        <p:blipFill>
          <a:blip r:embed="rId1"/>
          <a:stretch/>
        </p:blipFill>
        <p:spPr>
          <a:xfrm>
            <a:off x="712800" y="317520"/>
            <a:ext cx="7785000" cy="1077840"/>
          </a:xfrm>
          <a:prstGeom prst="rect">
            <a:avLst/>
          </a:prstGeom>
          <a:ln w="0">
            <a:noFill/>
          </a:ln>
        </p:spPr>
      </p:pic>
      <p:sp>
        <p:nvSpPr>
          <p:cNvPr id="415" name="TextBox 3"/>
          <p:cNvSpPr/>
          <p:nvPr/>
        </p:nvSpPr>
        <p:spPr>
          <a:xfrm>
            <a:off x="395280" y="1268280"/>
            <a:ext cx="84297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المنهج وفقا لأسلوب النظم يتكون من: </a:t>
            </a:r>
            <a:r>
              <a:rPr b="0" lang="ar-SA" sz="3200" spc="-1" strike="noStrike">
                <a:solidFill>
                  <a:srgbClr val="000000"/>
                </a:solidFill>
                <a:latin typeface="Sakkal Majalla"/>
                <a:ea typeface="Sakkal Majall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مدخلا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عملي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مخرجا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تغذية راجع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4"/>
          <p:cNvSpPr/>
          <p:nvPr/>
        </p:nvSpPr>
        <p:spPr>
          <a:xfrm>
            <a:off x="1542960" y="4214880"/>
            <a:ext cx="1500120" cy="64296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5"/>
          <p:cNvSpPr/>
          <p:nvPr/>
        </p:nvSpPr>
        <p:spPr>
          <a:xfrm>
            <a:off x="4029120" y="4214880"/>
            <a:ext cx="1500120" cy="64296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6"/>
          <p:cNvSpPr/>
          <p:nvPr/>
        </p:nvSpPr>
        <p:spPr>
          <a:xfrm>
            <a:off x="6357960" y="4214880"/>
            <a:ext cx="1500120" cy="64296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7"/>
          <p:cNvSpPr/>
          <p:nvPr/>
        </p:nvSpPr>
        <p:spPr>
          <a:xfrm>
            <a:off x="3286080" y="5357880"/>
            <a:ext cx="3000600" cy="57132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0" name="Straight Arrow Connector 9"/>
          <p:cNvCxnSpPr>
            <a:stCxn id="418" idx="1"/>
            <a:endCxn id="417" idx="3"/>
          </p:cNvCxnSpPr>
          <p:nvPr/>
        </p:nvCxnSpPr>
        <p:spPr>
          <a:xfrm flipH="1" flipV="1">
            <a:off x="5528880" y="4536720"/>
            <a:ext cx="829440" cy="2160"/>
          </a:xfrm>
          <a:prstGeom prst="straightConnector1">
            <a:avLst/>
          </a:prstGeom>
          <a:ln w="34920">
            <a:solidFill>
              <a:srgbClr val="f0a22e"/>
            </a:solidFill>
            <a:miter/>
            <a:tailEnd len="med" type="arrow" w="med"/>
          </a:ln>
        </p:spPr>
      </p:cxnSp>
      <p:cxnSp>
        <p:nvCxnSpPr>
          <p:cNvPr id="421" name="Straight Arrow Connector 12"/>
          <p:cNvCxnSpPr/>
          <p:nvPr/>
        </p:nvCxnSpPr>
        <p:spPr>
          <a:xfrm flipH="1" flipV="1">
            <a:off x="3014280" y="4500360"/>
            <a:ext cx="1000800" cy="2160"/>
          </a:xfrm>
          <a:prstGeom prst="straightConnector1">
            <a:avLst/>
          </a:prstGeom>
          <a:ln w="34920">
            <a:solidFill>
              <a:srgbClr val="f0a22e"/>
            </a:solidFill>
            <a:miter/>
            <a:tailEnd len="med" type="arrow" w="med"/>
          </a:ln>
        </p:spPr>
      </p:cxnSp>
      <p:cxnSp>
        <p:nvCxnSpPr>
          <p:cNvPr id="422" name="Shape 26"/>
          <p:cNvCxnSpPr>
            <a:stCxn id="416" idx="2"/>
            <a:endCxn id="419" idx="1"/>
          </p:cNvCxnSpPr>
          <p:nvPr/>
        </p:nvCxnSpPr>
        <p:spPr>
          <a:xfrm flipH="1" rot="16200000">
            <a:off x="2396160" y="4753800"/>
            <a:ext cx="786600" cy="993960"/>
          </a:xfrm>
          <a:prstGeom prst="bentConnector2">
            <a:avLst/>
          </a:prstGeom>
          <a:ln w="34920">
            <a:solidFill>
              <a:srgbClr val="f0a22e"/>
            </a:solidFill>
            <a:prstDash val="dash"/>
            <a:miter/>
            <a:tailEnd len="med" type="arrow" w="med"/>
          </a:ln>
        </p:spPr>
      </p:cxnSp>
      <p:cxnSp>
        <p:nvCxnSpPr>
          <p:cNvPr id="423" name="Shape 33"/>
          <p:cNvCxnSpPr>
            <a:stCxn id="419" idx="3"/>
            <a:endCxn id="418" idx="2"/>
          </p:cNvCxnSpPr>
          <p:nvPr/>
        </p:nvCxnSpPr>
        <p:spPr>
          <a:xfrm flipV="1">
            <a:off x="6286680" y="4857120"/>
            <a:ext cx="822960" cy="786600"/>
          </a:xfrm>
          <a:prstGeom prst="bentConnector2">
            <a:avLst/>
          </a:prstGeom>
          <a:ln w="34920">
            <a:solidFill>
              <a:srgbClr val="f0a22e"/>
            </a:solidFill>
            <a:prstDash val="dash"/>
            <a:miter/>
            <a:tailEnd len="med" type="arrow" w="med"/>
          </a:ln>
        </p:spPr>
      </p:cxnSp>
      <p:cxnSp>
        <p:nvCxnSpPr>
          <p:cNvPr id="424" name="Straight Arrow Connector 35"/>
          <p:cNvCxnSpPr>
            <a:stCxn id="419" idx="0"/>
          </p:cNvCxnSpPr>
          <p:nvPr/>
        </p:nvCxnSpPr>
        <p:spPr>
          <a:xfrm flipV="1">
            <a:off x="4785120" y="4858560"/>
            <a:ext cx="2520" cy="500760"/>
          </a:xfrm>
          <a:prstGeom prst="straightConnector1">
            <a:avLst/>
          </a:prstGeom>
          <a:ln w="34920">
            <a:solidFill>
              <a:srgbClr val="f0a22e"/>
            </a:solidFill>
            <a:prstDash val="dash"/>
            <a:miter/>
            <a:tailEnd len="med" type="arrow" w="med"/>
          </a:ln>
        </p:spPr>
      </p:cxnSp>
      <p:sp>
        <p:nvSpPr>
          <p:cNvPr id="425" name="TextBox 36"/>
          <p:cNvSpPr/>
          <p:nvPr/>
        </p:nvSpPr>
        <p:spPr>
          <a:xfrm>
            <a:off x="6372360" y="4221000"/>
            <a:ext cx="1500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2f2f2"/>
                </a:solidFill>
                <a:latin typeface="Franklin Gothic Book"/>
                <a:cs typeface="Tahoma"/>
              </a:rPr>
              <a:t>المدخلات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Box 37"/>
          <p:cNvSpPr/>
          <p:nvPr/>
        </p:nvSpPr>
        <p:spPr>
          <a:xfrm>
            <a:off x="3643200" y="5357880"/>
            <a:ext cx="228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2f2f2"/>
                </a:solidFill>
                <a:latin typeface="Franklin Gothic Book"/>
                <a:cs typeface="Tahoma"/>
              </a:rPr>
              <a:t>التغذية الراجع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38"/>
          <p:cNvSpPr/>
          <p:nvPr/>
        </p:nvSpPr>
        <p:spPr>
          <a:xfrm>
            <a:off x="1500120" y="4286160"/>
            <a:ext cx="15717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2f2f2"/>
                </a:solidFill>
                <a:latin typeface="Franklin Gothic Book"/>
                <a:cs typeface="Tahoma"/>
              </a:rPr>
              <a:t>المخرجات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39"/>
          <p:cNvSpPr/>
          <p:nvPr/>
        </p:nvSpPr>
        <p:spPr>
          <a:xfrm>
            <a:off x="4000680" y="4286160"/>
            <a:ext cx="1500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2f2f2"/>
                </a:solidFill>
                <a:latin typeface="Franklin Gothic Book"/>
                <a:cs typeface="Tahoma"/>
              </a:rPr>
              <a:t>العمليات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1" dur="10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10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1" dur="100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6" dur="1000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9T11:13:50Z</dcterms:created>
  <dc:creator>shaden</dc:creator>
  <dc:description/>
  <dc:language>en-US</dc:language>
  <cp:lastModifiedBy>toshiba</cp:lastModifiedBy>
  <dcterms:modified xsi:type="dcterms:W3CDTF">2012-09-12T11:01:06Z</dcterms:modified>
  <cp:revision>29</cp:revision>
  <dc:subject/>
  <dc:title>المنهج قديما وحديثا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1851E1D0E8298C40B009BEDD03E1BEB6</vt:lpwstr>
  </property>
</Properties>
</file>