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193-ED90-4ED3-8B52-0CB79A3B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0B3-4FD9-4660-8C40-4F425183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3FE67-E0C9-4668-940B-F3318A43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A4D5F-2402-4083-855D-6C84CAF3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18700-B952-4544-A19B-FB304063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44CC0-819B-4A0E-9954-67534CAF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DBEA2-16A0-46AD-8B03-F3E4C5D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A508D-9140-4CBB-A7BA-D287CEC2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5DA4F-D3D1-4783-A89D-C9DA69DD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CE06D-40D6-4E34-AE49-0751BE2D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5708A-6E62-4BCA-9AD2-BDFBD6E7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02E-DA85-4158-AD0B-FABE8B4E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E4F-AA0C-4E0A-A990-013C6527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C2F5-C7C3-431D-B0E8-E69AF667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CD08-AB33-46AD-88E0-7EAF9F23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DBE7-B55B-44A7-B662-ABE7B5DC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9806-EE83-4CE2-883D-E9668F06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C7C0-7F9D-4906-88FC-CB68A6F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81E-ECD5-4BD0-A9E5-A94E925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43DC-9FAB-4846-85E6-CF34547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5AD-39A0-4C5C-AF17-734C8E5D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C3DB-E566-4886-8C56-0EA32A8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7443-7EE2-43C8-9BAA-EB9A0E5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0BD5-4ED1-43E1-A48F-9D7A430F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5CD2-EC59-47FE-A538-E611890E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BC82-F015-426F-8DF2-DB67AE78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9A10-B12C-4528-ABFF-A2D82590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CBA57-72B8-4388-A9C0-435A700C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2930-ECCB-476D-ADC6-3C55C972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EDFA-E796-454E-8F31-85A69765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FB3F-F713-4DA4-83CA-7900FA1F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EF0-0B93-4390-B6FC-61A244B1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4AC1-492E-486A-9D58-482CF550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0525-7BD4-4324-ACA8-28637E7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37FC-D7F2-4C9E-BFA8-674A6D3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79E9-7E87-46C9-9A75-A87DC80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C99F-D873-4FA2-9F23-9440C529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57FFD-0441-4254-B024-C0951C01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46B2-CEA7-4497-805B-8A6FCBB3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8A4D-65BB-4FF3-A8E2-C23D46C8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3480A-C712-438E-8B1B-33586B31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4A78-908B-40B9-B867-0CBD551C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3D5-265F-45F8-8FDC-38474E12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E341-3BA4-4BBF-9DAB-EEC8AECF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D05A-AF8F-4C0E-86DB-043B8AAD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C1818-48AF-4E99-9AD6-50666755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3787-552E-423C-8400-E37E4C0E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A857E-AB4B-4431-A0E1-47D3C1C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DFA4E-67D7-4820-A76E-541A2B6F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BCEC-6C02-4E45-AC12-7051835E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C5E5-EFD8-43CF-917F-FECFA3BB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1147C-76B2-46E0-A9BC-DA366A1E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A4856-7ADD-45DF-9E6F-D08A40FE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142-DD1C-4CAF-ACFD-EA51254B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2E79-EE61-4B5E-8374-F96348A8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79754-B6FF-41B1-BA8B-DE4B9375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2974-6C0D-4C10-B7FD-C334C4A9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BFA80-4CBD-4D3E-9EF4-B036C1D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677B1-F1A4-43A1-925F-C84E8247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1E8AA-1FCB-44D9-9ABD-8AD0EDA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E95B6-6A68-4882-9F91-7A0552CB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8D16D-40E8-47D8-89ED-87747D46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B50AE-A999-4C79-8CF0-0A1AD45F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93BA8-F265-4A79-9988-CD4C6BAF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E44-A658-4A7A-AC88-4BAFBD19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516B-DE6C-484E-9B33-9B0B2814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C19BB-B470-4940-9810-83EB1826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592E0-325B-431C-A2CF-A050C1E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D825E-B16E-47DA-BDDB-3DFBE3D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EC380-CC29-4592-BD2C-D6BB938F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3303B-5634-4609-9C70-8BF16397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FFB0-7F54-4F93-B312-8979249D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1236-0778-4ABF-9031-C949A30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AF7B4-116A-4578-B05C-5CEDE41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9ED3-83E8-471F-B98A-F93CD7D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AA5-53F0-475C-AE6D-DB9C173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45980-795F-4C00-B0DF-7A3DDAB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10B1-5F53-4D56-95C9-43CA5AA3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35B7-F07D-4835-90A7-88B5A4BC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8D9F-28BA-4A9F-A509-BA094BA2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D6DDD-421F-4253-A3FA-D9140051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C5542-B8D0-49E4-9E84-9F1CBD74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E377-0486-4DB9-B082-D264AF8B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F6C48-E363-4A82-9381-8A1EDDC4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6EAE-75AE-411F-821D-CFCF7832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C306-6890-4386-974D-23ECE3E2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D5C-F3E5-4859-833D-D945D7F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A26E-2DFC-4637-A7B8-12E56E0D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67B68-77CE-49BB-8102-D66333A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AF09E-F2B2-432D-8C67-5635E92F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2013E-1DAE-4542-B999-F3ACD867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3C58D-0F4B-4BD4-80A9-44F9DD2C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383E-BC0B-4514-8DF5-12A6EF27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9D01D-4997-4AE1-9F2D-B44CF92B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E5977-608D-42BD-9983-5A26989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85E18-0EF8-48BD-A0D1-C5D9DA2C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80F55-087B-408A-B149-9A90C1D3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201-6ABC-4986-9E2C-847B6CE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81CDE-F3B5-487F-AC55-7E3ADFB7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1FAEF-1686-4456-92B1-0DF62554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216A-9F53-4125-85DD-012251C1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08781-ABB6-4D2B-B571-80221C1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56BE4-C482-45C9-95F0-3B00F80F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5623-C33B-42D5-A403-E38DCC39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BE5A7-B677-45B8-90A5-4177B8A6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EDEA3-3D2E-461B-89CA-6DE7F7AA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0C402-75FC-4BC6-A2D0-AE539A96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63AE6-6A4C-467C-BA9D-02E88FCF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E903-0E74-4A43-935D-093BA4E16C6A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630-3892-4E68-8696-A71766BE5BC1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5760-32B3-48F2-9566-19E79AD4B6BD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FE41-8B41-4E80-9213-83836F7DE8C8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DA1F-AEA0-419B-A0A1-A27596D9B124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2053-DC83-4116-B562-13EB02898797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6320-B2E8-4713-AC4B-F092EA097263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6682-0DC3-4341-A177-65C9D3DB0D30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E0BF-484D-46EE-885C-10CEA6126495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C60D-A750-4573-8004-81CEB364894E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40F4-F2C6-4DB6-9CB4-5200530452DC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DA6C-B5E1-4BA5-8A98-014BC24D0C25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0B4-70E5-413D-93E4-59D3F033E2CC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9064-E57E-4BFD-B8BB-5AB835B177F3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76D6-FF29-451A-8063-896BFA2BD9B3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565D-EBED-40D4-968C-DBAE1DC547A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D9AE-1541-437E-879E-62C1453BDE9A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5007-3854-4955-85D8-51B6813066FF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712800" y="554040"/>
            <a:ext cx="7785000" cy="2023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10920" y="2491920"/>
            <a:ext cx="8001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43329"/>
                </a:solidFill>
                <a:latin typeface="Sakkal Majalla"/>
                <a:cs typeface="Sakkal Majalla"/>
              </a:rPr>
              <a:t>مفهوم التدريس والتعليم والتعلم وطرق واساليب التدريس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ounded Rectangle 2"/>
          <p:cNvSpPr/>
          <p:nvPr/>
        </p:nvSpPr>
        <p:spPr>
          <a:xfrm>
            <a:off x="4786200" y="571680"/>
            <a:ext cx="3714840" cy="25714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3"/>
          <p:cNvSpPr/>
          <p:nvPr/>
        </p:nvSpPr>
        <p:spPr>
          <a:xfrm>
            <a:off x="4859280" y="3500280"/>
            <a:ext cx="3700440" cy="288144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4"/>
          <p:cNvSpPr/>
          <p:nvPr/>
        </p:nvSpPr>
        <p:spPr>
          <a:xfrm>
            <a:off x="826920" y="3500280"/>
            <a:ext cx="3786480" cy="29530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5"/>
          <p:cNvSpPr/>
          <p:nvPr/>
        </p:nvSpPr>
        <p:spPr>
          <a:xfrm>
            <a:off x="785880" y="571680"/>
            <a:ext cx="3786120" cy="25714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4714920" y="571680"/>
            <a:ext cx="360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أولا: المدخل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تتكون من جميع مصادر تصميم المنهج كالأهداف والمحتوى الدراسي (الكتب الدراسية) والوسائل التعليمية والمعلمين والمديرين والموجهين والمب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857160" y="571680"/>
            <a:ext cx="3643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ثانيا: العملي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ويقصد بها التفاعلات التي تحدث بين المدخلات لانتاج المخرجات وتتمثل في خطوات انتاج المنهج المدرسي ابتداء من تخطيطه ومرورا بتنفيذه وانتهاء بتقويمه وتطو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4786200" y="3645000"/>
            <a:ext cx="360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ثالثا: المخرج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النتاجات التربوية المتمثلة في الاهداف الخاصة بالنمو الشامل والمتكامل للمتعلم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755640" y="3500280"/>
            <a:ext cx="3714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رابعا: التغذية الراج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تهدف إلى التأكد من ان المخرجات التي تم الحصول عليها كانت مناسبة لكل من المدخلات والعمليات أو انها تحتاج إلى تعديل أو اضافات لتحسين نوعية المخرج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28400" y="428760"/>
            <a:ext cx="82580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4160" indent="-25416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مفهوم المنهج المدرسي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spcBef>
                <a:spcPts val="799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في اللغة: لفظ مشتق من النهج وهو الطريق الواضح, وعلى ذلك فالمنهج لغويا يعني وسيلة محددة توصل الى غاية معينة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في الميدان التربوي: وسيلة منظمة ومحددة تساعد في الوصول إلى غاية منشودة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r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400" y="259920"/>
            <a:ext cx="8258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2480" indent="-2224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مفهوم المنهج المدرسي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95008"/>
                </a:solidFill>
                <a:latin typeface="Sakkal Majalla"/>
                <a:cs typeface="Sakkal Majalla"/>
              </a:rPr>
              <a:t>مفهوم المنهج التقليدي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153000" indent="-153000" algn="just" rtl="1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مفهوم المنهج المدرسي لدى المربين التقليديين كان مرادفا للمعرفة فالمنهج عندهم يمثل المقرر الدراسي حيث كان تعريف المنهج: مجموعة المقررات الدراسية التي يتولى المتخصصون اعدادها ويقوم المتعلمون بدراستها تحت اشراف المدرسة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3103560" y="469800"/>
            <a:ext cx="3492360" cy="1487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916000" y="2204640"/>
            <a:ext cx="38876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36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تزويد المتعلم بأكبر قدر ممكن من المعلومات بحسبان ان المعرفة لها قيمة في ذاتها وأن تزويد المتعلم بها يكفي ووحدة لتوجيه سلوكه بما يتفق مع مضمون هذه المعرف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Rounded Rectangle 4"/>
          <p:cNvSpPr/>
          <p:nvPr/>
        </p:nvSpPr>
        <p:spPr>
          <a:xfrm>
            <a:off x="2411280" y="476280"/>
            <a:ext cx="4897440" cy="5286240"/>
          </a:xfrm>
          <a:custGeom>
            <a:avLst/>
            <a:gdLst>
              <a:gd name="textAreaLeft" fmla="*/ 239040 w 4897440"/>
              <a:gd name="textAreaRight" fmla="*/ 4658400 w 4897440"/>
              <a:gd name="textAreaTop" fmla="*/ 239040 h 5286240"/>
              <a:gd name="textAreaBottom" fmla="*/ 5047200 h 5286240"/>
            </a:gdLst>
            <a:ahLst/>
            <a:rect l="textAreaLeft" t="textAreaTop" r="textAreaRight" b="textAreaBottom"/>
            <a:pathLst>
              <a:path w="21600" h="23315">
                <a:moveTo>
                  <a:pt x="3600" y="0"/>
                </a:moveTo>
                <a:arcTo wR="3600" hR="3600" stAng="16200000" swAng="-5400000"/>
                <a:lnTo>
                  <a:pt x="0" y="19715"/>
                </a:lnTo>
                <a:arcTo wR="3600" hR="3600" stAng="10800000" swAng="-5400000"/>
                <a:lnTo>
                  <a:pt x="18000" y="2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28760" y="1125000"/>
            <a:ext cx="8175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هتمامه بالجانب المعرفي في مستوياته الدنيا من تذكر وفهم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همال حاجات المتعلمين وميولهم ومابينهم من فروق فردية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غفال دور القدوة والقيم التربوية في توجيه السلوك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قتل ابداع المعلم وقيد حريته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قتصار اختيار محتوى المادة الدراسية وتنظيمها على المتخصصين والخبراء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ستبعاد معظم الانشطة المدرسية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نعزال المدرسة عن الحياة حيث استنفذت طاقتها في حفظ المعارف وتلقين الدروس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2987640" y="3333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95008"/>
                </a:solidFill>
                <a:latin typeface="Sakkal Majalla"/>
                <a:cs typeface="Sakkal Majalla"/>
              </a:rPr>
              <a:t>النقد الموجة للمنهج التقليد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71360" y="30240"/>
            <a:ext cx="8588520" cy="10792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755640" y="1109520"/>
            <a:ext cx="7786800" cy="73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طورات التي حدثت في كافة مجالات الحياة العلمية والتقنية والثقافية والاجتما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غير الذي طرأ على أهداف التربية ووظيفة المدرسة ومهام المعلم حيث غدت التربية صانعة للتطور وصائغة للمستقب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طور في ميادين العلوم المختلفة ولاسيما في ميدان التربية وعلم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نتائج البحوث التي تناولت المنهج المدرسي القديم وأظهرت كثير من جوانب القصور والضعف التي تركت آثارا سلبية على العملية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486240" y="396720"/>
            <a:ext cx="2981160" cy="13399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916000" y="1700280"/>
            <a:ext cx="4103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جميع الخبرات المخططة التي تقدمها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كل نشاط هادف تقدمه وتنظمه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مجموعة الخبرات والانشطة التي تقدمها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Rounded Rectangle 4"/>
          <p:cNvSpPr/>
          <p:nvPr/>
        </p:nvSpPr>
        <p:spPr>
          <a:xfrm>
            <a:off x="2484360" y="333360"/>
            <a:ext cx="4967280" cy="5040360"/>
          </a:xfrm>
          <a:custGeom>
            <a:avLst/>
            <a:gdLst>
              <a:gd name="textAreaLeft" fmla="*/ 242280 w 4967280"/>
              <a:gd name="textAreaRight" fmla="*/ 4725000 w 4967280"/>
              <a:gd name="textAreaTop" fmla="*/ 242280 h 5040360"/>
              <a:gd name="textAreaBottom" fmla="*/ 4798080 h 5040360"/>
            </a:gdLst>
            <a:ahLst/>
            <a:rect l="textAreaLeft" t="textAreaTop" r="textAreaRight" b="textAreaBottom"/>
            <a:pathLst>
              <a:path w="21600" h="21918">
                <a:moveTo>
                  <a:pt x="3600" y="0"/>
                </a:moveTo>
                <a:arcTo wR="3600" hR="3600" stAng="16200000" swAng="-5400000"/>
                <a:lnTo>
                  <a:pt x="0" y="18318"/>
                </a:lnTo>
                <a:arcTo wR="3600" hR="3600" stAng="10800000" swAng="-5400000"/>
                <a:lnTo>
                  <a:pt x="18000" y="21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920" y="404640"/>
            <a:ext cx="8391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تضمن المنهج خبرات تربوية مفيدة يتم تصميمها تحت اشراف المدرسة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تتنوع الخبرات التربوية بتنوع الجوانب التي ترغب المدرسة باحداث النمو فيها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حدث التعلم من خلال مرور المتعلم بخبرات متعددة ومشاركته في مواقف تعليمية ولا يكون سلبيا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لا تقتصر بيئة التعلم على حجرة الدراسة وانما تمتد إلى خارجهما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سعى المنهج الحديث إلى النمو الشامل المتكامل للمتعلم والذي يؤدي إلى تعديل سلوك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هدف المنهج الحديث إلى ان يُعمِل المتعلم عقله ويبذل جهد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712800" y="317520"/>
            <a:ext cx="7785000" cy="1077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395280" y="126828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نهج وفقا لأسلوب النظم يتكون من: </a:t>
            </a:r>
            <a:r>
              <a:rPr b="0" lang="ar-SA" sz="32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غذية راج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54296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402912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635796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86080" y="5357880"/>
            <a:ext cx="300060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9"/>
          <p:cNvCxnSpPr>
            <a:stCxn id="418" idx="1"/>
            <a:endCxn id="417" idx="3"/>
          </p:cNvCxnSpPr>
          <p:nvPr/>
        </p:nvCxnSpPr>
        <p:spPr>
          <a:xfrm flipH="1" flipV="1">
            <a:off x="5528880" y="4536720"/>
            <a:ext cx="829440" cy="2160"/>
          </a:xfrm>
          <a:prstGeom prst="straightConnector1">
            <a:avLst/>
          </a:prstGeom>
          <a:ln w="349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1" name="Straight Arrow Connector 12"/>
          <p:cNvCxnSpPr/>
          <p:nvPr/>
        </p:nvCxnSpPr>
        <p:spPr>
          <a:xfrm flipH="1" flipV="1">
            <a:off x="3014280" y="4500360"/>
            <a:ext cx="1000800" cy="2160"/>
          </a:xfrm>
          <a:prstGeom prst="straightConnector1">
            <a:avLst/>
          </a:prstGeom>
          <a:ln w="349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2" name="Shape 26"/>
          <p:cNvCxnSpPr>
            <a:stCxn id="416" idx="2"/>
            <a:endCxn id="419" idx="1"/>
          </p:cNvCxnSpPr>
          <p:nvPr/>
        </p:nvCxnSpPr>
        <p:spPr>
          <a:xfrm flipH="1" rot="16200000">
            <a:off x="2396160" y="4753800"/>
            <a:ext cx="786600" cy="993960"/>
          </a:xfrm>
          <a:prstGeom prst="bentConnector2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cxnSp>
        <p:nvCxnSpPr>
          <p:cNvPr id="423" name="Shape 33"/>
          <p:cNvCxnSpPr>
            <a:stCxn id="419" idx="3"/>
            <a:endCxn id="418" idx="2"/>
          </p:cNvCxnSpPr>
          <p:nvPr/>
        </p:nvCxnSpPr>
        <p:spPr>
          <a:xfrm flipV="1">
            <a:off x="6286680" y="4857120"/>
            <a:ext cx="822960" cy="786600"/>
          </a:xfrm>
          <a:prstGeom prst="bentConnector2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cxnSp>
        <p:nvCxnSpPr>
          <p:cNvPr id="424" name="Straight Arrow Connector 35"/>
          <p:cNvCxnSpPr>
            <a:stCxn id="419" idx="0"/>
          </p:cNvCxnSpPr>
          <p:nvPr/>
        </p:nvCxnSpPr>
        <p:spPr>
          <a:xfrm flipV="1">
            <a:off x="4785120" y="4858560"/>
            <a:ext cx="2520" cy="500760"/>
          </a:xfrm>
          <a:prstGeom prst="straightConnector1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sp>
        <p:nvSpPr>
          <p:cNvPr id="425" name="TextBox 36"/>
          <p:cNvSpPr/>
          <p:nvPr/>
        </p:nvSpPr>
        <p:spPr>
          <a:xfrm>
            <a:off x="6372360" y="4221000"/>
            <a:ext cx="150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مدخل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37"/>
          <p:cNvSpPr/>
          <p:nvPr/>
        </p:nvSpPr>
        <p:spPr>
          <a:xfrm>
            <a:off x="3643200" y="5357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تغذية الراج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8"/>
          <p:cNvSpPr/>
          <p:nvPr/>
        </p:nvSpPr>
        <p:spPr>
          <a:xfrm>
            <a:off x="1500120" y="4286160"/>
            <a:ext cx="157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مخرج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9"/>
          <p:cNvSpPr/>
          <p:nvPr/>
        </p:nvSpPr>
        <p:spPr>
          <a:xfrm>
            <a:off x="4000680" y="4286160"/>
            <a:ext cx="150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عملي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1:13:50Z</dcterms:created>
  <dc:creator>shaden</dc:creator>
  <dc:description/>
  <dc:language>en-US</dc:language>
  <cp:lastModifiedBy>toshiba</cp:lastModifiedBy>
  <dcterms:modified xsi:type="dcterms:W3CDTF">2012-09-12T11:01:06Z</dcterms:modified>
  <cp:revision>29</cp:revision>
  <dc:subject/>
  <dc:title>المنهج قديما وحديث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851E1D0E8298C40B009BEDD03E1BEB6</vt:lpwstr>
  </property>
</Properties>
</file>