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26E2-E672-4497-8108-12CEA411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8A9-8ED0-4DB3-B63C-69838826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36008-961E-4125-88C9-0F3C8F0D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E259C-920D-43E4-B9DB-9B38887F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E5BBF-ED71-4B7C-B046-B679F5B2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3166F-DEB8-42EE-8BE6-D912C8EF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A8FD6-E7C1-4E00-AFC2-594AC836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7D6C3-1964-4DFB-AFE5-CB977490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57D48-B85C-4BF5-BE2A-5B7D3AE1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4F137-6292-49AF-B10D-BA1A6EF8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0B7CB-951C-4E76-9C22-949F405A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1EC-954A-42F4-8D7A-BA088A71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9069-A121-4A61-89D7-20E4DC5F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9466-C698-4471-BA0A-0138F191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CED1-6D7C-4292-A766-3FFCE7C3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C453-4D7C-4EA5-867C-887419BC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A755-0FD4-4758-86A9-1A3EB866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E18F-1DE2-4275-B247-13FACA30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1A72-80EB-4723-9649-4B5C5526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24EF-A257-4604-95F1-E1B9D5C9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CB7-1DB9-4554-A3C4-16BC8F3B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049F-4355-4604-96D8-F5876748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1E2B-FDFF-4837-9456-737436E0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CDDC-125C-4CA8-9CED-A4FC63CA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54F1-4F34-4F43-B721-49DCD86D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8098-F7A8-4D35-8A12-91C08A5C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F7FC4-B072-44F2-9F84-CBB6FE99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E03E3-6085-4580-85DF-FB64C240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7DB9F-392B-4F66-ABEF-2EE17D2C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E8846-9ED0-42AE-AD43-F24013E9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99F56-791C-4CD2-BE29-3CD0C4FD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203-87FD-4247-9365-09DE8DF3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E76D8-DB6D-481F-92E5-93CB3567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BE781-20CB-4EFF-81D2-36D45DC0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00D3B-C485-4137-BD49-63FDC94E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07100-06E7-47AD-B7F2-E31B4A88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E28FE-DD79-40FD-BFEB-2AA60F64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B5709-204A-416C-8A0F-6DBE1BCF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F2A12-2E47-467D-9E15-F17CE27E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155DF-99C1-482A-AD76-8B9FC21A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3E1FB-3F5D-45E1-9282-B79EB326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7DE08-A9E0-41AA-AA15-2B4389DD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C77-3CD6-4DC9-9ECE-510A6026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B438D-F998-40C7-95A8-9D756A07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11133-D92F-4835-B040-1DB19C10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060C9-64E3-4A01-A0F1-C1728B74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82708-2E57-4C32-AB0E-CA03F931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12E9F-DC2E-4564-9B55-2901AD60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22F1C-7CA5-4781-AEB6-D14018A0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35BC7-BB1C-4F35-8614-DA628E4E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D1E7F-57C0-41D0-A215-904619A2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E2777-96B5-4620-AA14-B0819870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C8D09-6575-4DF6-9F7F-D4FC9379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B60-E2AF-467D-B346-A32F5B40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A3C8B-F2A5-4CB2-8D4A-678EBF70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15CD5-121E-4E0A-B682-8452ABAD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C4EE2-686C-4ACA-8119-A7D2145B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67710-65E1-4AC2-9966-35C6CEAF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2830D-D32E-407C-8129-0F143756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EB82B-D5BF-403B-A4DE-02375189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879A6-68D8-423E-B909-206BAEBC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06E1B-86D3-488A-A140-98DE477B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F1924-30B2-4D62-BD6E-62986446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20AE7-4EE0-4ADF-AF5C-626F53F7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3335-573C-408A-9B25-04535257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913B3-854D-4CDD-AFE6-281526B1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78E16-9892-4769-BCAA-6FA3AD3D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9232E-E0C1-4A4F-A8EC-6EC4DE06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83783-BBF8-4D29-8D7C-29ACD76D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D8C60-AE94-4212-B894-DD316FD6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E06D4-C577-4F45-B320-8D428BBA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2FDEF-53BD-4A68-98E6-4945F38A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C1FE4-3901-4EA4-A83E-305F7C07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81F63-4440-46DF-A3AF-83A5D254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36152-671D-4142-82E1-AB7F7AFC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14DD-423A-44EB-849C-B37B6433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EEFDE-64CC-473D-A839-32035247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F05FF-DCB9-4F29-B31C-8FC58255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EBA42-62D1-4974-8842-2240B36C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E2660-0B50-4EE7-A613-BECC1182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54D40-2EBA-4598-AB32-F8D8D850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27AD5-C206-44CC-92B9-D660E5EB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5F45B-655C-4F19-9FF3-16D9363B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34566-DB15-494D-B6A1-D3886E13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BCE3C-DFB8-4D3B-B1A2-75899279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15232-1BE9-4C1B-9E7C-0E48E4F4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081-138F-4255-BB51-19450D04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2E3AD-6B17-4D95-92A0-7D3B825E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2A252-EDF3-4045-864D-6AFB0DD0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687B4-D2AD-4C67-8F07-FB8F309D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DB794-B353-43E6-8436-67499A54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62DC3-8274-4453-9BDC-CFFB4544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F44B4-5B99-4AAF-89DA-FBC8F3FC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D8397-816F-4606-B32B-D00B2E75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A338C-3D61-4DFA-AB08-6F94B3CA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04A4A-4F7B-4717-A327-304BD1EF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23C83-A4DA-4FD7-BB67-883676EA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2AD9-2D82-47D0-8400-19633419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164C2-264A-48AC-A018-3598DA94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389EA-2697-4E54-8C26-BBFD3A88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2397F-4F4E-46B1-BCF1-A9ABE863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F011A-79A6-4B36-964F-A287069F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F4A8D-6523-46FE-BBF6-8700BDAF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710B7-959A-4888-B34A-11BC5DA5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8E2FC-CA91-4C44-BA90-2160E97E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01A7A-EE5B-42B5-AFAC-EC848B1D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27A66-9F46-41F5-8F3C-D8A8AEEC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114EB-5B2B-4CA0-A518-B352D520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5CB1-E1CD-42CA-8581-CDF21058B8C3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CEF8-A4AE-4F6B-BA85-E238B5D56498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19AD-79D9-471C-B3BB-8C50718D7C83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DC7D-B260-4ECE-B9F7-D702A9AD8CF6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3FDA-4DAF-4642-8341-A5439AB4523A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373D-B1DE-4B53-9DB0-2D28A443B6EA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5E4E-55CD-4DA2-A577-E1CBB439E872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41C2-D474-4D7B-9A69-92551530DAFA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39E9-EDC0-41DA-8B5C-E377694B1DE8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D8B7-7164-4122-B791-7D755FD76C5D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9C9A-0DBE-4265-95A7-ACEAB37B183B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A7A4-396A-4253-91A5-16E2F08B3162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0E40-8DED-47D9-BB05-77908E204ACA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093B-ABC3-4B71-A094-084A36287D94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1559-D6F2-4A97-88B1-E7EEFAEF54A7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CB9F-9F52-4EBB-ABD5-71CF80756E9C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F8B9-6367-4ACE-ADDA-152F4765B0C0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876E-319F-454B-8936-268016926327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712800" y="554040"/>
            <a:ext cx="7785000" cy="2023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10920" y="2491920"/>
            <a:ext cx="80010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43329"/>
                </a:solidFill>
                <a:latin typeface="Sakkal Majalla"/>
                <a:cs typeface="Sakkal Majalla"/>
              </a:rPr>
              <a:t>مفهوم التدريس والتعليم والتعلم وطرق واساليب التدريس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ounded Rectangle 2"/>
          <p:cNvSpPr/>
          <p:nvPr/>
        </p:nvSpPr>
        <p:spPr>
          <a:xfrm>
            <a:off x="4786200" y="571680"/>
            <a:ext cx="3714840" cy="2571480"/>
          </a:xfrm>
          <a:prstGeom prst="roundRect">
            <a:avLst>
              <a:gd name="adj" fmla="val 16667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ounded Rectangle 3"/>
          <p:cNvSpPr/>
          <p:nvPr/>
        </p:nvSpPr>
        <p:spPr>
          <a:xfrm>
            <a:off x="4859280" y="3500280"/>
            <a:ext cx="3700440" cy="2881440"/>
          </a:xfrm>
          <a:prstGeom prst="roundRect">
            <a:avLst>
              <a:gd name="adj" fmla="val 16667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ounded Rectangle 4"/>
          <p:cNvSpPr/>
          <p:nvPr/>
        </p:nvSpPr>
        <p:spPr>
          <a:xfrm>
            <a:off x="826920" y="3500280"/>
            <a:ext cx="3786480" cy="2953080"/>
          </a:xfrm>
          <a:prstGeom prst="roundRect">
            <a:avLst>
              <a:gd name="adj" fmla="val 16667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ounded Rectangle 5"/>
          <p:cNvSpPr/>
          <p:nvPr/>
        </p:nvSpPr>
        <p:spPr>
          <a:xfrm>
            <a:off x="785880" y="571680"/>
            <a:ext cx="3786120" cy="2571480"/>
          </a:xfrm>
          <a:prstGeom prst="roundRect">
            <a:avLst>
              <a:gd name="adj" fmla="val 16667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6"/>
          <p:cNvSpPr/>
          <p:nvPr/>
        </p:nvSpPr>
        <p:spPr>
          <a:xfrm>
            <a:off x="4714920" y="571680"/>
            <a:ext cx="360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أولا: المدخل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تتكون من جميع مصادر تصميم المنهج كالأهداف والمحتوى الدراسي (الكتب الدراسية) والوسائل التعليمية والمعلمين والمديرين والموجهين والمب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7"/>
          <p:cNvSpPr/>
          <p:nvPr/>
        </p:nvSpPr>
        <p:spPr>
          <a:xfrm>
            <a:off x="857160" y="571680"/>
            <a:ext cx="3643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ثانيا: العملي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ويقصد بها التفاعلات التي تحدث بين المدخلات لانتاج المخرجات وتتمثل في خطوات انتاج المنهج المدرسي ابتداء من تخطيطه ومرورا بتنفيذه وانتهاء بتقويمه وتطوي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4786200" y="3645000"/>
            <a:ext cx="360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ثالثا: المخرج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النتاجات التربوية المتمثلة في الاهداف الخاصة بالنمو الشامل والمتكامل للمتعلم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755640" y="3500280"/>
            <a:ext cx="3714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رابعا: التغذية الراجع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تهدف إلى التأكد من ان المخرجات التي تم الحصول عليها كانت مناسبة لكل من المدخلات والعمليات أو انها تحتاج إلى تعديل أو اضافات لتحسين نوعية المخرج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28400" y="428760"/>
            <a:ext cx="8258040" cy="60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54160" indent="-25416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مفهوم المنهج المدرسي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54160" indent="-2541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254160" indent="-254160" algn="just" rtl="1">
              <a:spcBef>
                <a:spcPts val="799"/>
              </a:spcBef>
              <a:buClr>
                <a:srgbClr val="b58b8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54160" indent="-254160" algn="just" rtl="1">
              <a:lnSpc>
                <a:spcPct val="100000"/>
              </a:lnSpc>
              <a:spcBef>
                <a:spcPts val="1001"/>
              </a:spcBef>
              <a:buClr>
                <a:srgbClr val="b58b8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لمنهج في اللغة: لفظ مشتق من النهج وهو الطريق الواضح, وعلى ذلك فالمنهج لغويا يعني وسيلة محددة توصل الى غاية معينة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54160" indent="-254160" algn="just" rtl="1">
              <a:lnSpc>
                <a:spcPct val="100000"/>
              </a:lnSpc>
              <a:spcBef>
                <a:spcPts val="1001"/>
              </a:spcBef>
              <a:buClr>
                <a:srgbClr val="b58b8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في الميدان التربوي: وسيلة منظمة ومحددة تساعد في الوصول إلى غاية منشودة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54160" indent="-254160" algn="r" rtl="1">
              <a:lnSpc>
                <a:spcPct val="100000"/>
              </a:lnSpc>
              <a:spcBef>
                <a:spcPts val="1001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28400" y="259920"/>
            <a:ext cx="82580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22480" indent="-22248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مفهوم المنهج المدرسي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22480" indent="-222480" algn="r" rtl="1"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22480" indent="-22248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95008"/>
                </a:solidFill>
                <a:latin typeface="Sakkal Majalla"/>
                <a:cs typeface="Sakkal Majalla"/>
              </a:rPr>
              <a:t>مفهوم المنهج التقليدي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153000" indent="-153000" algn="just" rtl="1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مفهوم المنهج المدرسي لدى المربين التقليديين كان مرادفا للمعرفة فالمنهج عندهم يمثل المقرر الدراسي حيث كان تعريف المنهج: مجموعة المقررات الدراسية التي يتولى المتخصصون اعدادها ويقوم المتعلمون بدراستها تحت اشراف المدرسة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22480" indent="-222480" algn="r" rtl="1">
              <a:lnSpc>
                <a:spcPct val="100000"/>
              </a:lnSpc>
              <a:spcBef>
                <a:spcPts val="1001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3103560" y="469800"/>
            <a:ext cx="3492360" cy="14875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916000" y="2204640"/>
            <a:ext cx="388764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1368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تزويد المتعلم بأكبر قدر ممكن من المعلومات بحسبان ان المعرفة لها قيمة في ذاتها وأن تزويد المتعلم بها يكفي ووحدة لتوجيه سلوكه بما يتفق مع مضمون هذه المعرف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Rounded Rectangle 4"/>
          <p:cNvSpPr/>
          <p:nvPr/>
        </p:nvSpPr>
        <p:spPr>
          <a:xfrm>
            <a:off x="2411280" y="476280"/>
            <a:ext cx="4897440" cy="5286240"/>
          </a:xfrm>
          <a:custGeom>
            <a:avLst/>
            <a:gdLst>
              <a:gd name="textAreaLeft" fmla="*/ 239040 w 4897440"/>
              <a:gd name="textAreaRight" fmla="*/ 4658400 w 4897440"/>
              <a:gd name="textAreaTop" fmla="*/ 239040 h 5286240"/>
              <a:gd name="textAreaBottom" fmla="*/ 5047200 h 5286240"/>
            </a:gdLst>
            <a:ahLst/>
            <a:rect l="textAreaLeft" t="textAreaTop" r="textAreaRight" b="textAreaBottom"/>
            <a:pathLst>
              <a:path w="21600" h="23315">
                <a:moveTo>
                  <a:pt x="3600" y="0"/>
                </a:moveTo>
                <a:arcTo wR="3600" hR="3600" stAng="16200000" swAng="-5400000"/>
                <a:lnTo>
                  <a:pt x="0" y="19715"/>
                </a:lnTo>
                <a:arcTo wR="3600" hR="3600" stAng="10800000" swAng="-5400000"/>
                <a:lnTo>
                  <a:pt x="18000" y="23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28760" y="1125000"/>
            <a:ext cx="8175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هتمامه بالجانب المعرفي في مستوياته الدنيا من تذكر وفهم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همال حاجات المتعلمين وميولهم ومابينهم من فروق فردية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غفال دور القدوة والقيم التربوية في توجيه السلوك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قتل ابداع المعلم وقيد حريته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قتصار اختيار محتوى المادة الدراسية وتنظيمها على المتخصصين والخبراء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ستبعاد معظم الانشطة المدرسية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نعزال المدرسة عن الحياة حيث استنفذت طاقتها في حفظ المعارف وتلقين الدروس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TextBox 6"/>
          <p:cNvSpPr/>
          <p:nvPr/>
        </p:nvSpPr>
        <p:spPr>
          <a:xfrm>
            <a:off x="2987640" y="33336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95008"/>
                </a:solidFill>
                <a:latin typeface="Sakkal Majalla"/>
                <a:cs typeface="Sakkal Majalla"/>
              </a:rPr>
              <a:t>النقد الموجة للمنهج التقليد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" dur="2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71360" y="30240"/>
            <a:ext cx="8588520" cy="1079280"/>
          </a:xfrm>
          <a:prstGeom prst="rect">
            <a:avLst/>
          </a:prstGeom>
          <a:ln w="0">
            <a:noFill/>
          </a:ln>
        </p:spPr>
      </p:pic>
      <p:sp>
        <p:nvSpPr>
          <p:cNvPr id="409" name="TextBox 2"/>
          <p:cNvSpPr/>
          <p:nvPr/>
        </p:nvSpPr>
        <p:spPr>
          <a:xfrm>
            <a:off x="755640" y="1109520"/>
            <a:ext cx="7786800" cy="73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82520" indent="-182520" algn="r" rtl="1">
              <a:lnSpc>
                <a:spcPct val="100000"/>
              </a:lnSpc>
              <a:spcBef>
                <a:spcPts val="249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تطورات التي حدثت في كافة مجالات الحياة العلمية والتقنية والثقافية والاجتماع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82520" indent="-182520" algn="r" rtl="1">
              <a:lnSpc>
                <a:spcPct val="100000"/>
              </a:lnSpc>
              <a:spcBef>
                <a:spcPts val="249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تغير الذي طرأ على أهداف التربية ووظيفة المدرسة ومهام المعلم حيث غدت التربية صانعة للتطور وصائغة للمستقب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82520" indent="-182520" algn="r" rtl="1">
              <a:lnSpc>
                <a:spcPct val="100000"/>
              </a:lnSpc>
              <a:spcBef>
                <a:spcPts val="249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تطور في ميادين العلوم المختلفة ولاسيما في ميدان التربية وعلم النف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82520" indent="-182520" algn="r" rtl="1">
              <a:lnSpc>
                <a:spcPct val="100000"/>
              </a:lnSpc>
              <a:spcBef>
                <a:spcPts val="249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نتائج البحوث التي تناولت المنهج المدرسي القديم وأظهرت كثير من جوانب القصور والضعف التي تركت آثارا سلبية على العملية التعليم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3486240" y="396720"/>
            <a:ext cx="2981160" cy="133992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916000" y="1700280"/>
            <a:ext cx="4103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4760" algn="r" rtl="1">
              <a:lnSpc>
                <a:spcPct val="100000"/>
              </a:lnSpc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لمنهج هو جميع الخبرات المخططة التي تقدمها المدرس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760" algn="r" rtl="1">
              <a:lnSpc>
                <a:spcPct val="100000"/>
              </a:lnSpc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لمنهج هو كل نشاط هادف تقدمه وتنظمه المدرس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760" algn="r" rtl="1">
              <a:lnSpc>
                <a:spcPct val="100000"/>
              </a:lnSpc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لمنهج هو مجموعة الخبرات والانشطة التي تقدمها المدرس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Rounded Rectangle 4"/>
          <p:cNvSpPr/>
          <p:nvPr/>
        </p:nvSpPr>
        <p:spPr>
          <a:xfrm>
            <a:off x="2484360" y="333360"/>
            <a:ext cx="4967280" cy="5040360"/>
          </a:xfrm>
          <a:custGeom>
            <a:avLst/>
            <a:gdLst>
              <a:gd name="textAreaLeft" fmla="*/ 242280 w 4967280"/>
              <a:gd name="textAreaRight" fmla="*/ 4725000 w 4967280"/>
              <a:gd name="textAreaTop" fmla="*/ 242280 h 5040360"/>
              <a:gd name="textAreaBottom" fmla="*/ 4798080 h 5040360"/>
            </a:gdLst>
            <a:ahLst/>
            <a:rect l="textAreaLeft" t="textAreaTop" r="textAreaRight" b="textAreaBottom"/>
            <a:pathLst>
              <a:path w="21600" h="21918">
                <a:moveTo>
                  <a:pt x="3600" y="0"/>
                </a:moveTo>
                <a:arcTo wR="3600" hR="3600" stAng="16200000" swAng="-5400000"/>
                <a:lnTo>
                  <a:pt x="0" y="18318"/>
                </a:lnTo>
                <a:arcTo wR="3600" hR="3600" stAng="10800000" swAng="-5400000"/>
                <a:lnTo>
                  <a:pt x="18000" y="219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50920" y="404640"/>
            <a:ext cx="8391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يتضمن المنهج خبرات تربوية مفيدة يتم تصميمها تحت اشراف المدرسة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تتنوع الخبرات التربوية بتنوع الجوانب التي ترغب المدرسة باحداث النمو فيها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يحدث التعلم من خلال مرور المتعلم بخبرات متعددة ومشاركته في مواقف تعليمية ولا يكون سلبيا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لا تقتصر بيئة التعلم على حجرة الدراسة وانما تمتد إلى خارجهما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يسعى المنهج الحديث إلى النمو الشامل المتكامل للمتعلم والذي يؤدي إلى تعديل سلوكه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يهدف المنهج الحديث إلى ان يُعمِل المتعلم عقله ويبذل جهده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712800" y="317520"/>
            <a:ext cx="7785000" cy="1077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3"/>
          <p:cNvSpPr/>
          <p:nvPr/>
        </p:nvSpPr>
        <p:spPr>
          <a:xfrm>
            <a:off x="395280" y="1268280"/>
            <a:ext cx="842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منهج وفقا لأسلوب النظم يتكون من: </a:t>
            </a:r>
            <a:r>
              <a:rPr b="0" lang="ar-SA" sz="32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مدخل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عمل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مخرج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تغذية راجع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1542960" y="4214880"/>
            <a:ext cx="1500120" cy="6429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4029120" y="4214880"/>
            <a:ext cx="1500120" cy="6429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6357960" y="4214880"/>
            <a:ext cx="1500120" cy="6429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286080" y="5357880"/>
            <a:ext cx="3000600" cy="5713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Straight Arrow Connector 9"/>
          <p:cNvCxnSpPr>
            <a:stCxn id="418" idx="1"/>
            <a:endCxn id="417" idx="3"/>
          </p:cNvCxnSpPr>
          <p:nvPr/>
        </p:nvCxnSpPr>
        <p:spPr>
          <a:xfrm flipH="1" flipV="1">
            <a:off x="5528880" y="4536720"/>
            <a:ext cx="829440" cy="2160"/>
          </a:xfrm>
          <a:prstGeom prst="straightConnector1">
            <a:avLst/>
          </a:prstGeom>
          <a:ln w="3492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21" name="Straight Arrow Connector 12"/>
          <p:cNvCxnSpPr/>
          <p:nvPr/>
        </p:nvCxnSpPr>
        <p:spPr>
          <a:xfrm flipH="1" flipV="1">
            <a:off x="3014280" y="4500360"/>
            <a:ext cx="1000800" cy="2160"/>
          </a:xfrm>
          <a:prstGeom prst="straightConnector1">
            <a:avLst/>
          </a:prstGeom>
          <a:ln w="3492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22" name="Shape 26"/>
          <p:cNvCxnSpPr>
            <a:stCxn id="416" idx="2"/>
            <a:endCxn id="419" idx="1"/>
          </p:cNvCxnSpPr>
          <p:nvPr/>
        </p:nvCxnSpPr>
        <p:spPr>
          <a:xfrm flipH="1" rot="16200000">
            <a:off x="2396160" y="4753800"/>
            <a:ext cx="786600" cy="993960"/>
          </a:xfrm>
          <a:prstGeom prst="bentConnector2">
            <a:avLst/>
          </a:prstGeom>
          <a:ln w="34920">
            <a:solidFill>
              <a:srgbClr val="f0a22e"/>
            </a:solidFill>
            <a:prstDash val="dash"/>
            <a:miter/>
            <a:tailEnd len="med" type="arrow" w="med"/>
          </a:ln>
        </p:spPr>
      </p:cxnSp>
      <p:cxnSp>
        <p:nvCxnSpPr>
          <p:cNvPr id="423" name="Shape 33"/>
          <p:cNvCxnSpPr>
            <a:stCxn id="419" idx="3"/>
            <a:endCxn id="418" idx="2"/>
          </p:cNvCxnSpPr>
          <p:nvPr/>
        </p:nvCxnSpPr>
        <p:spPr>
          <a:xfrm flipV="1">
            <a:off x="6286680" y="4857120"/>
            <a:ext cx="822960" cy="786600"/>
          </a:xfrm>
          <a:prstGeom prst="bentConnector2">
            <a:avLst/>
          </a:prstGeom>
          <a:ln w="34920">
            <a:solidFill>
              <a:srgbClr val="f0a22e"/>
            </a:solidFill>
            <a:prstDash val="dash"/>
            <a:miter/>
            <a:tailEnd len="med" type="arrow" w="med"/>
          </a:ln>
        </p:spPr>
      </p:cxnSp>
      <p:cxnSp>
        <p:nvCxnSpPr>
          <p:cNvPr id="424" name="Straight Arrow Connector 35"/>
          <p:cNvCxnSpPr>
            <a:stCxn id="419" idx="0"/>
          </p:cNvCxnSpPr>
          <p:nvPr/>
        </p:nvCxnSpPr>
        <p:spPr>
          <a:xfrm flipV="1">
            <a:off x="4785120" y="4858560"/>
            <a:ext cx="2520" cy="500760"/>
          </a:xfrm>
          <a:prstGeom prst="straightConnector1">
            <a:avLst/>
          </a:prstGeom>
          <a:ln w="34920">
            <a:solidFill>
              <a:srgbClr val="f0a22e"/>
            </a:solidFill>
            <a:prstDash val="dash"/>
            <a:miter/>
            <a:tailEnd len="med" type="arrow" w="med"/>
          </a:ln>
        </p:spPr>
      </p:cxnSp>
      <p:sp>
        <p:nvSpPr>
          <p:cNvPr id="425" name="TextBox 36"/>
          <p:cNvSpPr/>
          <p:nvPr/>
        </p:nvSpPr>
        <p:spPr>
          <a:xfrm>
            <a:off x="6372360" y="4221000"/>
            <a:ext cx="150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2f2f2"/>
                </a:solidFill>
                <a:latin typeface="Franklin Gothic Book"/>
                <a:cs typeface="Tahoma"/>
              </a:rPr>
              <a:t>المدخلا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37"/>
          <p:cNvSpPr/>
          <p:nvPr/>
        </p:nvSpPr>
        <p:spPr>
          <a:xfrm>
            <a:off x="3643200" y="535788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2f2f2"/>
                </a:solidFill>
                <a:latin typeface="Franklin Gothic Book"/>
                <a:cs typeface="Tahoma"/>
              </a:rPr>
              <a:t>التغذية الراجع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38"/>
          <p:cNvSpPr/>
          <p:nvPr/>
        </p:nvSpPr>
        <p:spPr>
          <a:xfrm>
            <a:off x="1500120" y="4286160"/>
            <a:ext cx="1571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2f2f2"/>
                </a:solidFill>
                <a:latin typeface="Franklin Gothic Book"/>
                <a:cs typeface="Tahoma"/>
              </a:rPr>
              <a:t>المخرجا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39"/>
          <p:cNvSpPr/>
          <p:nvPr/>
        </p:nvSpPr>
        <p:spPr>
          <a:xfrm>
            <a:off x="4000680" y="4286160"/>
            <a:ext cx="150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2f2f2"/>
                </a:solidFill>
                <a:latin typeface="Franklin Gothic Book"/>
                <a:cs typeface="Tahoma"/>
              </a:rPr>
              <a:t>العمليا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1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1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1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1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1:13:50Z</dcterms:created>
  <dc:creator>shaden</dc:creator>
  <dc:description/>
  <dc:language>en-US</dc:language>
  <cp:lastModifiedBy>toshiba</cp:lastModifiedBy>
  <dcterms:modified xsi:type="dcterms:W3CDTF">2012-09-12T11:01:06Z</dcterms:modified>
  <cp:revision>29</cp:revision>
  <dc:subject/>
  <dc:title>المنهج قديما وحديث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851E1D0E8298C40B009BEDD03E1BEB6</vt:lpwstr>
  </property>
</Properties>
</file>