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0C20-FC1A-4BFC-A589-C67538BB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885-7748-4CF3-B038-C771E955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E3164-EF2C-4267-AE56-105A9687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496CB-3138-4A16-8ED0-35BF10AE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1106A-6E6B-4350-8ADD-2C56BF00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DE059-09BA-40B7-8D23-208896F3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39327-D6DB-4A52-B25D-7EE9CA4C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751AE-BDDE-412A-8C11-BD163EF2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1606E-F166-459D-AE13-D9502425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33870-937E-45D7-8676-1579C2E3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0C8AB-BBFE-4FDF-B7D7-641E3770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EE35-F158-487E-BEF8-22F170C0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58B1-D7D2-47DA-904B-CEE7B8CD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9C62-D224-4E82-83CE-44EB9AD1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E1CD-364F-4588-ABCD-5E63C884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8DB4-7800-46C8-B8B4-E30AACD7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BDAE-B9B9-498E-83D6-50F37548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A860-A2EB-44D2-81F8-3C3E5036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2EA4-AC61-4664-B93D-9E1D4737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5F51-69B6-4B46-94BE-EE46D5B2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97EE-B751-4267-8761-DF0015EF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0468-2B2D-47B3-B14C-9A1AA2B2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EB3D-4897-41D4-B96F-67E20EB1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C0FF-1BEA-402E-BE14-0774AB4FF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2836-A515-4B2B-B092-F3C1EF4D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E5ED-318C-41A2-9A81-DF95B7EF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AD9A6-DF7C-4185-9EF6-C67434DD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6F6E2-751B-49CD-BC3A-31208657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6A475-8759-4708-BCE9-2EE0954C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53A6A-A2B5-4007-AF66-9DD7D675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94063-1F49-4F09-8DB9-905C8661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6B8-16D5-417B-AE2D-E8DD4BBF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9C560-0637-430B-9DBE-C55163B7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C6FE4-111E-442E-94A2-29CE88EA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0BFA4-8336-4B2B-8CDA-C4F3C47A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463FF-51E4-446E-9A9C-8C6E3F9E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2B749-C88C-46D5-9628-84461B7A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439BB-DC42-4027-A1D2-06A18CC1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E90AF-F20F-4031-A215-3571A05F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BC64C-644A-4F9B-A933-E9C7D9DC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8D422-3090-4610-8CC1-16E8EBDF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4FB1B-11DE-40DE-9621-A9B64ECA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C0B9-15FB-4FCF-8460-554CA39D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C403E-90B1-401B-9390-E9A2683C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B0222-0310-4688-8D53-854586E3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40447-EC81-4DD6-9DF6-46363E39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DFCD3-B18C-4859-8E6D-CF35C2A3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0745A-3A17-40DD-A37C-96F61D00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D0D08-7BE4-47EC-A53B-756B04CC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94566-6325-4BEE-AFFB-0351A239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B88D4-1228-46C7-B4F9-679F9D0B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FA416-F212-4EEB-9612-A9B03EA8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EB9A3-3650-4F52-A6C2-3DCBA99D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F0C-408B-40CC-BF17-FF1680A1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7C5BC-86DD-43A1-9E70-8109F44C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F0FC7-EE35-4129-AA3D-C3FCBE3E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536E6-CE3F-4B55-8F15-CCE94E58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D1E15-84C2-4F69-BAA0-56E4903D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B1671-D3B6-426F-8571-6794176B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40E94-0456-4662-AC35-D68A000B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90556-CC12-4244-B0CC-7FB52A78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C0955-18E0-4E21-972B-3CA0C43E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9BE84-175E-4B79-AD86-591490A1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7C27A-7D8E-4276-A533-2FF3102A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C9C-EE12-43E9-B726-A687BBC1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C2A81-6B47-4E38-B3D6-B3C9B749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6DDC8-C809-43D0-A582-89E5E2F2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D7F1A-4648-487A-BC79-12CBE4D4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CFDA8-BDF4-4444-9479-6E3DA7AE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94FB4-3365-4D28-BF17-7B76E894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37E17-686F-4E2D-9715-061F558E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0AEF0-06B2-4C00-8B61-FC4F2992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6C8E2-52DB-4EC5-85A0-55383487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7E770-BDE2-4472-94B6-C32E378F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731AE-A0F4-4E98-9B8A-F9EF2132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926-045A-4CEA-B007-D131B4D0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D86DE-4365-4F23-8D3A-5FE69774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DC1A5-03B9-4EA9-8368-E5774696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0AE6E-F6AD-4B2B-A52D-9D08E46A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CD643-F253-4F3B-B9D6-8AF7F9D6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A690E-9BFF-4BA7-BE86-D18C076C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69891-0C31-47EF-BCD3-060EC574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F6DB2-D957-4481-AFCB-10243F47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DA7ED-1A2A-4F1D-9C59-D780577E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DF1B0-BA43-41FA-B042-7D05CF1F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BAE36-AAC2-4E1B-9689-C0314AA3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FFF-BF05-4738-AF52-4E07967F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52AC5-031E-4EB3-B327-9E018322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6683B-02CD-48B2-86B2-3D0ADD06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BF53B-3E36-4005-BFD7-51854AC9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8F52A-17D0-4299-90E9-56B37869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1B98D-5EB2-4A02-A6BC-DDADDE4C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59D25-E1EC-48F5-96D6-5151861A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A097E-6A9E-4809-9942-358B33E0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41D98-6AC6-4CC2-AA2A-3ED801A2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94BD3-302F-4786-98EF-78E38113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D3C9E-DD9E-478D-837F-7EA917B2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E870-60A0-4DF4-A08D-047F0D59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F811C-AC06-42D7-9F3F-F78768A3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9897D-9939-439B-B21E-33580807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AD1B8-AD9A-4BDE-9F72-19552741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1FCD4-EBA7-4579-B46E-54A7DC52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A70F5-2DE1-4EE0-A2FF-CE8E9DEE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CC3D5-1DAD-4D27-9C1C-486DFFC3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7F155-7D53-40FA-A2B4-5D189D2A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60AF0-803E-40AD-B279-BCD8AA8A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436FB-82E2-4C95-B89D-EAD23B4A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BEF7E-BABA-45FE-A920-E9EC5D7C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1AC6-97E5-4684-8A47-7BF805792B0D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٤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52D1-70F4-4873-8EF5-DB96F43697E0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07FE-D915-43FF-A5D8-7676D7D1F2AA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٤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7B02-7A65-4898-8247-2FCBC4D9BF8C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E063-DB0C-4F70-B845-66CE5823F4DE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٤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F660-93B7-4894-8981-40006897D21B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DE55-25DB-4A2C-9A3A-43D3A0709302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٤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6D8B-D942-4877-B80C-32CCE8BE0AC1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21D2-3651-4A3A-A225-3041D7390AA0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٤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6848-4AE5-449E-B67E-EC015BBF5F2D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2DDB-E97F-42A6-8DBE-99642896EFC7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٤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9AFC-B863-4BA3-A872-442879DCCB9D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23A8-160E-4E48-B0CB-6EC309A51026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٤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8D47-33EA-447F-944C-3FAA174E9E49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B350-4A50-4F61-8949-C48F22D81E3E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٤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783C-BDD2-4EA8-93F4-828A56E48F73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0784-773C-4F69-B18C-7BED696F552C}" type="datetime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١٤٤٨/٠٢/١٤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إعداد: أ.إيمان المريعي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08A6-E234-4D0E-8ED4-0FBD309B9C94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712800" y="554040"/>
            <a:ext cx="7785000" cy="2023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10920" y="2491920"/>
            <a:ext cx="800100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43329"/>
                </a:solidFill>
                <a:latin typeface="Sakkal Majalla"/>
                <a:cs typeface="Sakkal Majalla"/>
              </a:rPr>
              <a:t>مفهوم التدريس والتعليم والتعلم وطرق واساليب التدريس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ounded Rectangle 2"/>
          <p:cNvSpPr/>
          <p:nvPr/>
        </p:nvSpPr>
        <p:spPr>
          <a:xfrm>
            <a:off x="4786200" y="571680"/>
            <a:ext cx="3714840" cy="2571480"/>
          </a:xfrm>
          <a:prstGeom prst="roundRect">
            <a:avLst>
              <a:gd name="adj" fmla="val 16667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ounded Rectangle 3"/>
          <p:cNvSpPr/>
          <p:nvPr/>
        </p:nvSpPr>
        <p:spPr>
          <a:xfrm>
            <a:off x="4859280" y="3500280"/>
            <a:ext cx="3700440" cy="2881440"/>
          </a:xfrm>
          <a:prstGeom prst="roundRect">
            <a:avLst>
              <a:gd name="adj" fmla="val 16667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ounded Rectangle 4"/>
          <p:cNvSpPr/>
          <p:nvPr/>
        </p:nvSpPr>
        <p:spPr>
          <a:xfrm>
            <a:off x="826920" y="3500280"/>
            <a:ext cx="3786480" cy="2953080"/>
          </a:xfrm>
          <a:prstGeom prst="roundRect">
            <a:avLst>
              <a:gd name="adj" fmla="val 16667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ounded Rectangle 5"/>
          <p:cNvSpPr/>
          <p:nvPr/>
        </p:nvSpPr>
        <p:spPr>
          <a:xfrm>
            <a:off x="785880" y="571680"/>
            <a:ext cx="3786120" cy="2571480"/>
          </a:xfrm>
          <a:prstGeom prst="roundRect">
            <a:avLst>
              <a:gd name="adj" fmla="val 16667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6"/>
          <p:cNvSpPr/>
          <p:nvPr/>
        </p:nvSpPr>
        <p:spPr>
          <a:xfrm>
            <a:off x="4714920" y="571680"/>
            <a:ext cx="360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أولا: المدخل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تتكون من جميع مصادر تصميم المنهج كالأهداف والمحتوى الدراسي (الكتب الدراسية) والوسائل التعليمية والمعلمين والمديرين والموجهين والمب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7"/>
          <p:cNvSpPr/>
          <p:nvPr/>
        </p:nvSpPr>
        <p:spPr>
          <a:xfrm>
            <a:off x="857160" y="571680"/>
            <a:ext cx="3643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ثانيا: العملي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ويقصد بها التفاعلات التي تحدث بين المدخلات لانتاج المخرجات وتتمثل في خطوات انتاج المنهج المدرسي ابتداء من تخطيطه ومرورا بتنفيذه وانتهاء بتقويمه وتطوير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4786200" y="3645000"/>
            <a:ext cx="360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ثالثا: المخرج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النتاجات التربوية المتمثلة في الاهداف الخاصة بالنمو الشامل والمتكامل للمتعلم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755640" y="3500280"/>
            <a:ext cx="3714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رابعا: التغذية الراجع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تهدف إلى التأكد من ان المخرجات التي تم الحصول عليها كانت مناسبة لكل من المدخلات والعمليات أو انها تحتاج إلى تعديل أو اضافات لتحسين نوعية المخرج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28400" y="428760"/>
            <a:ext cx="8258040" cy="60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54160" indent="-25416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مفهوم المنهج المدرسي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54160" indent="-2541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 marL="254160" indent="-254160" algn="just" rtl="1">
              <a:spcBef>
                <a:spcPts val="799"/>
              </a:spcBef>
              <a:buClr>
                <a:srgbClr val="b58b8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54160" indent="-254160" algn="just" rtl="1">
              <a:lnSpc>
                <a:spcPct val="100000"/>
              </a:lnSpc>
              <a:spcBef>
                <a:spcPts val="1001"/>
              </a:spcBef>
              <a:buClr>
                <a:srgbClr val="b58b8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لمنهج في اللغة: لفظ مشتق من النهج وهو الطريق الواضح, وعلى ذلك فالمنهج لغويا يعني وسيلة محددة توصل الى غاية معينة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54160" indent="-254160" algn="just" rtl="1">
              <a:lnSpc>
                <a:spcPct val="100000"/>
              </a:lnSpc>
              <a:spcBef>
                <a:spcPts val="1001"/>
              </a:spcBef>
              <a:buClr>
                <a:srgbClr val="b58b8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في الميدان التربوي: وسيلة منظمة ومحددة تساعد في الوصول إلى غاية منشودة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54160" indent="-254160" algn="r" rtl="1">
              <a:lnSpc>
                <a:spcPct val="100000"/>
              </a:lnSpc>
              <a:spcBef>
                <a:spcPts val="1001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28400" y="259920"/>
            <a:ext cx="82580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22480" indent="-22248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d0d0d"/>
                </a:solidFill>
                <a:latin typeface="Sakkal Majalla"/>
                <a:cs typeface="Sakkal Majalla"/>
              </a:rPr>
              <a:t>مفهوم المنهج المدرسي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22480" indent="-222480" algn="r" rtl="1"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22480" indent="-22248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95008"/>
                </a:solidFill>
                <a:latin typeface="Sakkal Majalla"/>
                <a:cs typeface="Sakkal Majalla"/>
              </a:rPr>
              <a:t>مفهوم المنهج التقليدي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153000" indent="-153000" algn="just" rtl="1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مفهوم المنهج المدرسي لدى المربين التقليديين كان مرادفا للمعرفة فالمنهج عندهم يمثل المقرر الدراسي حيث كان تعريف المنهج: مجموعة المقررات الدراسية التي يتولى المتخصصون اعدادها ويقوم المتعلمون بدراستها تحت اشراف المدرسة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222480" indent="-222480" algn="r" rtl="1">
              <a:lnSpc>
                <a:spcPct val="100000"/>
              </a:lnSpc>
              <a:spcBef>
                <a:spcPts val="1001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3103560" y="469800"/>
            <a:ext cx="3492360" cy="14875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916000" y="2204640"/>
            <a:ext cx="388764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1368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تزويد المتعلم بأكبر قدر ممكن من المعلومات بحسبان ان المعرفة لها قيمة في ذاتها وأن تزويد المتعلم بها يكفي ووحدة لتوجيه سلوكه بما يتفق مع مضمون هذه المعرف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Rounded Rectangle 4"/>
          <p:cNvSpPr/>
          <p:nvPr/>
        </p:nvSpPr>
        <p:spPr>
          <a:xfrm>
            <a:off x="2411280" y="476280"/>
            <a:ext cx="4897440" cy="5286240"/>
          </a:xfrm>
          <a:custGeom>
            <a:avLst/>
            <a:gdLst>
              <a:gd name="textAreaLeft" fmla="*/ 239040 w 4897440"/>
              <a:gd name="textAreaRight" fmla="*/ 4658400 w 4897440"/>
              <a:gd name="textAreaTop" fmla="*/ 239040 h 5286240"/>
              <a:gd name="textAreaBottom" fmla="*/ 5047200 h 5286240"/>
            </a:gdLst>
            <a:ahLst/>
            <a:rect l="textAreaLeft" t="textAreaTop" r="textAreaRight" b="textAreaBottom"/>
            <a:pathLst>
              <a:path w="21600" h="23315">
                <a:moveTo>
                  <a:pt x="3600" y="0"/>
                </a:moveTo>
                <a:arcTo wR="3600" hR="3600" stAng="16200000" swAng="-5400000"/>
                <a:lnTo>
                  <a:pt x="0" y="19715"/>
                </a:lnTo>
                <a:arcTo wR="3600" hR="3600" stAng="10800000" swAng="-5400000"/>
                <a:lnTo>
                  <a:pt x="18000" y="233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28760" y="1125000"/>
            <a:ext cx="817560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هتمامه بالجانب المعرفي في مستوياته الدنيا من تذكر وفهم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همال حاجات المتعلمين وميولهم ومابينهم من فروق فردية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غفال دور القدوة والقيم التربوية في توجيه السلوك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قتل ابداع المعلم وقيد حريته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قتصار اختيار محتوى المادة الدراسية وتنظيمها على المتخصصين والخبراء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ستبعاد معظم الانشطة المدرسية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142200" indent="-142200" algn="r" rtl="1">
              <a:lnSpc>
                <a:spcPct val="90000"/>
              </a:lnSpc>
              <a:spcBef>
                <a:spcPts val="850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نعزال المدرسة عن الحياة حيث استنفذت طاقتها في حفظ المعارف وتلقين الدروس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TextBox 6"/>
          <p:cNvSpPr/>
          <p:nvPr/>
        </p:nvSpPr>
        <p:spPr>
          <a:xfrm>
            <a:off x="2987640" y="33336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95008"/>
                </a:solidFill>
                <a:latin typeface="Sakkal Majalla"/>
                <a:cs typeface="Sakkal Majalla"/>
              </a:rPr>
              <a:t>النقد الموجة للمنهج التقليد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71360" y="30240"/>
            <a:ext cx="8588520" cy="1079280"/>
          </a:xfrm>
          <a:prstGeom prst="rect">
            <a:avLst/>
          </a:prstGeom>
          <a:ln w="0">
            <a:noFill/>
          </a:ln>
        </p:spPr>
      </p:pic>
      <p:sp>
        <p:nvSpPr>
          <p:cNvPr id="409" name="TextBox 2"/>
          <p:cNvSpPr/>
          <p:nvPr/>
        </p:nvSpPr>
        <p:spPr>
          <a:xfrm>
            <a:off x="755640" y="1109520"/>
            <a:ext cx="7786800" cy="73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82520" indent="-182520" algn="r" rtl="1">
              <a:lnSpc>
                <a:spcPct val="100000"/>
              </a:lnSpc>
              <a:spcBef>
                <a:spcPts val="249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تطورات التي حدثت في كافة مجالات الحياة العلمية والتقنية والثقافية والاجتماع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82520" indent="-182520" algn="r" rtl="1">
              <a:lnSpc>
                <a:spcPct val="100000"/>
              </a:lnSpc>
              <a:spcBef>
                <a:spcPts val="249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تغير الذي طرأ على أهداف التربية ووظيفة المدرسة ومهام المعلم حيث غدت التربية صانعة للتطور وصائغة للمستقبل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82520" indent="-182520" algn="r" rtl="1">
              <a:lnSpc>
                <a:spcPct val="100000"/>
              </a:lnSpc>
              <a:spcBef>
                <a:spcPts val="249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تطور في ميادين العلوم المختلفة ولاسيما في ميدان التربية وعلم النف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82520" indent="-182520" algn="r" rtl="1">
              <a:lnSpc>
                <a:spcPct val="100000"/>
              </a:lnSpc>
              <a:spcBef>
                <a:spcPts val="249"/>
              </a:spcBef>
              <a:buClr>
                <a:srgbClr val="f0a2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نتائج البحوث التي تناولت المنهج المدرسي القديم وأظهرت كثير من جوانب القصور والضعف التي تركت آثارا سلبية على العملية التعليم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2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3486240" y="396720"/>
            <a:ext cx="2981160" cy="133992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916000" y="1700280"/>
            <a:ext cx="41036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4760" algn="r" rtl="1">
              <a:lnSpc>
                <a:spcPct val="100000"/>
              </a:lnSpc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لمنهج هو جميع الخبرات المخططة التي تقدمها المدرس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760" algn="r" rtl="1">
              <a:lnSpc>
                <a:spcPct val="100000"/>
              </a:lnSpc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لمنهج هو كل نشاط هادف تقدمه وتنظمه المدرس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760" algn="r" rtl="1">
              <a:lnSpc>
                <a:spcPct val="100000"/>
              </a:lnSpc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المنهج هو مجموعة الخبرات والانشطة التي تقدمها المدرس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Rounded Rectangle 4"/>
          <p:cNvSpPr/>
          <p:nvPr/>
        </p:nvSpPr>
        <p:spPr>
          <a:xfrm>
            <a:off x="2484360" y="333360"/>
            <a:ext cx="4967280" cy="5040360"/>
          </a:xfrm>
          <a:custGeom>
            <a:avLst/>
            <a:gdLst>
              <a:gd name="textAreaLeft" fmla="*/ 242280 w 4967280"/>
              <a:gd name="textAreaRight" fmla="*/ 4725000 w 4967280"/>
              <a:gd name="textAreaTop" fmla="*/ 242280 h 5040360"/>
              <a:gd name="textAreaBottom" fmla="*/ 4798080 h 5040360"/>
            </a:gdLst>
            <a:ahLst/>
            <a:rect l="textAreaLeft" t="textAreaTop" r="textAreaRight" b="textAreaBottom"/>
            <a:pathLst>
              <a:path w="21600" h="21918">
                <a:moveTo>
                  <a:pt x="3600" y="0"/>
                </a:moveTo>
                <a:arcTo wR="3600" hR="3600" stAng="16200000" swAng="-5400000"/>
                <a:lnTo>
                  <a:pt x="0" y="18318"/>
                </a:lnTo>
                <a:arcTo wR="3600" hR="3600" stAng="10800000" swAng="-5400000"/>
                <a:lnTo>
                  <a:pt x="18000" y="219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50920" y="404640"/>
            <a:ext cx="8391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يتضمن المنهج خبرات تربوية مفيدة يتم تصميمها تحت اشراف المدرسة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تتنوع الخبرات التربوية بتنوع الجوانب التي ترغب المدرسة باحداث النمو فيها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يحدث التعلم من خلال مرور المتعلم بخبرات متعددة ومشاركته في مواقف تعليمية ولا يكون سلبيا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لا تقتصر بيئة التعلم على حجرة الدراسة وانما تمتد إلى خارجهما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يسعى المنهج الحديث إلى النمو الشامل المتكامل للمتعلم والذي يؤدي إلى تعديل سلوكه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49400" indent="-149400" algn="r" rtl="1">
              <a:lnSpc>
                <a:spcPct val="100000"/>
              </a:lnSpc>
              <a:spcBef>
                <a:spcPts val="799"/>
              </a:spcBef>
              <a:buClr>
                <a:srgbClr val="b58b8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e3b30"/>
                </a:solidFill>
                <a:latin typeface="Sakkal Majalla"/>
                <a:cs typeface="Sakkal Majalla"/>
              </a:rPr>
              <a:t>يهدف المنهج الحديث إلى ان يُعمِل المتعلم عقله ويبذل جهده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712800" y="317520"/>
            <a:ext cx="7785000" cy="1077840"/>
          </a:xfrm>
          <a:prstGeom prst="rect">
            <a:avLst/>
          </a:prstGeom>
          <a:ln w="0">
            <a:noFill/>
          </a:ln>
        </p:spPr>
      </p:pic>
      <p:sp>
        <p:nvSpPr>
          <p:cNvPr id="415" name="TextBox 3"/>
          <p:cNvSpPr/>
          <p:nvPr/>
        </p:nvSpPr>
        <p:spPr>
          <a:xfrm>
            <a:off x="395280" y="1268280"/>
            <a:ext cx="8429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المنهج وفقا لأسلوب النظم يتكون من: </a:t>
            </a:r>
            <a:r>
              <a:rPr b="0" lang="ar-SA" sz="3200" spc="-1" strike="noStrike">
                <a:solidFill>
                  <a:srgbClr val="000000"/>
                </a:solidFill>
                <a:latin typeface="Sakkal Majalla"/>
                <a:ea typeface="Sakkal Majall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مدخل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عمل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مخرج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Sakkal Majalla"/>
                <a:cs typeface="Sakkal Majalla"/>
              </a:rPr>
              <a:t>تغذية راجع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1542960" y="4214880"/>
            <a:ext cx="1500120" cy="6429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4029120" y="4214880"/>
            <a:ext cx="1500120" cy="6429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6357960" y="4214880"/>
            <a:ext cx="1500120" cy="6429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286080" y="5357880"/>
            <a:ext cx="3000600" cy="5713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Straight Arrow Connector 9"/>
          <p:cNvCxnSpPr>
            <a:stCxn id="418" idx="1"/>
            <a:endCxn id="417" idx="3"/>
          </p:cNvCxnSpPr>
          <p:nvPr/>
        </p:nvCxnSpPr>
        <p:spPr>
          <a:xfrm flipH="1" flipV="1">
            <a:off x="5528880" y="4536720"/>
            <a:ext cx="829440" cy="2160"/>
          </a:xfrm>
          <a:prstGeom prst="straightConnector1">
            <a:avLst/>
          </a:prstGeom>
          <a:ln w="3492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21" name="Straight Arrow Connector 12"/>
          <p:cNvCxnSpPr/>
          <p:nvPr/>
        </p:nvCxnSpPr>
        <p:spPr>
          <a:xfrm flipH="1" flipV="1">
            <a:off x="3014280" y="4500360"/>
            <a:ext cx="1000800" cy="2160"/>
          </a:xfrm>
          <a:prstGeom prst="straightConnector1">
            <a:avLst/>
          </a:prstGeom>
          <a:ln w="3492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22" name="Shape 26"/>
          <p:cNvCxnSpPr>
            <a:stCxn id="416" idx="2"/>
            <a:endCxn id="419" idx="1"/>
          </p:cNvCxnSpPr>
          <p:nvPr/>
        </p:nvCxnSpPr>
        <p:spPr>
          <a:xfrm flipH="1" rot="16200000">
            <a:off x="2396160" y="4753800"/>
            <a:ext cx="786600" cy="993960"/>
          </a:xfrm>
          <a:prstGeom prst="bentConnector2">
            <a:avLst/>
          </a:prstGeom>
          <a:ln w="34920">
            <a:solidFill>
              <a:srgbClr val="f0a22e"/>
            </a:solidFill>
            <a:prstDash val="dash"/>
            <a:miter/>
            <a:tailEnd len="med" type="arrow" w="med"/>
          </a:ln>
        </p:spPr>
      </p:cxnSp>
      <p:cxnSp>
        <p:nvCxnSpPr>
          <p:cNvPr id="423" name="Shape 33"/>
          <p:cNvCxnSpPr>
            <a:stCxn id="419" idx="3"/>
            <a:endCxn id="418" idx="2"/>
          </p:cNvCxnSpPr>
          <p:nvPr/>
        </p:nvCxnSpPr>
        <p:spPr>
          <a:xfrm flipV="1">
            <a:off x="6286680" y="4857120"/>
            <a:ext cx="822960" cy="786600"/>
          </a:xfrm>
          <a:prstGeom prst="bentConnector2">
            <a:avLst/>
          </a:prstGeom>
          <a:ln w="34920">
            <a:solidFill>
              <a:srgbClr val="f0a22e"/>
            </a:solidFill>
            <a:prstDash val="dash"/>
            <a:miter/>
            <a:tailEnd len="med" type="arrow" w="med"/>
          </a:ln>
        </p:spPr>
      </p:cxnSp>
      <p:cxnSp>
        <p:nvCxnSpPr>
          <p:cNvPr id="424" name="Straight Arrow Connector 35"/>
          <p:cNvCxnSpPr>
            <a:stCxn id="419" idx="0"/>
          </p:cNvCxnSpPr>
          <p:nvPr/>
        </p:nvCxnSpPr>
        <p:spPr>
          <a:xfrm flipV="1">
            <a:off x="4785120" y="4858560"/>
            <a:ext cx="2520" cy="500760"/>
          </a:xfrm>
          <a:prstGeom prst="straightConnector1">
            <a:avLst/>
          </a:prstGeom>
          <a:ln w="34920">
            <a:solidFill>
              <a:srgbClr val="f0a22e"/>
            </a:solidFill>
            <a:prstDash val="dash"/>
            <a:miter/>
            <a:tailEnd len="med" type="arrow" w="med"/>
          </a:ln>
        </p:spPr>
      </p:cxnSp>
      <p:sp>
        <p:nvSpPr>
          <p:cNvPr id="425" name="TextBox 36"/>
          <p:cNvSpPr/>
          <p:nvPr/>
        </p:nvSpPr>
        <p:spPr>
          <a:xfrm>
            <a:off x="6372360" y="4221000"/>
            <a:ext cx="150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2f2f2"/>
                </a:solidFill>
                <a:latin typeface="Franklin Gothic Book"/>
                <a:cs typeface="Tahoma"/>
              </a:rPr>
              <a:t>المدخلا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37"/>
          <p:cNvSpPr/>
          <p:nvPr/>
        </p:nvSpPr>
        <p:spPr>
          <a:xfrm>
            <a:off x="3643200" y="535788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2f2f2"/>
                </a:solidFill>
                <a:latin typeface="Franklin Gothic Book"/>
                <a:cs typeface="Tahoma"/>
              </a:rPr>
              <a:t>التغذية الراجع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38"/>
          <p:cNvSpPr/>
          <p:nvPr/>
        </p:nvSpPr>
        <p:spPr>
          <a:xfrm>
            <a:off x="1500120" y="4286160"/>
            <a:ext cx="1571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2f2f2"/>
                </a:solidFill>
                <a:latin typeface="Franklin Gothic Book"/>
                <a:cs typeface="Tahoma"/>
              </a:rPr>
              <a:t>المخرجا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39"/>
          <p:cNvSpPr/>
          <p:nvPr/>
        </p:nvSpPr>
        <p:spPr>
          <a:xfrm>
            <a:off x="4000680" y="4286160"/>
            <a:ext cx="150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2f2f2"/>
                </a:solidFill>
                <a:latin typeface="Franklin Gothic Book"/>
                <a:cs typeface="Tahoma"/>
              </a:rPr>
              <a:t>العمليا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1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1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1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1:13:50Z</dcterms:created>
  <dc:creator>shaden</dc:creator>
  <dc:description/>
  <dc:language>en-US</dc:language>
  <cp:lastModifiedBy>toshiba</cp:lastModifiedBy>
  <dcterms:modified xsi:type="dcterms:W3CDTF">2012-09-12T11:01:06Z</dcterms:modified>
  <cp:revision>29</cp:revision>
  <dc:subject/>
  <dc:title>المنهج قديما وحديث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851E1D0E8298C40B009BEDD03E1BEB6</vt:lpwstr>
  </property>
</Properties>
</file>