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C909E7-51F8-4C5D-9C40-556CA0F8AE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797B89-32EE-491C-94D2-B37ACB6647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4C1323-1BEC-4BBB-AA45-6AD7D40F0C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948079-F968-4AF4-BE0F-B8B9229CA5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08CD2E-CFE5-4E73-A8C6-C813AB04DC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6ED99C-1417-41D8-BC87-00FC6003E6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D9D9D9-C25D-416B-AEC5-4B1969DFC4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5E3241-72D6-443B-90D3-8C2AF28A9F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E596A5-74E0-490B-B351-C532004B16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1A6C6F-CD64-4AC1-A6AE-F457F41D31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E018A5-E626-4EBF-BBE0-624B2B91F7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E4A2C6-C179-4ACD-BF31-E05A061121E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E517BA-5284-4622-B4C5-7A08437D34A2}" type="slidenum">
              <a:rPr b="0" lang="ar-SA"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1" name="عنوان 1"/>
          <p:cNvGrpSpPr/>
          <p:nvPr/>
        </p:nvGrpSpPr>
        <p:grpSpPr>
          <a:xfrm>
            <a:off x="628560" y="2322360"/>
            <a:ext cx="7886880" cy="1006560"/>
            <a:chOff x="628560" y="2322360"/>
            <a:chExt cx="7886880" cy="1006560"/>
          </a:xfrm>
        </p:grpSpPr>
        <p:pic>
          <p:nvPicPr>
            <p:cNvPr id="42" name="عنوان 1" descr=""/>
            <p:cNvPicPr/>
            <p:nvPr/>
          </p:nvPicPr>
          <p:blipFill>
            <a:blip r:embed="rId1"/>
            <a:stretch/>
          </p:blipFill>
          <p:spPr>
            <a:xfrm>
              <a:off x="628560" y="2322360"/>
              <a:ext cx="7886880" cy="1006560"/>
            </a:xfrm>
            <a:prstGeom prst="rect">
              <a:avLst/>
            </a:prstGeom>
            <a:ln w="0">
              <a:noFill/>
            </a:ln>
          </p:spPr>
        </p:pic>
        <p:sp>
          <p:nvSpPr>
            <p:cNvPr id="43" name=""/>
            <p:cNvSpPr/>
            <p:nvPr/>
          </p:nvSpPr>
          <p:spPr>
            <a:xfrm>
              <a:off x="685800" y="2483280"/>
              <a:ext cx="7772400" cy="76428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Arabic Typesetting"/>
                  <a:cs typeface="Farsi Simple Outline"/>
                </a:rPr>
                <a:t>الطريق الثاني: الاستحسان</a:t>
              </a:r>
              <a:endParaRPr b="0" lang="en-US" sz="4400" spc="-1" strike="noStrike">
                <a:solidFill>
                  <a:srgbClr val="000000"/>
                </a:solidFill>
                <a:latin typeface="Calibri"/>
              </a:endParaRPr>
            </a:p>
          </p:txBody>
        </p:sp>
      </p:grpSp>
      <p:grpSp>
        <p:nvGrpSpPr>
          <p:cNvPr id="44" name="عنوان فرعي 2"/>
          <p:cNvGrpSpPr/>
          <p:nvPr/>
        </p:nvGrpSpPr>
        <p:grpSpPr>
          <a:xfrm>
            <a:off x="1311120" y="3706920"/>
            <a:ext cx="6516720" cy="1735560"/>
            <a:chOff x="1311120" y="3706920"/>
            <a:chExt cx="6516720" cy="1735560"/>
          </a:xfrm>
        </p:grpSpPr>
        <p:pic>
          <p:nvPicPr>
            <p:cNvPr id="45" name="عنوان فرعي 2" descr=""/>
            <p:cNvPicPr/>
            <p:nvPr/>
          </p:nvPicPr>
          <p:blipFill>
            <a:blip r:embed="rId2"/>
            <a:stretch/>
          </p:blipFill>
          <p:spPr>
            <a:xfrm>
              <a:off x="1311120" y="3706920"/>
              <a:ext cx="6516720" cy="1084320"/>
            </a:xfrm>
            <a:prstGeom prst="rect">
              <a:avLst/>
            </a:prstGeom>
            <a:ln w="0">
              <a:noFill/>
            </a:ln>
          </p:spPr>
        </p:pic>
        <p:sp>
          <p:nvSpPr>
            <p:cNvPr id="46" name=""/>
            <p:cNvSpPr/>
            <p:nvPr/>
          </p:nvSpPr>
          <p:spPr>
            <a:xfrm>
              <a:off x="1371600" y="3886200"/>
              <a:ext cx="6400800" cy="15562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ff"/>
                  </a:solidFill>
                  <a:latin typeface="Arabic Typesetting"/>
                  <a:cs typeface="Arabic Typesetting"/>
                </a:rPr>
                <a:t>إعداد: وفاء بنت محمد العيسى</a:t>
              </a:r>
              <a:endParaRPr b="0" lang="en-US" sz="4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p:nvPr>
        </p:nvSpPr>
        <p:spPr>
          <a:xfrm>
            <a:off x="468360" y="476280"/>
            <a:ext cx="8229600" cy="4525920"/>
          </a:xfrm>
          <a:prstGeom prst="rect">
            <a:avLst/>
          </a:prstGeom>
          <a:noFill/>
          <a:ln w="0">
            <a:noFill/>
          </a:ln>
        </p:spPr>
        <p:txBody>
          <a:bodyPr anchor="t">
            <a:normAutofit fontScale="71000"/>
          </a:bodyPr>
          <a:p>
            <a:pPr lvl="1" marL="527400" indent="-202680" algn="r" rtl="1">
              <a:lnSpc>
                <a:spcPct val="100000"/>
              </a:lnSpc>
              <a:spcBef>
                <a:spcPts val="7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c00000"/>
                </a:solidFill>
                <a:uFillTx/>
                <a:latin typeface="Sakkal Majalla"/>
                <a:cs typeface="Sakkal Majalla"/>
              </a:rPr>
              <a:t>الفرع الثاني: الاستحسان بالضرورة: </a:t>
            </a:r>
            <a:endParaRPr b="0" lang="en-US" sz="2800" spc="-1" strike="noStrike">
              <a:solidFill>
                <a:srgbClr val="000000"/>
              </a:solidFill>
              <a:latin typeface="Calibri"/>
            </a:endParaRPr>
          </a:p>
          <a:p>
            <a:pPr lvl="1" marL="527400" indent="0" algn="r"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Sakkal Majalla"/>
                <a:cs typeface="Sakkal Majalla"/>
              </a:rPr>
              <a:t>ويتحقق هذا النوع في كل جزئية  يكون الأخذ بها وفق الأصل العام أو القواعد المقررة أو القياس أمراً  متعذِّراً، أو ممكناً لكنه يلحق بالمكلَّف مشقة وعسراً شديدين؛ فيعدل بها  عن مثل ما يحكم به في نظائرها استحساناً؛ رفعاً لهذا الحرج، ودفعاً  لهذه الضرورة مثاله: ما سبق من أنَّ المرأة كُلَّها عورة؛ لكن أبيح  للطبيب النظر إلى ما تدعو الضرورة إلى النَّظر إليه منها، وذلك  استحساناً؛ لأجل الضرورة؛ فيكون أرفق بالنَّاس.</a:t>
            </a:r>
            <a:endParaRPr b="0" lang="en-US" sz="2800" spc="-1" strike="noStrike">
              <a:solidFill>
                <a:srgbClr val="000000"/>
              </a:solidFill>
              <a:latin typeface="Calibri"/>
            </a:endParaRPr>
          </a:p>
          <a:p>
            <a:pPr lvl="1" marL="527400" indent="-20268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Sakkal Majalla"/>
                <a:cs typeface="Sakkal Majalla"/>
              </a:rPr>
              <a:t>وأما ما يعرف عند الحنفية بالاستحسان بالنص، فقد استبعد من التقسيم  لأنه عند التحقيق عمل بمقتضى النص ذاته، فالحجة فيه النصُّ دون  حاجة إلى طريق الاستدلال، وإنَّما اعتبره الحنفية لأنهم لمحوا في هذا  النوع - عندهم - كون النصوص فيه جاءت على نحو يشبه الاستثناء  من جملة النصوص في الباب، مقصودا بها رفع الحرج.</a:t>
            </a:r>
            <a:endParaRPr b="0" lang="en-US" sz="2800" spc="-1" strike="noStrike">
              <a:solidFill>
                <a:srgbClr val="000000"/>
              </a:solidFill>
              <a:latin typeface="Calibri"/>
            </a:endParaRPr>
          </a:p>
          <a:p>
            <a:pPr marL="243360" indent="0" algn="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7" name="عنوان 1"/>
          <p:cNvGrpSpPr/>
          <p:nvPr/>
        </p:nvGrpSpPr>
        <p:grpSpPr>
          <a:xfrm>
            <a:off x="396720" y="304920"/>
            <a:ext cx="8345520" cy="1006200"/>
            <a:chOff x="396720" y="304920"/>
            <a:chExt cx="8345520" cy="1006200"/>
          </a:xfrm>
        </p:grpSpPr>
        <p:pic>
          <p:nvPicPr>
            <p:cNvPr id="48" name="عنوان 1" descr=""/>
            <p:cNvPicPr/>
            <p:nvPr/>
          </p:nvPicPr>
          <p:blipFill>
            <a:blip r:embed="rId1"/>
            <a:stretch/>
          </p:blipFill>
          <p:spPr>
            <a:xfrm>
              <a:off x="396720" y="304920"/>
              <a:ext cx="8345520" cy="1006200"/>
            </a:xfrm>
            <a:prstGeom prst="rect">
              <a:avLst/>
            </a:prstGeom>
            <a:ln w="0">
              <a:noFill/>
            </a:ln>
          </p:spPr>
        </p:pic>
        <p:sp>
          <p:nvSpPr>
            <p:cNvPr id="49" name=""/>
            <p:cNvSpPr/>
            <p:nvPr/>
          </p:nvSpPr>
          <p:spPr>
            <a:xfrm>
              <a:off x="457200" y="464040"/>
              <a:ext cx="8229600" cy="76428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3333"/>
                  </a:solidFill>
                  <a:latin typeface="Arial"/>
                  <a:cs typeface="Farsi Simple Bold"/>
                </a:rPr>
                <a:t>الطريق الثاني: الاستحسان</a:t>
              </a:r>
              <a:endParaRPr b="0" lang="en-US" sz="4400" spc="-1" strike="noStrike">
                <a:solidFill>
                  <a:srgbClr val="000000"/>
                </a:solidFill>
                <a:latin typeface="Calibri"/>
              </a:endParaRPr>
            </a:p>
          </p:txBody>
        </p:sp>
      </p:grpSp>
      <p:pic>
        <p:nvPicPr>
          <p:cNvPr id="50" name="صورة 3" descr="$0$.gif"/>
          <p:cNvPicPr/>
          <p:nvPr/>
        </p:nvPicPr>
        <p:blipFill>
          <a:blip r:embed="rId2"/>
          <a:stretch/>
        </p:blipFill>
        <p:spPr>
          <a:xfrm>
            <a:off x="457200" y="1601640"/>
            <a:ext cx="8229600" cy="45212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1" name="عنوان 1"/>
          <p:cNvGrpSpPr/>
          <p:nvPr/>
        </p:nvGrpSpPr>
        <p:grpSpPr>
          <a:xfrm>
            <a:off x="396720" y="311040"/>
            <a:ext cx="8345520" cy="993960"/>
            <a:chOff x="396720" y="311040"/>
            <a:chExt cx="8345520" cy="993960"/>
          </a:xfrm>
        </p:grpSpPr>
        <p:pic>
          <p:nvPicPr>
            <p:cNvPr id="52" name="عنوان 1" descr=""/>
            <p:cNvPicPr/>
            <p:nvPr/>
          </p:nvPicPr>
          <p:blipFill>
            <a:blip r:embed="rId1"/>
            <a:stretch/>
          </p:blipFill>
          <p:spPr>
            <a:xfrm>
              <a:off x="396720" y="311040"/>
              <a:ext cx="8345520" cy="993960"/>
            </a:xfrm>
            <a:prstGeom prst="rect">
              <a:avLst/>
            </a:prstGeom>
            <a:ln w="0">
              <a:noFill/>
            </a:ln>
          </p:spPr>
        </p:pic>
        <p:sp>
          <p:nvSpPr>
            <p:cNvPr id="53" name=""/>
            <p:cNvSpPr/>
            <p:nvPr/>
          </p:nvSpPr>
          <p:spPr>
            <a:xfrm>
              <a:off x="457200" y="464040"/>
              <a:ext cx="8229600" cy="76428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cs typeface="Farsi Simple Bold"/>
                </a:rPr>
                <a:t>تعريف  الاستحسان</a:t>
              </a:r>
              <a:endParaRPr b="0" lang="en-US" sz="4400" spc="-1" strike="noStrike">
                <a:solidFill>
                  <a:srgbClr val="000000"/>
                </a:solidFill>
                <a:latin typeface="Calibri"/>
              </a:endParaRPr>
            </a:p>
          </p:txBody>
        </p:sp>
      </p:grpSp>
      <p:pic>
        <p:nvPicPr>
          <p:cNvPr id="54" name="صورة 3" descr="$1$.gif"/>
          <p:cNvPicPr/>
          <p:nvPr/>
        </p:nvPicPr>
        <p:blipFill>
          <a:blip r:embed="rId2"/>
          <a:stretch/>
        </p:blipFill>
        <p:spPr>
          <a:xfrm>
            <a:off x="457200" y="1601640"/>
            <a:ext cx="8229600" cy="45212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82320"/>
            <a:ext cx="8229600" cy="1189080"/>
          </a:xfrm>
          <a:prstGeom prst="rect">
            <a:avLst/>
          </a:prstGeom>
          <a:solidFill>
            <a:srgbClr val="ffffff"/>
          </a:solidFill>
          <a:ln w="25560">
            <a:solidFill>
              <a:srgbClr val="c0504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Farsi Simple Bold"/>
              </a:rPr>
              <a:t>كلام العلماء في الاستحسان  لا يكاد يخرج عن معنيين:</a:t>
            </a:r>
            <a:endParaRPr b="0" lang="en-US" sz="3600" spc="-1" strike="noStrike">
              <a:solidFill>
                <a:srgbClr val="000000"/>
              </a:solidFill>
              <a:latin typeface="Calibri"/>
            </a:endParaRPr>
          </a:p>
        </p:txBody>
      </p:sp>
      <p:sp>
        <p:nvSpPr>
          <p:cNvPr id="56" name="PlaceHolder 2"/>
          <p:cNvSpPr>
            <a:spLocks noGrp="1"/>
          </p:cNvSpPr>
          <p:nvPr>
            <p:ph/>
          </p:nvPr>
        </p:nvSpPr>
        <p:spPr>
          <a:xfrm>
            <a:off x="468360" y="1483920"/>
            <a:ext cx="8229600" cy="7346520"/>
          </a:xfrm>
          <a:prstGeom prst="rect">
            <a:avLst/>
          </a:prstGeom>
          <a:noFill/>
          <a:ln w="0">
            <a:noFill/>
          </a:ln>
        </p:spPr>
        <p:txBody>
          <a:bodyPr anchor="t">
            <a:normAutofit/>
          </a:bodyPr>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Sakkal Majalla"/>
                <a:cs typeface="Sakkal Majalla"/>
              </a:rPr>
              <a:t>الأول: الاستحسان بمعنى: ما يستحسنه الإنسان بعقله، أو تشتهيه  نفسُه، من غير مستند شرعي معتبر؛ وهذا باطلُ بالإجماع.</a:t>
            </a:r>
            <a:endParaRPr b="0" lang="en-US" sz="2400" spc="-1" strike="noStrike">
              <a:solidFill>
                <a:srgbClr val="000000"/>
              </a:solidFill>
              <a:latin typeface="Calibri"/>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Sakkal Majalla"/>
                <a:cs typeface="Sakkal Majalla"/>
              </a:rPr>
              <a:t>والثاني: الاستحسان الأصولي، المبنيُّ على مستند من الشرع معتبرٍ؛  فهذا الذي يعنيه العلماءُ عند التعليل به.</a:t>
            </a:r>
            <a:endParaRPr b="0" lang="en-US" sz="2400" spc="-1" strike="noStrike">
              <a:solidFill>
                <a:srgbClr val="000000"/>
              </a:solidFill>
              <a:latin typeface="Calibri"/>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Sakkal Majalla"/>
                <a:ea typeface="Sakkal Majalla"/>
              </a:rPr>
              <a:t> الاستحسان الأصولي، أنَّه: العدول بحكم المسألة عن حكم نظائرها؛ لدليلٍ  شرعيٍّ خاصٍّ بتلك المسألة.</a:t>
            </a:r>
            <a:endParaRPr b="0" lang="en-US" sz="2400" spc="-1" strike="noStrike">
              <a:solidFill>
                <a:srgbClr val="000000"/>
              </a:solidFill>
              <a:latin typeface="Calibri"/>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Sakkal Majalla"/>
                <a:cs typeface="Sakkal Majalla"/>
              </a:rPr>
              <a:t>يعقوب الباحسين مبينا حكمته، بأنَّه: "العدول في مسألة عن مثل ما حكم به في  نظائرها إلى خلافه، لوجه يقتضي التخفيف، ويكشف عن وجود حرج عند  إلحاق تلك الجزئية بنظائرها في الحكم</a:t>
            </a:r>
            <a:endParaRPr b="0" lang="en-US" sz="2400" spc="-1" strike="noStrike">
              <a:solidFill>
                <a:srgbClr val="000000"/>
              </a:solidFill>
              <a:latin typeface="Calibri"/>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Sakkal Majalla"/>
                <a:cs typeface="Sakkal Majalla"/>
              </a:rPr>
              <a:t>فالاستحسان، يعني الاستثناء من أصل المنع غالباً؛ فيقضي بالإباحة، أو من  الواجب يرفعه أو يرخِّص فيه كلُّ ذلك بناءً على المستند الأقوى؛ لا على الرأي  المجرَّد، ولا على أمر خفيٍّ لا يمكن التعبير عنه؛ " لأنّ المجتهد ليس له  الاستناد إلى مجرَّد عقله في تحسين شيءٍ، وما لم يعبِّر عنه لا يمكن الحكم له  بالقبول حتَّى يظهر</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68360" y="-290880"/>
            <a:ext cx="8229600" cy="2529000"/>
          </a:xfrm>
          <a:prstGeom prst="rect">
            <a:avLst/>
          </a:prstGeom>
          <a:solidFill>
            <a:srgbClr val="ffffff"/>
          </a:solidFill>
          <a:ln w="25560">
            <a:solidFill>
              <a:srgbClr val="c0504d"/>
            </a:solidFill>
            <a:miter/>
          </a:ln>
        </p:spPr>
        <p:txBody>
          <a:bodyPr anchor="ctr">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Sakkal Majalla"/>
                <a:cs typeface="Sakkal Majalla"/>
              </a:rPr>
              <a:t>قال السرخسي: "الحرج مدفوع بالنَّص، وفي  موضع الضَّرورة يتحقّق معنى الحرج لو أُخِذَ فيه  بالقياس؛ فكان متروكاً بالنَّص"، وقوله بالنص،  أي: النصوص الواردة في رفع الحرج عموماً.</a:t>
            </a:r>
            <a:endParaRPr b="0" lang="en-US" sz="3200" spc="-1" strike="noStrike">
              <a:solidFill>
                <a:srgbClr val="000000"/>
              </a:solidFill>
              <a:latin typeface="Calibri"/>
            </a:endParaRPr>
          </a:p>
        </p:txBody>
      </p:sp>
      <p:pic>
        <p:nvPicPr>
          <p:cNvPr id="58" name="صورة 3" descr="$2$.gif"/>
          <p:cNvPicPr/>
          <p:nvPr/>
        </p:nvPicPr>
        <p:blipFill>
          <a:blip r:embed="rId1"/>
          <a:stretch/>
        </p:blipFill>
        <p:spPr>
          <a:xfrm>
            <a:off x="468360" y="1916280"/>
            <a:ext cx="8229600" cy="4520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9" name="عنوان 1"/>
          <p:cNvGrpSpPr/>
          <p:nvPr/>
        </p:nvGrpSpPr>
        <p:grpSpPr>
          <a:xfrm>
            <a:off x="396720" y="304920"/>
            <a:ext cx="8345520" cy="1006200"/>
            <a:chOff x="396720" y="304920"/>
            <a:chExt cx="8345520" cy="1006200"/>
          </a:xfrm>
        </p:grpSpPr>
        <p:pic>
          <p:nvPicPr>
            <p:cNvPr id="60" name="عنوان 1" descr=""/>
            <p:cNvPicPr/>
            <p:nvPr/>
          </p:nvPicPr>
          <p:blipFill>
            <a:blip r:embed="rId1"/>
            <a:stretch/>
          </p:blipFill>
          <p:spPr>
            <a:xfrm>
              <a:off x="396720" y="304920"/>
              <a:ext cx="8345520" cy="1006200"/>
            </a:xfrm>
            <a:prstGeom prst="rect">
              <a:avLst/>
            </a:prstGeom>
            <a:ln w="0">
              <a:noFill/>
            </a:ln>
          </p:spPr>
        </p:pic>
        <p:sp>
          <p:nvSpPr>
            <p:cNvPr id="61" name=""/>
            <p:cNvSpPr/>
            <p:nvPr/>
          </p:nvSpPr>
          <p:spPr>
            <a:xfrm>
              <a:off x="457200" y="464040"/>
              <a:ext cx="8229600" cy="76428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Sakkal Majalla"/>
                  <a:cs typeface="Sakkal Majalla"/>
                </a:rPr>
                <a:t>أنواع الاستحسان:</a:t>
              </a:r>
              <a:endParaRPr b="0" lang="en-US" sz="4400" spc="-1" strike="noStrike">
                <a:solidFill>
                  <a:srgbClr val="000000"/>
                </a:solidFill>
                <a:latin typeface="Calibri"/>
              </a:endParaRPr>
            </a:p>
          </p:txBody>
        </p:sp>
      </p:grpSp>
      <p:pic>
        <p:nvPicPr>
          <p:cNvPr id="62" name="صورة 3" descr="$3$.gif"/>
          <p:cNvPicPr/>
          <p:nvPr/>
        </p:nvPicPr>
        <p:blipFill>
          <a:blip r:embed="rId2"/>
          <a:stretch/>
        </p:blipFill>
        <p:spPr>
          <a:xfrm>
            <a:off x="457200" y="1601640"/>
            <a:ext cx="8229600" cy="45212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74520"/>
            <a:ext cx="8229600" cy="2102760"/>
          </a:xfrm>
          <a:prstGeom prst="rect">
            <a:avLst/>
          </a:prstGeom>
          <a:solidFill>
            <a:srgbClr val="ffffff"/>
          </a:solidFill>
          <a:ln w="25560">
            <a:solidFill>
              <a:srgbClr val="c0504d"/>
            </a:solidFill>
            <a:miter/>
          </a:ln>
        </p:spPr>
        <p:txBody>
          <a:bodyPr anchor="ctr">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Sakkal Majalla"/>
                <a:cs typeface="Sakkal Majalla"/>
              </a:rPr>
              <a:t>الأول: العدول عن موجب  القياس إلى قياسٍ أقوى منه،  أو الاستحسان بالقياس.</a:t>
            </a:r>
            <a:endParaRPr b="0" lang="en-US" sz="4400" spc="-1" strike="noStrike">
              <a:solidFill>
                <a:srgbClr val="000000"/>
              </a:solidFill>
              <a:latin typeface="Calibri"/>
            </a:endParaRPr>
          </a:p>
        </p:txBody>
      </p:sp>
      <p:sp>
        <p:nvSpPr>
          <p:cNvPr id="64" name="PlaceHolder 2"/>
          <p:cNvSpPr>
            <a:spLocks noGrp="1"/>
          </p:cNvSpPr>
          <p:nvPr>
            <p:ph/>
          </p:nvPr>
        </p:nvSpPr>
        <p:spPr>
          <a:xfrm>
            <a:off x="457200" y="2335320"/>
            <a:ext cx="8229600" cy="5365080"/>
          </a:xfrm>
          <a:prstGeom prst="rect">
            <a:avLst/>
          </a:prstGeom>
          <a:noFill/>
          <a:ln w="0">
            <a:noFill/>
          </a:ln>
        </p:spPr>
        <p:txBody>
          <a:bodyPr anchor="t">
            <a:normAutofit/>
          </a:bodyPr>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Sakkal Majalla"/>
                <a:cs typeface="Sakkal Majalla"/>
              </a:rPr>
              <a:t>وحقيقته: تردد الفرع - في نظر المجتهد - بين أصلين، له شبه بكلٍ منهما؛ وإلحاقه بأقربهما شبها له، وهذا لا  يدرك إلا بعد التأمُّل.</a:t>
            </a:r>
            <a:endParaRPr b="0" lang="en-US" sz="2400" spc="-1" strike="noStrike">
              <a:solidFill>
                <a:srgbClr val="000000"/>
              </a:solidFill>
              <a:latin typeface="Calibri"/>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Sakkal Majalla"/>
                <a:cs typeface="Sakkal Majalla"/>
              </a:rPr>
              <a:t>فهذا العدول والإلحاق يُعَدَّ في عرف الأصوليين نوعاً من أنواع الاستحسان؛ والدليلُ الذي اقتضى هذا العدول  يسمَّى وجه الاستحسان، أي: سنده؛ والحكم الثابت بالاستحسان هو الحكم المُسْتَحْسَن، أي: الثابت على خلاف  القياس الجليّ.</a:t>
            </a:r>
            <a:endParaRPr b="0" lang="en-US" sz="2400" spc="-1" strike="noStrike">
              <a:solidFill>
                <a:srgbClr val="000000"/>
              </a:solidFill>
              <a:latin typeface="Calibri"/>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Sakkal Majalla"/>
                <a:cs typeface="Sakkal Majalla"/>
              </a:rPr>
              <a:t>ويُمثِّل له علماء الأصول: بإدخال حقوق الارتفاق في الأرض الزراعية، في حال وقفها، ولو لم ينصّ الواقف على  ذلك؛ مع عدم إدخالها في عقد البيع ما لم يُنَصّ على إدخالها فيه. فقد جاء عند الحنفية في هذه المسألة قولهم:  القياس عدم دخولها، والاستحسان دخول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68360" y="28080"/>
            <a:ext cx="8229600" cy="6429240"/>
          </a:xfrm>
          <a:prstGeom prst="rect">
            <a:avLst/>
          </a:prstGeom>
          <a:noFill/>
          <a:ln w="0">
            <a:noFill/>
          </a:ln>
        </p:spPr>
        <p:txBody>
          <a:bodyPr anchor="ctr">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Sakkal Majalla"/>
                <a:cs typeface="Sakkal Majalla"/>
              </a:rPr>
              <a:t>الثاني: استثناء مسألة جزئية من أصل كلي، لدليل  يقتضي ذلك الاستثناء بأنه: إذا عرضت للمجتهد مسألة  تندرج تحت قاعدة عامَّة أو يتناولها أصلٌ كليٌّ، و وجد  المجتهد دليلاً خاصَّاً يقتضي استثناء هذه الجزئية من  الأصل الكلي، والعدول بها عن الحكم الثابت لنظائرها إلى  حكم آخر؛ للدليل الخاص الذي ظهر له؛</a:t>
            </a:r>
            <a:br>
              <a:rPr sz="3200"/>
            </a:br>
            <a:br>
              <a:rPr sz="3200"/>
            </a:br>
            <a:r>
              <a:rPr b="1" lang="ar-SA" sz="3200" spc="-1" strike="noStrike">
                <a:solidFill>
                  <a:srgbClr val="000000"/>
                </a:solidFill>
                <a:latin typeface="Sakkal Majalla"/>
                <a:ea typeface="Sakkal Majalla"/>
              </a:rPr>
              <a:t> </a:t>
            </a:r>
            <a:r>
              <a:rPr b="1" lang="ar-SA" sz="2400" spc="-1" strike="noStrike">
                <a:solidFill>
                  <a:srgbClr val="000000"/>
                </a:solidFill>
                <a:latin typeface="Sakkal Majalla"/>
                <a:cs typeface="Sakkal Majalla"/>
              </a:rPr>
              <a:t>فإنَّ هذا العدول  الاستثنائي يعبَّر عنه ب "الاستحسان"، والدليل الذي  اقتضاه هو: وجه الاستحسان، والحكم الثابت به هو:  الحكم المستحسن، أي: الثابت على خلاف القياس،  والقياس هنا يراد به الأصل الكلي أو القاعدة العامَّ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p:nvPr>
        </p:nvSpPr>
        <p:spPr>
          <a:xfrm>
            <a:off x="468360" y="1628640"/>
            <a:ext cx="8229600" cy="5904360"/>
          </a:xfrm>
          <a:prstGeom prst="rect">
            <a:avLst/>
          </a:prstGeom>
          <a:noFill/>
          <a:ln w="0">
            <a:noFill/>
          </a:ln>
        </p:spPr>
        <p:txBody>
          <a:bodyPr anchor="t">
            <a:normAutofit/>
          </a:bodyPr>
          <a:p>
            <a:pPr marL="343080" indent="-34308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Sakkal Majalla"/>
                <a:cs typeface="Sakkal Majalla"/>
              </a:rPr>
              <a:t>ويندرج  تحت هذا  النوع عدَّة  فروع،  منها:</a:t>
            </a:r>
            <a:endParaRPr b="0" lang="en-US" sz="2800" spc="-1" strike="noStrike">
              <a:solidFill>
                <a:srgbClr val="000000"/>
              </a:solidFill>
              <a:latin typeface="Calibri"/>
            </a:endParaRPr>
          </a:p>
          <a:p>
            <a:pPr lvl="1" marL="743040" indent="-285840" algn="r" rtl="1">
              <a:lnSpc>
                <a:spcPct val="100000"/>
              </a:lnSpc>
              <a:spcBef>
                <a:spcPts val="7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c00000"/>
                </a:solidFill>
                <a:uFillTx/>
                <a:latin typeface="Sakkal Majalla"/>
                <a:cs typeface="Sakkal Majalla"/>
              </a:rPr>
              <a:t>الفرع الأول:  الاستحسان بالإجماع</a:t>
            </a:r>
            <a:r>
              <a:rPr b="1" lang="ar-SA" sz="2800" spc="-1" strike="noStrike">
                <a:solidFill>
                  <a:srgbClr val="000000"/>
                </a:solidFill>
                <a:latin typeface="Sakkal Majalla"/>
                <a:ea typeface="Sakkal Majalla"/>
              </a:rPr>
              <a:t>:  وعرِّف بأنَّه: "انعقاد  الإجماع الصريح أو  السكوتي على حكم في  مسألة، يخالف قياساً أو  قاعدة عامَّة "</a:t>
            </a:r>
            <a:endParaRPr b="0" lang="en-US" sz="2800" spc="-1" strike="noStrike">
              <a:solidFill>
                <a:srgbClr val="000000"/>
              </a:solidFill>
              <a:latin typeface="Calibri"/>
            </a:endParaRPr>
          </a:p>
          <a:p>
            <a:pPr lvl="2" marL="1143000" indent="-228600" algn="r" rtl="1">
              <a:lnSpc>
                <a:spcPct val="10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Sakkal Majalla"/>
                <a:cs typeface="Sakkal Majalla"/>
              </a:rPr>
              <a:t>ويتحقق هذا النَّوع بإفتاءِ المجتهدين في  حادثة ما، على خلاف القياس أو الأصل  العام أو القاعدة المقرَّرة في أمثالها، أو  بسكوتهم وعدم إنكارهم ما يفعله النَّاس، </a:t>
            </a:r>
            <a:endParaRPr b="0" lang="en-US" sz="2800" spc="-1" strike="noStrike">
              <a:solidFill>
                <a:srgbClr val="000000"/>
              </a:solidFill>
              <a:latin typeface="Calibri"/>
            </a:endParaRPr>
          </a:p>
          <a:p>
            <a:pPr lvl="2" marL="1143000" indent="-228600" algn="r" rtl="1">
              <a:lnSpc>
                <a:spcPct val="10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Sakkal Majalla"/>
                <a:ea typeface="Sakkal Majalla"/>
              </a:rPr>
              <a:t> إذا كان فعلهم مخالفاً للقياس أو الأصل  المقرر مثاله: الإجماع على جواز عقد  الاستصناع</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19T13:57:36Z</dcterms:created>
  <dc:creator>وفاء بنت محمد العيسى</dc:creator>
  <dc:description/>
  <dc:language>en-US</dc:language>
  <cp:lastModifiedBy>ساره</cp:lastModifiedBy>
  <dcterms:modified xsi:type="dcterms:W3CDTF">2013-03-08T16:39:56Z</dcterms:modified>
  <cp:revision>3</cp:revision>
  <dc:subject/>
  <dc:title>الطريق الثاني: الاستحسان</dc:title>
</cp:coreProperties>
</file>