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6A8-F380-4E36-9B09-17FD8AC4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BEE-CDEE-4F7F-ADB9-07C5DD5C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F43-028F-4702-97CF-16FA783A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F75-7B56-4E41-AB47-3C30491A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FA6F-4328-49D4-AA51-A5FF92DC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3E23-B4E6-47A4-88F2-73B7CEE9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7E24-31A1-43AA-88DA-19834093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832D-7B34-4EBD-8473-5851095C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3D61-DB9D-4CF7-9758-D7AF9AD9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87F6-4CFB-40B3-8849-5BBD88B6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7935-FBDE-4C51-82F6-7A5C5669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BE4-AE7E-405F-82CB-D74B7122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8252-1453-4379-87B9-E662AFDC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08F9-1911-49C9-8699-90CB8EC7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E04F-0542-4C10-8E49-C94AA389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A794-AE6F-464A-953E-D4985FD7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4FB6-6E49-4691-B9FF-7A4FABC9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E152E-E182-46ED-BFCC-DB1D39C8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82946-0228-4207-AF2B-A56E3D61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F4ADC-2C82-4CB2-A182-82EF8EE6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F907C-C1CA-4C27-81AF-DD5BD1F8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373A0-C83D-45C0-95D7-C960D324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184-A394-4069-86CA-5658BF46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F7E3F-7C8A-4527-BB1F-30F55F2F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A9831-561B-46BD-A56E-D5EF1D3F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8B373-4614-4A66-B748-AFA51A2C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930A8-E2E4-4305-B734-D61DA001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00C9F-6D79-4B58-A837-9BF07387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E40AB-E820-4C3E-8490-5DAF327C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6A119-0216-434F-9A7F-2776C431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BA121F-A5CE-4A8F-A581-DA5A8C58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34059-F74C-4DD7-AC28-38DA6688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8207D1-FCE1-480F-ACB5-8CB7AA7A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1F6-0AAB-4EE1-84D3-F7CE7931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4E5AC6-92AE-4685-85F4-DDEB5DC7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54760D-71B0-4F97-A69A-3A638546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F54B2-974B-43A6-ABC9-FA107D84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E83442-3A80-4998-9940-61814986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5A948B-D56D-4CCF-A71C-72B6013D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B86E9-E9B1-4BE6-8483-99156C70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727F37-7F36-4809-932D-1FBD3271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D959B2-DA8C-41EE-BF15-1F6CBC4C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5A58A1-1248-444F-940C-AA2F629C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E4D375-9735-484E-A9BA-484B6EEC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01B-EAAC-4EA6-B3A1-B66A2667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5D9EB-2AD1-46F1-8A9D-EC4EFEEC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492265-3B19-49B2-BC0D-F97E2584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10712D-8F55-4368-9646-90355618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EB0D6-F92D-42D0-BE54-A240C9B5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85340-5C75-453F-AA56-B44D1730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CD8CF-2625-48E9-B134-A8DBC2D2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EA863B-A70F-4D3B-AFFC-FC89AAC9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7B3B96-083B-4E76-805A-3CB5CA13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EF8E3-41EC-4C4B-8AF0-43C3F1A1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E27460-15D6-4435-B6B3-2F0ED02C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D6B-FB2A-434B-B0EF-6B6546A8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06A53-B81A-45FA-8BFA-09A6307B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0A11C-64EA-4E3A-B6D1-337A8950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0D227-C7A0-401A-948D-D8BF3DCF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6D63A-1627-498B-AE33-F902B38C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DC9E1-70FB-4408-96E5-D484E2F6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48962-DEB1-4E65-BC37-95F94046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51925-6197-4A27-8E9B-4BCB8750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4FC4B-30A6-4DE1-AF4C-79267CAD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9DF17-1FEA-4780-945F-2F821AD5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6B542-EBA9-42A5-ACE4-ACB51CF7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121-19FA-4507-B45A-84A6324C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6418D-22B4-48F0-9704-98D4C36A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53EE4-695D-49F8-9E83-A8EDE508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6C836-8011-4D31-8D93-4C98CC35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C4774-2448-43D8-AC18-55764421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53F3B-23E4-4F38-AC7A-F93B9180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F1DD0-1D11-475C-9C35-E2D58BB8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25C946-9E4C-4DA7-A4E0-267659B2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5DC847-1450-489E-A898-BC088F58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8E6C3-E3AE-4B0F-84C1-BA9227DA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01E443-A674-4153-B68B-57108956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FDE-461F-4DE5-ABF2-163BBF35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F05CA1-3DF4-4D6E-953F-B3F8DE8A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D6923D-1060-46B3-98A8-2CD9EF97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A909F9-5E08-4071-BE87-902A2754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075ACD-56AA-417E-B823-1EF078E9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D8B5CC-D023-489E-82FF-D3072079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F2439-5E04-47BA-9697-2929432E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3CB70-26FE-4B5A-AD73-94D15F13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7B408-C240-4C52-90AA-B88A4C24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29545-DFF2-4331-AD09-DC19A31D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B3F5C-2275-4A5D-8058-EC3F88A2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32DC-BA65-4306-8B87-663DC259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12263-294B-423A-88AE-66C892DA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3EE07-23FD-4868-8EC9-8231D160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EE29C-F1E8-462C-A3F5-6EA9E345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DF21F-2480-45A4-842C-02A7DA3B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B2FD4-806B-4BEA-9B0D-5A75F63C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E27FF-9842-43B3-8F30-3BAF0621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B41FB-10CF-46B3-AA98-61F364CE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EFE6-FFB6-4120-8025-793D986F9905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5B7B-D141-4019-BCE2-C712274CE57C}" type="slidenum">
              <a:rPr b="1" lang="ar-SA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A322-76CF-4B73-8F85-ED4EFA84AFFE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FF5B-FB1D-4E44-8D9D-4B3DE25C7DA7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0837-7F37-45EA-9089-48739F37F988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7606-7E40-4AE2-9715-D6932674D74C}" type="slidenum">
              <a:rPr b="1" lang="ar-SA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63FE-395F-4865-9E7E-6FB19A859984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5407-6574-4C5E-AA8B-A088A1BBFF1A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eece1"/>
                </a:solidFill>
                <a:latin typeface="Tw Cen MT"/>
              </a:rPr>
              <a:t>استراتيجية التسعير</a:t>
            </a:r>
            <a:br>
              <a:rPr sz="4400"/>
            </a:br>
            <a:r>
              <a:rPr b="0" lang="ar-SA" sz="3200" spc="-1" strike="noStrike">
                <a:solidFill>
                  <a:srgbClr val="eeece1"/>
                </a:solidFill>
                <a:latin typeface="Tw Cen MT"/>
              </a:rPr>
              <a:t>الفصل الثاني عشر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icing Strate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خطو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658800" y="1457280"/>
            <a:ext cx="8265960" cy="5376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Luna\AppData\Local\Microsoft\Windows\Temporary Internet Files\Content.IE5\8OXR8UTT\MM900300593[1].gif"/>
          <p:cNvPicPr/>
          <p:nvPr/>
        </p:nvPicPr>
        <p:blipFill>
          <a:blip r:embed="rId2"/>
          <a:stretch/>
        </p:blipFill>
        <p:spPr>
          <a:xfrm>
            <a:off x="0" y="0"/>
            <a:ext cx="1571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9680" y="1600200"/>
            <a:ext cx="8265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تسم قرارات التسعير بدرجة عالية من التعقيد بسبب المتغيرات الكثيرة التي تتضمنها وانعكاسها على مجمل أنشطة المنظمة، بالتالي ستتأثر استراتيجية التسويق بشكل كبير باستراتيجية التسعير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لسعر يعد من أكثر العناصر خضوعاً للتفاوض بين البائع والمشتري وعلى اختلاف درجاتهم وقدراتهم الشرائية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أيضاً يبرز تأثير السعر البديل لذات السلعة على قرار الشراء النهائي للمستهلك، وبالتالي تحوله إلى التعامل مع المنافسين بدلاً من إبقائه ضمن دائرة الولاء للشركة أو المُنتَج المقدم للسوق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حتويات الفصل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معاني المتعددة للسعر وتعريفه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دور الاستراتيجي للسعر في المزيج التسويقي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ستراتيجية التسعير المعتمدة من قِبَل منظمات الأعمال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عوامل الرئيسة ذات التأثير على قرارات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خطوات المتعاقبة في عملية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4" descr="j0078804"/>
          <p:cNvPicPr/>
          <p:nvPr/>
        </p:nvPicPr>
        <p:blipFill>
          <a:blip r:embed="rId1"/>
          <a:stretch/>
        </p:blipFill>
        <p:spPr>
          <a:xfrm>
            <a:off x="174600" y="3929040"/>
            <a:ext cx="3183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تعبير عن قيمة الأشياء التي يتم تبادلها في السوق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قيمة التبادلية عن المنتجات في التبادل التسويقي "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تعريفين السابقين نجد أن السعر ماهو إلا صيغة لعلاقة تبادلية ما بين الأفراد الذين يدفعون النقود، والوحدات التسويقية على اختلاف أشكالها والتي تقوم بعملية تقديم المنتجات له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ثمن مقابل شيء ما ". (النقو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مجموعة من القيم (نقود) والتي يستبدلها المستهلك مقابل فوائد أو امتلاك أو استخدام المُنتَج أو الخدمة ". (قوة نقدية لدى المستهلك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ه: الرسوم، الفوائد، الإيجار، .....الخ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Luna\AppData\Local\Microsoft\Windows\Temporary Internet Files\Content.IE5\AI1N5N38\MP900442387[1].jpg"/>
          <p:cNvPicPr/>
          <p:nvPr/>
        </p:nvPicPr>
        <p:blipFill>
          <a:blip r:embed="rId1"/>
          <a:stretch/>
        </p:blipFill>
        <p:spPr>
          <a:xfrm>
            <a:off x="-66600" y="-23760"/>
            <a:ext cx="20606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00200"/>
            <a:ext cx="8408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من أبرز عناصر المزيج التسويقي في المنظم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مولداً للايرادات والأرباح، أما باقي عناصر المزيج التسويقي فتعتبر تكالي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أكثر مرونة واستجابة للتغير تبعاً لأي طارئ في البيئة المحيطة بالمنظمة، أما باقي العناصر فتحتاج إلى وقت طويل وإجراءات معقدة ليتم تغير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تل الأسعار والأسعار التنافسية المرتبة الأولى من حيث الصعوبة والمشكلات التي يتعرض لها مدراء التسويق في المنظمات لما لها تأثير كبير على ديمومة المنظمة واستمرارها وتحقيقها للأرباح أو العكس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6" descr="C:\Users\Luna\AppData\Local\Microsoft\Windows\Temporary Internet Files\Content.IE5\8OXR8UTT\MC900290292[1].wmf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حتى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5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كان السعر العامل الأهم في سلوك المشتر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ظهرت عوامل أخرى: الإعلان، التعبئة والتغليف، العلامة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اد تأثير السعر نتيجة انخفاض الطلب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8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والدخل الحقيقي، لذا عُدّ السعر من أهم عناصر المزيج التسويقي بعد مزيج المنتج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ُعد عاملاً مهماً في تغطية تكاليف الأنشطة (التسويقية وغير التسويقية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رباح = العــــــائــــد الكـلـــــــــي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220400" indent="-203400" algn="r" rtl="1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= (السعر * الكمية المباعة)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السعر يمكن أن يؤثر على الأرباح المتحققة بعد طر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CAHFI1VH"/>
          <p:cNvPicPr/>
          <p:nvPr/>
        </p:nvPicPr>
        <p:blipFill>
          <a:blip r:embed="rId1"/>
          <a:stretch/>
        </p:blipFill>
        <p:spPr>
          <a:xfrm>
            <a:off x="0" y="0"/>
            <a:ext cx="1785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 - تابع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5640" indent="-30564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أخذ بُعدا استراتيجياً في كل مما يل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ند صياغة القرارات السعرية يجب أن تغطي كافة الأهداف والاستراتيجيات المحددة مسبقاً من قِبَل الإدارة العليا في المنظم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ظرية النظم وارتباط القرارات السعرية بالقرارات المرتبطة بعناصر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خذ بالاعتبار أهمية العناصر التنافسية غير السعر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سعرية المتخذة يجب أن تأخذ بالاعتبار حالات التأكد واللا تأكد البي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استراتيجية تأخذ صياغتها الروتينية بالتفاعل والتشاور مع الأقسام والجهات ذات العلاقة بتقديم المنتج بشكله النها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Users\Luna\AppData\Local\Microsoft\Windows\Temporary Internet Files\Content.IE5\ZNV8T11M\MC900353998[1].wmf"/>
          <p:cNvPicPr/>
          <p:nvPr/>
        </p:nvPicPr>
        <p:blipFill>
          <a:blip r:embed="rId1"/>
          <a:stretch/>
        </p:blipFill>
        <p:spPr>
          <a:xfrm>
            <a:off x="-19080" y="0"/>
            <a:ext cx="139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ستراتيجية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قبول مبادئ التسعير في حالات التطبيق لها وعلى مدار الفترة الزمنية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57120" y="2857680"/>
            <a:ext cx="3505320" cy="1752480"/>
          </a:xfrm>
          <a:prstGeom prst="ellipse">
            <a:avLst/>
          </a:prstGeom>
          <a:solidFill>
            <a:srgbClr val="b3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لقش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929040" y="4286160"/>
            <a:ext cx="3505320" cy="1752840"/>
          </a:xfrm>
          <a:prstGeom prst="ellipse">
            <a:avLst/>
          </a:prstGeom>
          <a:solidFill>
            <a:srgbClr val="cdc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 الاخت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Users\Luna\AppData\Local\Microsoft\Windows\Temporary Internet Files\Content.IE5\AI1N5N38\MC900363498[1].wmf"/>
          <p:cNvPicPr/>
          <p:nvPr/>
        </p:nvPicPr>
        <p:blipFill>
          <a:blip r:embed="rId1"/>
          <a:stretch/>
        </p:blipFill>
        <p:spPr>
          <a:xfrm>
            <a:off x="0" y="0"/>
            <a:ext cx="13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عوامل المؤثرة في قرار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هداف التتنظيمية والتسويق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 الأهدا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كل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تغيرات الأخرى في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قعات المشاركين في القناة التوز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جابة وتصورات المستهلك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نافس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ضايا التنظيمية والقانون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4" descr="5558"/>
          <p:cNvPicPr/>
          <p:nvPr/>
        </p:nvPicPr>
        <p:blipFill>
          <a:blip r:embed="rId1"/>
          <a:stretch/>
        </p:blipFill>
        <p:spPr>
          <a:xfrm>
            <a:off x="214200" y="2643120"/>
            <a:ext cx="3349800" cy="22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7" name="Picture 2" descr="C:\Users\Luna\AppData\Local\Microsoft\Windows\Temporary Internet Files\Content.IE5\9V6KBMM2\MM900282993[1].gif"/>
          <p:cNvPicPr/>
          <p:nvPr/>
        </p:nvPicPr>
        <p:blipFill>
          <a:blip r:embed="rId2"/>
          <a:stretch/>
        </p:blipFill>
        <p:spPr>
          <a:xfrm>
            <a:off x="0" y="-12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56:56Z</dcterms:created>
  <dc:creator>Windows User</dc:creator>
  <dc:description/>
  <dc:language>en-US</dc:language>
  <cp:lastModifiedBy>Luna</cp:lastModifiedBy>
  <dcterms:modified xsi:type="dcterms:W3CDTF">2012-01-31T15:04:40Z</dcterms:modified>
  <cp:revision>17</cp:revision>
  <dc:subject/>
  <dc:title>استراتيجية التسعير الفصل الثاني ع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