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10.gif" ContentType="image/gif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889C-4735-4C76-8CC9-32C7A6B1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CBE4-CE88-412C-BD29-C5F12E97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B115-87A5-4EE0-8E17-A14454CC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5BC3-FFA3-45A4-A0E0-EF69D160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27E4-51C2-4D4E-AF47-50FC5C9B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1668-CB50-4CFD-B8FA-77B38B57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9AA6-059E-4B5F-8F61-DBCD7162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9626-A21A-4886-8DE8-7F33F9C8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02FE-BE56-4B88-AD8E-AC3C5FD4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5B23-792A-4427-942F-DC6CAB13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7141-5393-436D-B9BB-8A4DF74A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93D6-7434-4E99-821E-5BDB5C9D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81BC-2D2B-4417-AFED-FEB93F82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BF4E-A8C8-4AA8-A975-719F5E6C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BDC5-15CB-46B1-A558-66C92F66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EE5D-A185-4718-A333-8C23A840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034D-F8BE-4E2B-8E9B-75798427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EECDF6-DE79-4944-8861-4E2E7682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49FEE-0455-4BE5-AE7A-E4335A7B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A65F30-6C4B-496D-B654-ACB0BB85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701260-F32A-462C-B4D2-5457EDC8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05695-C4E6-4EAE-8C2F-6D295C68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A0DD-76FD-4AE9-8345-280607A3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AE9143-0949-4824-AF59-B2FD4FD6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0AFBA-999B-4183-9A6D-99C8DD2E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BE05F-89B6-437A-AD12-87C69E86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F894B-CE79-46CF-83D9-ACB1026A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C3DD0-6167-4305-ABF7-74EA3728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EDC79-172B-4D86-AC72-00AEC233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D6C060-FBD7-403B-87F9-1AFE8510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BE3A5D-BEA6-41C0-A917-9BAAAB7A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C0F52F-A17E-4085-B72D-3214584C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C33FA1-9F73-4934-9085-6291B8AB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5FBA-10ED-4336-907D-DE1F21FB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D1C0D0-9BCD-4547-B0D7-029A3908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BBD78D-FFDE-4B82-B2B3-2F8CDABD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94FD02-35E6-424D-9C77-90099135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6365FD-1EAB-4E6B-8680-81D45726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282600-C7BE-420D-A66E-9D420048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BF9B6D-CA22-4B95-BC73-D3D7AC8F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09A73A-E4DF-4ACA-8E67-032A7F7F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E3F7DA-DD3D-4D28-BDA8-2E6D47BF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D55C3C-6B62-4276-8A6F-2EF402F7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0751AC-6CE6-4648-A19B-3FDFBFEF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F552-B72D-490F-8CF3-60DF981F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17FEAA-8CAF-42BF-86C2-A90E8805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0ED8AD-F87F-46DC-89CC-277BD262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D3998-DD8E-41E0-904E-7E4277B7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06B206-F705-4B34-A11E-6D3F0E01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657BCD-A3E4-4699-B76A-8446001F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145487-AE73-41DD-8B1F-FD14B205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7D47B1-C751-45BF-9ADC-F6A61EC7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359CD6-7EFA-4778-928B-DBAF429C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A11B79-8EF3-44B9-AA8E-1319EB0E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8977A4-C5C2-4CF0-8E42-456ADE7B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B236-8F26-45EB-B72F-38ED30CD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06B26-9784-447E-A1AF-F0FFF9D5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87587-80BD-4E70-9716-3EC78E2F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7E2F8-0866-4F38-9E53-74C66B36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DF64E-544F-491F-BF15-95C6A169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85F4D-A2D8-4AEA-A14B-4483ABB1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55B78-BD3B-406A-9849-E89163C0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08EDC-E09B-4111-8E42-050CF38B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520E5-8AAF-4F3D-BC05-87C355E5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365CA-2BF1-450B-9296-41AFBC9A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F3DA8-B191-4AE8-9E61-B9B2CD58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DE0A-A814-4757-B146-88C468A5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2F49C-21F4-40ED-87C3-31F0AAFC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86065-3885-4926-A0D4-AD6A39A3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DA041-372A-404F-8355-31C6DA55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55C531-C501-4B3B-BD6D-2259A82B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7A1DB0-458F-48FF-9CF6-BF4E476B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BC095D-0177-44E7-BA5A-8A3D6E70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2D7049-0AE6-4D21-8270-B30D121D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0070CE-ECFE-4542-94FE-6701738C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93FC48-640D-4BCC-AC10-BE1EED8D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5F36E2-655F-4606-89A9-2E8CC901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E4D-32E7-49E0-AB37-57BB274E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7BA8FF-4145-45F5-B533-B21EBFC7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C2A29F-43D6-448A-83DD-15EFCFE1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06FB11-286F-4110-9621-10963A44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B002B6-DF84-419E-B49D-9CF6DB29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BD5BE4-96C8-4835-801D-318DD9C7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1457B-EDA2-40C1-BA52-CA820265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203F4-A806-4140-BD30-66661AAD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A46C2-3E85-4CE9-8D72-6BF216A5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03440-1C16-4658-B9DC-D44AF2C1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3D134-6146-46B7-92F3-E70CE045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6A6B-D9C3-480B-8F3D-FA2DCC8E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F5E23-4294-410B-8C80-6EDE8A65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42A29-B2D0-4B8F-8774-14E8D0AE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C0317-D8F6-4C10-8C7C-0F5B56EF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7EBBB-C1D4-4EEF-BBD9-1BC79C57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BBAE6-D36F-4E09-A7C1-A76D3F48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30D5E-A404-462A-8309-1AA64AA9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1F615-7FA9-4A8F-9CEB-C7F490D6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2743-BD6C-4526-9A77-50CDC8E16C5A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eece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E337-5C74-4D4C-AEAE-262D0E755CB0}" type="slidenum">
              <a:rPr b="1" lang="ar-SA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790D-85EF-4EAE-BEAC-6D5CCAC712BD}" type="slidenum">
              <a:rPr b="1" lang="ar-S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C3D6-BAB4-45A6-961D-A610E7EFC254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3B72-3FB2-4833-B650-E4D55067AC34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E8AD-ECCC-48E8-93E4-E4E370ACEA2D}" type="slidenum">
              <a:rPr b="1" lang="ar-SA" sz="1400" spc="-1" strike="noStrike">
                <a:solidFill>
                  <a:srgbClr val="1f497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3010-E25D-4000-A355-51FEA18D69A4}" type="slidenum">
              <a:rPr b="1" lang="ar-S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C78F-DD6E-48DD-B1FA-2AC253F90FD2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eece1"/>
                </a:solidFill>
                <a:latin typeface="Tw Cen MT"/>
              </a:rPr>
              <a:t>استراتيجية التسعير</a:t>
            </a:r>
            <a:br>
              <a:rPr sz="4400"/>
            </a:br>
            <a:r>
              <a:rPr b="0" lang="ar-SA" sz="3200" spc="-1" strike="noStrike">
                <a:solidFill>
                  <a:srgbClr val="eeece1"/>
                </a:solidFill>
                <a:latin typeface="Tw Cen MT"/>
              </a:rPr>
              <a:t>الفصل الثاني عشر</a:t>
            </a:r>
            <a:endParaRPr b="0" lang="en-US" sz="32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Pricing Strateg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خطو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79" name="Content Placeholder 3" descr=""/>
          <p:cNvPicPr/>
          <p:nvPr/>
        </p:nvPicPr>
        <p:blipFill>
          <a:blip r:embed="rId1"/>
          <a:stretch/>
        </p:blipFill>
        <p:spPr>
          <a:xfrm>
            <a:off x="658800" y="1457280"/>
            <a:ext cx="8265960" cy="5376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C:\Users\Luna\AppData\Local\Microsoft\Windows\Temporary Internet Files\Content.IE5\8OXR8UTT\MM900300593[1].gif"/>
          <p:cNvPicPr/>
          <p:nvPr/>
        </p:nvPicPr>
        <p:blipFill>
          <a:blip r:embed="rId2"/>
          <a:stretch/>
        </p:blipFill>
        <p:spPr>
          <a:xfrm>
            <a:off x="0" y="0"/>
            <a:ext cx="15717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99680" y="1600200"/>
            <a:ext cx="8265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تتسم قرارات التسعير بدرجة عالية من التعقيد بسبب المتغيرات الكثيرة التي تتضمنها وانعكاسها على مجمل أنشطة المنظمة، بالتالي ستتأثر استراتيجية التسويق بشكل كبير باستراتيجية التسعير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السعر يعد من أكثر العناصر خضوعاً للتفاوض بين البائع والمشتري وعلى اختلاف درجاتهم وقدراتهم الشرائية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أيضاً يبرز تأثير السعر البديل لذات السلعة على قرار الشراء النهائي للمستهلك، وبالتالي تحوله إلى التعامل مع المنافسين بدلاً من إبقائه ضمن دائرة الولاء للشركة أو المُنتَج المقدم للسوق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حتويات الفصل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معاني المتعددة للسعر وتعريفه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دور الاستراتيجي للسعر في المزيج التسويقي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ستراتيجية التسعير المعتمدة من قِبَل منظمات الأعمال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عوامل الرئيسة ذات التأثير على قرارات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خطوات المتعاقبة في عملية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4" descr="j0078804"/>
          <p:cNvPicPr/>
          <p:nvPr/>
        </p:nvPicPr>
        <p:blipFill>
          <a:blip r:embed="rId1"/>
          <a:stretch/>
        </p:blipFill>
        <p:spPr>
          <a:xfrm>
            <a:off x="174600" y="3929040"/>
            <a:ext cx="31831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تعبير عن قيمة الأشياء التي يتم تبادلها في السوق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قيمة التبادلية عن المنتجات في التبادل التسويقي "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ن التعريفين السابقين نجد أن السعر ماهو إلا صيغة لعلاقة تبادلية ما بين الأفراد الذين يدفعون النقود، والوحدات التسويقية على اختلاف أشكالها والتي تقوم بعملية تقديم المنتجات لهم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ثمن مقابل شيء ما ". (النقود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مجموعة من القيم (نقود) والتي يستبدلها المستهلك مقابل فوائد أو امتلاك أو استخدام المُنتَج أو الخدمة ". (قوة نقدية لدى المستهلك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ه: الرسوم، الفوائد، الإيجار، .....الخ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C:\Users\Luna\AppData\Local\Microsoft\Windows\Temporary Internet Files\Content.IE5\AI1N5N38\MP900442387[1].jpg"/>
          <p:cNvPicPr/>
          <p:nvPr/>
        </p:nvPicPr>
        <p:blipFill>
          <a:blip r:embed="rId1"/>
          <a:stretch/>
        </p:blipFill>
        <p:spPr>
          <a:xfrm>
            <a:off x="-66600" y="-23760"/>
            <a:ext cx="206064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7120" y="1600200"/>
            <a:ext cx="8408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من أبرز عناصر المزيج التسويقي في المنظمة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مولداً للايرادات والأرباح، أما باقي عناصر المزيج التسويقي فتعتبر تكالي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أكثر مرونة واستجابة للتغير تبعاً لأي طارئ في البيئة المحيطة بالمنظمة، أما باقي العناصر فتحتاج إلى وقت طويل وإجراءات معقدة ليتم تغيرها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حتل الأسعار والأسعار التنافسية المرتبة الأولى من حيث الصعوبة والمشكلات التي يتعرض لها مدراء التسويق في المنظمات لما لها تأثير كبير على ديمومة المنظمة واستمرارها وتحقيقها للأرباح أو العكس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2" name="Picture 6" descr="C:\Users\Luna\AppData\Local\Microsoft\Windows\Temporary Internet Files\Content.IE5\8OXR8UTT\MC900290292[1].wmf"/>
          <p:cNvPicPr/>
          <p:nvPr/>
        </p:nvPicPr>
        <p:blipFill>
          <a:blip r:embed="rId1"/>
          <a:stretch/>
        </p:blipFill>
        <p:spPr>
          <a:xfrm>
            <a:off x="285840" y="0"/>
            <a:ext cx="15001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حتى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5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كان السعر العامل الأهم في سلوك المشتر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ظهرت عوامل أخرى: الإعلان، التعبئة والتغليف، العلامة.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اد تأثير السعر نتيجة انخفاض الطلب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8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والدخل الحقيقي، لذا عُدّ السعر من أهم عناصر المزيج التسويقي بعد مزيج المنتج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ُعد عاملاً مهماً في تغطية تكاليف الأنشطة (التسويقية وغير التسويقية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رباح = العــــــائــــد الكـلـــــــــي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220400" indent="-203400" algn="r" rtl="1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= (السعر * الكمية المباعة)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السعر يمكن أن يؤثر على الأرباح المتحققة بعد طرق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4" descr="CAHFI1VH"/>
          <p:cNvPicPr/>
          <p:nvPr/>
        </p:nvPicPr>
        <p:blipFill>
          <a:blip r:embed="rId1"/>
          <a:stretch/>
        </p:blipFill>
        <p:spPr>
          <a:xfrm>
            <a:off x="0" y="0"/>
            <a:ext cx="178596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 - تابع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05640" indent="-30564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أخذ بُعدا استراتيجياً في كل مما يلي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ند صياغة القرارات السعرية يجب أن تغطي كافة الأهداف والاستراتيجيات المحددة مسبقاً من قِبَل الإدارة العليا في المنظم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نظرية النظم وارتباط القرارات السعرية بالقرارات المرتبطة بعناصر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خذ بالاعتبار أهمية العناصر التنافسية غير السعر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سعرية المتخذة يجب أن تأخذ بالاعتبار حالات التأكد واللا تأكد البي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استراتيجية تأخذ صياغتها الروتينية بالتفاعل والتشاور مع الأقسام والجهات ذات العلاقة بتقديم المنتج بشكله النها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2" descr="C:\Users\Luna\AppData\Local\Microsoft\Windows\Temporary Internet Files\Content.IE5\ZNV8T11M\MC900353998[1].wmf"/>
          <p:cNvPicPr/>
          <p:nvPr/>
        </p:nvPicPr>
        <p:blipFill>
          <a:blip r:embed="rId1"/>
          <a:stretch/>
        </p:blipFill>
        <p:spPr>
          <a:xfrm>
            <a:off x="-19080" y="0"/>
            <a:ext cx="1397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ستراتيجية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قبول مبادئ التسعير في حالات التطبيق لها وعلى مدار الفترة الزمنية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Oval 5"/>
          <p:cNvSpPr/>
          <p:nvPr/>
        </p:nvSpPr>
        <p:spPr>
          <a:xfrm>
            <a:off x="357120" y="2857680"/>
            <a:ext cx="3505320" cy="1752480"/>
          </a:xfrm>
          <a:prstGeom prst="ellipse">
            <a:avLst/>
          </a:prstGeom>
          <a:solidFill>
            <a:srgbClr val="b3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لقش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6"/>
          <p:cNvSpPr/>
          <p:nvPr/>
        </p:nvSpPr>
        <p:spPr>
          <a:xfrm>
            <a:off x="3929040" y="4286160"/>
            <a:ext cx="3505320" cy="1752840"/>
          </a:xfrm>
          <a:prstGeom prst="ellipse">
            <a:avLst/>
          </a:prstGeom>
          <a:solidFill>
            <a:srgbClr val="cdc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 الاختر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C:\Users\Luna\AppData\Local\Microsoft\Windows\Temporary Internet Files\Content.IE5\AI1N5N38\MC900363498[1].wmf"/>
          <p:cNvPicPr/>
          <p:nvPr/>
        </p:nvPicPr>
        <p:blipFill>
          <a:blip r:embed="rId1"/>
          <a:stretch/>
        </p:blipFill>
        <p:spPr>
          <a:xfrm>
            <a:off x="0" y="0"/>
            <a:ext cx="13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عوامل المؤثرة في قرار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هداف التتنظيمية والتسويق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 الأهدا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كل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تغيرات الأخرى في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وقعات المشاركين في القناة التوزيع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ستجابة وتصورات المستهلكين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نافس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ضايا التنظيمية والقانون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4" descr="5558"/>
          <p:cNvPicPr/>
          <p:nvPr/>
        </p:nvPicPr>
        <p:blipFill>
          <a:blip r:embed="rId1"/>
          <a:stretch/>
        </p:blipFill>
        <p:spPr>
          <a:xfrm>
            <a:off x="214200" y="2643120"/>
            <a:ext cx="3349800" cy="221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77" name="Picture 2" descr="C:\Users\Luna\AppData\Local\Microsoft\Windows\Temporary Internet Files\Content.IE5\9V6KBMM2\MM900282993[1].gif"/>
          <p:cNvPicPr/>
          <p:nvPr/>
        </p:nvPicPr>
        <p:blipFill>
          <a:blip r:embed="rId2"/>
          <a:stretch/>
        </p:blipFill>
        <p:spPr>
          <a:xfrm>
            <a:off x="0" y="-1260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20:56:56Z</dcterms:created>
  <dc:creator>Windows User</dc:creator>
  <dc:description/>
  <dc:language>en-US</dc:language>
  <cp:lastModifiedBy>Luna</cp:lastModifiedBy>
  <dcterms:modified xsi:type="dcterms:W3CDTF">2012-01-31T15:04:40Z</dcterms:modified>
  <cp:revision>17</cp:revision>
  <dc:subject/>
  <dc:title>استراتيجية التسعير الفصل الثاني عش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