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1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10.gif" ContentType="image/gif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858E-E86B-49E0-9DC1-7FD924B7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307C-8F96-4C3D-8D47-6FDACC6D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17B8-6160-45D9-96F8-97A10C5F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2BF6-FDD9-4CF1-AEDF-F1308273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7928-A487-4F82-AB54-373F8E4C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879E-65B6-42F0-AE40-0AC4BD37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2A22-F96D-4B73-B19E-382F689F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2671-972D-4E26-A846-E546AA29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EE2E-EB9C-456C-A2D3-2E68C7A0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402E-A19B-4F8D-B727-BEACDF3F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ACB2-02A7-4514-9D6C-E091E343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8C2A-BCDB-4658-9D04-14BA56C6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F1F9-687C-4356-89C9-0A5EF901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DD93-228F-4C0A-8D77-F5869008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93F6-8A63-469A-8557-10E7ADEC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BFF8-F5BF-4910-8A2B-98A2E19E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C6B4-5C78-4A9C-B0B7-273CD20B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28E30A-BB93-41B8-B3E0-0EDAF5B4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06C8A1-8B12-47A4-BC1F-920064F9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4F5219-E4B1-4126-95DB-0B852E65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44123-5B6C-4903-8317-9ADF1D2E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94AF06-1C5F-473C-9C69-08C5C7F7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AE09-A293-4198-B216-A4BBF179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F8AB3F-B87D-4DAC-8D05-8CC66965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785E75-A7C4-4896-B1AD-C0505F22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7BE113-D54F-4CF3-8273-F58448AF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6C6B5-5C91-417F-811C-B5A5A4C6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305F20-80F8-43CF-9D63-D3709189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E59595-E1EC-428B-B095-D5AA9DBA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A4C93-61CE-4057-BB97-CD3E069C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F84718-66C5-42F1-9A9C-417F052E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521537-D2B4-42D5-B238-A937AB0F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365618-C654-4674-9391-5CC0AC1C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6458-8CE3-4D05-9393-A3EDCF29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E2AE31-2D62-49D7-ADD8-61BCF5E2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96A662-0A7F-4D0C-8241-40E93FA5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D069FC-16B5-4019-B0C5-15FACC3D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0C4C05-BAEA-486E-A3DC-9B2B2DD6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D9C92B-7098-4680-95FF-455766E7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34BCEF-1F70-49E2-80F8-F552178D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64A69C-55A1-4F3D-A757-1D9EDBF4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1BE279-AD1B-476C-BAFA-C7A299DD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3350E5-F10C-4A13-909B-AAE9A11D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E44D09-A7FB-4777-9424-39CF9825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86FD-1034-452E-B2A2-D1E6BAA4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65EDA9-78EC-42D5-8232-BE5F9754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3E7557-EC03-495B-B943-74CF8698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0B1FB2-5734-4006-B979-862839D8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5CC120-1699-4239-B212-77896A04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EBEF53-E3CB-4C86-8612-764D3B74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5DBEE9-373A-4978-920A-2407A19B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19B8B1-434E-484C-9033-9ADB02FB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2CFC41-AD6A-499B-B3A4-8AE2AFCA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29E971-DE6A-4561-976F-ADFDD198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20B433-B4CF-413E-8055-BB1E5AEB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BC71-01F4-4CB9-A3D7-7D166C7F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5CB104-43C6-438B-9F26-AA128583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79512-D64B-4319-80C9-030190A0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E3455-0AA8-48F7-9DC2-DAC259F0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D3CD5-65EB-4F7E-9917-92D7C070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29345-CD7B-4834-911C-CA9A080F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589C9-2D84-48FB-A569-8EA387C4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3E9A3-C3BB-49D4-B9A5-9BF22835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B2869-AC1F-4741-B674-D51431FF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5DB27-3E96-49BC-ADCF-08C019DA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5289D-3F0C-4C12-A0BF-B840C0CB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99A7-C445-4CED-A176-293A097F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9466F-774B-45A2-BE66-E5E06873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29878-94E5-4474-9889-023F7360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9E552-31E4-45EC-A113-AE6B17B3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E78936-C3F5-4FFB-BAAB-297E9DA9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D30204-FAB8-427B-A12F-429E857A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A31323-F95F-48C6-9652-C38D5522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C5907B-83C2-422E-B9E2-3695A44B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F01D16-6ED2-4DFB-8427-459593C0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2C14D4-C667-44BA-B670-C0C19BE9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347BAC-2DF2-4B62-A9AE-53E95910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E6B6-9A9A-4E4B-A86F-719AE3BC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F66F5C-7FE9-4393-B0F8-5BD43367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BCC23A-EC39-4910-8E61-0DFFC719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2FD4B9-0611-4532-9C2F-EE9E266E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1E391E-29E8-4EE7-A0A6-3036E969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F5BD03-066C-4729-97DE-A2FDD94B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F37C0-D551-4929-8B0D-57D31D3C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7D8F8-F126-49ED-BF0A-0897E17A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9C087-899A-4672-AA80-4D69B79B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DE8B7-0375-4C9F-9AFA-851DE4D0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3DAA0-66C5-4EF1-8D65-F8A261BB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AA3E-3DB4-4D0C-854F-6AAE3BC3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CE781-8BCE-4388-8EAE-4A85BC25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0B996-397A-4639-BE06-24E8EB67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9631F-BFF8-43CD-A46E-E8361239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55099-DE76-4349-A5AD-456905BB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DBA2C-0B40-46FF-ABC3-ECCCCED3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180F8-F89B-4FD0-BE3D-8A8D1F6E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EEF05-714E-46E3-AEB8-975760F1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CDC2-CD30-47F0-A1E0-A10DC7EA606F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eece1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8A3C-5930-47D6-94EC-A6750D32116E}" type="slidenum">
              <a:rPr b="1" lang="ar-SA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38E4-496F-45BB-8444-2BA6ECC27DBA}" type="slidenum">
              <a:rPr b="1" lang="ar-S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AA9C-B8F9-475C-A8EA-4627DBAC7055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3BF9-482C-41E4-996C-4808E483068E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3F31-2BC6-471E-B079-3A37427FADC4}" type="slidenum">
              <a:rPr b="1" lang="ar-SA" sz="1400" spc="-1" strike="noStrike">
                <a:solidFill>
                  <a:srgbClr val="1f497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EEF8-865F-42B3-99A2-0466261FBDE1}" type="slidenum">
              <a:rPr b="1" lang="ar-S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E394-05C6-42B5-8F14-CC1792ECF512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eece1"/>
                </a:solidFill>
                <a:latin typeface="Tw Cen MT"/>
              </a:rPr>
              <a:t>استراتيجية التسعير</a:t>
            </a:r>
            <a:br>
              <a:rPr sz="4400"/>
            </a:br>
            <a:r>
              <a:rPr b="0" lang="ar-SA" sz="3200" spc="-1" strike="noStrike">
                <a:solidFill>
                  <a:srgbClr val="eeece1"/>
                </a:solidFill>
                <a:latin typeface="Tw Cen MT"/>
              </a:rPr>
              <a:t>الفصل الثاني عشر</a:t>
            </a:r>
            <a:endParaRPr b="0" lang="en-US" sz="32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Pricing Strategy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خطو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379" name="Content Placeholder 3" descr=""/>
          <p:cNvPicPr/>
          <p:nvPr/>
        </p:nvPicPr>
        <p:blipFill>
          <a:blip r:embed="rId1"/>
          <a:stretch/>
        </p:blipFill>
        <p:spPr>
          <a:xfrm>
            <a:off x="658800" y="1457280"/>
            <a:ext cx="8265960" cy="5376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C:\Users\Luna\AppData\Local\Microsoft\Windows\Temporary Internet Files\Content.IE5\8OXR8UTT\MM900300593[1].gif"/>
          <p:cNvPicPr/>
          <p:nvPr/>
        </p:nvPicPr>
        <p:blipFill>
          <a:blip r:embed="rId2"/>
          <a:stretch/>
        </p:blipFill>
        <p:spPr>
          <a:xfrm>
            <a:off x="0" y="0"/>
            <a:ext cx="157176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99680" y="1600200"/>
            <a:ext cx="82659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تتسم قرارات التسعير بدرجة عالية من التعقيد بسبب المتغيرات الكثيرة التي تتضمنها وانعكاسها على مجمل أنشطة المنظمة، بالتالي ستتأثر استراتيجية التسويق بشكل كبير باستراتيجية التسعير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السعر يعد من أكثر العناصر خضوعاً للتفاوض بين البائع والمشتري وعلى اختلاف درجاتهم وقدراتهم الشرائية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أيضاً يبرز تأثير السعر البديل لذات السلعة على قرار الشراء النهائي للمستهلك، وبالتالي تحوله إلى التعامل مع المنافسين بدلاً من إبقائه ضمن دائرة الولاء للشركة أو المُنتَج المقدم للسوق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حتويات الفصل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معاني المتعددة للسعر وتعريفه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دور الاستراتيجي للسعر في المزيج التسويقي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ستراتيجية التسعير المعتمدة من قِبَل منظمات الأعمال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عوامل الرئيسة ذات التأثير على قرارات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خطوات المتعاقبة في عملية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6" name="Picture 4" descr="j0078804"/>
          <p:cNvPicPr/>
          <p:nvPr/>
        </p:nvPicPr>
        <p:blipFill>
          <a:blip r:embed="rId1"/>
          <a:stretch/>
        </p:blipFill>
        <p:spPr>
          <a:xfrm>
            <a:off x="174600" y="3929040"/>
            <a:ext cx="31831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تعبير عن قيمة الأشياء التي يتم تبادلها في السوق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قيمة التبادلية عن المنتجات في التبادل التسويقي "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ن التعريفين السابقين نجد أن السعر ماهو إلا صيغة لعلاقة تبادلية ما بين الأفراد الذين يدفعون النقود، والوحدات التسويقية على اختلاف أشكالها والتي تقوم بعملية تقديم المنتجات لهم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ثمن مقابل شيء ما ". (النقود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مجموعة من القيم (نقود) والتي يستبدلها المستهلك مقابل فوائد أو امتلاك أو استخدام المُنتَج أو الخدمة ". (قوة نقدية لدى المستهلك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ه: الرسوم، الفوائد، الإيجار، .....الخ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2" descr="C:\Users\Luna\AppData\Local\Microsoft\Windows\Temporary Internet Files\Content.IE5\AI1N5N38\MP900442387[1].jpg"/>
          <p:cNvPicPr/>
          <p:nvPr/>
        </p:nvPicPr>
        <p:blipFill>
          <a:blip r:embed="rId1"/>
          <a:stretch/>
        </p:blipFill>
        <p:spPr>
          <a:xfrm>
            <a:off x="-66600" y="-23760"/>
            <a:ext cx="206064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57120" y="1600200"/>
            <a:ext cx="84088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من أبرز عناصر المزيج التسويقي في المنظمة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مولداً للايرادات والأرباح، أما باقي عناصر المزيج التسويقي فتعتبر تكالي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أكثر مرونة واستجابة للتغير تبعاً لأي طارئ في البيئة المحيطة بالمنظمة، أما باقي العناصر فتحتاج إلى وقت طويل وإجراءات معقدة ليتم تغيرها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حتل الأسعار والأسعار التنافسية المرتبة الأولى من حيث الصعوبة والمشكلات التي يتعرض لها مدراء التسويق في المنظمات لما لها تأثير كبير على ديمومة المنظمة واستمرارها وتحقيقها للأرباح أو العكس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2" name="Picture 6" descr="C:\Users\Luna\AppData\Local\Microsoft\Windows\Temporary Internet Files\Content.IE5\8OXR8UTT\MC900290292[1].wmf"/>
          <p:cNvPicPr/>
          <p:nvPr/>
        </p:nvPicPr>
        <p:blipFill>
          <a:blip r:embed="rId1"/>
          <a:stretch/>
        </p:blipFill>
        <p:spPr>
          <a:xfrm>
            <a:off x="285840" y="0"/>
            <a:ext cx="15001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حتى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5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كان السعر العامل الأهم في سلوك المشتر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ظهرت عوامل أخرى: الإعلان، التعبئة والتغليف، العلامة.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اد تأثير السعر نتيجة انخفاض الطلب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8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والدخل الحقيقي، لذا عُدّ السعر من أهم عناصر المزيج التسويقي بعد مزيج المنتج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ُعد عاملاً مهماً في تغطية تكاليف الأنشطة (التسويقية وغير التسويقية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رباح = العــــــائــــد الكـلـــــــــي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220400" indent="-203400" algn="r" rtl="1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= (السعر * الكمية المباعة)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السعر يمكن أن يؤثر على الأرباح المتحققة بعد طرق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4" descr="CAHFI1VH"/>
          <p:cNvPicPr/>
          <p:nvPr/>
        </p:nvPicPr>
        <p:blipFill>
          <a:blip r:embed="rId1"/>
          <a:stretch/>
        </p:blipFill>
        <p:spPr>
          <a:xfrm>
            <a:off x="0" y="0"/>
            <a:ext cx="178596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 - تابع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05640" indent="-30564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أخذ بُعدا استراتيجياً في كل مما يلي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ند صياغة القرارات السعرية يجب أن تغطي كافة الأهداف والاستراتيجيات المحددة مسبقاً من قِبَل الإدارة العليا في المنظم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نظرية النظم وارتباط القرارات السعرية بالقرارات المرتبطة بعناصر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خذ بالاعتبار أهمية العناصر التنافسية غير السعر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سعرية المتخذة يجب أن تأخذ بالاعتبار حالات التأكد واللا تأكد البي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استراتيجية تأخذ صياغتها الروتينية بالتفاعل والتشاور مع الأقسام والجهات ذات العلاقة بتقديم المنتج بشكله النها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2" descr="C:\Users\Luna\AppData\Local\Microsoft\Windows\Temporary Internet Files\Content.IE5\ZNV8T11M\MC900353998[1].wmf"/>
          <p:cNvPicPr/>
          <p:nvPr/>
        </p:nvPicPr>
        <p:blipFill>
          <a:blip r:embed="rId1"/>
          <a:stretch/>
        </p:blipFill>
        <p:spPr>
          <a:xfrm>
            <a:off x="-19080" y="0"/>
            <a:ext cx="1397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ستراتيجية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قبول مبادئ التسعير في حالات التطبيق لها وعلى مدار الفترة الزمنية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Oval 5"/>
          <p:cNvSpPr/>
          <p:nvPr/>
        </p:nvSpPr>
        <p:spPr>
          <a:xfrm>
            <a:off x="357120" y="2857680"/>
            <a:ext cx="3505320" cy="1752480"/>
          </a:xfrm>
          <a:prstGeom prst="ellipse">
            <a:avLst/>
          </a:prstGeom>
          <a:solidFill>
            <a:srgbClr val="b3d7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لقش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6"/>
          <p:cNvSpPr/>
          <p:nvPr/>
        </p:nvSpPr>
        <p:spPr>
          <a:xfrm>
            <a:off x="3929040" y="4286160"/>
            <a:ext cx="3505320" cy="1752840"/>
          </a:xfrm>
          <a:prstGeom prst="ellipse">
            <a:avLst/>
          </a:prstGeom>
          <a:solidFill>
            <a:srgbClr val="cdc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 الاختر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" descr="C:\Users\Luna\AppData\Local\Microsoft\Windows\Temporary Internet Files\Content.IE5\AI1N5N38\MC900363498[1].wmf"/>
          <p:cNvPicPr/>
          <p:nvPr/>
        </p:nvPicPr>
        <p:blipFill>
          <a:blip r:embed="rId1"/>
          <a:stretch/>
        </p:blipFill>
        <p:spPr>
          <a:xfrm>
            <a:off x="0" y="0"/>
            <a:ext cx="138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عوامل المؤثرة في قرار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هداف التتنظيمية والتسويق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 الأهدا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كل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تغيرات الأخرى في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وقعات المشاركين في القناة التوزيع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ستجابة وتصورات المستهلكين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نافس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ضايا التنظيمية والقانون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Picture 4" descr="5558"/>
          <p:cNvPicPr/>
          <p:nvPr/>
        </p:nvPicPr>
        <p:blipFill>
          <a:blip r:embed="rId1"/>
          <a:stretch/>
        </p:blipFill>
        <p:spPr>
          <a:xfrm>
            <a:off x="214200" y="2643120"/>
            <a:ext cx="3349800" cy="221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77" name="Picture 2" descr="C:\Users\Luna\AppData\Local\Microsoft\Windows\Temporary Internet Files\Content.IE5\9V6KBMM2\MM900282993[1].gif"/>
          <p:cNvPicPr/>
          <p:nvPr/>
        </p:nvPicPr>
        <p:blipFill>
          <a:blip r:embed="rId2"/>
          <a:stretch/>
        </p:blipFill>
        <p:spPr>
          <a:xfrm>
            <a:off x="0" y="-1260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20:56:56Z</dcterms:created>
  <dc:creator>Windows User</dc:creator>
  <dc:description/>
  <dc:language>en-US</dc:language>
  <cp:lastModifiedBy>Luna</cp:lastModifiedBy>
  <dcterms:modified xsi:type="dcterms:W3CDTF">2012-01-31T15:04:40Z</dcterms:modified>
  <cp:revision>17</cp:revision>
  <dc:subject/>
  <dc:title>استراتيجية التسعير الفصل الثاني عش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