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11.png" ContentType="image/png"/>
  <Override PartName="/ppt/media/image6.jpeg" ContentType="image/jpeg"/>
  <Override PartName="/ppt/media/image7.png" ContentType="image/png"/>
  <Override PartName="/ppt/media/image8.wmf" ContentType="image/x-wmf"/>
  <Override PartName="/ppt/media/image10.gif" ContentType="image/gif"/>
  <Override PartName="/ppt/media/image9.jpeg" ContentType="image/jpeg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1957-9AE9-43D6-A30A-65B4442BC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6CCD-E49F-4F0E-BBA3-838CCE891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32C1-6308-4A67-8EE1-AE588BF37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A156-8A9D-4E20-A266-FF8483A86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5EE87-0B5A-49A7-B273-38FA2C6E5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CD8C8-20E6-413C-9C3E-E25D20FE7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32739-F274-49C8-9D10-DC46C51B5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84D17-CF72-4A30-994F-B1F4A6BA5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614FB-E5FB-40E1-9ED0-6F592EC46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3EE60-49D2-4500-9400-3D925E4A4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6AA8A-C420-4F29-9B3E-704643BD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1557-CD64-47AA-965E-7D04AF469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3EC1D-7E4C-4120-AC33-60BDC301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6D157-F8CA-43AD-91EB-3A8296D2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2BA44-C327-482F-BADD-1BAE89060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39B39-30E4-4EB2-959F-ECEFC74F9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C9450-E0C4-4895-A00C-0E1CAC94F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9C76A3-856B-49E8-8040-16A378DA8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26B153-E71A-4E3F-B2D4-98F754D38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0856FA-64A5-4462-B769-35B5426CD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6486E4-698C-4547-BD25-3BC8ADF70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318D28-D3CC-4CA9-BC22-DB128ADD4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B70C-EE2F-40CF-9BC8-08BC9A197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0DC837-BE11-4E92-8DBD-71B41E312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0AEF9F-3100-420E-96BE-D8DD8395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2AF019-E81F-4C4C-884B-942E3BD7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6618BC-8889-4978-ACE2-AB37BAA1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7592FA-1160-4F02-B93F-33C3045FB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3757C0-08EB-4A2E-A0EB-046876D58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8A884D-D688-48A2-8B1A-1CFF78B66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9174A8-1E72-44FC-8EB3-4E187682D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3AC336-2551-4E97-9D2C-31B2DB288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3BA353-4643-4372-A070-05FED9119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EDFA-FCDC-4709-9FC2-B94C3B840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B3A735-D5BD-4903-9EF1-354579D55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8E1681-78FC-4E6F-AE4B-255F2C3FF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4A4311-7428-4E10-8C72-DB3F418D1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33B218-015F-4B4F-91A1-F0B90C97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6417B2-B64A-42CE-9ED0-092CA829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F49FB1-F6DF-4FC4-B03E-6ABA0480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D9E655-6AC5-4FA1-9839-0285FF659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B87BE4-09C7-4479-87C1-BFCC2F4EB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C69E18-08CA-4661-B544-2F64D7717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B2A523-883E-4726-98CF-E251848CB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19DA-8448-4CA7-B3CA-1A7AB07E7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08B6EB-C034-4ED2-A72A-EC34C5972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923869-C3FA-49B6-B978-9DD5C0592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D67D5B-1455-43FE-8E3A-8958D4F55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C59481-9C97-4D34-AC89-137C8454C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6F43B0-8BF3-4922-A160-B96E28CE1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0B0D94-6EFB-458D-92E4-1287CD19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85F82D-B637-4F7E-8577-55EB8ABE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515DB9-5519-48CA-830E-C73FB7F1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63BC5C-C945-427E-934E-D1D94BF16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60DBA7-F805-4129-8A21-EDCFAA72F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6E0C-5445-499A-887E-3D16F772F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555DEC-F2B3-4C3E-9053-0E0C56CB0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EDADCF-E6DC-4058-A985-41A0EB631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471777-E5C8-4A37-BC0D-4A8E8FA41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2F501-0474-46BE-8A3D-26E3D6350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6C02D-9AF7-4152-9EDC-0692D2A06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10996-9312-417F-89B2-BBA92B84A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22A7A-3B18-4F2E-B676-95F0813B0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5BF167-B8E6-4A5C-991C-F6286903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D5918-7FDB-4740-8D35-304DF094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A3DA3-7B14-4C75-8F1D-7C754072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E3B4-6252-45CE-9548-C2A111BB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B399BF-9726-47C6-ABCA-F54F1784A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2C825-BFCF-4188-9513-8F2DB0BFA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35494-F209-4306-B576-62F20DD12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2949D8-A648-476C-BFDE-862A96D3E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77AB76-06EF-44F7-918D-5C66B973C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B80F4A-4899-483D-9C71-EF77EFDF8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FD1F51-A292-47EA-B9C3-CE707445A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D6DF4A-737E-40F1-98B6-87B8BDD9A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F560C3-592B-4795-BE39-24EE38DD3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538F76-EDC0-402B-BB2B-789FDFD6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0366-FEAF-45AD-8454-D00CD6AA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C79520-13E9-47F0-BEDA-4B5D28BE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FE9D7C-F489-4877-AC9C-5FE3E707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D98177-DCC1-447F-9D14-F9C38EC73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B971F6-CDAC-4986-B4E9-71DCBE56F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D60C1E-F6EB-45CB-8F8E-1CF1A293D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9391E2-EC44-4271-9A75-87A9A975E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E9EE4E-84F9-4918-8299-304E55B5A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789098-904E-4B79-95D5-59DAEE46E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2E880A-F49B-41F3-85EC-42ECF31A1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EA82D2-6BFE-4C6D-8C6A-B5F2ADEB2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5121-C33F-472E-9163-4A724DC5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A642EC-34EB-47A3-A740-3D85A41C3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585308-BA0D-4DBF-9DC0-42D69CEF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D4B2C5-AB6F-4BC8-8460-7ED1394F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57ABB9-82D2-49C3-A534-1F423D5B7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93AB4B-FC0E-44D5-BE7D-1643165F0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513C81-747E-4831-8EBA-16D422E9F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0E3B43-27A6-4E90-A73F-74702A97F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244BE-FF9C-4AED-92DA-6523897E8074}" type="slidenum">
              <a:rPr b="1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eeece1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F8A7C-4365-4527-B16B-D5D907B36B47}" type="slidenum">
              <a:rPr b="1" lang="ar-SA" sz="1400" spc="-1" strike="noStrike">
                <a:solidFill>
                  <a:srgbClr val="eeece1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0AA73-0ACE-4D37-A1B6-FFCA3DA33AC3}" type="slidenum">
              <a:rPr b="1" lang="ar-SA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61A28-7C86-4DFC-99F7-D39CA09B6B43}" type="slidenum">
              <a:rPr b="1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259C3-C411-4D14-A83B-0B4021D9DDE8}" type="slidenum">
              <a:rPr b="1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EF2D7-8332-4839-9E2F-3E04571C0C2F}" type="slidenum">
              <a:rPr b="1" lang="ar-SA" sz="1400" spc="-1" strike="noStrike">
                <a:solidFill>
                  <a:srgbClr val="1f497d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91EBC-E84B-486D-8AFE-7FB27C2BBC8E}" type="slidenum">
              <a:rPr b="1" lang="ar-SA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4CB39-DF5F-4A83-8A78-D09FBA747CB1}" type="slidenum">
              <a:rPr b="1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eece1"/>
                </a:solidFill>
                <a:latin typeface="Tw Cen MT"/>
              </a:rPr>
              <a:t>استراتيجية التسعير</a:t>
            </a:r>
            <a:br>
              <a:rPr sz="4400"/>
            </a:br>
            <a:r>
              <a:rPr b="0" lang="ar-SA" sz="3200" spc="-1" strike="noStrike">
                <a:solidFill>
                  <a:srgbClr val="eeece1"/>
                </a:solidFill>
                <a:latin typeface="Tw Cen MT"/>
              </a:rPr>
              <a:t>الفصل الثاني عشر</a:t>
            </a:r>
            <a:endParaRPr b="0" lang="en-US" sz="32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w Cen MT"/>
              </a:rPr>
              <a:t>Pricing Strategy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خطوات التسعي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pic>
        <p:nvPicPr>
          <p:cNvPr id="379" name="Content Placeholder 3" descr=""/>
          <p:cNvPicPr/>
          <p:nvPr/>
        </p:nvPicPr>
        <p:blipFill>
          <a:blip r:embed="rId1"/>
          <a:stretch/>
        </p:blipFill>
        <p:spPr>
          <a:xfrm>
            <a:off x="658800" y="1457280"/>
            <a:ext cx="8265960" cy="53769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C:\Users\Luna\AppData\Local\Microsoft\Windows\Temporary Internet Files\Content.IE5\8OXR8UTT\MM900300593[1].gif"/>
          <p:cNvPicPr/>
          <p:nvPr/>
        </p:nvPicPr>
        <p:blipFill>
          <a:blip r:embed="rId2"/>
          <a:stretch/>
        </p:blipFill>
        <p:spPr>
          <a:xfrm>
            <a:off x="0" y="0"/>
            <a:ext cx="157176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مقدمة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99680" y="1600200"/>
            <a:ext cx="826596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80440" indent="-280440" algn="just" rtl="1">
              <a:lnSpc>
                <a:spcPct val="13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Tw Cen MT"/>
              </a:rPr>
              <a:t>تتسم قرارات التسعير بدرجة عالية من التعقيد بسبب المتغيرات الكثيرة التي تتضمنها وانعكاسها على مجمل أنشطة المنظمة، بالتالي ستتأثر استراتيجية التسويق بشكل كبير باستراتيجية التسعير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 algn="just" rtl="1">
              <a:lnSpc>
                <a:spcPct val="13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Tw Cen MT"/>
              </a:rPr>
              <a:t>السعر يعد من أكثر العناصر خضوعاً للتفاوض بين البائع والمشتري وعلى اختلاف درجاتهم وقدراتهم الشرائية.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 algn="just" rtl="1">
              <a:lnSpc>
                <a:spcPct val="13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Tw Cen MT"/>
              </a:rPr>
              <a:t>أيضاً يبرز تأثير السعر البديل لذات السلعة على قرار الشراء النهائي للمستهلك، وبالتالي تحوله إلى التعامل مع المنافسين بدلاً من إبقائه ضمن دائرة الولاء للشركة أو المُنتَج المقدم للسوق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مقدمة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محتويات الفصل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w Cen MT"/>
              </a:rPr>
              <a:t>المعاني المتعددة للسعر وتعريفه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w Cen MT"/>
              </a:rPr>
              <a:t>الدور الاستراتيجي للسعر في المزيج التسويقي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w Cen MT"/>
              </a:rPr>
              <a:t>استراتيجية التسعير المعتمدة من قِبَل منظمات الأعمال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w Cen MT"/>
              </a:rPr>
              <a:t>العوامل الرئيسة ذات التأثير على قرارات التسعير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w Cen MT"/>
              </a:rPr>
              <a:t>الخطوات المتعاقبة في عملية التسعير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6" name="Picture 4" descr="j0078804"/>
          <p:cNvPicPr/>
          <p:nvPr/>
        </p:nvPicPr>
        <p:blipFill>
          <a:blip r:embed="rId1"/>
          <a:stretch/>
        </p:blipFill>
        <p:spPr>
          <a:xfrm>
            <a:off x="174600" y="3929040"/>
            <a:ext cx="318312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مفهوم وتعريف السع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12720" y="1600200"/>
            <a:ext cx="81532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" تعبير عن قيمة الأشياء التي يتم تبادلها في السوق "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" القيمة التبادلية عن المنتجات في التبادل التسويقي "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من التعريفين السابقين نجد أن السعر ماهو إلا صيغة لعلاقة تبادلية ما بين الأفراد الذين يدفعون النقود، والوحدات التسويقية على اختلاف أشكالها والتي تقوم بعملية تقديم المنتجات لهم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" الثمن مقابل شيء ما ". (النقود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" مجموعة من القيم (نقود) والتي يستبدلها المستهلك مقابل فوائد أو امتلاك أو استخدام المُنتَج أو الخدمة ". (قوة نقدية لدى المستهلك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أشكاله: الرسوم، الفوائد، الإيجار، .....الخ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9" name="Picture 2" descr="C:\Users\Luna\AppData\Local\Microsoft\Windows\Temporary Internet Files\Content.IE5\AI1N5N38\MP900442387[1].jpg"/>
          <p:cNvPicPr/>
          <p:nvPr/>
        </p:nvPicPr>
        <p:blipFill>
          <a:blip r:embed="rId1"/>
          <a:stretch/>
        </p:blipFill>
        <p:spPr>
          <a:xfrm>
            <a:off x="-66600" y="-23760"/>
            <a:ext cx="206064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مفهوم وتعريف السع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357120" y="1600200"/>
            <a:ext cx="84088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سعر من أبرز عناصر المزيج التسويقي في المنظمة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لكونه مولداً للايرادات والأرباح، أما باقي عناصر المزيج التسويقي فتعتبر تكاليف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لكونه أكثر مرونة واستجابة للتغير تبعاً لأي طارئ في البيئة المحيطة بالمنظمة، أما باقي العناصر فتحتاج إلى وقت طويل وإجراءات معقدة ليتم تغيرها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تحتل الأسعار والأسعار التنافسية المرتبة الأولى من حيث الصعوبة والمشكلات التي يتعرض لها مدراء التسويق في المنظمات لما لها تأثير كبير على ديمومة المنظمة واستمرارها وتحقيقها للأرباح أو العكس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2" name="Picture 6" descr="C:\Users\Luna\AppData\Local\Microsoft\Windows\Temporary Internet Files\Content.IE5\8OXR8UTT\MC900290292[1].wmf"/>
          <p:cNvPicPr/>
          <p:nvPr/>
        </p:nvPicPr>
        <p:blipFill>
          <a:blip r:embed="rId1"/>
          <a:stretch/>
        </p:blipFill>
        <p:spPr>
          <a:xfrm>
            <a:off x="285840" y="0"/>
            <a:ext cx="150012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الدور الاستراتيجي للسع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حتى 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1950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 كان السعر العامل الأهم في سلوك المشتري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ظهرت عوامل أخرى: الإعلان، التعبئة والتغليف، العلامة...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عاد تأثير السعر نتيجة انخفاض الطلب 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1980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 والدخل الحقيقي، لذا عُدّ السعر من أهم عناصر المزيج التسويقي بعد مزيج المنتج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سعر يُعد عاملاً مهماً في تغطية تكاليف الأنشطة (التسويقية وغير التسويقية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أرباح = العــــــائــــد الكـلـــــــــي - التكاليف الكلية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220400" indent="-203400" algn="r" rtl="1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 = (السعر * الكمية المباعة) - التكاليف الكلية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 السعر يمكن أن يؤثر على الأرباح المتحققة بعد طرق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5" name="Picture 4" descr="CAHFI1VH"/>
          <p:cNvPicPr/>
          <p:nvPr/>
        </p:nvPicPr>
        <p:blipFill>
          <a:blip r:embed="rId1"/>
          <a:stretch/>
        </p:blipFill>
        <p:spPr>
          <a:xfrm>
            <a:off x="0" y="0"/>
            <a:ext cx="178596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الدور الاستراتيجي للسعر - تابع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05640" indent="-30564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سعر يأخذ بُعدا استراتيجياً في كل مما يلي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5640" indent="-30564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عند صياغة القرارات السعرية يجب أن تغطي كافة الأهداف والاستراتيجيات المحددة مسبقاً من قِبَل الإدارة العليا في المنظم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5640" indent="-30564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نظرية النظم وارتباط القرارات السعرية بالقرارات المرتبطة بعناصر المزيج التسويقي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5640" indent="-30564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أخذ بالاعتبار أهمية العناصر التنافسية غير السعري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5640" indent="-30564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قرارات السعرية المتخذة يجب أن تأخذ بالاعتبار حالات التأكد واللا تأكد البيئي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5640" indent="-30564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قرارات الاستراتيجية تأخذ صياغتها الروتينية بالتفاعل والتشاور مع الأقسام والجهات ذات العلاقة بتقديم المنتج بشكله النهائي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8" name="Picture 2" descr="C:\Users\Luna\AppData\Local\Microsoft\Windows\Temporary Internet Files\Content.IE5\ZNV8T11M\MC900353998[1].wmf"/>
          <p:cNvPicPr/>
          <p:nvPr/>
        </p:nvPicPr>
        <p:blipFill>
          <a:blip r:embed="rId1"/>
          <a:stretch/>
        </p:blipFill>
        <p:spPr>
          <a:xfrm>
            <a:off x="-19080" y="0"/>
            <a:ext cx="13971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استراتيجية التسعي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" قبول مبادئ التسعير في حالات التطبيق لها وعلى مدار الفترة الزمنية "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1" name="Oval 5"/>
          <p:cNvSpPr/>
          <p:nvPr/>
        </p:nvSpPr>
        <p:spPr>
          <a:xfrm>
            <a:off x="357120" y="2857680"/>
            <a:ext cx="3505320" cy="1752480"/>
          </a:xfrm>
          <a:prstGeom prst="ellipse">
            <a:avLst/>
          </a:prstGeom>
          <a:solidFill>
            <a:srgbClr val="b3d7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Andalus"/>
              </a:rPr>
              <a:t>استراتيج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Andalus"/>
              </a:rPr>
              <a:t>القش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6"/>
          <p:cNvSpPr/>
          <p:nvPr/>
        </p:nvSpPr>
        <p:spPr>
          <a:xfrm>
            <a:off x="3929040" y="4286160"/>
            <a:ext cx="3505320" cy="1752840"/>
          </a:xfrm>
          <a:prstGeom prst="ellipse">
            <a:avLst/>
          </a:prstGeom>
          <a:solidFill>
            <a:srgbClr val="cdcb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Andalus"/>
              </a:rPr>
              <a:t>استراتيجية الاخترا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3" descr="C:\Users\Luna\AppData\Local\Microsoft\Windows\Temporary Internet Files\Content.IE5\AI1N5N38\MC900363498[1].wmf"/>
          <p:cNvPicPr/>
          <p:nvPr/>
        </p:nvPicPr>
        <p:blipFill>
          <a:blip r:embed="rId1"/>
          <a:stretch/>
        </p:blipFill>
        <p:spPr>
          <a:xfrm>
            <a:off x="0" y="0"/>
            <a:ext cx="13860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العوامل المؤثرة في قرارات التسعي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أهداف التتنظيمية والتسويقي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أشكال الأهداف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كلف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متغيرات الأخرى في المزيج التسويقي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توقعات المشاركين في القناة التوزيعي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ستجابة وتصورات المستهلكين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منافس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قضايا التنظيمية والقانوني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6" name="Picture 4" descr="5558"/>
          <p:cNvPicPr/>
          <p:nvPr/>
        </p:nvPicPr>
        <p:blipFill>
          <a:blip r:embed="rId1"/>
          <a:stretch/>
        </p:blipFill>
        <p:spPr>
          <a:xfrm>
            <a:off x="214200" y="2643120"/>
            <a:ext cx="3349800" cy="2214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77" name="Picture 2" descr="C:\Users\Luna\AppData\Local\Microsoft\Windows\Temporary Internet Files\Content.IE5\9V6KBMM2\MM900282993[1].gif"/>
          <p:cNvPicPr/>
          <p:nvPr/>
        </p:nvPicPr>
        <p:blipFill>
          <a:blip r:embed="rId2"/>
          <a:stretch/>
        </p:blipFill>
        <p:spPr>
          <a:xfrm>
            <a:off x="0" y="-12600"/>
            <a:ext cx="17859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5T20:56:56Z</dcterms:created>
  <dc:creator>Windows User</dc:creator>
  <dc:description/>
  <dc:language>en-US</dc:language>
  <cp:lastModifiedBy>Luna</cp:lastModifiedBy>
  <dcterms:modified xsi:type="dcterms:W3CDTF">2012-01-31T15:04:40Z</dcterms:modified>
  <cp:revision>17</cp:revision>
  <dc:subject/>
  <dc:title>استراتيجية التسعير الفصل الثاني عشر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