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11.png" ContentType="image/png"/>
  <Override PartName="/ppt/media/image6.jpeg" ContentType="image/jpeg"/>
  <Override PartName="/ppt/media/image7.png" ContentType="image/png"/>
  <Override PartName="/ppt/media/image8.wmf" ContentType="image/x-wmf"/>
  <Override PartName="/ppt/media/image10.gif" ContentType="image/gif"/>
  <Override PartName="/ppt/media/image9.jpeg" ContentType="image/jpeg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24B6-FFF7-4A8B-9FE2-8050EF954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A5F3-A5B9-4096-9CCF-0926492B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5020-66F2-4C60-BE3F-BD31069EF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759C-FFFF-43B1-8E1E-4AE80B639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5600-14A3-412F-BE65-0663AD28C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C6DA-4B10-4632-9771-DEDCCFFE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A9BF-4C7C-490B-A1D9-275F1629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939C-A2FB-41F8-8F4D-313D8B18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CA31-B696-4C1D-B023-9F17A969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4E5A-A201-4574-926D-49539DA9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0E744-9AFA-4481-8944-2C65C149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3DB3-5F7B-4B95-B75A-81F104A7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92D7-692F-49AC-B7D6-1DCF98D3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C50A-5127-4BE6-BF57-B4BA6633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FBFA-9F46-47AA-824C-DE01B467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50AC-5D41-4677-A779-0440CCD05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6E08-73D5-416F-A0E2-F47E2C799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67BCA3-BFBC-47C4-AF0E-F93DE13D6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438C7C-9A28-4CD0-9041-0EB9FEAD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33AD2A-CD79-4B26-8F4F-A012C150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947535-23DB-45E3-A2F9-84245C96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205EB5-2247-4C3A-B685-DBCFE21B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0810-52BB-475F-9D4A-90EC5A62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033C77-6159-4A4A-9F4A-BCDEF8A7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EBA0AE-2C1B-4ADF-A698-CA60AE2A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C8DB8E-7DD0-46B6-8CD8-2E2C09A3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28B384-C685-463F-AC2A-7E5A3DBE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7EFC60-F3E6-44AC-B978-FD94E034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AA1EF2-DD7F-430C-A3E2-E00F93B8C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4F12E6-B682-4C2B-855D-CA7819AEE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A57F8A-8DDE-4DBC-8882-5EC17D3B8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68368A-B81D-478A-8D1C-5F21C639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68D7BE-E81A-4A89-9B74-087CD587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EE83-A0F6-40B6-BB4F-76F1198E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D4041D-CEF0-4CEA-9E81-0973231D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309769-9E84-44E8-9219-2FD7FA9B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CCF19A-7A0A-4F66-855D-50ADEB39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EBC0A9-F8BB-4452-ACCA-2ED7371A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6B93C5-C1F5-4E1D-9C5C-EC5CEE8E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A7159E-F5B3-49FC-A4A7-6FFC6E7B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F82D65-AA5D-4843-8012-AA39C6EC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2B5101-8EF9-4D7A-AB26-A24CCA0D3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2A70EE-B356-4A91-9B9B-8E11C59F3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A0F36B-6C72-4B19-AF08-FCF64FA70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4E40-6560-4165-B9E2-2352FE36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79E8CB-1A60-4ADE-BF12-4B41640D7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D6E6CE-41FA-4E35-82F1-C740A83A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66738B-57B2-450F-B6C5-08131272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BC493D-DE40-40AA-B324-B258095A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2B1C1B-66C9-4EB1-B7E7-EB5623AC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4B37F7-B5AC-4AAB-A755-3D2F5F15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4CA259-8139-40F9-8FFF-4645CD22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DF0F01-53FF-42BE-9FDE-28F63DF4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FC25BB-79C2-4079-AFB3-51E6BD32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08D0AC-290B-4316-8124-8DD927CBF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F96D-874E-4732-BA03-13233AA6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7C8FF2-BB8C-429A-AC16-9607E7C25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2C8F0-ACE1-4338-AFB6-BC11DD34C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4A33C-11DA-44AC-9818-B8F53717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60148-52BB-4FD9-ADC5-8C0C183F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DDD82-BE61-4BF9-AF9C-CECE9D0D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41365-68BE-4DB6-A90D-4F30D064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46D5A-A321-449F-8A07-B5D5A89C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85900-3E01-42A8-A01A-07212F6A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C91E3-35AF-45F0-A5DA-744B2CA7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9E919-7087-4D17-A70A-30BEB3A1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CD06-F66D-4C0F-B215-56597C0C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3A0D9-6542-4F39-B038-4FE72A50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33562-EC11-4035-B0AA-677C651FB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3144D-B8C7-4DBC-85FF-3052A9795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B77F94-2CD9-49C8-BCE3-2530EC297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EEE12C-5E8C-4CA1-90F6-87ED61A9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5B681C-4E3E-453A-93DF-A522F992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C06C8A-0102-4020-A3CB-91BA36D8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ADDEF0-18FB-4B50-BE02-281A583E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611E63-929D-4A35-A44C-506CAB7F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3DA880-B26D-4D33-9696-151F8629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588F-60E9-4FC0-8525-819BF6E5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A915BE-2580-4E2B-B7B2-8FBDACD2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7B4725-D70A-43AF-8D3E-E2B1A3E4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967B1E-82FE-400E-9C1A-1205929A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3AC0B0-A78E-4A7F-9445-798CCC9BA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2A37C0-9BB8-4F77-AA00-2AE38C4F2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8BA9D-AE40-4B02-B311-ADCFAC369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3E20D-244B-4119-859E-743913DA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85BD5-F863-4B91-9F2B-7F575543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19307-95DA-4D21-8974-ABA04A20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0E2C7-7749-4A8F-92EA-EACDCD37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2924-A93E-44F1-9F7E-2370AEBA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718C1-49EC-42CA-955D-E58EB490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D6339-877C-4208-9625-DD9C1F36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3E55A-D8B6-43F8-BD7D-44A3F113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B3C5A-ECF3-4480-8C0F-AC2B0A14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E86F2-DA5C-4A8B-BCF3-2541F702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1C2F1-23B0-49D0-8CA5-82C7F6086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02B52-2638-49A2-9D2D-449B94D3E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0409-CEAA-42FC-9EBD-34138DF6AB32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eeece1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C709-B7D1-4680-B2D4-2AD4C5582B08}" type="slidenum">
              <a:rPr b="1" lang="ar-SA" sz="1400" spc="-1" strike="noStrike">
                <a:solidFill>
                  <a:srgbClr val="eeece1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11D2-04E2-432D-9FD6-BEEC304771B2}" type="slidenum">
              <a:rPr b="1" lang="ar-SA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749D-B4D6-48C5-BF5D-CF7901AF02F4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012C-22EF-4895-BEAD-DF518F26EE90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BB97-D4EB-4C31-A5BA-19AEC33CDBC3}" type="slidenum">
              <a:rPr b="1" lang="ar-SA" sz="1400" spc="-1" strike="noStrike">
                <a:solidFill>
                  <a:srgbClr val="1f497d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36EB-65A4-4892-8F8D-DF8E652859AB}" type="slidenum">
              <a:rPr b="1" lang="ar-SA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7F22-C667-4562-84D2-AD12315CBF11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eece1"/>
                </a:solidFill>
                <a:latin typeface="Tw Cen MT"/>
              </a:rPr>
              <a:t>استراتيجية التسعير</a:t>
            </a:r>
            <a:br>
              <a:rPr sz="4400"/>
            </a:br>
            <a:r>
              <a:rPr b="0" lang="ar-SA" sz="3200" spc="-1" strike="noStrike">
                <a:solidFill>
                  <a:srgbClr val="eeece1"/>
                </a:solidFill>
                <a:latin typeface="Tw Cen MT"/>
              </a:rPr>
              <a:t>الفصل الثاني عشر</a:t>
            </a:r>
            <a:endParaRPr b="0" lang="en-US" sz="32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w Cen MT"/>
              </a:rPr>
              <a:t>Pricing Strategy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خطوات التسعي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pic>
        <p:nvPicPr>
          <p:cNvPr id="379" name="Content Placeholder 3" descr=""/>
          <p:cNvPicPr/>
          <p:nvPr/>
        </p:nvPicPr>
        <p:blipFill>
          <a:blip r:embed="rId1"/>
          <a:stretch/>
        </p:blipFill>
        <p:spPr>
          <a:xfrm>
            <a:off x="658800" y="1457280"/>
            <a:ext cx="8265960" cy="53769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C:\Users\Luna\AppData\Local\Microsoft\Windows\Temporary Internet Files\Content.IE5\8OXR8UTT\MM900300593[1].gif"/>
          <p:cNvPicPr/>
          <p:nvPr/>
        </p:nvPicPr>
        <p:blipFill>
          <a:blip r:embed="rId2"/>
          <a:stretch/>
        </p:blipFill>
        <p:spPr>
          <a:xfrm>
            <a:off x="0" y="0"/>
            <a:ext cx="157176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قدمة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99680" y="1600200"/>
            <a:ext cx="826596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 algn="just" rtl="1">
              <a:lnSpc>
                <a:spcPct val="13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تتسم قرارات التسعير بدرجة عالية من التعقيد بسبب المتغيرات الكثيرة التي تتضمنها وانعكاسها على مجمل أنشطة المنظمة، بالتالي ستتأثر استراتيجية التسويق بشكل كبير باستراتيجية التسعير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 algn="just" rtl="1">
              <a:lnSpc>
                <a:spcPct val="13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السعر يعد من أكثر العناصر خضوعاً للتفاوض بين البائع والمشتري وعلى اختلاف درجاتهم وقدراتهم الشرائية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 algn="just" rtl="1">
              <a:lnSpc>
                <a:spcPct val="13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أيضاً يبرز تأثير السعر البديل لذات السلعة على قرار الشراء النهائي للمستهلك، وبالتالي تحوله إلى التعامل مع المنافسين بدلاً من إبقائه ضمن دائرة الولاء للشركة أو المُنتَج المقدم للسوق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قدمة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محتويات الفصل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معاني المتعددة للسعر وتعريفه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دور الاستراتيجي للسعر في المزيج التسويقي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ستراتيجية التسعير المعتمدة من قِبَل منظمات الأعمال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عوامل الرئيسة ذات التأثير على قرارات التسعير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خطوات المتعاقبة في عملية التسعير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6" name="Picture 4" descr="j0078804"/>
          <p:cNvPicPr/>
          <p:nvPr/>
        </p:nvPicPr>
        <p:blipFill>
          <a:blip r:embed="rId1"/>
          <a:stretch/>
        </p:blipFill>
        <p:spPr>
          <a:xfrm>
            <a:off x="174600" y="3929040"/>
            <a:ext cx="31831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فهوم وتعريف السع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تعبير عن قيمة الأشياء التي يتم تبادلها في السوق "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القيمة التبادلية عن المنتجات في التبادل التسويقي "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من التعريفين السابقين نجد أن السعر ماهو إلا صيغة لعلاقة تبادلية ما بين الأفراد الذين يدفعون النقود، والوحدات التسويقية على اختلاف أشكالها والتي تقوم بعملية تقديم المنتجات لهم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الثمن مقابل شيء ما ". (النقود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مجموعة من القيم (نقود) والتي يستبدلها المستهلك مقابل فوائد أو امتلاك أو استخدام المُنتَج أو الخدمة ". (قوة نقدية لدى المستهلك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أشكاله: الرسوم، الفوائد، الإيجار، .....الخ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9" name="Picture 2" descr="C:\Users\Luna\AppData\Local\Microsoft\Windows\Temporary Internet Files\Content.IE5\AI1N5N38\MP900442387[1].jpg"/>
          <p:cNvPicPr/>
          <p:nvPr/>
        </p:nvPicPr>
        <p:blipFill>
          <a:blip r:embed="rId1"/>
          <a:stretch/>
        </p:blipFill>
        <p:spPr>
          <a:xfrm>
            <a:off x="-66600" y="-23760"/>
            <a:ext cx="206064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فهوم وتعريف السع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57120" y="1600200"/>
            <a:ext cx="84088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سعر من أبرز عناصر المزيج التسويقي في المنظمة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لكونه مولداً للايرادات والأرباح، أما باقي عناصر المزيج التسويقي فتعتبر تكاليف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لكونه أكثر مرونة واستجابة للتغير تبعاً لأي طارئ في البيئة المحيطة بالمنظمة، أما باقي العناصر فتحتاج إلى وقت طويل وإجراءات معقدة ليتم تغيرها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تحتل الأسعار والأسعار التنافسية المرتبة الأولى من حيث الصعوبة والمشكلات التي يتعرض لها مدراء التسويق في المنظمات لما لها تأثير كبير على ديمومة المنظمة واستمرارها وتحقيقها للأرباح أو العكس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2" name="Picture 6" descr="C:\Users\Luna\AppData\Local\Microsoft\Windows\Temporary Internet Files\Content.IE5\8OXR8UTT\MC900290292[1].wmf"/>
          <p:cNvPicPr/>
          <p:nvPr/>
        </p:nvPicPr>
        <p:blipFill>
          <a:blip r:embed="rId1"/>
          <a:stretch/>
        </p:blipFill>
        <p:spPr>
          <a:xfrm>
            <a:off x="285840" y="0"/>
            <a:ext cx="150012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لدور الاستراتيجي للسع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حتى 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1950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كان السعر العامل الأهم في سلوك المشتر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ظهرت عوامل أخرى: الإعلان، التعبئة والتغليف، العلامة...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عاد تأثير السعر نتيجة انخفاض الطلب 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1980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والدخل الحقيقي، لذا عُدّ السعر من أهم عناصر المزيج التسويقي بعد مزيج المنتج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سعر يُعد عاملاً مهماً في تغطية تكاليف الأنشطة (التسويقية وغير التسويقية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أرباح = العــــــائــــد الكـلـــــــــي - التكاليف الكلية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220400" indent="-203400" algn="r" rtl="1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= (السعر * الكمية المباعة) - التكاليف الكلية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السعر يمكن أن يؤثر على الأرباح المتحققة بعد طرق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5" name="Picture 4" descr="CAHFI1VH"/>
          <p:cNvPicPr/>
          <p:nvPr/>
        </p:nvPicPr>
        <p:blipFill>
          <a:blip r:embed="rId1"/>
          <a:stretch/>
        </p:blipFill>
        <p:spPr>
          <a:xfrm>
            <a:off x="0" y="0"/>
            <a:ext cx="178596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لدور الاستراتيجي للسعر - تابع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05640" indent="-30564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سعر يأخذ بُعدا استراتيجياً في كل مما يلي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عند صياغة القرارات السعرية يجب أن تغطي كافة الأهداف والاستراتيجيات المحددة مسبقاً من قِبَل الإدارة العليا في المنظم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نظرية النظم وارتباط القرارات السعرية بالقرارات المرتبطة بعناصر المزيج التسويق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أخذ بالاعتبار أهمية العناصر التنافسية غير السعر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قرارات السعرية المتخذة يجب أن تأخذ بالاعتبار حالات التأكد واللا تأكد البيئ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قرارات الاستراتيجية تأخذ صياغتها الروتينية بالتفاعل والتشاور مع الأقسام والجهات ذات العلاقة بتقديم المنتج بشكله النهائ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8" name="Picture 2" descr="C:\Users\Luna\AppData\Local\Microsoft\Windows\Temporary Internet Files\Content.IE5\ZNV8T11M\MC900353998[1].wmf"/>
          <p:cNvPicPr/>
          <p:nvPr/>
        </p:nvPicPr>
        <p:blipFill>
          <a:blip r:embed="rId1"/>
          <a:stretch/>
        </p:blipFill>
        <p:spPr>
          <a:xfrm>
            <a:off x="-19080" y="0"/>
            <a:ext cx="13971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ستراتيجية التسعي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قبول مبادئ التسعير في حالات التطبيق لها وعلى مدار الفترة الزمنية "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Oval 5"/>
          <p:cNvSpPr/>
          <p:nvPr/>
        </p:nvSpPr>
        <p:spPr>
          <a:xfrm>
            <a:off x="357120" y="2857680"/>
            <a:ext cx="3505320" cy="1752480"/>
          </a:xfrm>
          <a:prstGeom prst="ellipse">
            <a:avLst/>
          </a:prstGeom>
          <a:solidFill>
            <a:srgbClr val="b3d7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Andalus"/>
              </a:rPr>
              <a:t>استراتيج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Andalus"/>
              </a:rPr>
              <a:t>القش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6"/>
          <p:cNvSpPr/>
          <p:nvPr/>
        </p:nvSpPr>
        <p:spPr>
          <a:xfrm>
            <a:off x="3929040" y="4286160"/>
            <a:ext cx="3505320" cy="1752840"/>
          </a:xfrm>
          <a:prstGeom prst="ellipse">
            <a:avLst/>
          </a:prstGeom>
          <a:solidFill>
            <a:srgbClr val="cdcb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Andalus"/>
              </a:rPr>
              <a:t>استراتيجية الاخترا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3" descr="C:\Users\Luna\AppData\Local\Microsoft\Windows\Temporary Internet Files\Content.IE5\AI1N5N38\MC900363498[1].wmf"/>
          <p:cNvPicPr/>
          <p:nvPr/>
        </p:nvPicPr>
        <p:blipFill>
          <a:blip r:embed="rId1"/>
          <a:stretch/>
        </p:blipFill>
        <p:spPr>
          <a:xfrm>
            <a:off x="0" y="0"/>
            <a:ext cx="1386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لعوامل المؤثرة في قرارات التسعي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أهداف التتنظيمية والتسويق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أشكال الأهداف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كلف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متغيرات الأخرى في المزيج التسويق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توقعات المشاركين في القناة التوزيع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ستجابة وتصورات المستهلكين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منافس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قضايا التنظيمية والقانون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6" name="Picture 4" descr="5558"/>
          <p:cNvPicPr/>
          <p:nvPr/>
        </p:nvPicPr>
        <p:blipFill>
          <a:blip r:embed="rId1"/>
          <a:stretch/>
        </p:blipFill>
        <p:spPr>
          <a:xfrm>
            <a:off x="214200" y="2643120"/>
            <a:ext cx="3349800" cy="221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77" name="Picture 2" descr="C:\Users\Luna\AppData\Local\Microsoft\Windows\Temporary Internet Files\Content.IE5\9V6KBMM2\MM900282993[1].gif"/>
          <p:cNvPicPr/>
          <p:nvPr/>
        </p:nvPicPr>
        <p:blipFill>
          <a:blip r:embed="rId2"/>
          <a:stretch/>
        </p:blipFill>
        <p:spPr>
          <a:xfrm>
            <a:off x="0" y="-12600"/>
            <a:ext cx="1785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20:56:56Z</dcterms:created>
  <dc:creator>Windows User</dc:creator>
  <dc:description/>
  <dc:language>en-US</dc:language>
  <cp:lastModifiedBy>Luna</cp:lastModifiedBy>
  <dcterms:modified xsi:type="dcterms:W3CDTF">2012-01-31T15:04:40Z</dcterms:modified>
  <cp:revision>17</cp:revision>
  <dc:subject/>
  <dc:title>استراتيجية التسعير الفصل الثاني عش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