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1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10.gif" ContentType="image/gif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FB38-539B-4099-8988-173272F1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2668-9CBB-41A0-839A-9A441A64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A906-BE95-4B78-A3D6-450B3F84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5804-BFA7-4C9D-A05F-8859AB9B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9854-0119-4174-934B-1EBE6E29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A985-A884-4D82-8885-F9C4F3FB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15BA-0DCC-4527-BD8B-6C654219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4F7D-EE95-4447-B71C-0403FCD2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E2E0-6A0B-4DBB-8FF4-22870CC8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02FC-57BD-4A81-8CE0-21FF1D2F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FDE0-0A01-413F-B913-2C03B244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2AA4-9DDE-4B72-989E-7FB6C3A0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72EF-1710-4C7E-8A52-DF0C7946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718B-2E2D-48F5-9E8E-8294098A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721A-5420-44FA-9CB2-DD7DC659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3ABA-8B89-4CE8-985D-55B8D5D6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F7FD-696E-40A8-99AE-8642D182E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7DCC33-B33E-4A35-A880-54F40193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1B7152-439D-4DE3-9B2D-C931A40C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9481D5-132E-49DE-A565-37A42788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6B45A-B2CD-4095-992F-BCE8D374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2B2F8-5F4E-4CE1-A593-B17476D8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5111-6999-4972-8D8B-34360498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122AE3-848C-4BA0-B8EE-DE54424B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F1EB54-CE41-42FA-98C9-BCA02C04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6C021-3C6B-43DA-A8A1-43ADCC23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0D59F0-1C0F-41DC-AA23-8ECE8210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18BEBB-8190-47A4-9D89-6B27949F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A44CD6-FF61-4D83-9152-9AD938C7C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2800AE-D639-43BB-B253-BBE89CDD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CEB90F-2D65-4E6E-B4B2-F71DB3BC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1E11D9-463D-43D4-BED0-7503110E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537DD1-5FA8-4D1D-8726-DE2E42B4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E840-C7D2-44F4-B8DF-32FF26AD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32B22A-B065-4F3A-8AF7-0B30FA81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80BE99-3749-4C79-9E41-445B25E5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DAD792-F42F-4290-A116-FB65212B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6FEFBA-CDE8-46F3-B7A5-36E438A6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175A51-0E85-4F64-A163-1737AB69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58E0C5-8DA3-4419-940F-4EDF0E71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CA173A-C20F-4863-BFB8-6499E631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E32A2B-741A-437A-82D8-DCD19791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5982ED-E894-435A-A6AE-3B09DAAA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5F5294-F4BF-44C1-92A4-0B185311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C350-7417-4F38-8B85-28268C35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4BA800-0567-4CB1-8FD6-6DDC43D2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69AA2A-A376-42DD-BCE0-37E94FBB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B4D709-BFEA-439F-B9F3-135926C4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99D8F0-BAB0-4E67-A0DE-FAD021DC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DFBAC9-B0C5-4C64-B40E-28836D6A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D80657-C31B-4350-9A2C-90848E6D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7FB5C2-FC60-4278-B35F-67A63A1E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FA5F58-2056-4DF5-9D23-FD54425F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9C5C8A-8175-45CB-9B5C-19BF9314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CC41E5-0345-48EB-B8D8-27C76510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054B-DDB7-46CC-8DD4-B6A9A845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ABF0A7-05BD-42B8-9149-20FAF44B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06608-DBA5-4CC0-B443-34502B02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12D2F-E479-4403-A865-26347178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0522C-1010-4AC7-90D4-E63EBFAC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CC142-358D-456C-A67B-528165DA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AEA04-BF93-4CDE-AA63-CC158047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33A63-5752-4633-83AC-3D94215F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CDF04-4369-4C03-BA32-D4E80569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B238E-82B0-4447-B6D0-A1E13077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985EB-1153-46BC-AA8D-9A4D559C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D59D-6354-4DB7-9219-DFE06A26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7579B-2381-4B9C-B2AA-D4924EB4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38443-B4F5-45F3-889A-33CFE8C3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5AA93-F62A-4297-8A44-3C3A90D2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3EDB37-3865-40CC-A339-C8C5C811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F54B20-DCC8-4FC4-BBF2-B9721D00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766F33-0F98-4CF9-8CDA-C00821D9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D875E6-37F3-4E16-8766-D4D04608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6AD89C-6708-4B99-821A-A22F9BF7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2F339F-9076-4BF1-95A6-AD81E158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212791-85AB-4A76-BD51-31FD7184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2CB6-111F-4171-9923-ACAE0603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D1AACB-0E3A-4F1A-A699-FE0F9999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0FEDA1-E584-445D-ABFE-39DEBACB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FD09AA-2801-428D-936C-AA3DFF7B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4B484D-CD5D-4328-A950-996320C8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5CE396-2AD3-4262-9663-DE0E3119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5B413-BAFB-47A8-8C24-6C0D5D61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D0DF7-CEE0-4D44-A80F-E0B4D4EE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61C63-E6CC-444F-B047-A587FBA6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D0680-C123-4F27-97F8-1D494869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47311-3A77-4B42-98AF-707C6CED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6BE7-790C-4620-BA11-B5637FAC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4EB3C-23B9-4876-BEFA-1892A520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E3EE5-F222-4B9A-81F7-8D7B1D77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3C15A-3F33-498E-9263-530EA341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96FDC-A0F4-47C7-9367-8C111F33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D1226-B6C4-4DC2-963A-D8D8A391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F3522-1484-4ACE-9D54-7C089ADC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65EA2-912E-4BF8-95F6-55AF03E8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0940-26D4-4EC1-95A8-9C2FD19D36D3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eece1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0BD6-9579-43AF-AD43-BFABF875B3D2}" type="slidenum">
              <a:rPr b="1" lang="ar-SA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4F03-B711-404C-AE9F-A4CE44A505D5}" type="slidenum">
              <a:rPr b="1" lang="ar-S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7EC6-9859-4409-8527-613CB1E56B4D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6786-F9EF-49D9-A173-FB72DCB50625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2A1C-2B83-4478-9FE9-9380E52951E7}" type="slidenum">
              <a:rPr b="1" lang="ar-SA" sz="1400" spc="-1" strike="noStrike">
                <a:solidFill>
                  <a:srgbClr val="1f497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F2B3-2BFF-4E48-8515-A64036FD6081}" type="slidenum">
              <a:rPr b="1" lang="ar-S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451A-CB55-48E2-A77B-63850A264907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eece1"/>
                </a:solidFill>
                <a:latin typeface="Tw Cen MT"/>
              </a:rPr>
              <a:t>استراتيجية التسعير</a:t>
            </a:r>
            <a:br>
              <a:rPr sz="4400"/>
            </a:br>
            <a:r>
              <a:rPr b="0" lang="ar-SA" sz="3200" spc="-1" strike="noStrike">
                <a:solidFill>
                  <a:srgbClr val="eeece1"/>
                </a:solidFill>
                <a:latin typeface="Tw Cen MT"/>
              </a:rPr>
              <a:t>الفصل الثاني عشر</a:t>
            </a:r>
            <a:endParaRPr b="0" lang="en-US" sz="32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Pricing Strategy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خطو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379" name="Content Placeholder 3" descr=""/>
          <p:cNvPicPr/>
          <p:nvPr/>
        </p:nvPicPr>
        <p:blipFill>
          <a:blip r:embed="rId1"/>
          <a:stretch/>
        </p:blipFill>
        <p:spPr>
          <a:xfrm>
            <a:off x="658800" y="1457280"/>
            <a:ext cx="8265960" cy="5376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C:\Users\Luna\AppData\Local\Microsoft\Windows\Temporary Internet Files\Content.IE5\8OXR8UTT\MM900300593[1].gif"/>
          <p:cNvPicPr/>
          <p:nvPr/>
        </p:nvPicPr>
        <p:blipFill>
          <a:blip r:embed="rId2"/>
          <a:stretch/>
        </p:blipFill>
        <p:spPr>
          <a:xfrm>
            <a:off x="0" y="0"/>
            <a:ext cx="157176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99680" y="1600200"/>
            <a:ext cx="82659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تتسم قرارات التسعير بدرجة عالية من التعقيد بسبب المتغيرات الكثيرة التي تتضمنها وانعكاسها على مجمل أنشطة المنظمة، بالتالي ستتأثر استراتيجية التسويق بشكل كبير باستراتيجية التسعير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السعر يعد من أكثر العناصر خضوعاً للتفاوض بين البائع والمشتري وعلى اختلاف درجاتهم وقدراتهم الشرائية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أيضاً يبرز تأثير السعر البديل لذات السلعة على قرار الشراء النهائي للمستهلك، وبالتالي تحوله إلى التعامل مع المنافسين بدلاً من إبقائه ضمن دائرة الولاء للشركة أو المُنتَج المقدم للسوق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حتويات الفصل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معاني المتعددة للسعر وتعريفه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دور الاستراتيجي للسعر في المزيج التسويقي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ستراتيجية التسعير المعتمدة من قِبَل منظمات الأعمال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عوامل الرئيسة ذات التأثير على قرارات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خطوات المتعاقبة في عملية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6" name="Picture 4" descr="j0078804"/>
          <p:cNvPicPr/>
          <p:nvPr/>
        </p:nvPicPr>
        <p:blipFill>
          <a:blip r:embed="rId1"/>
          <a:stretch/>
        </p:blipFill>
        <p:spPr>
          <a:xfrm>
            <a:off x="174600" y="3929040"/>
            <a:ext cx="31831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تعبير عن قيمة الأشياء التي يتم تبادلها في السوق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قيمة التبادلية عن المنتجات في التبادل التسويقي "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ن التعريفين السابقين نجد أن السعر ماهو إلا صيغة لعلاقة تبادلية ما بين الأفراد الذين يدفعون النقود، والوحدات التسويقية على اختلاف أشكالها والتي تقوم بعملية تقديم المنتجات لهم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ثمن مقابل شيء ما ". (النقود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مجموعة من القيم (نقود) والتي يستبدلها المستهلك مقابل فوائد أو امتلاك أو استخدام المُنتَج أو الخدمة ". (قوة نقدية لدى المستهلك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ه: الرسوم، الفوائد، الإيجار، .....الخ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2" descr="C:\Users\Luna\AppData\Local\Microsoft\Windows\Temporary Internet Files\Content.IE5\AI1N5N38\MP900442387[1].jpg"/>
          <p:cNvPicPr/>
          <p:nvPr/>
        </p:nvPicPr>
        <p:blipFill>
          <a:blip r:embed="rId1"/>
          <a:stretch/>
        </p:blipFill>
        <p:spPr>
          <a:xfrm>
            <a:off x="-66600" y="-23760"/>
            <a:ext cx="206064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57120" y="1600200"/>
            <a:ext cx="84088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من أبرز عناصر المزيج التسويقي في المنظمة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مولداً للايرادات والأرباح، أما باقي عناصر المزيج التسويقي فتعتبر تكالي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أكثر مرونة واستجابة للتغير تبعاً لأي طارئ في البيئة المحيطة بالمنظمة، أما باقي العناصر فتحتاج إلى وقت طويل وإجراءات معقدة ليتم تغيرها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حتل الأسعار والأسعار التنافسية المرتبة الأولى من حيث الصعوبة والمشكلات التي يتعرض لها مدراء التسويق في المنظمات لما لها تأثير كبير على ديمومة المنظمة واستمرارها وتحقيقها للأرباح أو العكس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2" name="Picture 6" descr="C:\Users\Luna\AppData\Local\Microsoft\Windows\Temporary Internet Files\Content.IE5\8OXR8UTT\MC900290292[1].wmf"/>
          <p:cNvPicPr/>
          <p:nvPr/>
        </p:nvPicPr>
        <p:blipFill>
          <a:blip r:embed="rId1"/>
          <a:stretch/>
        </p:blipFill>
        <p:spPr>
          <a:xfrm>
            <a:off x="285840" y="0"/>
            <a:ext cx="15001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حتى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5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كان السعر العامل الأهم في سلوك المشتر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ظهرت عوامل أخرى: الإعلان، التعبئة والتغليف، العلامة.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اد تأثير السعر نتيجة انخفاض الطلب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8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والدخل الحقيقي، لذا عُدّ السعر من أهم عناصر المزيج التسويقي بعد مزيج المنتج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ُعد عاملاً مهماً في تغطية تكاليف الأنشطة (التسويقية وغير التسويقية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رباح = العــــــائــــد الكـلـــــــــي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220400" indent="-203400" algn="r" rtl="1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= (السعر * الكمية المباعة)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السعر يمكن أن يؤثر على الأرباح المتحققة بعد طرق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4" descr="CAHFI1VH"/>
          <p:cNvPicPr/>
          <p:nvPr/>
        </p:nvPicPr>
        <p:blipFill>
          <a:blip r:embed="rId1"/>
          <a:stretch/>
        </p:blipFill>
        <p:spPr>
          <a:xfrm>
            <a:off x="0" y="0"/>
            <a:ext cx="178596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 - تابع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05640" indent="-30564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أخذ بُعدا استراتيجياً في كل مما يلي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ند صياغة القرارات السعرية يجب أن تغطي كافة الأهداف والاستراتيجيات المحددة مسبقاً من قِبَل الإدارة العليا في المنظم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نظرية النظم وارتباط القرارات السعرية بالقرارات المرتبطة بعناصر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خذ بالاعتبار أهمية العناصر التنافسية غير السعر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سعرية المتخذة يجب أن تأخذ بالاعتبار حالات التأكد واللا تأكد البي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استراتيجية تأخذ صياغتها الروتينية بالتفاعل والتشاور مع الأقسام والجهات ذات العلاقة بتقديم المنتج بشكله النها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2" descr="C:\Users\Luna\AppData\Local\Microsoft\Windows\Temporary Internet Files\Content.IE5\ZNV8T11M\MC900353998[1].wmf"/>
          <p:cNvPicPr/>
          <p:nvPr/>
        </p:nvPicPr>
        <p:blipFill>
          <a:blip r:embed="rId1"/>
          <a:stretch/>
        </p:blipFill>
        <p:spPr>
          <a:xfrm>
            <a:off x="-19080" y="0"/>
            <a:ext cx="1397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ستراتيجية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قبول مبادئ التسعير في حالات التطبيق لها وعلى مدار الفترة الزمنية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Oval 5"/>
          <p:cNvSpPr/>
          <p:nvPr/>
        </p:nvSpPr>
        <p:spPr>
          <a:xfrm>
            <a:off x="357120" y="2857680"/>
            <a:ext cx="3505320" cy="1752480"/>
          </a:xfrm>
          <a:prstGeom prst="ellipse">
            <a:avLst/>
          </a:prstGeom>
          <a:solidFill>
            <a:srgbClr val="b3d7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لقش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6"/>
          <p:cNvSpPr/>
          <p:nvPr/>
        </p:nvSpPr>
        <p:spPr>
          <a:xfrm>
            <a:off x="3929040" y="4286160"/>
            <a:ext cx="3505320" cy="1752840"/>
          </a:xfrm>
          <a:prstGeom prst="ellipse">
            <a:avLst/>
          </a:prstGeom>
          <a:solidFill>
            <a:srgbClr val="cdc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 الاختر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" descr="C:\Users\Luna\AppData\Local\Microsoft\Windows\Temporary Internet Files\Content.IE5\AI1N5N38\MC900363498[1].wmf"/>
          <p:cNvPicPr/>
          <p:nvPr/>
        </p:nvPicPr>
        <p:blipFill>
          <a:blip r:embed="rId1"/>
          <a:stretch/>
        </p:blipFill>
        <p:spPr>
          <a:xfrm>
            <a:off x="0" y="0"/>
            <a:ext cx="138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عوامل المؤثرة في قرار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هداف التتنظيمية والتسويق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 الأهدا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كل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تغيرات الأخرى في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وقعات المشاركين في القناة التوزيع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ستجابة وتصورات المستهلكين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نافس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ضايا التنظيمية والقانون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Picture 4" descr="5558"/>
          <p:cNvPicPr/>
          <p:nvPr/>
        </p:nvPicPr>
        <p:blipFill>
          <a:blip r:embed="rId1"/>
          <a:stretch/>
        </p:blipFill>
        <p:spPr>
          <a:xfrm>
            <a:off x="214200" y="2643120"/>
            <a:ext cx="3349800" cy="221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77" name="Picture 2" descr="C:\Users\Luna\AppData\Local\Microsoft\Windows\Temporary Internet Files\Content.IE5\9V6KBMM2\MM900282993[1].gif"/>
          <p:cNvPicPr/>
          <p:nvPr/>
        </p:nvPicPr>
        <p:blipFill>
          <a:blip r:embed="rId2"/>
          <a:stretch/>
        </p:blipFill>
        <p:spPr>
          <a:xfrm>
            <a:off x="0" y="-1260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20:56:56Z</dcterms:created>
  <dc:creator>Windows User</dc:creator>
  <dc:description/>
  <dc:language>en-US</dc:language>
  <cp:lastModifiedBy>Luna</cp:lastModifiedBy>
  <dcterms:modified xsi:type="dcterms:W3CDTF">2012-01-31T15:04:40Z</dcterms:modified>
  <cp:revision>17</cp:revision>
  <dc:subject/>
  <dc:title>استراتيجية التسعير الفصل الثاني عش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