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0.gif" ContentType="image/gif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188-2238-47A2-BAFD-148257C3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5145-B2BA-43AC-80B4-A121E3AC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ED2-9534-4203-B44F-C881B887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7BC2-EA59-459A-B516-E3C4FFAD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2DC7-4A82-4DC7-AF6F-F914640D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E2E2-51DA-4007-A4AC-C334B2CA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5883-CD99-4A75-82DF-B2872F71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E5F0-6A4A-41CE-AE02-2788670D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263A-50FA-460D-8B9D-21DD4C43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0AB3-0939-4DD7-8185-83A64231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F0CD-A685-43C2-B858-C14B9A75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06E8-A84B-4918-B077-85748AF7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E667-6701-421B-874A-D98BB1C9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3150-B6FD-4181-A58E-C0635274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51A7-7594-4EAD-A423-A8C4CD31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15DC-F9EB-454E-BCB2-D4A09BEC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4583-FD92-4D6F-A784-77F3F8FD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ACE96-F7DA-4E54-ADBE-84902DBB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4A3E0-6D6D-4508-B5D0-F159E5CA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EF265-5E02-4ACA-B6F1-5172EBAA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27492-FE16-4CCE-AED0-BF1D322D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9CA35-EA11-4924-942D-D21E9392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702-9C30-4DA5-9D71-9A689856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4D2E3-C953-4F0A-9098-E043BB72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40C0E-AEDC-47D2-A450-483AF0DE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5123B-4A37-40DF-B0E7-4A50A3BE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8C084-44AB-49B4-8E06-1CC1B807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28273-A635-4706-A459-3BC593B9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29BBD-54E2-4D00-8825-BBA8B076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4D8C3-3FAB-4758-84CB-97AE0AF6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8EBE83-5105-41A3-818A-049B93BB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DCDDF-FF5E-4D89-88D3-0C0E31EC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C67A2-B244-4F44-8DE3-15F37850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F2E-7DC5-4D1F-9C91-F4ECDFF0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73BB50-24D4-4EFC-B317-A52A8562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471F2A-C8AE-40D3-A5E1-D7DF9D1D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4F35F-B28A-454F-8368-330F7C8F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31DF7-FA7C-44B0-97B1-566B8833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829238-7BDC-40D9-8A7E-3FC80E33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5EC5ED-E912-41E4-85C7-D02531D4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C253A3-5CE7-4132-86F7-03470EEC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D79754-CE54-404F-8FCD-009A5FBF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AC996F-3A63-482D-A8A8-FAB3A5C7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B54FD-5F61-4D0D-B34A-A0C4B9F2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386F-7940-4821-AC5A-41FF9324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83DC3-F131-4716-AC8A-A3C8B7B0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2AFAF-8804-489D-BC55-A07A63A5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F4D10-3844-42FF-81B6-6A905447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3053D-EEAA-448E-BD9E-C5FF711E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FC40D-0D1D-4333-A6B5-876C37BE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EADAA-48BC-45E2-85B2-8489EFCE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7B0980-114F-4B2E-B770-C5507337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450E2-2E8D-4BE1-88CD-B8CF9DB5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856FE-2D50-449B-BC9C-45EBC92A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684A5E-8D05-4290-8B84-56CEEB14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4F4-C0AD-47CC-9E35-D55D578C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3E3D6-296A-44B3-B9FB-A3147E84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E01FD-8E2F-42EA-8C07-F5324B0D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9B526-7016-4909-A52A-57F06671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8E9A5-6E63-48BF-9F16-4D80F016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B6C2F-3DDA-4FAC-8E7C-7CF7301D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71B5C-7881-4126-8281-B7299660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D4A03-0CC9-4185-BF3A-765DA3FB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C7386-535A-4639-A402-EAC0C816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64124-D8A6-4921-80FB-6577CB98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B02F6-59AA-40F9-AB1F-49AC1B5D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8AF3-07AD-44F0-9B56-5B616938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EF64F-A2A1-4BAC-A5DD-B163F908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788AE-C5F8-46E8-9160-0FC72F9D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76AD5-D41E-4DBD-B6A1-E7F80D82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E4910-BFB1-4C7A-B6F0-022376D1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8A4D3-E138-4729-8148-63704CF2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6518DE-4464-4C07-821E-5D7E0631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79ACFD-2AC5-47BD-918B-493D6CCB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84C13B-FDB1-4394-8C32-AAEA1338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9195A3-E0DE-44E4-AC56-058AA969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5E33CF-E2B0-44BF-96BD-A37C98E9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5BD0-6BB0-444D-9E31-952CE4B4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BCFF75-BC18-4730-A96E-2E15BC56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672792-29B4-43FD-AE32-AD8F6DDD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00BFB0-C710-45CA-836C-7C18CA6F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C23147-9EAB-45D8-A78D-4FBAE94A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CC5A83-103F-4CC9-8AFD-8C85F1C0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16B4E-A59F-4F4F-8714-36D09282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2667E-FDC1-4EA2-99CC-43C34110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B104B-96C8-4204-8B96-970C9472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283D6-705B-48AA-8FF7-3DC84609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DED79-B50C-4CA1-AFEC-5D382F88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923-60F6-41BB-81B3-583850AF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70C7F-27AC-4852-BCA5-9ED7BD6F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E0108-FE6F-4283-9B4C-7666A38B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8B608-3DE9-4DC8-B19B-817274AA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692E0-5999-494D-BAF1-EE59FE99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C8753-3901-45D4-A44F-B5900A4B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24A0D-DBE9-449A-8EDF-69C4F2FD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A1C85-302A-4998-8B55-11C05163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2751-F3E8-49AF-A6F7-0D012AE2F30D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C462-D0E8-446D-AE54-AC7F7C46EA0B}" type="slidenum">
              <a:rPr b="1" lang="ar-SA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C879-6BEA-44F6-8DDC-D7583C3241CA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A841-F6D6-44BA-9762-5D5FB846748E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6407-B6A2-4680-9535-ED4CE95CD47B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B7E0-9BD4-4BB1-A815-96E97B7ADBEC}" type="slidenum">
              <a:rPr b="1" lang="ar-SA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E5F5-D2E1-4162-9AC8-40FB4BD1CDA3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DE16-7D0B-4340-9E1A-841D800EBFCC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eece1"/>
                </a:solidFill>
                <a:latin typeface="Tw Cen MT"/>
              </a:rPr>
              <a:t>استراتيجية التسعير</a:t>
            </a:r>
            <a:br>
              <a:rPr sz="4400"/>
            </a:br>
            <a:r>
              <a:rPr b="0" lang="ar-SA" sz="3200" spc="-1" strike="noStrike">
                <a:solidFill>
                  <a:srgbClr val="eeece1"/>
                </a:solidFill>
                <a:latin typeface="Tw Cen MT"/>
              </a:rPr>
              <a:t>الفصل الثاني عشر</a:t>
            </a:r>
            <a:endParaRPr b="0" lang="en-US" sz="32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icing Strate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خطو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658800" y="1457280"/>
            <a:ext cx="8265960" cy="5376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Luna\AppData\Local\Microsoft\Windows\Temporary Internet Files\Content.IE5\8OXR8UTT\MM900300593[1].gif"/>
          <p:cNvPicPr/>
          <p:nvPr/>
        </p:nvPicPr>
        <p:blipFill>
          <a:blip r:embed="rId2"/>
          <a:stretch/>
        </p:blipFill>
        <p:spPr>
          <a:xfrm>
            <a:off x="0" y="0"/>
            <a:ext cx="1571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9680" y="1600200"/>
            <a:ext cx="8265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تسم قرارات التسعير بدرجة عالية من التعقيد بسبب المتغيرات الكثيرة التي تتضمنها وانعكاسها على مجمل أنشطة المنظمة، بالتالي ستتأثر استراتيجية التسويق بشكل كبير باستراتيجية التسعير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لسعر يعد من أكثر العناصر خضوعاً للتفاوض بين البائع والمشتري وعلى اختلاف درجاتهم وقدراتهم الشرائية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أيضاً يبرز تأثير السعر البديل لذات السلعة على قرار الشراء النهائي للمستهلك، وبالتالي تحوله إلى التعامل مع المنافسين بدلاً من إبقائه ضمن دائرة الولاء للشركة أو المُنتَج المقدم للسوق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حتويات الفصل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معاني المتعددة للسعر وتعريفه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دور الاستراتيجي للسعر في المزيج التسويقي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ستراتيجية التسعير المعتمدة من قِبَل منظمات الأعمال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عوامل الرئيسة ذات التأثير على قرارات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خطوات المتعاقبة في عملية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4" descr="j0078804"/>
          <p:cNvPicPr/>
          <p:nvPr/>
        </p:nvPicPr>
        <p:blipFill>
          <a:blip r:embed="rId1"/>
          <a:stretch/>
        </p:blipFill>
        <p:spPr>
          <a:xfrm>
            <a:off x="174600" y="3929040"/>
            <a:ext cx="3183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تعبير عن قيمة الأشياء التي يتم تبادلها في السوق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قيمة التبادلية عن المنتجات في التبادل التسويقي "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تعريفين السابقين نجد أن السعر ماهو إلا صيغة لعلاقة تبادلية ما بين الأفراد الذين يدفعون النقود، والوحدات التسويقية على اختلاف أشكالها والتي تقوم بعملية تقديم المنتجات له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ثمن مقابل شيء ما ". (النقو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مجموعة من القيم (نقود) والتي يستبدلها المستهلك مقابل فوائد أو امتلاك أو استخدام المُنتَج أو الخدمة ". (قوة نقدية لدى المستهلك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ه: الرسوم، الفوائد، الإيجار، .....الخ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Luna\AppData\Local\Microsoft\Windows\Temporary Internet Files\Content.IE5\AI1N5N38\MP900442387[1].jpg"/>
          <p:cNvPicPr/>
          <p:nvPr/>
        </p:nvPicPr>
        <p:blipFill>
          <a:blip r:embed="rId1"/>
          <a:stretch/>
        </p:blipFill>
        <p:spPr>
          <a:xfrm>
            <a:off x="-66600" y="-23760"/>
            <a:ext cx="20606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00200"/>
            <a:ext cx="8408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من أبرز عناصر المزيج التسويقي في المنظم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مولداً للايرادات والأرباح، أما باقي عناصر المزيج التسويقي فتعتبر تكالي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أكثر مرونة واستجابة للتغير تبعاً لأي طارئ في البيئة المحيطة بالمنظمة، أما باقي العناصر فتحتاج إلى وقت طويل وإجراءات معقدة ليتم تغير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تل الأسعار والأسعار التنافسية المرتبة الأولى من حيث الصعوبة والمشكلات التي يتعرض لها مدراء التسويق في المنظمات لما لها تأثير كبير على ديمومة المنظمة واستمرارها وتحقيقها للأرباح أو العكس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6" descr="C:\Users\Luna\AppData\Local\Microsoft\Windows\Temporary Internet Files\Content.IE5\8OXR8UTT\MC900290292[1].wmf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حتى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5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كان السعر العامل الأهم في سلوك المشتر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ظهرت عوامل أخرى: الإعلان، التعبئة والتغليف، العلامة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اد تأثير السعر نتيجة انخفاض الطلب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8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والدخل الحقيقي، لذا عُدّ السعر من أهم عناصر المزيج التسويقي بعد مزيج المنتج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ُعد عاملاً مهماً في تغطية تكاليف الأنشطة (التسويقية وغير التسويقية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رباح = العــــــائــــد الكـلـــــــــي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220400" indent="-203400" algn="r" rtl="1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= (السعر * الكمية المباعة)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السعر يمكن أن يؤثر على الأرباح المتحققة بعد طرق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CAHFI1VH"/>
          <p:cNvPicPr/>
          <p:nvPr/>
        </p:nvPicPr>
        <p:blipFill>
          <a:blip r:embed="rId1"/>
          <a:stretch/>
        </p:blipFill>
        <p:spPr>
          <a:xfrm>
            <a:off x="0" y="0"/>
            <a:ext cx="178596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 - تابع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5640" indent="-30564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أخذ بُعدا استراتيجياً في كل مما يل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ند صياغة القرارات السعرية يجب أن تغطي كافة الأهداف والاستراتيجيات المحددة مسبقاً من قِبَل الإدارة العليا في المنظم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ظرية النظم وارتباط القرارات السعرية بالقرارات المرتبطة بعناصر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خذ بالاعتبار أهمية العناصر التنافسية غير السعر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سعرية المتخذة يجب أن تأخذ بالاعتبار حالات التأكد واللا تأكد البي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استراتيجية تأخذ صياغتها الروتينية بالتفاعل والتشاور مع الأقسام والجهات ذات العلاقة بتقديم المنتج بشكله النها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Users\Luna\AppData\Local\Microsoft\Windows\Temporary Internet Files\Content.IE5\ZNV8T11M\MC900353998[1].wmf"/>
          <p:cNvPicPr/>
          <p:nvPr/>
        </p:nvPicPr>
        <p:blipFill>
          <a:blip r:embed="rId1"/>
          <a:stretch/>
        </p:blipFill>
        <p:spPr>
          <a:xfrm>
            <a:off x="-19080" y="0"/>
            <a:ext cx="139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ستراتيجية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قبول مبادئ التسعير في حالات التطبيق لها وعلى مدار الفترة الزمنية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57120" y="2857680"/>
            <a:ext cx="3505320" cy="1752480"/>
          </a:xfrm>
          <a:prstGeom prst="ellipse">
            <a:avLst/>
          </a:prstGeom>
          <a:solidFill>
            <a:srgbClr val="b3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لقش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"/>
          <p:cNvSpPr/>
          <p:nvPr/>
        </p:nvSpPr>
        <p:spPr>
          <a:xfrm>
            <a:off x="3929040" y="4286160"/>
            <a:ext cx="3505320" cy="1752840"/>
          </a:xfrm>
          <a:prstGeom prst="ellipse">
            <a:avLst/>
          </a:prstGeom>
          <a:solidFill>
            <a:srgbClr val="cdc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 الاخت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C:\Users\Luna\AppData\Local\Microsoft\Windows\Temporary Internet Files\Content.IE5\AI1N5N38\MC900363498[1].wmf"/>
          <p:cNvPicPr/>
          <p:nvPr/>
        </p:nvPicPr>
        <p:blipFill>
          <a:blip r:embed="rId1"/>
          <a:stretch/>
        </p:blipFill>
        <p:spPr>
          <a:xfrm>
            <a:off x="0" y="0"/>
            <a:ext cx="13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عوامل المؤثرة في قرار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هداف التتنظيمية والتسويق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 الأهدا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كل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تغيرات الأخرى في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قعات المشاركين في القناة التوز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جابة وتصورات المستهلك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نافس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ضايا التنظيمية والقانون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4" descr="5558"/>
          <p:cNvPicPr/>
          <p:nvPr/>
        </p:nvPicPr>
        <p:blipFill>
          <a:blip r:embed="rId1"/>
          <a:stretch/>
        </p:blipFill>
        <p:spPr>
          <a:xfrm>
            <a:off x="214200" y="2643120"/>
            <a:ext cx="3349800" cy="22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7" name="Picture 2" descr="C:\Users\Luna\AppData\Local\Microsoft\Windows\Temporary Internet Files\Content.IE5\9V6KBMM2\MM900282993[1].gif"/>
          <p:cNvPicPr/>
          <p:nvPr/>
        </p:nvPicPr>
        <p:blipFill>
          <a:blip r:embed="rId2"/>
          <a:stretch/>
        </p:blipFill>
        <p:spPr>
          <a:xfrm>
            <a:off x="0" y="-12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56:56Z</dcterms:created>
  <dc:creator>Windows User</dc:creator>
  <dc:description/>
  <dc:language>en-US</dc:language>
  <cp:lastModifiedBy>Luna</cp:lastModifiedBy>
  <dcterms:modified xsi:type="dcterms:W3CDTF">2012-01-31T15:04:40Z</dcterms:modified>
  <cp:revision>17</cp:revision>
  <dc:subject/>
  <dc:title>استراتيجية التسعير الفصل الثاني ع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