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1.png" ContentType="image/png"/>
  <Override PartName="/ppt/media/image6.jpeg" ContentType="image/jpeg"/>
  <Override PartName="/ppt/media/image7.png" ContentType="image/png"/>
  <Override PartName="/ppt/media/image8.wmf" ContentType="image/x-wmf"/>
  <Override PartName="/ppt/media/image10.gif" ContentType="image/gif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0377-7815-46B4-ADF1-E8699EBD9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5968-9532-42AB-8D7E-879ACE86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6670-77AE-4087-8EAA-39FBDA065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63A6-79A7-41B8-9226-2C344F223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D8B9-CF22-475B-9DFF-69DC78ABB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66F4-78CF-4E4F-83D3-5D46D412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2F89-2813-41C1-A110-7F4A2EC9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D952-07B8-4B73-8A1C-40209598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D069-A3FF-4C6C-9BB0-A4987728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488E-AC81-42D8-B4C8-91FD9CEE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0A80-1C05-40DF-B51F-0D641150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C115-AB23-4AE8-B35F-9A4CFD3C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2FA5-982D-4180-BE04-39081114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46DD-99A0-4609-891C-9A2C8BCE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1ECC-CAB8-4C14-B731-3827A64B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ACBE-AB72-474F-A789-5AA36EDF4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09F0-83F2-4BE8-9596-F731C9CD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06A57D-76CD-409A-A706-DD7D036A9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11AE27-BC5B-445F-9D96-6E664968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C640F3-8108-4F7C-A18F-4AECF041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F2E26F-8BB7-436C-9337-1F061BAB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1498B7-11A8-4DEC-A7CE-1956CC55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EE86-53F1-4CF0-90BB-2E9F3908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F7B34B-7717-40E8-9B9F-3B94C11F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57326F-0D88-45DC-8939-8427790E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E5CC69-F2D1-4123-8852-216612EB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F40377-A063-4311-9D97-6C56F9CA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A2D0B8-F88E-482B-B0E0-AC993CA9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9E21EF-C91A-43AC-AF16-3E90A4B71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215D2D-1DFA-46F6-A06E-14FF2FB43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EAD541-3B98-400B-8BF2-538C8C24D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ABB44A-B07D-4C0A-9CB7-15237575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9ED623-CC86-4269-A38E-D14A92F8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2BCF-943E-44FA-A0C6-7B7B71E8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BBDE36-8061-4107-8A73-A43ECBD7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28AA09-9A33-489B-8DD8-3004795D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E8E78E-2484-432B-976C-F49864A5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6BA974-304E-4843-A3F0-02D17B4B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E48852-0682-4469-80CB-2D6CA428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560F0C-8DFC-4032-A8CF-1D11C8C8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6DF2FB-79A9-4741-9A6A-9CCB0917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DA3B47-F849-4335-90F0-8C5D3552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0FA473-05D3-4997-9E68-2F1C0E3EE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9F0B10-60F4-43DE-AEF8-36DE1B28B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A1C9-6403-48D0-AE0F-2B533F12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763354-3ECB-400F-9979-3EA2A8BD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459D31-E190-4FCA-B1C4-66A8E767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6E5ABE-9C62-41A1-8C32-EB6D2C41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CA3CDD-4F61-4673-A91F-9D8D22CD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B58707-A5F4-4DAA-B0F4-0EABFA56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12819A-1E15-4F94-A301-E9D59A5C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2BC5B3-34F0-4288-939E-901DFEFA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611B1D-2631-43D4-AC17-927CA48F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C9B849-95A4-45C4-92B3-D967B205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C25CEE-8D4F-47C9-9071-1B93E08A1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C719-6EA0-4715-AA20-253BEBF7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2639FA-9079-4504-9647-ECF16DD84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E229D-3403-461D-8F0F-3D722FBD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73E72-351D-4875-9530-C42B7162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0FF0B-173B-4E42-9FCD-B24679AE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39BE0-1BB4-4850-8A3F-29BBF7C8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F0317-606A-450B-907E-4CA04A90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49DD9-237D-4EC2-9EE7-D5475E90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B79C5-E8DB-4D9B-94D5-5EBE6E21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D13B1-825C-4DED-87D3-8B48E360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A0CC5-3FFF-4506-8B6E-C694C685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C462-A1A3-4827-A0FD-8524288D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B6CD6-0928-495C-AB56-50F3D6A0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82C4E-3089-4CFE-A80C-DEE5C093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58657-43C5-4401-8065-33B177FF9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E23F08-564D-43EE-9B0E-84B3E7640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4C9437-E377-4C4A-9651-A4EC282B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C670B1-0ECB-4609-ABF3-1229D891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6F83FC-8879-4C66-AD9B-E7076790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AECD1D-1EE5-4D02-A602-5EC886F6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7F5A22-5F7E-4F57-BCB6-BAFD22D8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CB187B-02B7-4245-ADFB-4C57D1BE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32A4-38DD-4FB6-B446-C957E92A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7F5676-1428-4BA1-8C74-37A9208E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A3D88F-D702-49E8-AB8E-ED46211A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3B9411-5E38-458C-AE49-D5A0FF7F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AB1B9C-6F3B-4F53-9663-B6CF7F6D1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1930D2-9521-4661-801D-AF00E795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6DB65-8B16-4DDD-9F78-064F6C2CC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603AA-CA01-4A2D-8327-2829B776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26900-FDDF-4AED-8830-D2A4840F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A93B1-5D97-464C-B993-0F129D9A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1EE87-57B5-4A4D-B461-B4FD7C5D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7D64-8058-4E7B-9850-B119DD7A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EBCD9-9CF1-49D9-AD9E-7A5E5A91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537C1-F869-4A47-B045-927CE2B7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2B056-68AC-4D5E-9376-0D017F55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5AE6C-534D-42ED-8059-481A1D5E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0EC0E-863F-4EE8-A7AA-77B55EEF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B5FE1-771B-47EC-8806-AA5FAA0A3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F4D6B-B164-4066-BA70-45C5C38B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DB5E-2011-4BB5-9E3D-BC5B69C2ED13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eeece1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DBD5-2C2C-4F25-B0CB-5EE54F4367FB}" type="slidenum">
              <a:rPr b="1" lang="ar-SA" sz="1400" spc="-1" strike="noStrike">
                <a:solidFill>
                  <a:srgbClr val="eeece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9E43-4AA2-4A03-A43C-3E0E2C9D5CAE}" type="slidenum">
              <a:rPr b="1" lang="ar-SA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8CBA-9786-46F1-8C55-E5185922FFD9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7FD6-2E22-4604-B064-7E4B4BAB03B8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4CBE-9DF9-491D-95EB-D40F953E6ED9}" type="slidenum">
              <a:rPr b="1" lang="ar-SA" sz="1400" spc="-1" strike="noStrike">
                <a:solidFill>
                  <a:srgbClr val="1f497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2628-B87B-4C94-A7FF-34B946083AE3}" type="slidenum">
              <a:rPr b="1" lang="ar-SA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1629-E893-41C7-B3D1-355496DFCED7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eece1"/>
                </a:solidFill>
                <a:latin typeface="Tw Cen MT"/>
              </a:rPr>
              <a:t>استراتيجية التسعير</a:t>
            </a:r>
            <a:br>
              <a:rPr sz="4400"/>
            </a:br>
            <a:r>
              <a:rPr b="0" lang="ar-SA" sz="3200" spc="-1" strike="noStrike">
                <a:solidFill>
                  <a:srgbClr val="eeece1"/>
                </a:solidFill>
                <a:latin typeface="Tw Cen MT"/>
              </a:rPr>
              <a:t>الفصل الثاني عشر</a:t>
            </a:r>
            <a:endParaRPr b="0" lang="en-US" sz="32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Pricing Strategy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خطوات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379" name="Content Placeholder 3" descr=""/>
          <p:cNvPicPr/>
          <p:nvPr/>
        </p:nvPicPr>
        <p:blipFill>
          <a:blip r:embed="rId1"/>
          <a:stretch/>
        </p:blipFill>
        <p:spPr>
          <a:xfrm>
            <a:off x="658800" y="1457280"/>
            <a:ext cx="8265960" cy="53769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C:\Users\Luna\AppData\Local\Microsoft\Windows\Temporary Internet Files\Content.IE5\8OXR8UTT\MM900300593[1].gif"/>
          <p:cNvPicPr/>
          <p:nvPr/>
        </p:nvPicPr>
        <p:blipFill>
          <a:blip r:embed="rId2"/>
          <a:stretch/>
        </p:blipFill>
        <p:spPr>
          <a:xfrm>
            <a:off x="0" y="0"/>
            <a:ext cx="157176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قدمة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99680" y="1600200"/>
            <a:ext cx="82659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تتسم قرارات التسعير بدرجة عالية من التعقيد بسبب المتغيرات الكثيرة التي تتضمنها وانعكاسها على مجمل أنشطة المنظمة، بالتالي ستتأثر استراتيجية التسويق بشكل كبير باستراتيجية التسعير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السعر يعد من أكثر العناصر خضوعاً للتفاوض بين البائع والمشتري وعلى اختلاف درجاتهم وقدراتهم الشرائية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أيضاً يبرز تأثير السعر البديل لذات السلعة على قرار الشراء النهائي للمستهلك، وبالتالي تحوله إلى التعامل مع المنافسين بدلاً من إبقائه ضمن دائرة الولاء للشركة أو المُنتَج المقدم للسوق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قدمة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حتويات الفصل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معاني المتعددة للسعر وتعريفه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دور الاستراتيجي للسعر في المزيج التسويقي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ستراتيجية التسعير المعتمدة من قِبَل منظمات الأعمال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عوامل الرئيسة ذات التأثير على قرارات التسعير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خطوات المتعاقبة في عملية التسعير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6" name="Picture 4" descr="j0078804"/>
          <p:cNvPicPr/>
          <p:nvPr/>
        </p:nvPicPr>
        <p:blipFill>
          <a:blip r:embed="rId1"/>
          <a:stretch/>
        </p:blipFill>
        <p:spPr>
          <a:xfrm>
            <a:off x="174600" y="3929040"/>
            <a:ext cx="31831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فهوم وتعريف ا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تعبير عن قيمة الأشياء التي يتم تبادلها في السوق "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القيمة التبادلية عن المنتجات في التبادل التسويقي "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ن التعريفين السابقين نجد أن السعر ماهو إلا صيغة لعلاقة تبادلية ما بين الأفراد الذين يدفعون النقود، والوحدات التسويقية على اختلاف أشكالها والتي تقوم بعملية تقديم المنتجات لهم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الثمن مقابل شيء ما ". (النقود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مجموعة من القيم (نقود) والتي يستبدلها المستهلك مقابل فوائد أو امتلاك أو استخدام المُنتَج أو الخدمة ". (قوة نقدية لدى المستهلك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أشكاله: الرسوم، الفوائد، الإيجار، .....الخ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9" name="Picture 2" descr="C:\Users\Luna\AppData\Local\Microsoft\Windows\Temporary Internet Files\Content.IE5\AI1N5N38\MP900442387[1].jpg"/>
          <p:cNvPicPr/>
          <p:nvPr/>
        </p:nvPicPr>
        <p:blipFill>
          <a:blip r:embed="rId1"/>
          <a:stretch/>
        </p:blipFill>
        <p:spPr>
          <a:xfrm>
            <a:off x="-66600" y="-23760"/>
            <a:ext cx="206064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فهوم وتعريف ا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57120" y="1600200"/>
            <a:ext cx="84088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من أبرز عناصر المزيج التسويقي في المنظمة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لكونه مولداً للايرادات والأرباح، أما باقي عناصر المزيج التسويقي فتعتبر تكالي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لكونه أكثر مرونة واستجابة للتغير تبعاً لأي طارئ في البيئة المحيطة بالمنظمة، أما باقي العناصر فتحتاج إلى وقت طويل وإجراءات معقدة ليتم تغيرها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حتل الأسعار والأسعار التنافسية المرتبة الأولى من حيث الصعوبة والمشكلات التي يتعرض لها مدراء التسويق في المنظمات لما لها تأثير كبير على ديمومة المنظمة واستمرارها وتحقيقها للأرباح أو العكس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2" name="Picture 6" descr="C:\Users\Luna\AppData\Local\Microsoft\Windows\Temporary Internet Files\Content.IE5\8OXR8UTT\MC900290292[1].wmf"/>
          <p:cNvPicPr/>
          <p:nvPr/>
        </p:nvPicPr>
        <p:blipFill>
          <a:blip r:embed="rId1"/>
          <a:stretch/>
        </p:blipFill>
        <p:spPr>
          <a:xfrm>
            <a:off x="285840" y="0"/>
            <a:ext cx="150012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دور الاستراتيجي ل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حتى 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1950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كان السعر العامل الأهم في سلوك المشتر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ظهرت عوامل أخرى: الإعلان، التعبئة والتغليف، العلامة...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عاد تأثير السعر نتيجة انخفاض الطلب 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1980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والدخل الحقيقي، لذا عُدّ السعر من أهم عناصر المزيج التسويقي بعد مزيج المنتج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يُعد عاملاً مهماً في تغطية تكاليف الأنشطة (التسويقية وغير التسويقية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رباح = العــــــائــــد الكـلـــــــــي - التكاليف الكلي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220400" indent="-203400" algn="r" rtl="1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= (السعر * الكمية المباعة) - التكاليف الكلي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السعر يمكن أن يؤثر على الأرباح المتحققة بعد طرق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5" name="Picture 4" descr="CAHFI1VH"/>
          <p:cNvPicPr/>
          <p:nvPr/>
        </p:nvPicPr>
        <p:blipFill>
          <a:blip r:embed="rId1"/>
          <a:stretch/>
        </p:blipFill>
        <p:spPr>
          <a:xfrm>
            <a:off x="0" y="0"/>
            <a:ext cx="178596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دور الاستراتيجي للسعر - تابع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05640" indent="-30564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يأخذ بُعدا استراتيجياً في كل مما يلي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عند صياغة القرارات السعرية يجب أن تغطي كافة الأهداف والاستراتيجيات المحددة مسبقاً من قِبَل الإدارة العليا في المنظم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نظرية النظم وارتباط القرارات السعرية بالقرارات المرتبطة بعناصر المزيج التسويق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خذ بالاعتبار أهمية العناصر التنافسية غير السعر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رارات السعرية المتخذة يجب أن تأخذ بالاعتبار حالات التأكد واللا تأكد البيئ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رارات الاستراتيجية تأخذ صياغتها الروتينية بالتفاعل والتشاور مع الأقسام والجهات ذات العلاقة بتقديم المنتج بشكله النهائ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8" name="Picture 2" descr="C:\Users\Luna\AppData\Local\Microsoft\Windows\Temporary Internet Files\Content.IE5\ZNV8T11M\MC900353998[1].wmf"/>
          <p:cNvPicPr/>
          <p:nvPr/>
        </p:nvPicPr>
        <p:blipFill>
          <a:blip r:embed="rId1"/>
          <a:stretch/>
        </p:blipFill>
        <p:spPr>
          <a:xfrm>
            <a:off x="-19080" y="0"/>
            <a:ext cx="13971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ستراتيجية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قبول مبادئ التسعير في حالات التطبيق لها وعلى مدار الفترة الزمنية "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Oval 5"/>
          <p:cNvSpPr/>
          <p:nvPr/>
        </p:nvSpPr>
        <p:spPr>
          <a:xfrm>
            <a:off x="357120" y="2857680"/>
            <a:ext cx="3505320" cy="1752480"/>
          </a:xfrm>
          <a:prstGeom prst="ellipse">
            <a:avLst/>
          </a:prstGeom>
          <a:solidFill>
            <a:srgbClr val="b3d7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ستراتيج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لقش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6"/>
          <p:cNvSpPr/>
          <p:nvPr/>
        </p:nvSpPr>
        <p:spPr>
          <a:xfrm>
            <a:off x="3929040" y="4286160"/>
            <a:ext cx="3505320" cy="1752840"/>
          </a:xfrm>
          <a:prstGeom prst="ellipse">
            <a:avLst/>
          </a:prstGeom>
          <a:solidFill>
            <a:srgbClr val="cdcb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ستراتيجية الاخترا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3" descr="C:\Users\Luna\AppData\Local\Microsoft\Windows\Temporary Internet Files\Content.IE5\AI1N5N38\MC900363498[1].wmf"/>
          <p:cNvPicPr/>
          <p:nvPr/>
        </p:nvPicPr>
        <p:blipFill>
          <a:blip r:embed="rId1"/>
          <a:stretch/>
        </p:blipFill>
        <p:spPr>
          <a:xfrm>
            <a:off x="0" y="0"/>
            <a:ext cx="1386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عوامل المؤثرة في قرارات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هداف التتنظيمية والتسويق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أشكال الأهدا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كل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متغيرات الأخرى في المزيج التسويق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وقعات المشاركين في القناة التوزيع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ستجابة وتصورات المستهلكين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منافس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ضايا التنظيمية والقانون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6" name="Picture 4" descr="5558"/>
          <p:cNvPicPr/>
          <p:nvPr/>
        </p:nvPicPr>
        <p:blipFill>
          <a:blip r:embed="rId1"/>
          <a:stretch/>
        </p:blipFill>
        <p:spPr>
          <a:xfrm>
            <a:off x="214200" y="2643120"/>
            <a:ext cx="3349800" cy="221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77" name="Picture 2" descr="C:\Users\Luna\AppData\Local\Microsoft\Windows\Temporary Internet Files\Content.IE5\9V6KBMM2\MM900282993[1].gif"/>
          <p:cNvPicPr/>
          <p:nvPr/>
        </p:nvPicPr>
        <p:blipFill>
          <a:blip r:embed="rId2"/>
          <a:stretch/>
        </p:blipFill>
        <p:spPr>
          <a:xfrm>
            <a:off x="0" y="-1260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20:56:56Z</dcterms:created>
  <dc:creator>Windows User</dc:creator>
  <dc:description/>
  <dc:language>en-US</dc:language>
  <cp:lastModifiedBy>Luna</cp:lastModifiedBy>
  <dcterms:modified xsi:type="dcterms:W3CDTF">2012-01-31T15:04:40Z</dcterms:modified>
  <cp:revision>17</cp:revision>
  <dc:subject/>
  <dc:title>استراتيجية التسعير الفصل الثاني عش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