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323-7F71-4455-935C-52395DAD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701-D2DB-46D9-9015-8E71A92D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37C-B713-4D53-9C1A-748504D1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01A-D41E-4DE7-AC18-4BF13E3D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D39C-5C61-4A71-8862-6AC77D2C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5B80-0B44-406D-B584-E66F8BCB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D973-6D28-4D3B-87EA-761366D5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2485-DA9B-43DE-954E-EA189493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B3F5-D019-48E1-BFE1-40D0AE38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7A21-78A2-41E4-97A0-360FCA2B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F208-FCC7-49DF-82D0-D0C50E7F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890-B74F-4693-A9A0-67BDDE12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7764-D40A-4F58-ABFA-A7C8C05B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4051-775B-460A-AA9B-3EC8193A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A20E-0E7D-4273-9356-1EC65CD4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E3B9-08B0-4B69-828A-0FB2DDFB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ECCC-E1E9-4364-A0D3-61F1A99D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A2778-C6C6-4CC2-BEBB-D039EB28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3FC88-EA7A-47B4-94DC-7CBD16DA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94496-FB73-4366-949C-166785E2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7B368-FCE9-453A-8F63-F1CC2059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E0AA2-B22A-419D-BE00-E7F0CC9D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BF7-2213-4DB0-90A6-F6FD2362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41AAA-9008-43FD-9F89-9D6B6EC1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2F675-700E-41A3-AEC0-172F7A7C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7BDF9-F71A-4471-B77E-4A92A2A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F7857-42E0-4094-AC8F-EDE39BC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7EBD4-1A7D-4B48-B89D-7EFB1168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CF126-3BDE-400D-8480-0FA965BF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AF3FB-07FE-4A8E-93AD-08A20A4D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526F9-C89D-4F39-854C-6DDA9CC1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3FF62-7775-4653-A328-5FD3450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CAE46-0AEF-44D0-80F0-3ECEEB48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7A7-07CB-496D-B02E-21C8EB77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D16C2-727F-4B96-8633-C96F1B64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2181A8-F191-4A3B-A773-37C62DF4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B4890-6E71-48DF-92C4-58D7A8A0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15453-1A8C-4387-BBD5-A75FC583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0509F-088A-4A53-91EE-F6A3A1EA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F668F-DD29-4239-B617-4C98D76B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0124E3-3F3C-4D29-89C6-3EF15C3F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8C15A-C301-4955-BC0B-3B53B2D3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9E237-4CDA-448C-8F26-7338EC62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ACC59-935A-4687-92D9-B354E2EE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2E5-7C2B-4077-A64C-9B045E33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3FA9A-7EBE-484F-9125-BCF26EA0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A143C-CB03-4269-B990-E4014A33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B987D-EAF1-49A6-BFE0-525E6C40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3A7DB-6A03-45A6-BBD0-DE6B4A40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33543-84EB-4CFF-B9E3-C280D35F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95CBA-851B-4B7F-877E-817AE6D2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A085A-8A6B-45F6-A47C-839CC70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A0DD6-A7D6-4ACE-AFDF-71363212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B9C75-838B-4966-9CAF-96FAAEF0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32754-6FC8-4BA3-9510-0E4772D6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445-0E8A-43F5-BBF3-BE68FB9E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1701C-EAD0-4E75-99AC-A28E0508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649F4-B098-4ED6-8FFC-016332F6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B8B03-2464-4EE1-AB83-BAC8B02C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F7EF3-2398-46D6-BF53-A1FC95F2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3EF61-723F-4D72-ACD8-425A91CB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0FB59-8DD7-4076-A7BC-E73982BF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55DE7-C77C-4136-BABA-6DC7E86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AB2ED-1723-41FE-9AD2-CDD6C923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F73C-7782-4388-BD5F-C3FD7992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09CCC-8BEA-4DD7-9958-D8E458A2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3A8-8EE8-4935-8EB0-DBDE162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F2C12-05C9-4421-A907-5E607E46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95354-64A7-4BAB-9D0F-E776CB8F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0D2DD-2F96-4C9C-AB1B-BFD03B8A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C788D-3082-4538-BDF2-A061721C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2DC79-0A50-4851-9E39-E64F636B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47BEC-BDA7-482B-9711-82ABBC45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78FB4-0A4D-497C-AC35-22F247F6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186E4-DD9F-4577-BAA2-277C796F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69EBA-31E8-4566-A423-880B9EA9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AC828-D5CC-4F0F-A8BB-5476277C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FB5-952E-4B35-B2AD-03170AF7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BF434-C318-4C87-92AD-CFBAE59A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FED4AE-A9C5-4449-8297-C090C2F0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3E9F4-AD0C-4991-990B-E2CD84BF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AAC82-3DDB-4F2F-8982-1A975B7E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A1BA1-F7BF-4FE3-AB77-4722C791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C780D-536C-433C-BFE3-F54DF5AB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8FB35-95E6-4179-9BB6-DF310240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28AE9-B94A-4C7B-99EC-965124F5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3B60C-14A1-4897-BE8C-3FF2EFF3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73224-7566-4ECF-BA4F-FE7D5E27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6FB-586B-4E9B-A9DD-DFCDF65C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F6685-6896-478D-A615-873E865F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B1140-D9FF-47E5-8320-C9CE2278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D93A5-02EC-4E00-9B4B-51DC1A8C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6CBF9-A35D-4FDB-B6C4-6E81A894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FAF09-65C6-4F60-BD40-6554AF84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47CE7-1BCE-4FAF-A802-EA32292F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CC94E-D06E-48F4-9630-679F8B3D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D6A9-235A-4AE6-ACEE-68AD987DC2C5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eece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7007-579F-47C7-B5D7-5A99BAC2E0B9}" type="slidenum">
              <a:rPr b="1" lang="ar-SA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3840-BEA7-40D8-9CF8-27C873ADBDA3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3DCC-E178-43C3-8AC7-F5C72F3E0D38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DF7D-286D-42AD-A03B-FD3428B0410A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FA5D-666C-4C2A-8E85-2D9B91097DEE}" type="slidenum">
              <a:rPr b="1" lang="ar-SA" sz="1400" spc="-1" strike="noStrike">
                <a:solidFill>
                  <a:srgbClr val="1f49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DC82-93BA-473C-9EFA-C40EAF0455F7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f49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f49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143B-6A4B-43A3-A7AA-05897A3E1A34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eece1"/>
                </a:solidFill>
                <a:latin typeface="Tw Cen MT"/>
              </a:rPr>
              <a:t>استراتيجية التسعير</a:t>
            </a:r>
            <a:br>
              <a:rPr sz="4400"/>
            </a:br>
            <a:r>
              <a:rPr b="0" lang="ar-SA" sz="3200" spc="-1" strike="noStrike">
                <a:solidFill>
                  <a:srgbClr val="eeece1"/>
                </a:solidFill>
                <a:latin typeface="Tw Cen MT"/>
              </a:rPr>
              <a:t>الفصل الثاني عشر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icing Strate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خطو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658800" y="1457280"/>
            <a:ext cx="8265960" cy="5376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Luna\AppData\Local\Microsoft\Windows\Temporary Internet Files\Content.IE5\8OXR8UTT\MM900300593[1].gif"/>
          <p:cNvPicPr/>
          <p:nvPr/>
        </p:nvPicPr>
        <p:blipFill>
          <a:blip r:embed="rId2"/>
          <a:stretch/>
        </p:blipFill>
        <p:spPr>
          <a:xfrm>
            <a:off x="0" y="0"/>
            <a:ext cx="1571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9680" y="1600200"/>
            <a:ext cx="8265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تسم قرارات التسعير بدرجة عالية من التعقيد بسبب المتغيرات الكثيرة التي تتضمنها وانعكاسها على مجمل أنشطة المنظمة، بالتالي ستتأثر استراتيجية التسويق بشكل كبير باستراتيجية التسعير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لسعر يعد من أكثر العناصر خضوعاً للتفاوض بين البائع والمشتري وعلى اختلاف درجاتهم وقدراتهم الشرائية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algn="just" rtl="1">
              <a:lnSpc>
                <a:spcPct val="13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أيضاً يبرز تأثير السعر البديل لذات السلعة على قرار الشراء النهائي للمستهلك، وبالتالي تحوله إلى التعامل مع المنافسين بدلاً من إبقائه ضمن دائرة الولاء للشركة أو المُنتَج المقدم للسوق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قدمة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حتويات الفصل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معاني المتعددة للسعر وتعريفه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دور الاستراتيجي للسعر في المزيج التسويقي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ستراتيجية التسعير المعتمدة من قِبَل منظمات الأعمال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عوامل الرئيسة ذات التأثير على قرارات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w Cen MT"/>
              </a:rPr>
              <a:t>الخطوات المتعاقبة في عملية التسعير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4" descr="j0078804"/>
          <p:cNvPicPr/>
          <p:nvPr/>
        </p:nvPicPr>
        <p:blipFill>
          <a:blip r:embed="rId1"/>
          <a:stretch/>
        </p:blipFill>
        <p:spPr>
          <a:xfrm>
            <a:off x="174600" y="3929040"/>
            <a:ext cx="3183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تعبير عن قيمة الأشياء التي يتم تبادلها في السوق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قيمة التبادلية عن المنتجات في التبادل التسويقي "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تعريفين السابقين نجد أن السعر ماهو إلا صيغة لعلاقة تبادلية ما بين الأفراد الذين يدفعون النقود، والوحدات التسويقية على اختلاف أشكالها والتي تقوم بعملية تقديم المنتجات له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الثمن مقابل شيء ما ". (النقو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مجموعة من القيم (نقود) والتي يستبدلها المستهلك مقابل فوائد أو امتلاك أو استخدام المُنتَج أو الخدمة ". (قوة نقدية لدى المستهلك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ه: الرسوم، الفوائد، الإيجار، .....الخ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Luna\AppData\Local\Microsoft\Windows\Temporary Internet Files\Content.IE5\AI1N5N38\MP900442387[1].jpg"/>
          <p:cNvPicPr/>
          <p:nvPr/>
        </p:nvPicPr>
        <p:blipFill>
          <a:blip r:embed="rId1"/>
          <a:stretch/>
        </p:blipFill>
        <p:spPr>
          <a:xfrm>
            <a:off x="-66600" y="-23760"/>
            <a:ext cx="20606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مفهوم وتعريف ا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00200"/>
            <a:ext cx="84088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من أبرز عناصر المزيج التسويقي في المنظم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مولداً للايرادات والأرباح، أما باقي عناصر المزيج التسويقي فتعتبر تكالي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لكونه أكثر مرونة واستجابة للتغير تبعاً لأي طارئ في البيئة المحيطة بالمنظمة، أما باقي العناصر فتحتاج إلى وقت طويل وإجراءات معقدة ليتم تغير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تل الأسعار والأسعار التنافسية المرتبة الأولى من حيث الصعوبة والمشكلات التي يتعرض لها مدراء التسويق في المنظمات لما لها تأثير كبير على ديمومة المنظمة واستمرارها وتحقيقها للأرباح أو العكس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6" descr="C:\Users\Luna\AppData\Local\Microsoft\Windows\Temporary Internet Files\Content.IE5\8OXR8UTT\MC900290292[1].wmf"/>
          <p:cNvPicPr/>
          <p:nvPr/>
        </p:nvPicPr>
        <p:blipFill>
          <a:blip r:embed="rId1"/>
          <a:stretch/>
        </p:blipFill>
        <p:spPr>
          <a:xfrm>
            <a:off x="285840" y="0"/>
            <a:ext cx="15001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حتى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5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كان السعر العامل الأهم في سلوك المشتر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ظهرت عوامل أخرى: الإعلان، التعبئة والتغليف، العلامة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اد تأثير السعر نتيجة انخفاض الطلب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980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والدخل الحقيقي، لذا عُدّ السعر من أهم عناصر المزيج التسويقي بعد مزيج المنتج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ُعد عاملاً مهماً في تغطية تكاليف الأنشطة (التسويقية وغير التسويقية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رباح = العــــــائــــد الكـلـــــــــي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220400" indent="-203400" algn="r" rtl="1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= (السعر * الكمية المباعة) - التكاليف الكل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السعر يمكن أن يؤثر على الأرباح المتحققة بعد طر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4" descr="CAHFI1VH"/>
          <p:cNvPicPr/>
          <p:nvPr/>
        </p:nvPicPr>
        <p:blipFill>
          <a:blip r:embed="rId1"/>
          <a:stretch/>
        </p:blipFill>
        <p:spPr>
          <a:xfrm>
            <a:off x="0" y="0"/>
            <a:ext cx="178596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دور الاستراتيجي للسعر - تابع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05640" indent="-30564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سعر يأخذ بُعدا استراتيجياً في كل مما يل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ند صياغة القرارات السعرية يجب أن تغطي كافة الأهداف والاستراتيجيات المحددة مسبقاً من قِبَل الإدارة العليا في المنظم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ظرية النظم وارتباط القرارات السعرية بالقرارات المرتبطة بعناصر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خذ بالاعتبار أهمية العناصر التنافسية غير السعر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سعرية المتخذة يجب أن تأخذ بالاعتبار حالات التأكد واللا تأكد البي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5640" indent="-305640" algn="just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رارات الاستراتيجية تأخذ صياغتها الروتينية بالتفاعل والتشاور مع الأقسام والجهات ذات العلاقة بتقديم المنتج بشكله النهائ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Users\Luna\AppData\Local\Microsoft\Windows\Temporary Internet Files\Content.IE5\ZNV8T11M\MC900353998[1].wmf"/>
          <p:cNvPicPr/>
          <p:nvPr/>
        </p:nvPicPr>
        <p:blipFill>
          <a:blip r:embed="rId1"/>
          <a:stretch/>
        </p:blipFill>
        <p:spPr>
          <a:xfrm>
            <a:off x="-19080" y="0"/>
            <a:ext cx="1397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ستراتيجية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" قبول مبادئ التسعير في حالات التطبيق لها وعلى مدار الفترة الزمنية "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357120" y="2857680"/>
            <a:ext cx="3505320" cy="1752480"/>
          </a:xfrm>
          <a:prstGeom prst="ellipse">
            <a:avLst/>
          </a:prstGeom>
          <a:solidFill>
            <a:srgbClr val="b3d7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لقش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"/>
          <p:cNvSpPr/>
          <p:nvPr/>
        </p:nvSpPr>
        <p:spPr>
          <a:xfrm>
            <a:off x="3929040" y="4286160"/>
            <a:ext cx="3505320" cy="1752840"/>
          </a:xfrm>
          <a:prstGeom prst="ellipse">
            <a:avLst/>
          </a:prstGeom>
          <a:solidFill>
            <a:srgbClr val="cdc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ndalus"/>
              </a:rPr>
              <a:t>استراتيجية الاختر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C:\Users\Luna\AppData\Local\Microsoft\Windows\Temporary Internet Files\Content.IE5\AI1N5N38\MC900363498[1].wmf"/>
          <p:cNvPicPr/>
          <p:nvPr/>
        </p:nvPicPr>
        <p:blipFill>
          <a:blip r:embed="rId1"/>
          <a:stretch/>
        </p:blipFill>
        <p:spPr>
          <a:xfrm>
            <a:off x="0" y="0"/>
            <a:ext cx="13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1f497d"/>
                </a:solidFill>
                <a:latin typeface="Tw Cen MT"/>
              </a:rPr>
              <a:t>العوامل المؤثرة في قرارات التسعير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أهداف التتنظيمية والتسويق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شكال الأهدا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كلف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تغيرات الأخرى في المزيج التسويق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قعات المشاركين في القناة التوز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جابة وتصورات المستهلك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نافس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55680" indent="-355680" algn="r" rtl="1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قضايا التنظيمية والقانون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4" descr="5558"/>
          <p:cNvPicPr/>
          <p:nvPr/>
        </p:nvPicPr>
        <p:blipFill>
          <a:blip r:embed="rId1"/>
          <a:stretch/>
        </p:blipFill>
        <p:spPr>
          <a:xfrm>
            <a:off x="214200" y="2643120"/>
            <a:ext cx="3349800" cy="22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77" name="Picture 2" descr="C:\Users\Luna\AppData\Local\Microsoft\Windows\Temporary Internet Files\Content.IE5\9V6KBMM2\MM900282993[1].gif"/>
          <p:cNvPicPr/>
          <p:nvPr/>
        </p:nvPicPr>
        <p:blipFill>
          <a:blip r:embed="rId2"/>
          <a:stretch/>
        </p:blipFill>
        <p:spPr>
          <a:xfrm>
            <a:off x="0" y="-12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20:56:56Z</dcterms:created>
  <dc:creator>Windows User</dc:creator>
  <dc:description/>
  <dc:language>en-US</dc:language>
  <cp:lastModifiedBy>Luna</cp:lastModifiedBy>
  <dcterms:modified xsi:type="dcterms:W3CDTF">2012-01-31T15:04:40Z</dcterms:modified>
  <cp:revision>17</cp:revision>
  <dc:subject/>
  <dc:title>استراتيجية التسعير الفصل الثاني ع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