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10.gif" ContentType="image/gif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743E-1529-4809-A05B-4985792E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4C8-A0D6-4502-AF35-A13182DF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8798-0394-4E1E-85DC-42F93712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27A7-7F27-43EA-BD5C-44896710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DC7D-53ED-4697-95B6-1DD10455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3AAB-7392-43D2-880A-62001B17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7758-02CF-4A53-B67F-44B6B764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7FF5-46A0-4158-A49A-8E09898E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ED07-25BD-47F0-AED9-82B40C98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8783-4A64-4154-A624-F89C4F82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D61D-5A4D-4E9F-8763-1DC0DCF5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589-9826-419E-B98E-8C0F1E43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BD85-2D9E-42ED-B67F-DCE71EC3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7986-AE4E-476B-8752-5DF39420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7E11-FE89-4B27-B922-CBA4500B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ABA9-8D84-453A-A152-2E9498D0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8A85-DAE1-4FCC-AC81-052437C0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9C6BC-7CBD-4B2D-9763-403CF09A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7A23A-3322-40CB-A6B1-F7358EFE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E96CF-805A-452C-83B4-804C7B26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E0385-7A9C-4130-A65F-0F5EF501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BBCCC-16F5-4E95-AAD7-EB4D5F5A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271-650D-45D3-83F1-2232D576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650AC-55AF-41C2-923B-B35A2164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61FA4-4AEC-457B-A6AB-4C74EAD6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68DAC-C26D-4923-A411-83B2B174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7BF3A-CA48-4FFC-9C4D-9D8CC55A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7D906-DF69-4168-A047-A74FB483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3DAF8-E462-4C31-A585-937622C1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BB8A9-2DC6-40C7-B40D-EB299F5D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83BABD-16D4-4947-96B0-95AFE120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2BA024-6BAB-4085-9639-BCF0A22F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B26C8C-0EA9-4374-BC0C-368392AF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3CA4-59F3-40C5-91C7-9BDC272F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E2A4BD-4972-44C7-8DCA-AA8FE4F9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7C0EC0-D2C8-474A-9E41-D16744E5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CDCE10-0979-45F1-9E18-9C6FBDF4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0F6C8D-407A-4240-B825-B16C3CA4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EB048-2F86-40F0-9D25-1C963B88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C3C17C-7ECC-4FFC-AC0C-850CC758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70C9CE-3D68-401E-82BE-A057BB52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B4A06A-4635-44B8-B349-6292285D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650C63-82E0-4410-B416-808D557D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B70F0A-DBDD-4AF1-BEBF-24409786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581-CB36-4CEB-98F4-AB59D831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3076E-D010-4B1C-8521-8D70945E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7E043-7834-4DCF-ADBF-BEC40614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AC45C3-FD90-4901-AA29-51E278EE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06DC27-FD96-49DC-AEBB-0E278FF5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463CE6-CB76-496A-AF48-4EB179A3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046DE-CAE5-4843-8FC3-D72B3726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822EA7-5440-429F-8EB9-8FEBA519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80DE36-F79A-4BCD-A51E-AD6869C9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88945A-C65A-426D-BCD0-A4256B31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52B5F2-9298-4D6C-A69C-65D95845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E97-6B27-453B-8138-19F10369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DC5A5-0EC7-4465-9F82-D9166B70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49B0D-1403-42C2-8DC7-844B0E68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5C827-388E-4C1E-9D91-8EE7A14B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8BDBF-0A25-4112-8423-EF109A7D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7CF70-8141-473F-992D-0F0AD7E7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E7C51-B6BC-4390-BB08-16B8F94F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392AA-EC52-4CB4-B809-86BF63EC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364B1-4025-41DF-87ED-A0441C5F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5383B-DC04-401C-BC99-05016710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499BA-8320-4522-94A7-FDD93377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62FF-653F-45DA-84DB-2AC303C0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11E7C-3283-42DE-BD4A-F06F8012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F5C54-2719-4E75-AEA5-8E12D00A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1EC50-3B53-431A-8083-D1541FD2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155D6C-AB55-4D53-8AB0-DCC9ADB5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3CCF17-3866-4FDD-ADA5-ADA78018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5533E1-FDBE-48C1-9325-E739E014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A9DBA1-850B-4E09-91F6-D9186D6A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70EDF-0497-4EEE-BD03-073878E6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A3337F-38B6-403B-8657-261FE9B1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89AA7F-BF66-4C31-9C34-281E3C26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3D5-093A-4679-BA96-EEF8C358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A99D7B-8D92-4A4D-B17F-4E52D94A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5DDCA4-0937-4894-9A7C-694C0678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1FC3C8-E792-43F1-B388-A1027862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B4F076-68BD-4736-BB80-5530942D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60D129-A347-4BA2-AB38-126FB0D7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7E2BF-B37C-4067-A18F-71E718D1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8CB0B-4E94-4BEB-8686-32C9EA9B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B9DE7-18BB-437B-8D73-01687E75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58242-575B-4514-AB91-E9AF7ED3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699E2-EA4F-4EB3-A786-FE04DE36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CEB5-2ED9-44DC-A696-A83556BA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A3BC6-9A2C-40F2-BDA7-B6568720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530F3-BE0C-42C5-ABBB-8CF0894D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521BC-D490-4934-A82F-5F3D3C1F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9C3A5-D26E-4792-B997-6397D37C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84BF9-AD3C-493F-92B9-96A5FDE6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389B3-47E9-42B5-81FD-7CD5BE23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3C76A-2C52-47DC-A236-A7265A74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0CE8-DB66-45ED-81D2-AD1BA3566412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eece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F181-93BB-4A65-BCF8-C9ADCB475AA9}" type="slidenum">
              <a:rPr b="1" lang="ar-SA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FE23-6C34-4AB8-886B-C5DCD52BA120}" type="slidenum">
              <a:rPr b="1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ABB3-6D7D-4444-839A-71FEA931CB22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7FD0-BF6E-46C3-8B32-257BB2F6F9BD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7F02-719A-4B65-9F2C-D1E4F63E7E49}" type="slidenum">
              <a:rPr b="1" lang="ar-SA" sz="1400" spc="-1" strike="noStrike">
                <a:solidFill>
                  <a:srgbClr val="1f49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9419-6469-480D-BC9D-F2D115E611FD}" type="slidenum">
              <a:rPr b="1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B794-DE74-4831-9A4B-3994B6BC1AE8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eece1"/>
                </a:solidFill>
                <a:latin typeface="Tw Cen MT"/>
              </a:rPr>
              <a:t>استراتيجية التسعير</a:t>
            </a:r>
            <a:br>
              <a:rPr sz="4400"/>
            </a:br>
            <a:r>
              <a:rPr b="0" lang="ar-SA" sz="3200" spc="-1" strike="noStrike">
                <a:solidFill>
                  <a:srgbClr val="eeece1"/>
                </a:solidFill>
                <a:latin typeface="Tw Cen MT"/>
              </a:rPr>
              <a:t>الفصل الثاني عشر</a:t>
            </a:r>
            <a:endParaRPr b="0" lang="en-US" sz="32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Pricing Strateg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خطو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9" name="Content Placeholder 3" descr=""/>
          <p:cNvPicPr/>
          <p:nvPr/>
        </p:nvPicPr>
        <p:blipFill>
          <a:blip r:embed="rId1"/>
          <a:stretch/>
        </p:blipFill>
        <p:spPr>
          <a:xfrm>
            <a:off x="658800" y="1457280"/>
            <a:ext cx="8265960" cy="5376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C:\Users\Luna\AppData\Local\Microsoft\Windows\Temporary Internet Files\Content.IE5\8OXR8UTT\MM900300593[1].gif"/>
          <p:cNvPicPr/>
          <p:nvPr/>
        </p:nvPicPr>
        <p:blipFill>
          <a:blip r:embed="rId2"/>
          <a:stretch/>
        </p:blipFill>
        <p:spPr>
          <a:xfrm>
            <a:off x="0" y="0"/>
            <a:ext cx="15717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99680" y="1600200"/>
            <a:ext cx="8265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تتسم قرارات التسعير بدرجة عالية من التعقيد بسبب المتغيرات الكثيرة التي تتضمنها وانعكاسها على مجمل أنشطة المنظمة، بالتالي ستتأثر استراتيجية التسويق بشكل كبير باستراتيجية التسعير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السعر يعد من أكثر العناصر خضوعاً للتفاوض بين البائع والمشتري وعلى اختلاف درجاتهم وقدراتهم الشرائية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أيضاً يبرز تأثير السعر البديل لذات السلعة على قرار الشراء النهائي للمستهلك، وبالتالي تحوله إلى التعامل مع المنافسين بدلاً من إبقائه ضمن دائرة الولاء للشركة أو المُنتَج المقدم للسوق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حتويات الفصل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معاني المتعددة للسعر وتعريفه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دور الاستراتيجي للسعر في المزيج التسويقي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ستراتيجية التسعير المعتمدة من قِبَل منظمات الأعمال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عوامل الرئيسة ذات التأثير على قرارات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خطوات المتعاقبة في عملية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4" descr="j0078804"/>
          <p:cNvPicPr/>
          <p:nvPr/>
        </p:nvPicPr>
        <p:blipFill>
          <a:blip r:embed="rId1"/>
          <a:stretch/>
        </p:blipFill>
        <p:spPr>
          <a:xfrm>
            <a:off x="174600" y="3929040"/>
            <a:ext cx="3183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تعبير عن قيمة الأشياء التي يتم تبادلها في السوق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قيمة التبادلية عن المنتجات في التبادل التسويقي "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ن التعريفين السابقين نجد أن السعر ماهو إلا صيغة لعلاقة تبادلية ما بين الأفراد الذين يدفعون النقود، والوحدات التسويقية على اختلاف أشكالها والتي تقوم بعملية تقديم المنتجات لهم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ثمن مقابل شيء ما ". (النقود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مجموعة من القيم (نقود) والتي يستبدلها المستهلك مقابل فوائد أو امتلاك أو استخدام المُنتَج أو الخدمة ". (قوة نقدية لدى المستهلك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ه: الرسوم، الفوائد، الإيجار، .....الخ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C:\Users\Luna\AppData\Local\Microsoft\Windows\Temporary Internet Files\Content.IE5\AI1N5N38\MP900442387[1].jpg"/>
          <p:cNvPicPr/>
          <p:nvPr/>
        </p:nvPicPr>
        <p:blipFill>
          <a:blip r:embed="rId1"/>
          <a:stretch/>
        </p:blipFill>
        <p:spPr>
          <a:xfrm>
            <a:off x="-66600" y="-23760"/>
            <a:ext cx="20606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20" y="1600200"/>
            <a:ext cx="8408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من أبرز عناصر المزيج التسويقي في المنظم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مولداً للايرادات والأرباح، أما باقي عناصر المزيج التسويقي فتعتبر تكالي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أكثر مرونة واستجابة للتغير تبعاً لأي طارئ في البيئة المحيطة بالمنظمة، أما باقي العناصر فتحتاج إلى وقت طويل وإجراءات معقدة ليتم تغيرها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حتل الأسعار والأسعار التنافسية المرتبة الأولى من حيث الصعوبة والمشكلات التي يتعرض لها مدراء التسويق في المنظمات لما لها تأثير كبير على ديمومة المنظمة واستمرارها وتحقيقها للأرباح أو العكس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6" descr="C:\Users\Luna\AppData\Local\Microsoft\Windows\Temporary Internet Files\Content.IE5\8OXR8UTT\MC900290292[1].wmf"/>
          <p:cNvPicPr/>
          <p:nvPr/>
        </p:nvPicPr>
        <p:blipFill>
          <a:blip r:embed="rId1"/>
          <a:stretch/>
        </p:blipFill>
        <p:spPr>
          <a:xfrm>
            <a:off x="285840" y="0"/>
            <a:ext cx="15001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حتى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5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كان السعر العامل الأهم في سلوك المشتر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ظهرت عوامل أخرى: الإعلان، التعبئة والتغليف، العلامة.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اد تأثير السعر نتيجة انخفاض الطلب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8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والدخل الحقيقي، لذا عُدّ السعر من أهم عناصر المزيج التسويقي بعد مزيج المنتج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ُعد عاملاً مهماً في تغطية تكاليف الأنشطة (التسويقية وغير التسويقية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رباح = العــــــائــــد الكـلـــــــــي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220400" indent="-203400" algn="r" rtl="1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= (السعر * الكمية المباعة)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السعر يمكن أن يؤثر على الأرباح المتحققة بعد طرق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4" descr="CAHFI1VH"/>
          <p:cNvPicPr/>
          <p:nvPr/>
        </p:nvPicPr>
        <p:blipFill>
          <a:blip r:embed="rId1"/>
          <a:stretch/>
        </p:blipFill>
        <p:spPr>
          <a:xfrm>
            <a:off x="0" y="0"/>
            <a:ext cx="178596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 - تابع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05640" indent="-30564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أخذ بُعدا استراتيجياً في كل مما يلي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ند صياغة القرارات السعرية يجب أن تغطي كافة الأهداف والاستراتيجيات المحددة مسبقاً من قِبَل الإدارة العليا في المنظم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نظرية النظم وارتباط القرارات السعرية بالقرارات المرتبطة بعناصر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خذ بالاعتبار أهمية العناصر التنافسية غير السعر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سعرية المتخذة يجب أن تأخذ بالاعتبار حالات التأكد واللا تأكد البي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استراتيجية تأخذ صياغتها الروتينية بالتفاعل والتشاور مع الأقسام والجهات ذات العلاقة بتقديم المنتج بشكله النها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2" descr="C:\Users\Luna\AppData\Local\Microsoft\Windows\Temporary Internet Files\Content.IE5\ZNV8T11M\MC900353998[1].wmf"/>
          <p:cNvPicPr/>
          <p:nvPr/>
        </p:nvPicPr>
        <p:blipFill>
          <a:blip r:embed="rId1"/>
          <a:stretch/>
        </p:blipFill>
        <p:spPr>
          <a:xfrm>
            <a:off x="-19080" y="0"/>
            <a:ext cx="139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ستراتيجية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قبول مبادئ التسعير في حالات التطبيق لها وعلى مدار الفترة الزمنية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Oval 5"/>
          <p:cNvSpPr/>
          <p:nvPr/>
        </p:nvSpPr>
        <p:spPr>
          <a:xfrm>
            <a:off x="357120" y="2857680"/>
            <a:ext cx="3505320" cy="1752480"/>
          </a:xfrm>
          <a:prstGeom prst="ellipse">
            <a:avLst/>
          </a:prstGeom>
          <a:solidFill>
            <a:srgbClr val="b3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لقش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6"/>
          <p:cNvSpPr/>
          <p:nvPr/>
        </p:nvSpPr>
        <p:spPr>
          <a:xfrm>
            <a:off x="3929040" y="4286160"/>
            <a:ext cx="3505320" cy="1752840"/>
          </a:xfrm>
          <a:prstGeom prst="ellipse">
            <a:avLst/>
          </a:prstGeom>
          <a:solidFill>
            <a:srgbClr val="cdc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 الاختر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C:\Users\Luna\AppData\Local\Microsoft\Windows\Temporary Internet Files\Content.IE5\AI1N5N38\MC900363498[1].wmf"/>
          <p:cNvPicPr/>
          <p:nvPr/>
        </p:nvPicPr>
        <p:blipFill>
          <a:blip r:embed="rId1"/>
          <a:stretch/>
        </p:blipFill>
        <p:spPr>
          <a:xfrm>
            <a:off x="0" y="0"/>
            <a:ext cx="13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عوامل المؤثرة في قرار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هداف التتنظيمية والتسويق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 الأهدا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كل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تغيرات الأخرى في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وقعات المشاركين في القناة التوزيع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ستجابة وتصورات المستهلك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نافس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ضايا التنظيمية والقانون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4" descr="5558"/>
          <p:cNvPicPr/>
          <p:nvPr/>
        </p:nvPicPr>
        <p:blipFill>
          <a:blip r:embed="rId1"/>
          <a:stretch/>
        </p:blipFill>
        <p:spPr>
          <a:xfrm>
            <a:off x="214200" y="2643120"/>
            <a:ext cx="3349800" cy="221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77" name="Picture 2" descr="C:\Users\Luna\AppData\Local\Microsoft\Windows\Temporary Internet Files\Content.IE5\9V6KBMM2\MM900282993[1].gif"/>
          <p:cNvPicPr/>
          <p:nvPr/>
        </p:nvPicPr>
        <p:blipFill>
          <a:blip r:embed="rId2"/>
          <a:stretch/>
        </p:blipFill>
        <p:spPr>
          <a:xfrm>
            <a:off x="0" y="-126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20:56:56Z</dcterms:created>
  <dc:creator>Windows User</dc:creator>
  <dc:description/>
  <dc:language>en-US</dc:language>
  <cp:lastModifiedBy>Luna</cp:lastModifiedBy>
  <dcterms:modified xsi:type="dcterms:W3CDTF">2012-01-31T15:04:40Z</dcterms:modified>
  <cp:revision>17</cp:revision>
  <dc:subject/>
  <dc:title>استراتيجية التسعير الفصل الثاني عش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