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968-AA89-4223-9877-D6B9AA231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1825-89F2-4D2E-AED3-328E06EC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F0C6BD-5485-466F-92A9-37D76EF7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387724-3210-4B80-84CD-46BC2A73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490D90-4FF3-478C-882B-5DCAE2C3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3CD0B-E077-4043-9C3F-030F8E1B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33796-A1B0-4441-BF42-F4EADB0F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8DB16-F925-4C87-8507-7256DBF8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C100AC-94D8-4539-ABF7-EE9C318E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4DC07-87B3-4AB7-BCE9-176C56FE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5E1F1D-DD4B-4932-9E6C-FB65EE0E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E8D985-885C-44B4-A3BA-7A71D23D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49EB-EFD9-4493-AC57-95DBCF0E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6859D-8135-4C17-9C4C-AEBCFAB7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7E62E-A7DD-4AF4-AA47-0989FE68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901258-6B47-40E8-B32A-43785532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C1FFA-DF50-4821-AAA9-77C4AA5A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5806AD-C05F-415E-9FD9-91B499D5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2D0CF-D779-4A36-A1E1-B4C399ED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28E801-7A87-4BD9-8B07-434D08E2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F3CF97-11E5-4204-A789-639E4F54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F37FC0-9E82-4404-907B-88EF7930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B5AAE1-1DC1-402B-A935-3E97EC93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9BCD-1A38-47AE-A35A-323A3A7E1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48FAAA-8C42-4DE4-882D-9E879CEF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9407F3-A8BE-495A-A0B6-12192DD42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FCBFE1-4010-49B1-BC3A-86DB3CAC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759DB-BD6C-483C-BF04-52AF8680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481B0A-B017-4431-80A1-B90A7B63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B4A80-223E-434F-82A7-78AB8AC5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0DE74-E187-490B-86B7-85C4AE08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AAD4F-9740-4DD5-87E2-AF5AEB72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F58B9-A31F-4778-8728-B61B6F4E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48605E-502B-4DC3-A02D-0331FB9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4E35-2392-4C46-9E05-3B7C4B36B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47942-C52E-4A60-B927-5DAD4BF6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DBB69-FBA1-4CCF-B2D5-6B8362D4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1C165-6B08-4256-8DF6-8576FD54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B60F5-AFD2-47A1-A644-B25DE5F8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68817-9E5F-4C8D-B495-7F9E7FED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73AA-BCD5-4E28-8BF9-AEFCC1FF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70090D-0EC9-4FCD-B9AD-BC085BBB7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B8E5E5-9BA7-4CDA-BC36-41F5EE4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778952-6F07-4950-8959-2AF66DCB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3BE5A-03A1-4503-B6B7-DD53BC6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FDF-50B0-4A68-BCBB-93F9E9778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CF1890-1AD3-49CE-95A3-695B13EA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2F919-7CDB-4218-A645-C12D8F16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C6D8D-BF0C-4F52-AAF0-77996874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57EE5C-FB80-4045-B237-03DD5452D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E4D6F-2B3F-46D1-A9F7-797B9B72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5D9E-DE87-418C-9F3C-4B47D01EC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0A20-F817-41B0-97BD-8E6C8156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2822-5859-4E26-913B-4FF56351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752B-84DC-4449-8C9D-4DD1BA3D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C5B9-091F-4E56-B923-6DFA36C3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4106-2C54-48F3-B999-1292849DA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AD82-C9E9-4AED-A515-F52EF7D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B388-28D5-45EC-B437-A0755661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F96C-7809-41E9-A5CD-B3DF7E2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2776-065F-4FE7-B2B0-1AD59A94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E0EC-3E9D-4EC9-8F04-EBBEB029A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4B4E-D178-4CDE-A035-B6B60E8FB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DB804-9035-478B-AF0F-25936CB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49826-6BF2-4DFF-B525-346281F7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9EE84-2364-4D6F-A723-8A871073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668A-682D-4EC3-98BB-D9F482F5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9732-19FD-4685-ABD6-1A3BF6F3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53DC3-990F-45BF-83AE-EC3EB9F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14714-93FC-4601-A8FA-E8CC5D6C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8FAF1-7A5E-40FF-8A5D-40999CCC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2AF5C-48F9-422F-8B16-00AD3F6F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00958-986F-43CF-8077-3077F676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8EC8-E592-4CEE-A1FE-8B18AF7B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37B59-C295-41E5-B8F8-ACB4FD1DE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D0D16-0EA4-442F-A6DB-0E5046E0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6E655-D04D-4B86-8015-DB922A3C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43CBC-AE8C-4D4B-9C8B-3FF5534A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2D7D-1141-427D-A3B9-AB54FC67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EA4C-A0A6-4C93-8388-5AD6E3E9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AC77F-9979-4594-B8F6-5B7C93EA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F29C8-8B3B-4A6D-B8FF-B777523F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F276-0E30-4F17-9A7A-3B64E0F0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717B5-20EC-4DF8-AF6B-81ADA0F7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84C54-3DF2-459C-A218-F48A56D5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B8D2-CFFC-4B8E-89E8-FF1C465C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E1663-201F-42D9-B3D7-8AF060FE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5879A-78E1-4890-B5A2-5B274EB1C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A8B5-E705-4C0A-BC2B-38B0F4CA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7D8E-84A5-42AD-8646-B5D34C34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1EF08-0C12-4E19-9549-E04AB2C11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2AD9A-6380-45EC-A05C-79512443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52912-E406-4FFC-A770-0AFF5922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870A0-9AB3-4CE6-BB57-8A3E848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20CD3-F3F4-488A-808A-491118C55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8F087-A589-437D-BCC4-BD7688C3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54C6B-DA18-45B8-B472-B87025E7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A4AA5-9B43-40BC-B78F-C8596FE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90164-123C-419D-8260-904D182B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503C3-D1E3-490D-B40B-0C8873A8B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D80-418E-496A-BF4B-3ADD32C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25E17-78BB-491B-AD1E-07E9FD1F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2197D-6E36-450B-9030-1FB9CCBEC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709A8-CC00-4D0D-B795-E3702485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8776F-4802-4122-B259-08B003BC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745D6-91DC-4B4E-AFDE-DF2D8695C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CFA12-6D54-47AC-9DDF-1F6AD3BE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7BA4C-2BBA-44D1-9EFD-626974B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37C3F7-C338-4F73-A345-62C6E5A0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824D1-4B75-47C1-B8B1-30750E6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6C46C-4419-4B7D-8C19-F51114B2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D46-693F-4218-ABF7-A404413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51FA8-8509-46CE-97C8-65C934A6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A9ED-7397-4217-9150-0372143C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0976-76B1-4DCB-A3CE-1003CB7A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0EE2-3A9D-47C0-8BD4-4F5121984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3C1EAE-35FD-4938-91F3-6F48C68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40206-01F5-4496-BE14-A02F1B69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1805D-E6EE-420E-9E95-5BBD51FE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774B32-0A94-4FF1-8059-669A1175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6F03-BE7D-486E-8C72-7529CA22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66E4C-8C4C-4E9E-844E-FEBC7405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BDBB-CBCD-4D3E-98DA-EABEA08B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672329-2D5D-409C-95F5-93BFE588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2746B-D724-4AB8-8033-061A08E5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DD346-A3B4-4F71-8039-5263A87F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CDD88-CCF3-40F8-946C-23193718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B1C44-2932-4FC1-A25A-B59AF2E2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143A-E5D0-4447-BE4F-8C95FC1E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A55BF-DF04-4211-B76A-A7A2FD0E8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A0A9F-CBD1-473A-90E5-0870164E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7D484-3347-4B62-B167-F11B1B64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43A2B-66B9-4C20-8186-D22A6B2D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0DC-9CBD-494B-AAAF-127812DF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13FAB-F3DA-4897-AB09-0F9B1E8D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C96CE0-CC1E-45FA-92D1-A57C5658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16DCB-2CB8-4C40-982E-C9F55D3B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5C436-F96D-4284-84BA-471C6C02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759E1-E75B-4325-A2AC-D4D5894F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281F4-D720-4F51-86FD-5EF34BBE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A6733-69E8-4D63-9522-396FDD79D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14323-7786-423E-95FE-FA90E2A9E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ADD2EE-405A-4F61-850A-2AF7AF3B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41278-6572-4F5A-8038-9602CC26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0368-33E7-4C9B-AEC1-DAE95826793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2394-46BF-4C44-B4E7-611E23F4654F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90A9-834B-4664-A177-212182E7BE2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3A158-5C12-48D0-8907-8F670068B056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750F-1FB5-4F7E-B405-95E660BC9F9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3A84-BADD-4CFC-8EB0-D644C933598B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D049-2324-4D80-9A53-ADC36A34D415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0E9E-DDA9-47ED-93E8-B6F381E14BE2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6455-65B8-45C7-845A-A4A8125E5330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862F-3F3D-453D-89F3-98D1E6B1C6B3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83F7-5382-42CF-8432-95809D28858E}" type="slidenum">
              <a:rPr b="0" lang="ar-SA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 algn="r" rtl="1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 algn="r" rtl="1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 algn="r" rtl="1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 algn="r" rtl="1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 algn="r" rtl="1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A2D7-D6DA-4C15-A50E-D7C5526DD03A}" type="slidenum">
              <a:rPr b="0" lang="ar-SA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46b86"/>
                </a:solidFill>
                <a:latin typeface="Microsoft Uighur"/>
                <a:cs typeface="Microsoft Uighur"/>
              </a:rPr>
              <a:t>الجزء الرابع:التخطيط التنموي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d16349"/>
                </a:solidFill>
                <a:latin typeface="Microsoft Uighur"/>
                <a:cs typeface="Microsoft Uighur"/>
              </a:rPr>
              <a:t>الإعلام و التنمية</a:t>
            </a:r>
            <a:endParaRPr b="0" lang="en-US" sz="7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رابعاً:تحديد عناصر الاتصال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الأول: المرسل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هو القائم بالإرسال ويشمل التالي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طاقم الإدار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عد الرسال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طاقم الفن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مقد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000" spc="-1" strike="noStrike">
              <a:solidFill>
                <a:srgbClr val="7b9899"/>
              </a:solidFill>
              <a:latin typeface="Microsoft Uighur"/>
              <a:ea typeface="Microsoft Uighur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نياً: المستقبل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في هذه المرحلة يتم تحديد الشريحة المستهدفة من الخطة التنموية،ويتم تحديده وفقاً لنموذج الخطة التنموية الشاملة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يجب تحديد فئتنان رئيسيتان 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شريحة المستهدفة بشكل عا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قادة الرأي داخل هذه الشريح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لثا: تحديد الرسالة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ما هي المعلومات التي سترسلينها في الرسالة؟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ا هو المنطق الإتصالي والحجج الإتصالية للإقناع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ما هو السيناريو المقترح للرسال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رابعاً:تحديد الوسيلة الإتصالية المناسبة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كي تكون الوسيلة مناسبة يشترط أن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ناسب القائم بالاتصال من حيث إمكانياته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ناسب الجمهور المستهد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تناسب الرسالة /المضمون الاتصال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خامساً: تحديد الميزانية المقترحة للخطة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تحدد الميزانية العامة للخطة التنموية ، وذلك بحساب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أجهزة والجوانب التقنية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العاملي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تكلفة النش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أخر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سادساً:تحديد المدة الزمنية للخطة:</a:t>
            </a:r>
            <a:br>
              <a:rPr sz="3600"/>
            </a:b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ضع مدى زمني لبداية الوقت ونهايته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سابعاً: وضع الإجراءات التنفيذية عبر وضع الخطة الزمنية</a:t>
            </a:r>
            <a:br>
              <a:rPr sz="3200"/>
            </a:b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عمل جدول بالإجراءات مجدولة بحسب الزمن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مناً:التقييم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تقيم الخطة أثناء تنفيذه ،وتعدل وفقاً للتقييم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 يؤخد التقييم عبر قياس رجع الصدى بعدة طرق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عمل استبانات توضح مدة نجاح الأهداف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قياس الأثر عبر أبحاث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دراسة ردود الأفعال عبر الوسائل التفاعلي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المرحلة الأولى: مرحلة جمع المعلومات</a:t>
            </a:r>
            <a:br>
              <a:rPr sz="4000"/>
            </a:b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نقوم في هذه المرحلة بجمع المعلومات عن المشكلة أو المحور الذي ستوضع الخطة الإعلامية فيه 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و تشمل هذه المعلومات التالي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خطة و الاستراتيجية العامة للدولة و المجتم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عن معلومات تتعلق بحجم المشكلة و تأثيرها على المجتم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مشكلة أو القضية ،أسبابها و آثارها و علاجها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4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فئة المستهدفة من الخطة ، و الوسيلة والرسالة المناسبة لها ومدى تعرفهم على القضية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5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بحث في المنطقة التي يتم استهدافها و العوامل التي تؤثر بها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نياً اختيار نوع الخطة :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نواع الخطط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نقسم الخطط بحسب المدى الزمني إلى 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قصير المدى وهي التي تمتد لشهر أو عدة شهو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متوسط المدى وهي التي تمتد لسنة و في حدود ثلاث سنوات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 طويل المدى وهي التي تمتد لخمس سنوات فأكثر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بحسب نطاق الخطة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خطة رئيسية تشمل كافة أوجه الاتصال التنموي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90000"/>
              </a:lnSpc>
              <a:spcBef>
                <a:spcPts val="700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خطة فرعية تختص بوسيلة معينة،أو منطقة معينة، أو جهود معينة،أو نشاط معين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7b9899"/>
                </a:solidFill>
                <a:latin typeface="Microsoft Uighur"/>
                <a:cs typeface="Microsoft Uighur"/>
              </a:rPr>
              <a:t>ثالثاً:وضع الأهدف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.يحدد المجال ،الفئة المستهدفة ، البيئة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615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616" name="Oval 7"/>
              <p:cNvSpPr/>
              <p:nvPr/>
            </p:nvSpPr>
            <p:spPr>
              <a:xfrm>
                <a:off x="2405160" y="1276200"/>
                <a:ext cx="4319640" cy="43196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7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8" name="Oval 3"/>
              <p:cNvSpPr/>
              <p:nvPr/>
            </p:nvSpPr>
            <p:spPr>
              <a:xfrm>
                <a:off x="3152880" y="1995120"/>
                <a:ext cx="2851200" cy="28814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19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0" name="Oval 4"/>
              <p:cNvSpPr/>
              <p:nvPr/>
            </p:nvSpPr>
            <p:spPr>
              <a:xfrm>
                <a:off x="3728880" y="2600280"/>
                <a:ext cx="1655640" cy="1655640"/>
              </a:xfrm>
              <a:prstGeom prst="ellipse">
                <a:avLst/>
              </a:prstGeom>
              <a:noFill/>
              <a:ln w="11520">
                <a:solidFill>
                  <a:srgbClr val="994733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grpSp>
            <p:nvGrpSpPr>
              <p:cNvPr id="621" name="Group 10"/>
              <p:cNvGrpSpPr/>
              <p:nvPr/>
            </p:nvGrpSpPr>
            <p:grpSpPr>
              <a:xfrm>
                <a:off x="4204080" y="3090600"/>
                <a:ext cx="719640" cy="724320"/>
                <a:chOff x="4204080" y="3090600"/>
                <a:chExt cx="719640" cy="724320"/>
              </a:xfrm>
            </p:grpSpPr>
            <p:sp>
              <p:nvSpPr>
                <p:cNvPr id="622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11520">
                  <a:solidFill>
                    <a:srgbClr val="994733"/>
                  </a:solidFill>
                  <a:prstDash val="sys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  <p:sp>
              <p:nvSpPr>
                <p:cNvPr id="623" name="TextBox 9"/>
                <p:cNvSpPr/>
                <p:nvPr/>
              </p:nvSpPr>
              <p:spPr>
                <a:xfrm>
                  <a:off x="4276080" y="3234240"/>
                  <a:ext cx="5752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Georgia"/>
                  </a:endParaRPr>
                </a:p>
              </p:txBody>
            </p:sp>
          </p:grpSp>
          <p:sp>
            <p:nvSpPr>
              <p:cNvPr id="624" name="Straight Connector 12"/>
              <p:cNvSpPr/>
              <p:nvPr/>
            </p:nvSpPr>
            <p:spPr>
              <a:xfrm>
                <a:off x="3970440" y="2842920"/>
                <a:ext cx="339480" cy="34596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5" name="Straight Connector 13"/>
              <p:cNvSpPr/>
              <p:nvPr/>
            </p:nvSpPr>
            <p:spPr>
              <a:xfrm flipH="1">
                <a:off x="4779720" y="2787480"/>
                <a:ext cx="323640" cy="34740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6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7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8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29" name="Straight Connector 24"/>
              <p:cNvSpPr/>
              <p:nvPr/>
            </p:nvSpPr>
            <p:spPr>
              <a:xfrm flipH="1">
                <a:off x="5067000" y="2374560"/>
                <a:ext cx="453960" cy="42516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0" name="Straight Connector 27"/>
              <p:cNvSpPr/>
              <p:nvPr/>
            </p:nvSpPr>
            <p:spPr>
              <a:xfrm>
                <a:off x="3633840" y="2361960"/>
                <a:ext cx="399960" cy="43812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1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2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3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4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5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6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  <p:sp>
            <p:nvSpPr>
              <p:cNvPr id="637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Georgia"/>
                </a:endParaRPr>
              </a:p>
            </p:txBody>
          </p:sp>
        </p:grpSp>
        <p:sp>
          <p:nvSpPr>
            <p:cNvPr id="638" name="Straight Connector 38"/>
            <p:cNvSpPr/>
            <p:nvPr/>
          </p:nvSpPr>
          <p:spPr>
            <a:xfrm flipH="1">
              <a:off x="5462280" y="1788840"/>
              <a:ext cx="469800" cy="507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39" name="Straight Connector 41"/>
            <p:cNvSpPr/>
            <p:nvPr/>
          </p:nvSpPr>
          <p:spPr>
            <a:xfrm flipH="1">
              <a:off x="5768640" y="2287440"/>
              <a:ext cx="595080" cy="37908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0" name="Straight Connector 43"/>
            <p:cNvSpPr/>
            <p:nvPr/>
          </p:nvSpPr>
          <p:spPr>
            <a:xfrm flipH="1">
              <a:off x="5962320" y="2960640"/>
              <a:ext cx="688680" cy="129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1" name="Straight Connector 45"/>
            <p:cNvSpPr/>
            <p:nvPr/>
          </p:nvSpPr>
          <p:spPr>
            <a:xfrm flipH="1" flipV="1">
              <a:off x="5932080" y="3993840"/>
              <a:ext cx="603000" cy="37764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2" name="Straight Connector 48"/>
            <p:cNvSpPr/>
            <p:nvPr/>
          </p:nvSpPr>
          <p:spPr>
            <a:xfrm>
              <a:off x="4564080" y="1276200"/>
              <a:ext cx="0" cy="718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3" name="Straight Connector 50"/>
            <p:cNvSpPr/>
            <p:nvPr/>
          </p:nvSpPr>
          <p:spPr>
            <a:xfrm>
              <a:off x="3178080" y="1788840"/>
              <a:ext cx="485640" cy="5731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4" name="Straight Connector 52"/>
            <p:cNvSpPr/>
            <p:nvPr/>
          </p:nvSpPr>
          <p:spPr>
            <a:xfrm>
              <a:off x="2476440" y="2960640"/>
              <a:ext cx="701640" cy="1299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5" name="Straight Connector 54"/>
            <p:cNvSpPr/>
            <p:nvPr/>
          </p:nvSpPr>
          <p:spPr>
            <a:xfrm flipV="1">
              <a:off x="2692440" y="4053960"/>
              <a:ext cx="603000" cy="4143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6" name="Straight Connector 56"/>
            <p:cNvSpPr/>
            <p:nvPr/>
          </p:nvSpPr>
          <p:spPr>
            <a:xfrm flipV="1">
              <a:off x="3187800" y="4541760"/>
              <a:ext cx="475920" cy="55080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7" name="Straight Connector 59"/>
            <p:cNvSpPr/>
            <p:nvPr/>
          </p:nvSpPr>
          <p:spPr>
            <a:xfrm flipV="1">
              <a:off x="3865680" y="4816080"/>
              <a:ext cx="274320" cy="664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8" name="Straight Connector 62"/>
            <p:cNvSpPr/>
            <p:nvPr/>
          </p:nvSpPr>
          <p:spPr>
            <a:xfrm flipV="1">
              <a:off x="4707000" y="4876560"/>
              <a:ext cx="0" cy="71892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49" name="Straight Connector 65"/>
            <p:cNvSpPr/>
            <p:nvPr/>
          </p:nvSpPr>
          <p:spPr>
            <a:xfrm flipH="1" flipV="1">
              <a:off x="5043600" y="4792680"/>
              <a:ext cx="444240" cy="5997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0" name="Straight Connector 67"/>
            <p:cNvSpPr/>
            <p:nvPr/>
          </p:nvSpPr>
          <p:spPr>
            <a:xfrm flipH="1" flipV="1">
              <a:off x="5489280" y="4541760"/>
              <a:ext cx="572760" cy="45864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1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2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3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4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5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6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7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8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59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0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1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2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3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4" name="Straight Connector 107"/>
            <p:cNvSpPr/>
            <p:nvPr/>
          </p:nvSpPr>
          <p:spPr>
            <a:xfrm flipH="1" flipV="1">
              <a:off x="6000840" y="3552480"/>
              <a:ext cx="698400" cy="144360"/>
            </a:xfrm>
            <a:prstGeom prst="line">
              <a:avLst/>
            </a:prstGeom>
            <a:ln w="28440">
              <a:solidFill>
                <a:srgbClr val="d163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665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  <p:sp>
        <p:nvSpPr>
          <p:cNvPr id="666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9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4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2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6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d163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ب.أهداف الإعلام التنموي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ما هي أهدافك من الخطة الإعلامية التي تودين إقامتها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+ تتنوع الأهداف لتكون كالتالي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أولاً: للأفراد(الأهداف الخاصة)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هي الأهداف الخاصة بتنمية الأفراد وتطويرهم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زويد أفراد المجتمع بالمعرفة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وتقديم المعلومات 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التي تسهم في التنمية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مساعدة الأفراد على اكتشاف الفرص و المجالات و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تحفيزهم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لاستغلالها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ثقيف الأفراد وتوعيتهم بما يدور حولهم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من أفكار و مستحدثات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على الصعيد المحلي والدولي في هذه القضية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buClr>
                <a:srgbClr val="d16349"/>
              </a:buClr>
              <a:buSzPct val="85000"/>
              <a:buFont typeface="Microsoft Uighur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نمية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الإمكانيات الاقتصادية 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في هذا المجال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إتاحة الفرصة لأفراد المجتمع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لاكتشاف مواهبهم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6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الاهتمام </a:t>
            </a:r>
            <a:r>
              <a:rPr b="0" lang="ar-SA" sz="3200" spc="-1" strike="noStrike" u="sng">
                <a:solidFill>
                  <a:srgbClr val="000000"/>
                </a:solidFill>
                <a:uFillTx/>
                <a:latin typeface="Microsoft Uighur"/>
                <a:cs typeface="Microsoft Uighur"/>
              </a:rPr>
              <a:t>بتحسين</a:t>
            </a:r>
            <a:r>
              <a:rPr b="0" lang="ar-SA" sz="32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 الأحوال العامة واتباع الطرق الصحيحة في هذا المجال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ثانياُ: الأهداف للمجتمع(الأهداف الأساسية)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هي الأهداف الخاصة بتطوير المجتمع وتنميته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ج.علاقتها بأهداف التنمية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Microsoft Uighur"/>
                <a:cs typeface="Microsoft Uighur"/>
              </a:rPr>
              <a:t>حددي الأهداف التنموية في الخطة التاسعة و التي لها علاقة بالقضية الإعلامية التي تطرحينها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7T06:40:31Z</dcterms:created>
  <dc:creator>LoLo</dc:creator>
  <dc:description/>
  <dc:language>en-US</dc:language>
  <cp:lastModifiedBy>LoLo</cp:lastModifiedBy>
  <dcterms:modified xsi:type="dcterms:W3CDTF">2012-05-12T07:21:32Z</dcterms:modified>
  <cp:revision>21</cp:revision>
  <dc:subject/>
  <dc:title>PowerPoint Presentation</dc:title>
</cp:coreProperties>
</file>