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A358-3752-4619-9A31-6A8DD1F33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2D73-8A7F-468B-B658-58312F6E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5F9155-00DF-4128-949A-71A921C7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BF2FC9-DE0B-4C68-8561-A35BA8B0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23A354-92A3-4D70-B87A-0AB4F12A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EBA046-601E-4D86-A555-085A890E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A50775-8A4F-4DDD-B729-AF5BF133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D9E6AD-9A26-4DF6-BD28-6593FD0F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4B2439-79F9-441B-9E87-2EDE7C58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14AE81-393C-44A2-8CF8-0386182B9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D6F8B4-72DD-4E19-9995-6C32A68E1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33C66E-6038-4CA0-81EB-8DD50C071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CF89-BC8A-4547-A839-4BC4401D3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BFC845-CD7C-478A-8FE1-712A9B0E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8A64D6-BDF1-4E67-B2EF-CB78735D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B7385D-E562-4302-8D38-B87D3E63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402733-874E-460E-913C-A00567B8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92EE4B-94EC-4C31-92C5-81171598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B50D84-9BE7-4BA0-B74A-E10D2601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CD2023-13E0-4BA9-B4FE-B03EBB5A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9D9121-2AD2-47BA-BF97-1A7BB7DE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E79AC8-146B-407F-9603-67AD3D89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626DF0-C874-471A-86DD-CA87A27C5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1A4C-DEB0-4372-B1FE-A67C41A16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7F3621-20E5-45EB-A1DC-538641469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4B336-BE04-4959-A47D-5CFA8BEDB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CC4CD9-3D3D-4E1C-90BF-7DB5013E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441BF-55BE-4866-AC2C-BAA4EA5A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1DD57-18B4-4759-A7A3-E4342E90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A5884-0978-4DB7-8E78-5E39C948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E444C-FDAC-4BFD-A3CD-1278A3E8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A0A84-8AB4-4698-A225-BD1F0BE2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DFED8-E9E7-496E-8233-09A4D836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AF9BD-E47D-4040-A11A-5B0DF921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4E93-02D7-43E9-85C2-C0278E22B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492A2-6330-48D4-B33A-3A476869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69D9D-028D-43B6-AD33-8F046C009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9AFAE-A4E7-44EF-8205-6FF3A836F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3C8298-B828-4CE1-A4F0-7225D709B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C8495F-9125-4419-A3B9-C51F9ED0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255450-6F4B-45D8-8E18-C91BA554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D6C695-2ED0-4197-B8A1-A6E1AC27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233948-1305-43F2-B653-78449E14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C97588-4EEF-43AB-ACFC-F6A77CDF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96E379-B780-4E55-B08E-27096004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F481-56F5-459D-B241-B1314E71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17FDDF-EBDB-4784-96CE-6165983C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1B766A-B5BD-40A1-A1F4-BF4923E7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4C5FB7-7EA1-4A27-BCB1-480281B7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3A18F2-AE70-4DBD-BF0A-48A0CF9ED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E9BFF8-50F4-491D-AE8A-38402C543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CF072-BD35-4DD7-B100-440E2953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ED9E-53BF-4D0C-9811-ABCE4277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9633-AAFE-4BB3-835F-E57C89AF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7511-50A9-4D5F-8C3A-73278203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C1670-CE97-4FAE-B86B-2D2D213B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8913-E216-481A-82EF-783646E9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0908-2978-4CC6-A0F1-3D549B8C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0A82-190B-438D-BE36-2FA3739E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2683-758F-41DF-99CA-2ADB8916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7C85-3BE2-402C-8D61-7CBDACCB3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8A6D-0275-4995-A826-61FBA8E9D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5A387-2CBE-4FAD-998D-8CA0C9A1A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49D9D-DF75-4A12-B94D-A2CCCC8C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52E60-C0E8-47EF-B252-9E5A6D0C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26198-1E6D-48FB-BA39-34996920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B3E65-5983-40CF-ACB0-86973FE7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115A-09FE-4E1F-8527-2764E523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69EE5-6DF3-48AF-B131-FEDE2F82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6B09D-6829-4E01-B1A8-68B26525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9BD7F-95B2-4B9B-B130-C3083EDA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3C3A6-BDE6-45A7-BCB7-5CA56DA9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A37EE-B0A5-4F3A-89A7-16B907A9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204E1-BC69-4DE0-B060-9A3DBA42A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07348-BF4B-46F2-8608-37074FC67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F73B1-C5A4-4BD4-8C8E-E246E3413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F2BDE-AA34-4414-87DD-1E7DCCAF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2DE48-4D43-4935-9FD5-3B16F447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D4C0-6510-4EDC-9B15-4B85395F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E2E8A-BE6C-4347-8549-1681823C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B6269-1FDA-4C6B-99D2-4D0B4E25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8D31C-C69A-4B77-8CC8-84FC40CE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A4943-51AE-4342-94B8-F5D54D5F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7DBAF-B631-4824-A858-3C71D46C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561A6-C859-41B0-86B0-C8478DF5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A589C-67E4-4764-832D-06EBC52D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13E1F-ECB9-4AD6-B3DB-27276B832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8CE25-40A7-4302-A051-5135E2F80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375A7-22CB-45DE-9162-FC97974CF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9EF6-4434-45A7-8321-82C87543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15518-4FA0-410F-93B9-9998EF78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67FC9-AC8F-4CA8-BE5C-7234F1B7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AF616-CDDD-47E5-8CED-E90148B4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3C06B-C396-414E-A368-F1962A24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B428E-3CAB-4ACE-9B03-774C29F0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289AE-0618-4F38-B9B6-02E3665B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D3FE1-A748-4791-A5C3-10AB59CE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71BA3-79AC-420A-A8A9-D38D23B4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6CCB1-2474-4A21-9715-13EF9B7D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E1C6F-C209-43D7-9F0D-A5F256910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ACE5-FE9D-46BF-9A18-D187D8CA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27ABF-0DE5-49A2-BC56-05563BDF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9531E-E79C-43C8-8BA7-030FF4064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6BC49-42C0-4B1D-B066-FF263E5A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F9CF1-D6BE-41AA-8C11-C7E1AB3E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131EF-2A72-43CF-9221-A2615FD4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5D05E-2596-4526-849D-C4ED171D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EFA27-6355-43B6-820A-04003937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EBBD7-FC11-40CE-A5A0-C1B275E2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E0215-FC7F-4D71-87E2-7F66A039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D80F4-3A4F-45F9-9C8D-E4F6A666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9B9F-E4FA-4AB2-A56D-76B33DB5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74363-14A1-44D0-855A-807657C3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354C3-D6D2-40ED-B149-590E667F8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127F8-F975-41C4-8A5C-163E456BB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2E0D7-4EAE-4730-B9C8-05A93CD39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D1EEA-3C9C-47CB-AB9F-89D7D90B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11F42-93E7-4AE6-9B66-77BAFE3D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7A1BA-27D1-4247-B100-0D13EE41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60ED1-554B-44E1-830E-680B316C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F3887-55A8-479C-98A1-483F418A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EF007-62C7-4562-9FAA-5F95BA81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51D0-2941-4AA7-9C0C-74E86BDD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165D8-C38B-46B8-ACEA-ED9F8FC0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6F2FD-614F-4D92-8FDC-50C04773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452E0-E621-4D7A-B610-A9A77B29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F9C08-1B69-4556-9632-D46405A07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F1005-9950-48DB-80C1-D5E6A8B5E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9AEB3-B284-42F9-B078-7CCC5BB0D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8B9E3-AFB1-4158-AA86-6C446989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83A40-5390-4743-B7D0-72A203DA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5AB8F-5946-47D7-A844-1C0D317D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DCF44-28CB-4C43-A455-FE1442F5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5D07-9F35-4383-A226-23258F59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1EDB1-F0F3-4841-AD45-994D5702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AE096-3FCC-4B99-BB47-22FEA669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4F889-2589-4A35-96A6-F8FB63C4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5792A-8B6F-4A7B-B25B-DE56AB36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70E21-A9B5-455C-95A5-6EDEA538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F5C6D-6AF2-4123-91C6-E4378EF7A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B982A-D392-42CA-8D23-F68B28C31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0E3F3C-4AD1-4EE3-9206-93B9DE1F3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75CDE0-2FA7-4C59-B212-537ED75E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4F0915-17D2-45C4-ABE9-9AC45361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C03E-D3D1-431A-AF38-EA3A3A267601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B66E-ADCE-472C-9B45-760823A6B507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28E8-CD99-43BE-8877-9970718461DE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DF7F-51AE-4C10-82AE-A7A30CEF4799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9FFC-7827-4BFC-BF54-B42693422401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4989-3FFC-41A4-B759-939DE9A6B217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2888-A506-43EA-9480-93A73896DD63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DA0F-9D16-4B70-AB3A-FEA7148BC5FF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86E1-C126-4874-BAB7-B3A482CE9195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AE0B-61E8-4B8D-8165-FC5767785559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6A89-01E7-4B91-AA6C-912F118BBF43}" type="slidenum"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6F0B-5F40-46AD-A9F4-B2B9B24A689B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46b86"/>
                </a:solidFill>
                <a:latin typeface="Microsoft Uighur"/>
                <a:cs typeface="Microsoft Uighur"/>
              </a:rPr>
              <a:t>الجزء الرابع:التخطيط التنموي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d16349"/>
                </a:solidFill>
                <a:latin typeface="Microsoft Uighur"/>
                <a:cs typeface="Microsoft Uighur"/>
              </a:rPr>
              <a:t>الإعلام و التنمية</a:t>
            </a:r>
            <a:endParaRPr b="0" lang="en-US" sz="7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7b9899"/>
                </a:solidFill>
                <a:latin typeface="Microsoft Uighur"/>
                <a:cs typeface="Microsoft Uighur"/>
              </a:rPr>
              <a:t>رابعاً:تحديد عناصر الاتصال: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cs typeface="Microsoft Uighur"/>
              </a:rPr>
              <a:t>الأول: المرسل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cs typeface="Microsoft Uighur"/>
              </a:rPr>
              <a:t>وهو القائم بالإرسال ويشمل التالي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-الطاقم الإداري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-معد الرسالة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-الطاقم الفني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-المقدم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7b9899"/>
              </a:solidFill>
              <a:latin typeface="Microsoft Uighur"/>
              <a:ea typeface="Microsoft Uighur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cs typeface="Microsoft Uighur"/>
              </a:rPr>
              <a:t>ثانياً: المستقبل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cs typeface="Microsoft Uighur"/>
              </a:rPr>
              <a:t>في هذه المرحلة يتم تحديد الشريحة المستهدفة من الخطة التنموية،ويتم تحديده وفقاً لنموذج الخطة التنموية الشاملة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cs typeface="Microsoft Uighur"/>
              </a:rPr>
              <a:t>ويجب تحديد فئتنان رئيسيتان 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-الشريحة المستهدفة بشكل عام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-قادة الرأي داخل هذه الشريحة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cs typeface="Microsoft Uighur"/>
              </a:rPr>
              <a:t>ثالثا: تحديد الرسالة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Microsoft Uighu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cs typeface="Microsoft Uighur"/>
              </a:rPr>
              <a:t>ما هي المعلومات التي سترسلينها في الرسالة؟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Microsoft Uighu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-ما هو المنطق الإتصالي والحجج الإتصالية للإقناع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Microsoft Uighu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-ما هو السيناريو المقترح للرسالة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cs typeface="Microsoft Uighur"/>
              </a:rPr>
              <a:t>رابعاً:تحديد الوسيلة الإتصالية المناسبة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cs typeface="Microsoft Uighur"/>
              </a:rPr>
              <a:t>كي تكون الوسيلة مناسبة يشترط أن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-تناسب القائم بالاتصال من حيث إمكانياته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-تناسب الجمهور المستهدف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- تناسب الرسالة /المضمون الاتصالي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b9899"/>
                </a:solidFill>
                <a:latin typeface="Microsoft Uighur"/>
                <a:cs typeface="Microsoft Uighur"/>
              </a:rPr>
              <a:t>خامساً: تحديد الميزانية المقترحة للخطة</a:t>
            </a:r>
            <a:br>
              <a:rPr sz="3200"/>
            </a:b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Microsoft Uighur"/>
                <a:cs typeface="Microsoft Uighur"/>
              </a:rPr>
              <a:t>تحدد الميزانية العامة للخطة التنموية ، وذلك بحساب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-الأجهزة والجوانب التقنية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-العاملين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-تكلفة النشر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-أخرى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7b9899"/>
                </a:solidFill>
                <a:latin typeface="Microsoft Uighur"/>
                <a:cs typeface="Microsoft Uighur"/>
              </a:rPr>
              <a:t>سادساً:تحديد المدة الزمنية للخطة:</a:t>
            </a:r>
            <a:br>
              <a:rPr sz="3600"/>
            </a:b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cs typeface="Microsoft Uighur"/>
              </a:rPr>
              <a:t>وضع مدى زمني لبداية الوقت ونهايته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b9899"/>
                </a:solidFill>
                <a:latin typeface="Microsoft Uighur"/>
                <a:cs typeface="Microsoft Uighur"/>
              </a:rPr>
              <a:t>سابعاً: وضع الإجراءات التنفيذية عبر وضع الخطة الزمنية</a:t>
            </a:r>
            <a:br>
              <a:rPr sz="3200"/>
            </a:b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Microsoft Uighur"/>
                <a:cs typeface="Microsoft Uighur"/>
              </a:rPr>
              <a:t>عمل جدول بالإجراءات مجدولة بحسب الزمن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7b9899"/>
                </a:solidFill>
                <a:latin typeface="Microsoft Uighur"/>
                <a:cs typeface="Microsoft Uighur"/>
              </a:rPr>
              <a:t>ثامناً:التقييم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cs typeface="Microsoft Uighur"/>
              </a:rPr>
              <a:t>تقيم الخطة أثناء تنفيذه ،وتعدل وفقاً للتقييم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cs typeface="Microsoft Uighur"/>
              </a:rPr>
              <a:t>و يؤخد التقييم عبر قياس رجع الصدى بعدة طرق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.عمل استبانات توضح مدة نجاح الأهداف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.قياس الأثر عبر أبحاث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.دراسة ردود الأفعال عبر الوسائل التفاعلية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7b9899"/>
                </a:solidFill>
                <a:latin typeface="Microsoft Uighur"/>
                <a:cs typeface="Microsoft Uighur"/>
              </a:rPr>
              <a:t>المرحلة الأولى: مرحلة جمع المعلومات</a:t>
            </a:r>
            <a:br>
              <a:rPr sz="4000"/>
            </a:b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Microsoft Uighur"/>
                <a:cs typeface="Microsoft Uighur"/>
              </a:rPr>
              <a:t>نقوم في هذه المرحلة بجمع المعلومات عن المشكلة أو المحور الذي ستوضع الخطة الإعلامية فيه 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Microsoft Uighur"/>
                <a:cs typeface="Microsoft Uighur"/>
              </a:rPr>
              <a:t>و تشمل هذه المعلومات التالي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.الخطة و الاستراتيجية العامة للدولة و المجتم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.البحث عن معلومات تتعلق بحجم المشكلة و تأثيرها على المجتم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.البحث في المشكلة أو القضية ،أسبابها و آثارها و علاجها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.البحث في الفئة المستهدفة من الخطة ، و الوسيلة والرسالة المناسبة لها ومدى تعرفهم على القضية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5</a:t>
            </a: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.البحث في المنطقة التي يتم استهدافها و العوامل التي تؤثر بها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7b9899"/>
                </a:solidFill>
                <a:latin typeface="Microsoft Uighur"/>
                <a:cs typeface="Microsoft Uighur"/>
              </a:rPr>
              <a:t>ثانياً اختيار نوع الخطة :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Microsoft Uighur"/>
                <a:cs typeface="Microsoft Uighur"/>
              </a:rPr>
              <a:t>أنواع الخطط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.تنقسم الخطط بحسب المدى الزمني إلى 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Microsoft Uighu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- قصير المدى وهي التي تمتد لشهر أو عدة شهور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Microsoft Uighu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- متوسط المدى وهي التي تمتد لسنة و في حدود ثلاث سنوات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Microsoft Uighu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- طويل المدى وهي التي تمتد لخمس سنوات فأكثر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Microsoft Uighu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Microsoft Uighu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.بحسب نطاق الخطة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Microsoft Uighu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-خطة رئيسية تشمل كافة أوجه الاتصال التنموي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Microsoft Uighu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-خطة فرعية تختص بوسيلة معينة،أو منطقة معينة، أو جهود معينة،أو نشاط معين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7b9899"/>
                </a:solidFill>
                <a:latin typeface="Microsoft Uighur"/>
                <a:cs typeface="Microsoft Uighur"/>
              </a:rPr>
              <a:t>ثالثاً:وضع الأهدف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Microsoft Uighur"/>
                <a:cs typeface="Microsoft Uighur"/>
              </a:rPr>
              <a:t>أ.يحدد المجال ،الفئة المستهدفة ، البيئة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Group 111"/>
          <p:cNvGrpSpPr/>
          <p:nvPr/>
        </p:nvGrpSpPr>
        <p:grpSpPr>
          <a:xfrm>
            <a:off x="1684440" y="555480"/>
            <a:ext cx="5759280" cy="5761080"/>
            <a:chOff x="1684440" y="555480"/>
            <a:chExt cx="5759280" cy="5761080"/>
          </a:xfrm>
        </p:grpSpPr>
        <p:grpSp>
          <p:nvGrpSpPr>
            <p:cNvPr id="615" name="Group 37"/>
            <p:cNvGrpSpPr/>
            <p:nvPr/>
          </p:nvGrpSpPr>
          <p:grpSpPr>
            <a:xfrm>
              <a:off x="1684440" y="555480"/>
              <a:ext cx="5759280" cy="5761080"/>
              <a:chOff x="1684440" y="555480"/>
              <a:chExt cx="5759280" cy="5761080"/>
            </a:xfrm>
          </p:grpSpPr>
          <p:sp>
            <p:nvSpPr>
              <p:cNvPr id="616" name="Oval 7"/>
              <p:cNvSpPr/>
              <p:nvPr/>
            </p:nvSpPr>
            <p:spPr>
              <a:xfrm>
                <a:off x="2405160" y="1276200"/>
                <a:ext cx="4319640" cy="4319640"/>
              </a:xfrm>
              <a:prstGeom prst="ellipse">
                <a:avLst/>
              </a:prstGeom>
              <a:noFill/>
              <a:ln w="11520">
                <a:solidFill>
                  <a:srgbClr val="994733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617" name="Oval 8"/>
              <p:cNvSpPr/>
              <p:nvPr/>
            </p:nvSpPr>
            <p:spPr>
              <a:xfrm>
                <a:off x="1684440" y="555480"/>
                <a:ext cx="5759280" cy="5761080"/>
              </a:xfrm>
              <a:prstGeom prst="ellipse">
                <a:avLst/>
              </a:prstGeom>
              <a:noFill/>
              <a:ln w="11520">
                <a:solidFill>
                  <a:srgbClr val="994733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618" name="Oval 3"/>
              <p:cNvSpPr/>
              <p:nvPr/>
            </p:nvSpPr>
            <p:spPr>
              <a:xfrm>
                <a:off x="3152880" y="1995120"/>
                <a:ext cx="2851200" cy="2881440"/>
              </a:xfrm>
              <a:prstGeom prst="ellipse">
                <a:avLst/>
              </a:prstGeom>
              <a:noFill/>
              <a:ln w="11520">
                <a:solidFill>
                  <a:srgbClr val="994733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619" name="TextBox 19"/>
              <p:cNvSpPr/>
              <p:nvPr/>
            </p:nvSpPr>
            <p:spPr>
              <a:xfrm>
                <a:off x="3988080" y="2665440"/>
                <a:ext cx="1007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بعد البيئي</a:t>
                </a:r>
                <a:endParaRPr b="0" lang="en-US" sz="16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620" name="Oval 4"/>
              <p:cNvSpPr/>
              <p:nvPr/>
            </p:nvSpPr>
            <p:spPr>
              <a:xfrm>
                <a:off x="3728880" y="2600280"/>
                <a:ext cx="1655640" cy="1655640"/>
              </a:xfrm>
              <a:prstGeom prst="ellipse">
                <a:avLst/>
              </a:prstGeom>
              <a:noFill/>
              <a:ln w="11520">
                <a:solidFill>
                  <a:srgbClr val="994733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grpSp>
            <p:nvGrpSpPr>
              <p:cNvPr id="621" name="Group 10"/>
              <p:cNvGrpSpPr/>
              <p:nvPr/>
            </p:nvGrpSpPr>
            <p:grpSpPr>
              <a:xfrm>
                <a:off x="4204080" y="3090600"/>
                <a:ext cx="719640" cy="724320"/>
                <a:chOff x="4204080" y="3090600"/>
                <a:chExt cx="719640" cy="724320"/>
              </a:xfrm>
            </p:grpSpPr>
            <p:sp>
              <p:nvSpPr>
                <p:cNvPr id="622" name="Oval 6"/>
                <p:cNvSpPr/>
                <p:nvPr/>
              </p:nvSpPr>
              <p:spPr>
                <a:xfrm>
                  <a:off x="4204080" y="3090600"/>
                  <a:ext cx="719640" cy="673200"/>
                </a:xfrm>
                <a:prstGeom prst="ellipse">
                  <a:avLst/>
                </a:prstGeom>
                <a:noFill/>
                <a:ln w="11520">
                  <a:solidFill>
                    <a:srgbClr val="994733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sp>
              <p:nvSpPr>
                <p:cNvPr id="623" name="TextBox 9"/>
                <p:cNvSpPr/>
                <p:nvPr/>
              </p:nvSpPr>
              <p:spPr>
                <a:xfrm>
                  <a:off x="4276080" y="3234240"/>
                  <a:ext cx="57528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600" spc="-1" strike="noStrike">
                      <a:solidFill>
                        <a:srgbClr val="000000"/>
                      </a:solidFill>
                      <a:latin typeface="Calibri"/>
                      <a:cs typeface="Arial"/>
                    </a:rPr>
                    <a:t>التنمية</a:t>
                  </a:r>
                  <a:endParaRPr b="0" lang="en-US" sz="16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</p:grpSp>
          <p:sp>
            <p:nvSpPr>
              <p:cNvPr id="624" name="Straight Connector 12"/>
              <p:cNvSpPr/>
              <p:nvPr/>
            </p:nvSpPr>
            <p:spPr>
              <a:xfrm>
                <a:off x="3970440" y="2842920"/>
                <a:ext cx="339480" cy="345960"/>
              </a:xfrm>
              <a:prstGeom prst="line">
                <a:avLst/>
              </a:prstGeom>
              <a:ln w="28440">
                <a:solidFill>
                  <a:srgbClr val="d163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625" name="Straight Connector 13"/>
              <p:cNvSpPr/>
              <p:nvPr/>
            </p:nvSpPr>
            <p:spPr>
              <a:xfrm flipH="1">
                <a:off x="4779720" y="2787480"/>
                <a:ext cx="323640" cy="347400"/>
              </a:xfrm>
              <a:prstGeom prst="line">
                <a:avLst/>
              </a:prstGeom>
              <a:ln w="28440">
                <a:solidFill>
                  <a:srgbClr val="d163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626" name="TextBox 20"/>
              <p:cNvSpPr/>
              <p:nvPr/>
            </p:nvSpPr>
            <p:spPr>
              <a:xfrm rot="16200000">
                <a:off x="5458320" y="3201840"/>
                <a:ext cx="6638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بادية</a:t>
                </a:r>
                <a:endParaRPr b="0" lang="en-US" sz="16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627" name="TextBox 21"/>
              <p:cNvSpPr/>
              <p:nvPr/>
            </p:nvSpPr>
            <p:spPr>
              <a:xfrm>
                <a:off x="4242240" y="4372200"/>
                <a:ext cx="638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مدينة</a:t>
                </a:r>
                <a:endParaRPr b="0" lang="en-US" sz="16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628" name="TextBox 22"/>
              <p:cNvSpPr/>
              <p:nvPr/>
            </p:nvSpPr>
            <p:spPr>
              <a:xfrm rot="5400000">
                <a:off x="3011040" y="3063240"/>
                <a:ext cx="6638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ريف</a:t>
                </a:r>
                <a:endParaRPr b="0" lang="en-US" sz="16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629" name="Straight Connector 24"/>
              <p:cNvSpPr/>
              <p:nvPr/>
            </p:nvSpPr>
            <p:spPr>
              <a:xfrm flipH="1">
                <a:off x="5067000" y="2374560"/>
                <a:ext cx="453960" cy="425160"/>
              </a:xfrm>
              <a:prstGeom prst="line">
                <a:avLst/>
              </a:prstGeom>
              <a:ln w="28440">
                <a:solidFill>
                  <a:srgbClr val="d163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630" name="Straight Connector 27"/>
              <p:cNvSpPr/>
              <p:nvPr/>
            </p:nvSpPr>
            <p:spPr>
              <a:xfrm>
                <a:off x="3633840" y="2361960"/>
                <a:ext cx="399960" cy="438120"/>
              </a:xfrm>
              <a:prstGeom prst="line">
                <a:avLst/>
              </a:prstGeom>
              <a:ln w="28440">
                <a:solidFill>
                  <a:srgbClr val="d163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631" name="TextBox 29"/>
              <p:cNvSpPr/>
              <p:nvPr/>
            </p:nvSpPr>
            <p:spPr>
              <a:xfrm>
                <a:off x="4060080" y="1995840"/>
                <a:ext cx="1007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بعد الحضري</a:t>
                </a:r>
                <a:endParaRPr b="0" lang="en-US" sz="16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632" name="TextBox 30"/>
              <p:cNvSpPr/>
              <p:nvPr/>
            </p:nvSpPr>
            <p:spPr>
              <a:xfrm rot="14784600">
                <a:off x="4892760" y="2865600"/>
                <a:ext cx="789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ظروف</a:t>
                </a:r>
                <a:endParaRPr b="0" lang="en-US" sz="1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633" name="TextBox 31"/>
              <p:cNvSpPr/>
              <p:nvPr/>
            </p:nvSpPr>
            <p:spPr>
              <a:xfrm rot="16925400">
                <a:off x="4777560" y="351792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سياسية</a:t>
                </a:r>
                <a:endParaRPr b="0" lang="en-US" sz="1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634" name="TextBox 32"/>
              <p:cNvSpPr/>
              <p:nvPr/>
            </p:nvSpPr>
            <p:spPr>
              <a:xfrm rot="1444800">
                <a:off x="3719880" y="3840480"/>
                <a:ext cx="990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والحضارية</a:t>
                </a:r>
                <a:endParaRPr b="0" lang="en-US" sz="1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635" name="TextBox 33"/>
              <p:cNvSpPr/>
              <p:nvPr/>
            </p:nvSpPr>
            <p:spPr>
              <a:xfrm rot="19668600">
                <a:off x="4323240" y="3900240"/>
                <a:ext cx="1020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والاقتصادية</a:t>
                </a:r>
                <a:endParaRPr b="0" lang="en-US" sz="1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636" name="TextBox 34"/>
              <p:cNvSpPr/>
              <p:nvPr/>
            </p:nvSpPr>
            <p:spPr>
              <a:xfrm rot="3928800">
                <a:off x="3427920" y="33393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داخليا</a:t>
                </a:r>
                <a:endParaRPr b="0" lang="en-US" sz="1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637" name="TextBox 35"/>
              <p:cNvSpPr/>
              <p:nvPr/>
            </p:nvSpPr>
            <p:spPr>
              <a:xfrm rot="6194400">
                <a:off x="3528720" y="295092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وخارجيا</a:t>
                </a:r>
                <a:endParaRPr b="0" lang="en-US" sz="1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sp>
          <p:nvSpPr>
            <p:cNvPr id="638" name="Straight Connector 38"/>
            <p:cNvSpPr/>
            <p:nvPr/>
          </p:nvSpPr>
          <p:spPr>
            <a:xfrm flipH="1">
              <a:off x="5462280" y="1788840"/>
              <a:ext cx="469800" cy="507960"/>
            </a:xfrm>
            <a:prstGeom prst="line">
              <a:avLst/>
            </a:prstGeom>
            <a:ln w="2844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39" name="Straight Connector 41"/>
            <p:cNvSpPr/>
            <p:nvPr/>
          </p:nvSpPr>
          <p:spPr>
            <a:xfrm flipH="1">
              <a:off x="5768640" y="2287440"/>
              <a:ext cx="595080" cy="379080"/>
            </a:xfrm>
            <a:prstGeom prst="line">
              <a:avLst/>
            </a:prstGeom>
            <a:ln w="2844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40" name="Straight Connector 43"/>
            <p:cNvSpPr/>
            <p:nvPr/>
          </p:nvSpPr>
          <p:spPr>
            <a:xfrm flipH="1">
              <a:off x="5962320" y="2960640"/>
              <a:ext cx="688680" cy="129960"/>
            </a:xfrm>
            <a:prstGeom prst="line">
              <a:avLst/>
            </a:prstGeom>
            <a:ln w="2844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41" name="Straight Connector 45"/>
            <p:cNvSpPr/>
            <p:nvPr/>
          </p:nvSpPr>
          <p:spPr>
            <a:xfrm flipH="1" flipV="1">
              <a:off x="5932080" y="3993840"/>
              <a:ext cx="603000" cy="377640"/>
            </a:xfrm>
            <a:prstGeom prst="line">
              <a:avLst/>
            </a:prstGeom>
            <a:ln w="2844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42" name="Straight Connector 48"/>
            <p:cNvSpPr/>
            <p:nvPr/>
          </p:nvSpPr>
          <p:spPr>
            <a:xfrm>
              <a:off x="4564080" y="1276200"/>
              <a:ext cx="0" cy="718920"/>
            </a:xfrm>
            <a:prstGeom prst="line">
              <a:avLst/>
            </a:prstGeom>
            <a:ln w="2844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43" name="Straight Connector 50"/>
            <p:cNvSpPr/>
            <p:nvPr/>
          </p:nvSpPr>
          <p:spPr>
            <a:xfrm>
              <a:off x="3178080" y="1788840"/>
              <a:ext cx="485640" cy="573120"/>
            </a:xfrm>
            <a:prstGeom prst="line">
              <a:avLst/>
            </a:prstGeom>
            <a:ln w="2844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44" name="Straight Connector 52"/>
            <p:cNvSpPr/>
            <p:nvPr/>
          </p:nvSpPr>
          <p:spPr>
            <a:xfrm>
              <a:off x="2476440" y="2960640"/>
              <a:ext cx="701640" cy="129960"/>
            </a:xfrm>
            <a:prstGeom prst="line">
              <a:avLst/>
            </a:prstGeom>
            <a:ln w="2844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45" name="Straight Connector 54"/>
            <p:cNvSpPr/>
            <p:nvPr/>
          </p:nvSpPr>
          <p:spPr>
            <a:xfrm flipV="1">
              <a:off x="2692440" y="4053960"/>
              <a:ext cx="603000" cy="414360"/>
            </a:xfrm>
            <a:prstGeom prst="line">
              <a:avLst/>
            </a:prstGeom>
            <a:ln w="2844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46" name="Straight Connector 56"/>
            <p:cNvSpPr/>
            <p:nvPr/>
          </p:nvSpPr>
          <p:spPr>
            <a:xfrm flipV="1">
              <a:off x="3187800" y="4541760"/>
              <a:ext cx="475920" cy="550800"/>
            </a:xfrm>
            <a:prstGeom prst="line">
              <a:avLst/>
            </a:prstGeom>
            <a:ln w="2844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47" name="Straight Connector 59"/>
            <p:cNvSpPr/>
            <p:nvPr/>
          </p:nvSpPr>
          <p:spPr>
            <a:xfrm flipV="1">
              <a:off x="3865680" y="4816080"/>
              <a:ext cx="274320" cy="664920"/>
            </a:xfrm>
            <a:prstGeom prst="line">
              <a:avLst/>
            </a:prstGeom>
            <a:ln w="2844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48" name="Straight Connector 62"/>
            <p:cNvSpPr/>
            <p:nvPr/>
          </p:nvSpPr>
          <p:spPr>
            <a:xfrm flipV="1">
              <a:off x="4707000" y="4876560"/>
              <a:ext cx="0" cy="718920"/>
            </a:xfrm>
            <a:prstGeom prst="line">
              <a:avLst/>
            </a:prstGeom>
            <a:ln w="2844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49" name="Straight Connector 65"/>
            <p:cNvSpPr/>
            <p:nvPr/>
          </p:nvSpPr>
          <p:spPr>
            <a:xfrm flipH="1" flipV="1">
              <a:off x="5043600" y="4792680"/>
              <a:ext cx="444240" cy="599760"/>
            </a:xfrm>
            <a:prstGeom prst="line">
              <a:avLst/>
            </a:prstGeom>
            <a:ln w="2844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50" name="Straight Connector 67"/>
            <p:cNvSpPr/>
            <p:nvPr/>
          </p:nvSpPr>
          <p:spPr>
            <a:xfrm flipH="1" flipV="1">
              <a:off x="5489280" y="4541760"/>
              <a:ext cx="572760" cy="458640"/>
            </a:xfrm>
            <a:prstGeom prst="line">
              <a:avLst/>
            </a:prstGeom>
            <a:ln w="2844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51" name="TextBox 70"/>
            <p:cNvSpPr/>
            <p:nvPr/>
          </p:nvSpPr>
          <p:spPr>
            <a:xfrm rot="1146600">
              <a:off x="4330800" y="1488600"/>
              <a:ext cx="1400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قطاعات التنمية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52" name="TextBox 73"/>
            <p:cNvSpPr/>
            <p:nvPr/>
          </p:nvSpPr>
          <p:spPr>
            <a:xfrm rot="20103000">
              <a:off x="3176640" y="1528920"/>
              <a:ext cx="1400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جمهور العام الوطني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53" name="TextBox 74"/>
            <p:cNvSpPr/>
            <p:nvPr/>
          </p:nvSpPr>
          <p:spPr>
            <a:xfrm rot="17998200">
              <a:off x="2251080" y="2312640"/>
              <a:ext cx="1400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جمهور العام المحلي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54" name="TextBox 79"/>
            <p:cNvSpPr/>
            <p:nvPr/>
          </p:nvSpPr>
          <p:spPr>
            <a:xfrm rot="15878400">
              <a:off x="2250360" y="3320280"/>
              <a:ext cx="1400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رجال المعارضة السياسية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55" name="TextBox 82"/>
            <p:cNvSpPr/>
            <p:nvPr/>
          </p:nvSpPr>
          <p:spPr>
            <a:xfrm rot="2886600">
              <a:off x="2420280" y="4407840"/>
              <a:ext cx="97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سياسيون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56" name="TextBox 86"/>
            <p:cNvSpPr/>
            <p:nvPr/>
          </p:nvSpPr>
          <p:spPr>
            <a:xfrm rot="1873200">
              <a:off x="3007440" y="4889880"/>
              <a:ext cx="972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موظفون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57" name="TextBox 87"/>
            <p:cNvSpPr/>
            <p:nvPr/>
          </p:nvSpPr>
          <p:spPr>
            <a:xfrm rot="435000">
              <a:off x="3718080" y="5171400"/>
              <a:ext cx="97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حرفيون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58" name="TextBox 88"/>
            <p:cNvSpPr/>
            <p:nvPr/>
          </p:nvSpPr>
          <p:spPr>
            <a:xfrm rot="21014400">
              <a:off x="4433400" y="5218200"/>
              <a:ext cx="97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فنيون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59" name="TextBox 89"/>
            <p:cNvSpPr/>
            <p:nvPr/>
          </p:nvSpPr>
          <p:spPr>
            <a:xfrm rot="19233000">
              <a:off x="5106240" y="4987440"/>
              <a:ext cx="97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مهنيون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60" name="TextBox 90"/>
            <p:cNvSpPr/>
            <p:nvPr/>
          </p:nvSpPr>
          <p:spPr>
            <a:xfrm rot="18160200">
              <a:off x="5733000" y="4388400"/>
              <a:ext cx="97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مزارعون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61" name="TextBox 91"/>
            <p:cNvSpPr/>
            <p:nvPr/>
          </p:nvSpPr>
          <p:spPr>
            <a:xfrm rot="17163600">
              <a:off x="5937120" y="4041720"/>
              <a:ext cx="97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عمال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62" name="TextBox 92"/>
            <p:cNvSpPr/>
            <p:nvPr/>
          </p:nvSpPr>
          <p:spPr>
            <a:xfrm rot="15943200">
              <a:off x="6007320" y="2985480"/>
              <a:ext cx="97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أطفال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63" name="TextBox 93"/>
            <p:cNvSpPr/>
            <p:nvPr/>
          </p:nvSpPr>
          <p:spPr>
            <a:xfrm rot="13931400">
              <a:off x="5661000" y="2098800"/>
              <a:ext cx="97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مرأة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64" name="Straight Connector 107"/>
            <p:cNvSpPr/>
            <p:nvPr/>
          </p:nvSpPr>
          <p:spPr>
            <a:xfrm flipH="1" flipV="1">
              <a:off x="6000840" y="3552480"/>
              <a:ext cx="698400" cy="144360"/>
            </a:xfrm>
            <a:prstGeom prst="line">
              <a:avLst/>
            </a:prstGeom>
            <a:ln w="2844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65" name="TextBox 109"/>
            <p:cNvSpPr/>
            <p:nvPr/>
          </p:nvSpPr>
          <p:spPr>
            <a:xfrm rot="14863200">
              <a:off x="5967720" y="2680920"/>
              <a:ext cx="97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شباب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666" name="TextBox 112"/>
          <p:cNvSpPr/>
          <p:nvPr/>
        </p:nvSpPr>
        <p:spPr>
          <a:xfrm>
            <a:off x="3900600" y="692280"/>
            <a:ext cx="133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بعد التنموي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TextBox 113"/>
          <p:cNvSpPr/>
          <p:nvPr/>
        </p:nvSpPr>
        <p:spPr>
          <a:xfrm rot="1697400">
            <a:off x="4867200" y="755280"/>
            <a:ext cx="13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بيئية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TextBox 114"/>
          <p:cNvSpPr/>
          <p:nvPr/>
        </p:nvSpPr>
        <p:spPr>
          <a:xfrm rot="2315400">
            <a:off x="5426280" y="115596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ثقافية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9" name="TextBox 115"/>
          <p:cNvSpPr/>
          <p:nvPr/>
        </p:nvSpPr>
        <p:spPr>
          <a:xfrm rot="3280200">
            <a:off x="1696320" y="4583880"/>
            <a:ext cx="13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جتماعية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0" name="TextBox 116"/>
          <p:cNvSpPr/>
          <p:nvPr/>
        </p:nvSpPr>
        <p:spPr>
          <a:xfrm rot="16026600">
            <a:off x="1328040" y="329076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قتصادية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TextBox 117"/>
          <p:cNvSpPr/>
          <p:nvPr/>
        </p:nvSpPr>
        <p:spPr>
          <a:xfrm rot="16964400">
            <a:off x="6454800" y="3760200"/>
            <a:ext cx="13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سياسية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2" name="TextBox 118"/>
          <p:cNvSpPr/>
          <p:nvPr/>
        </p:nvSpPr>
        <p:spPr>
          <a:xfrm rot="17834400">
            <a:off x="1691640" y="199188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ذاتية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3" name="TextBox 119"/>
          <p:cNvSpPr/>
          <p:nvPr/>
        </p:nvSpPr>
        <p:spPr>
          <a:xfrm rot="19416600">
            <a:off x="2530080" y="1084680"/>
            <a:ext cx="133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نمية روحية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4" name="TextBox 120"/>
          <p:cNvSpPr/>
          <p:nvPr/>
        </p:nvSpPr>
        <p:spPr>
          <a:xfrm>
            <a:off x="3986280" y="577836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شريعية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5" name="TextBox 121"/>
          <p:cNvSpPr/>
          <p:nvPr/>
        </p:nvSpPr>
        <p:spPr>
          <a:xfrm rot="3735000">
            <a:off x="6165720" y="191916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كنولوجية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TextBox 122"/>
          <p:cNvSpPr/>
          <p:nvPr/>
        </p:nvSpPr>
        <p:spPr>
          <a:xfrm rot="18352200">
            <a:off x="6025680" y="466884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نفسية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TextBox 124"/>
          <p:cNvSpPr/>
          <p:nvPr/>
        </p:nvSpPr>
        <p:spPr>
          <a:xfrm rot="5400000">
            <a:off x="6464880" y="297072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علمية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8" name="TextBox 125"/>
          <p:cNvSpPr/>
          <p:nvPr/>
        </p:nvSpPr>
        <p:spPr>
          <a:xfrm rot="19645200">
            <a:off x="5271840" y="543240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دارية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9" name="TextBox 126"/>
          <p:cNvSpPr/>
          <p:nvPr/>
        </p:nvSpPr>
        <p:spPr>
          <a:xfrm rot="1888200">
            <a:off x="2519280" y="539280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بشرية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Straight Connector 130"/>
          <p:cNvSpPr/>
          <p:nvPr/>
        </p:nvSpPr>
        <p:spPr>
          <a:xfrm>
            <a:off x="3700440" y="692280"/>
            <a:ext cx="264960" cy="663480"/>
          </a:xfrm>
          <a:prstGeom prst="line">
            <a:avLst/>
          </a:prstGeom>
          <a:ln w="2844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Straight Connector 131"/>
          <p:cNvSpPr/>
          <p:nvPr/>
        </p:nvSpPr>
        <p:spPr>
          <a:xfrm>
            <a:off x="2349360" y="1636560"/>
            <a:ext cx="561960" cy="417600"/>
          </a:xfrm>
          <a:prstGeom prst="line">
            <a:avLst/>
          </a:prstGeom>
          <a:ln w="2844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2" name="Straight Connector 132"/>
          <p:cNvSpPr/>
          <p:nvPr/>
        </p:nvSpPr>
        <p:spPr>
          <a:xfrm flipH="1">
            <a:off x="5109840" y="692280"/>
            <a:ext cx="212760" cy="663480"/>
          </a:xfrm>
          <a:prstGeom prst="line">
            <a:avLst/>
          </a:prstGeom>
          <a:ln w="2844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3" name="Straight Connector 133"/>
          <p:cNvSpPr/>
          <p:nvPr/>
        </p:nvSpPr>
        <p:spPr>
          <a:xfrm flipH="1">
            <a:off x="5592600" y="930240"/>
            <a:ext cx="339840" cy="627120"/>
          </a:xfrm>
          <a:prstGeom prst="line">
            <a:avLst/>
          </a:prstGeom>
          <a:ln w="2844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Straight Connector 144"/>
          <p:cNvSpPr/>
          <p:nvPr/>
        </p:nvSpPr>
        <p:spPr>
          <a:xfrm flipH="1" flipV="1">
            <a:off x="6724440" y="3544560"/>
            <a:ext cx="718920" cy="28440"/>
          </a:xfrm>
          <a:prstGeom prst="line">
            <a:avLst/>
          </a:prstGeom>
          <a:ln w="2844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Straight Connector 145"/>
          <p:cNvSpPr/>
          <p:nvPr/>
        </p:nvSpPr>
        <p:spPr>
          <a:xfrm flipH="1">
            <a:off x="6611400" y="2732040"/>
            <a:ext cx="721080" cy="0"/>
          </a:xfrm>
          <a:prstGeom prst="line">
            <a:avLst/>
          </a:prstGeom>
          <a:ln w="2844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6" name="Straight Connector 146"/>
          <p:cNvSpPr/>
          <p:nvPr/>
        </p:nvSpPr>
        <p:spPr>
          <a:xfrm flipH="1">
            <a:off x="6111360" y="1400040"/>
            <a:ext cx="489240" cy="516240"/>
          </a:xfrm>
          <a:prstGeom prst="line">
            <a:avLst/>
          </a:prstGeom>
          <a:ln w="2844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7" name="Straight Connector 147"/>
          <p:cNvSpPr/>
          <p:nvPr/>
        </p:nvSpPr>
        <p:spPr>
          <a:xfrm flipH="1" flipV="1">
            <a:off x="1763640" y="2835000"/>
            <a:ext cx="712800" cy="127080"/>
          </a:xfrm>
          <a:prstGeom prst="line">
            <a:avLst/>
          </a:prstGeom>
          <a:ln w="2844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Straight Connector 148"/>
          <p:cNvSpPr/>
          <p:nvPr/>
        </p:nvSpPr>
        <p:spPr>
          <a:xfrm flipH="1">
            <a:off x="1816200" y="4113360"/>
            <a:ext cx="696960" cy="166680"/>
          </a:xfrm>
          <a:prstGeom prst="line">
            <a:avLst/>
          </a:prstGeom>
          <a:ln w="2844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9" name="Straight Connector 149"/>
          <p:cNvSpPr/>
          <p:nvPr/>
        </p:nvSpPr>
        <p:spPr>
          <a:xfrm flipH="1">
            <a:off x="2558880" y="4964040"/>
            <a:ext cx="478080" cy="530280"/>
          </a:xfrm>
          <a:prstGeom prst="line">
            <a:avLst/>
          </a:prstGeom>
          <a:ln w="2844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0" name="Straight Connector 158"/>
          <p:cNvSpPr/>
          <p:nvPr/>
        </p:nvSpPr>
        <p:spPr>
          <a:xfrm flipH="1" flipV="1">
            <a:off x="6587640" y="4257360"/>
            <a:ext cx="660600" cy="284040"/>
          </a:xfrm>
          <a:prstGeom prst="line">
            <a:avLst/>
          </a:prstGeom>
          <a:ln w="2844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Straight Connector 159"/>
          <p:cNvSpPr/>
          <p:nvPr/>
        </p:nvSpPr>
        <p:spPr>
          <a:xfrm>
            <a:off x="6091200" y="4964040"/>
            <a:ext cx="509760" cy="509760"/>
          </a:xfrm>
          <a:prstGeom prst="line">
            <a:avLst/>
          </a:prstGeom>
          <a:ln w="2844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Straight Connector 160"/>
          <p:cNvSpPr/>
          <p:nvPr/>
        </p:nvSpPr>
        <p:spPr>
          <a:xfrm>
            <a:off x="5218200" y="5465880"/>
            <a:ext cx="244440" cy="712800"/>
          </a:xfrm>
          <a:prstGeom prst="line">
            <a:avLst/>
          </a:prstGeom>
          <a:ln w="2844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Straight Connector 161"/>
          <p:cNvSpPr/>
          <p:nvPr/>
        </p:nvSpPr>
        <p:spPr>
          <a:xfrm flipH="1">
            <a:off x="3638520" y="5494320"/>
            <a:ext cx="262080" cy="654120"/>
          </a:xfrm>
          <a:prstGeom prst="line">
            <a:avLst/>
          </a:prstGeom>
          <a:ln w="2844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cs typeface="Microsoft Uighur"/>
              </a:rPr>
              <a:t>ب.أهداف الإعلام التنموي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cs typeface="Microsoft Uighur"/>
              </a:rPr>
              <a:t>ما هي أهدافك من الخطة الإعلامية التي تودين إقامتها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+ تتنوع الأهداف لتكون كالتالي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cs typeface="Microsoft Uighur"/>
              </a:rPr>
              <a:t>أولاً: للأفراد(الأهداف الخاصة)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cs typeface="Microsoft Uighur"/>
              </a:rPr>
              <a:t>هي الأهداف الخاصة بتنمية الأفراد وتطويرهم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Microsoft Uighu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.تزويد أفراد المجتمع بالمعرفة 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Microsoft Uighur"/>
                <a:cs typeface="Microsoft Uighur"/>
              </a:rPr>
              <a:t>وتقديم المعلومات </a:t>
            </a:r>
            <a:r>
              <a:rPr b="0" lang="ar-SA" sz="3200" spc="-1" strike="noStrike">
                <a:solidFill>
                  <a:srgbClr val="000000"/>
                </a:solidFill>
                <a:latin typeface="Microsoft Uighur"/>
                <a:cs typeface="Microsoft Uighur"/>
              </a:rPr>
              <a:t>التي تسهم في التنمية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Microsoft Uighu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.مساعدة الأفراد على اكتشاف الفرص و المجالات و 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Microsoft Uighur"/>
                <a:cs typeface="Microsoft Uighur"/>
              </a:rPr>
              <a:t>تحفيزهم</a:t>
            </a: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 لاستغلالها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Microsoft Uighu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.تثقيف الأفراد وتوعيتهم بما يدور حولهم 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Microsoft Uighur"/>
                <a:cs typeface="Microsoft Uighur"/>
              </a:rPr>
              <a:t>من أفكار و مستحدثات</a:t>
            </a: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 على الصعيد المحلي والدولي في هذه القضية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Microsoft Uighu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.تنمية 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Microsoft Uighur"/>
                <a:cs typeface="Microsoft Uighur"/>
              </a:rPr>
              <a:t>الإمكانيات الاقتصادية </a:t>
            </a:r>
            <a:r>
              <a:rPr b="0" lang="ar-SA" sz="3200" spc="-1" strike="noStrike">
                <a:solidFill>
                  <a:srgbClr val="000000"/>
                </a:solidFill>
                <a:latin typeface="Microsoft Uighur"/>
                <a:cs typeface="Microsoft Uighur"/>
              </a:rPr>
              <a:t>في هذا المجال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.إتاحة الفرصة لأفراد المجتمع 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Microsoft Uighur"/>
                <a:cs typeface="Microsoft Uighur"/>
              </a:rPr>
              <a:t>لاكتشاف مواهبهم 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6</a:t>
            </a: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.الاهتمام 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Microsoft Uighur"/>
                <a:cs typeface="Microsoft Uighur"/>
              </a:rPr>
              <a:t>بتحسين</a:t>
            </a: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 الأحوال العامة واتباع الطرق الصحيحة في هذا المجال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cs typeface="Microsoft Uighur"/>
              </a:rPr>
              <a:t>ثانياُ: الأهداف للمجتمع(الأهداف الأساسية)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cs typeface="Microsoft Uighur"/>
              </a:rPr>
              <a:t>هي الأهداف الخاصة بتطوير المجتمع وتنميته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Microsoft Uighur"/>
                <a:cs typeface="Microsoft Uighur"/>
              </a:rPr>
              <a:t>ج.علاقتها بأهداف التنمية: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Microsoft Uighur"/>
                <a:cs typeface="Microsoft Uighur"/>
              </a:rPr>
              <a:t>حددي الأهداف التنموية في الخطة التاسعة و التي لها علاقة بالقضية الإعلامية التي تطرحينها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06:40:31Z</dcterms:created>
  <dc:creator>LoLo</dc:creator>
  <dc:description/>
  <dc:language>en-US</dc:language>
  <cp:lastModifiedBy>LoLo</cp:lastModifiedBy>
  <dcterms:modified xsi:type="dcterms:W3CDTF">2012-05-12T07:21:32Z</dcterms:modified>
  <cp:revision>21</cp:revision>
  <dc:subject/>
  <dc:title>PowerPoint Presentation</dc:title>
</cp:coreProperties>
</file>