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DB15-BD41-43B3-A4A1-19BD04E5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E45-7270-45E4-AE3E-79FC609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F0E-0496-4102-95C8-670C8F98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DA1-5699-41C7-95A0-CD55231B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E2AA-608C-4319-99D2-E78332CE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05B-B67D-4068-9547-A81B26B6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EECD-A69D-45FD-B7C4-289F505F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FD2C-714B-443E-A073-D6083A11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6365-BD70-43AC-9694-5D983F0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F5F7-5FC6-414D-9537-BF2B1DA5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66C7-33EF-4710-AB65-CF912480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3FB-F5B2-43CA-87B2-B7C4F99F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3A3E-ACD2-4AFF-9109-340F871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4CFC-3FA9-4D45-97D3-78173EE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7E06-BB3A-4726-9B1E-827DDDB5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123E-D0E4-4B5D-8C7B-9313B398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CD9E-82C3-4C89-A758-CF701BD4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6036A-0249-4618-B5C3-4442CB11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35969-2896-49CD-8525-81EFBD61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F410A-A112-4A13-B26D-B71E05EB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C07B4-99F9-4D3F-9F36-7EC17BA2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79898-9477-4435-B256-3A28C88C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565-E12D-44F3-BE55-CDB9CB6B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C2142-7DD8-41A1-AED8-32F1C983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02F55E-A5B1-409C-8425-29BBE2B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DE3E5-0947-4D9D-9B7A-C9CA68C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95471-0786-493D-9C57-721EAAD4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B9A77-C6E9-460D-9C31-96DF17F9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31F97-7D26-4683-A6FF-35403BB7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47C7F-5DE0-4901-81EB-F4A41DCE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B42E6A-1782-4082-A170-C195ADB0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2AE47-3CBC-416A-AA0D-1865C206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3BA5B-5183-46F3-B8A6-B6A2FEA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C22-46BB-4D6C-B895-709050A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BEE6B3-2BDC-4115-A17A-969AA92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5C265-90D5-4BD2-89DF-4EAB3CF6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3A38D-596F-4599-B93C-B523E331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9BAAD-09B5-4DBB-BCD7-49C59A6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F149E1-E05B-47ED-A994-B0F8F3F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79D71-75BD-42B4-9EA2-A3C31BA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744F7-12E8-4100-ABA6-84D20E5C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95CE5-A885-4159-8B2C-139DA72F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71E16-28FD-4592-A156-16BC2B39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6C7B2-9521-4C08-A05A-B213C4E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F38-EDAF-481A-BCC4-BB6AD395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5A2BF-7E09-476D-BFB7-E978C947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D8784-E8BE-463B-A479-B7C642BA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3EC8F3-2424-4DF1-9876-92E4A496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89595E-34A4-44C6-A7CD-1EF225B8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20EA4F-48C6-4536-9601-9F3EE72E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57F0F-252C-4DAA-A7BE-8454EB2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BAE76-E0A1-405D-94C0-90AF45B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F0C01-0B53-46D2-AD36-68C2E44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A068C-89F4-4CAC-A114-FE13D92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0E7D1-6693-41FE-AC16-C42B3683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E79-FC8C-49A9-8212-F4C12B33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92312-F08B-4EC5-93B3-B0B09E42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14D0-69E5-4282-83AD-DFAA6C51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C98A-F6CD-46A1-88C5-D33B2C35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9677C-8379-4B06-BDBE-9E5A3E3B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E0BB-24D5-497C-9A5D-20A1171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A6342-CA2B-4E6E-B9BA-694F346E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AF884-902D-4B40-AB32-EC83C1F0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A69E-4118-4168-80EC-1869C28F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AA7D-EC0D-4415-9424-643F2F5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76A64-406C-4793-A0A2-976F67E3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3D6-E772-4CAA-876E-857F156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8901-C2A7-44EE-A309-39D62014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7D3D-0BF0-4EF0-9AAA-09A62618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B53E3-36EA-47F5-9A66-AA4D07D0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0275FD-2B9A-4B99-853B-EA76EFBC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4E8CF-7C10-4ECB-8A19-5BAEC90F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56AAF-D142-45C4-8A35-37A3D4E3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1E5700-2BFD-41C2-B071-A379CFF0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4465F7-3532-41B7-8615-A88661EB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A82F56-6FD6-4B99-B908-E7A25686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C3D1BF-7AAB-4021-B1B4-7EC1A759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F27D-A760-403E-AB07-DAD0A282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A02FE8-2636-495F-ACD2-72130B1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05910-4AA7-4EA9-B9F5-0DC7F26A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A8DE2-64DC-49DC-8084-7414434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B89C9-4BC3-4CEA-B9B5-9BCB5AA7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2774A-BD02-4DE5-9EF7-1DCE86CF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64045-7198-4FDF-B719-480CC359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327E2-823E-441C-A956-773F9664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CE469-FCAF-49FA-8251-255421AE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870A1-E7C0-4A57-9B58-C895A94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14D2-1CD4-411A-8DAB-44FA2229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15D-2B94-4A41-9542-BDEE2B8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122A0-4845-4AC3-9987-4815A6A3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863B0-F8CB-471F-AB62-9ED05D1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17880-AED4-428F-93C2-D261367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E9C49-85E5-4C63-BDEE-72A7FEE8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01D0-7BC3-4EB9-841C-589D0539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ADB8D-C9C9-4D5F-A77A-284668DA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07ED-2F40-4444-A05F-B589E96C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F898-0F2E-4F08-AA7F-849BEB866DB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F43D-6389-4A27-BAD9-B860C717A389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36DE-4CC7-405F-AF08-F3F859E9FFBD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F77-CB5E-4C8C-B116-DD6506D62C9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3C2-F45B-4F74-9522-79A81B29094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6EA-63A0-4F3A-9592-FADB08C3E7F7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36F4-AB0E-4D83-883B-3286BEF406B8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123D-AE0C-44AE-91DB-453BE419A45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  <a:cs typeface="PT Bold Heading"/>
              </a:rPr>
              <a:t>اختلاف التركيب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755640" y="2421000"/>
            <a:ext cx="77040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ختلف الأغذية النباتية في تركيبها من العناصر الغذائية ( نوعية النبات , التربة المخصبات.... , درجة النضج....)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ركيب الأغذية الحيوانية أقل في الاختلافات ( العناصر الرئيسة ) أما الكميات المخزنة من العناصر مثل الحديد وفيتامين أ فيعتمد على العليقة وظروف تربية الحيوان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داول الغذاء بعد الحصاد أو الذبح يؤثر على محتواه من العناصر الغذائية ( خاصة فيتامين ج) 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اختلافات بين الأنواع المختلفة من الصنف نفسه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تؤثر المخصبات النيتروجينية على الريع 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yield</a:t>
            </a: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 وليس على التركيب الكيميائي ( عموماً)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عتمادية النتائج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اختلافات احصائية معنوية ( زيادة أو نقص 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يجب الحذر من مثل هذه الاستنتاجات ( العدد الكافي من العينات التي تم تحليلها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PT Bold Heading"/>
              </a:rPr>
              <a:t>طرق تحليل الفيتامينات تفتقر إلى الدق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لتأثيرات الايجابية للتصنيع الغذائ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محور الأساسي للتغيرات في العناصر الغذائية في الأغذية المصنعة هو فقد العناصر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إلا أنه ينشأ في بعض الأحيان زيادة في توفر بعض العناصر الغذائ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هذه الزيادة ليست من عملية التدعيم أو الإغناء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richment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أو حفظ الغذاء وإنما من بعض العمليات التصنيعية في حد ذات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كثر العناصر أهمية في هذا الصدد البروتينات والنياسين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75f55"/>
                </a:solidFill>
                <a:latin typeface="Tw Cen MT"/>
                <a:cs typeface="PT Bold Dusky"/>
              </a:rPr>
              <a:t>زيادة القيمة التغذوية للبروتين</a:t>
            </a:r>
            <a:br>
              <a:rPr sz="3600"/>
            </a:br>
            <a:r>
              <a:rPr b="0" lang="ar-SA" sz="3600" spc="-1" strike="noStrike">
                <a:solidFill>
                  <a:srgbClr val="775f55"/>
                </a:solidFill>
                <a:latin typeface="Tw Cen MT"/>
                <a:ea typeface="PT Bold Dusky"/>
              </a:rPr>
              <a:t>( البقول كمثال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حتوي البقول على العديد من السموم والمركبات المثبطة للإنزيمات الهاضم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مثبطات إنزيم التربسي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ختلف الثبات الحراري لهذه المثبطات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ؤدي تحطيم هذه المثبطات إلى زيادة القيمة التغذوي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حددت الظروف المثلى لتحطيم هذه السموم بالمعاملات الحرار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لايسين المتوفر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vailable lysin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مؤشر مفيد للجودة في المعاملات الحرارية العالية كما أن وجود مثبط التربسين أو إنزي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reas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مؤشر للمعاملة الحرارية غير الكافية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Dusky"/>
              </a:rPr>
              <a:t>السموم الأخرى الموجودة في البقو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مؤثرة على الغدة الدرقية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itrogens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تي تؤدي إلى تجلط كريات الدم</a:t>
            </a:r>
            <a:r>
              <a:rPr b="0" lang="ar-SA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hytohaemagglutin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حتوي الفول على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cine nucleosid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الذي يسبب فقر الدم التحللي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aemolytic anaemia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تحتوي بذرة القطن على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ssypol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( سام ويتحد أيضاً مع اللايسين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ركبات السيانيدية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yanid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( مثل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lucosides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) في الذرة الرفيعة  والكاسافا وبذور الكتان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سبب تحسن القيمة التغذوية تحطم السموم 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تأثير الحرارة على جودة بروتين البقو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ـــــــــــــــــــــــــــــــــــــــــــــــــــــــــــــــــــــــــــــــــــــــــــــــ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بقول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PU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V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القابلية للهضم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باسلاء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خام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 )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)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التسخي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س ,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2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م )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الفاصوليا البيضاء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الخام          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د)    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8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1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 )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3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8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غليا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د)    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49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7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التسخين (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س ,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120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م)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38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76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Stars"/>
              </a:rPr>
              <a:t>الأغذية الأخرى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ليست هنالك معلومات موثقة كثيرة عن التأثيرات الايجابية للمعاملات التصنيعية للأغذية الأخرى غير البقول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مثبط التربسين في الأرز والشوفان والقمح ( الطبخ ع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8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م ,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د) ولكن لم يتأثر في الذرة والشعير والحنطة السوداء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* زاد التوافر الحيوي للـ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p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و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r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عند طحن وخبز القمح مقارنة بالقمح غير المطحون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زاد توافر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le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من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1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طحن وانخفض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0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خبز , أما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u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فانخفض من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94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طحن وأزداد إلى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100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% عند الخبز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تثبيط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idin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 بالمعاملة الحرارية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w Cen MT"/>
              </a:rPr>
              <a:t>تثبيط 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aminase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Bold Dusky"/>
              </a:rPr>
              <a:t>النياسين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وجد في العديد من الحبوب على شكل مرتبط ( غير متوافر حيوياً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حرر بالمعاملة الحرارية وبالغمر في محلول قاعدي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تحميص الشديد للبن يزيد من محتواه من النياسين (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igonelline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  <a:cs typeface="PT Simple Bold Ruled"/>
              </a:rPr>
              <a:t>التأثيرات الايجابية الأخرى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نبات البذور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آثار من المعادن من مياه التصني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ستخدام الخل أثناء اعداد اللحوم يزيد من مستوى الكالسيوم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فيتامين ج وفيتامين هـ كمساعدين في العمليات التصنيعي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خفض محتوى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hytate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خمير الحبوب ( ب</a:t>
            </a:r>
            <a:r>
              <a:rPr b="0" lang="ar-SA" sz="2900" spc="-1" strike="noStrike" baseline="-25000">
                <a:solidFill>
                  <a:srgbClr val="000000"/>
                </a:solidFill>
                <a:latin typeface="Tw Cen MT"/>
              </a:rPr>
              <a:t>6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18:27:38Z</dcterms:created>
  <dc:creator>user</dc:creator>
  <dc:description/>
  <dc:language>en-US</dc:language>
  <cp:lastModifiedBy>Dell</cp:lastModifiedBy>
  <dcterms:modified xsi:type="dcterms:W3CDTF">2009-10-19T07:04:56Z</dcterms:modified>
  <cp:revision>8</cp:revision>
  <dc:subject/>
  <dc:title>اختلاف التركيب</dc:title>
</cp:coreProperties>
</file>